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CF39-8AD0-4F8B-842F-22AD26915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C5FE-418C-4534-A242-4E06196E5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791B-940E-42E1-A128-417274D4C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5BC67-65F6-481A-9555-02BBB2A664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186D-5E2C-428E-AD02-2F6A82965E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87CA-B352-470B-9DF1-C111B6FF3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1FF0-9ABA-4BA0-987B-B45636F03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4BA4-AE70-42DD-84B1-107BC51C8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59D1-BA32-47C3-9C47-829568799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D7AC-71F6-4258-B258-A85820C91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419F-84B5-4017-9AD7-0BCBD3E57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91A1-04B2-46BC-82F5-4B623A193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42840"/>
            <a:ext cx="9191520" cy="6886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324000" y="5587920"/>
            <a:ext cx="952200" cy="9367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" descr=""/>
          <p:cNvPicPr/>
          <p:nvPr/>
        </p:nvPicPr>
        <p:blipFill>
          <a:blip r:embed="rId4"/>
          <a:stretch/>
        </p:blipFill>
        <p:spPr>
          <a:xfrm>
            <a:off x="7164360" y="6421320"/>
            <a:ext cx="1274760" cy="1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3566880" y="633744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Geneva"/>
              </a:rPr>
              <a:t>Slide </a:t>
            </a:r>
            <a:fld id="{DC014692-5C6A-40BF-ACF9-19E21AC3672C}" type="slidenum">
              <a:rPr b="0" lang="en-GB" sz="1200" spc="-1" strike="noStrike">
                <a:solidFill>
                  <a:srgbClr val="898989"/>
                </a:solidFill>
                <a:latin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" descr=""/>
          <p:cNvPicPr/>
          <p:nvPr/>
        </p:nvPicPr>
        <p:blipFill>
          <a:blip r:embed="rId1"/>
          <a:stretch/>
        </p:blipFill>
        <p:spPr>
          <a:xfrm>
            <a:off x="3071880" y="2286000"/>
            <a:ext cx="3247920" cy="3887640"/>
          </a:xfrm>
          <a:prstGeom prst="rect">
            <a:avLst/>
          </a:prstGeom>
          <a:ln w="0">
            <a:noFill/>
          </a:ln>
        </p:spPr>
      </p:pic>
      <p:sp>
        <p:nvSpPr>
          <p:cNvPr id="41" name="Title Placeholder 4"/>
          <p:cNvSpPr/>
          <p:nvPr/>
        </p:nvSpPr>
        <p:spPr>
          <a:xfrm>
            <a:off x="68580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Gitte &amp; 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itle Placeholder 4"/>
          <p:cNvSpPr/>
          <p:nvPr/>
        </p:nvSpPr>
        <p:spPr>
          <a:xfrm>
            <a:off x="652320" y="620640"/>
            <a:ext cx="788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The SharpPlot Chart Wiz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arpPlot, as of v14.0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86025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took over Causeway in 2008 (v12.0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ic’s in charge since 2013 (v14.0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ainPro froz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harpRain for emulation/convers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harpPlot on all platfor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Net version 10x fast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harpPlot Chart Wizar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817416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The visual interpretation of data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6" name="Picture 4" descr="rabbit-or-duck.jpg"/>
          <p:cNvPicPr/>
          <p:nvPr/>
        </p:nvPicPr>
        <p:blipFill>
          <a:blip r:embed="rId1"/>
          <a:stretch/>
        </p:blipFill>
        <p:spPr>
          <a:xfrm>
            <a:off x="1928880" y="1643040"/>
            <a:ext cx="539568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The SharpPlot Chart Wizard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632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isually explore workspace dat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teractively experiment chart setting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oduce images (many format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utomate chart generation from similar data (produce APL scrip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278568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Live Demo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0T07:31:57Z</dcterms:created>
  <dc:creator>Nicolas</dc:creator>
  <dc:description/>
  <dc:language>en-US</dc:language>
  <cp:lastModifiedBy>Nicolas</cp:lastModifiedBy>
  <cp:lastPrinted>2014-08-15T09:52:37Z</cp:lastPrinted>
  <dcterms:modified xsi:type="dcterms:W3CDTF">2014-09-22T20:33:32Z</dcterms:modified>
  <cp:revision>28</cp:revision>
  <dc:subject/>
  <dc:title>Slide 0</dc:title>
</cp:coreProperties>
</file>