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619C-03BB-4396-AD39-4E0310D0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DB06-4F1C-4AC5-8CBB-8C80921D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7605-1207-4008-A4BB-83BF7CC2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CD48-332C-4DAF-ACB0-56B3CA7D9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040D-1AEA-45F2-9FBE-3E45A386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281F-8771-4874-8DF3-63D6893A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9CC2-128F-4169-8CF9-89383AAC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554B-4830-4C4D-B8E9-735152DF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81EA-7F5A-4264-8F2E-CD57AD91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9262-8C88-4112-8BB0-DAC5460A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7FCE-47E2-4FCD-BCDE-72A1BD44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29D3-14AF-48EB-96E7-02B8F6A3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7898-FB11-4F41-ACF9-BE75821F3242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tricks to old do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692360" y="2274840"/>
            <a:ext cx="588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"It's not difficult to teach new tricks to old dogs. What is difficult is to make them to forget the old ones.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4220640" y="3854520"/>
            <a:ext cx="39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  <a:ea typeface="Arial"/>
              </a:rPr>
              <a:t>Paul Berry, APL1984 Conference, Fin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1581120" y="5276880"/>
            <a:ext cx="58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  <a:ea typeface="Arial"/>
              </a:rPr>
              <a:t>Development is  fast                                         Changes are sl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33840" y="14400"/>
            <a:ext cx="645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Kimmo Kekäläinen/KJK-Tieto  Oy  22. Sept ember 2014, Eastbourne, Engl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oger’s key_sum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721800" y="1916280"/>
            <a:ext cx="749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PL385 Unicode"/>
                <a:ea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PL385 Unicode"/>
                <a:ea typeface="Arial"/>
              </a:rPr>
              <a:t>∇ </a:t>
            </a:r>
            <a:r>
              <a:rPr b="0" lang="fi-FI" sz="2000" spc="-1" strike="noStrike">
                <a:solidFill>
                  <a:srgbClr val="000000"/>
                </a:solidFill>
                <a:latin typeface="APL385 Unicode"/>
                <a:ea typeface="Arial"/>
              </a:rPr>
              <a:t>z←ctl key_sum1 dm;u;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PL385 Unicode"/>
                <a:ea typeface="Arial"/>
              </a:rPr>
              <a:t>[1]    :If 1=⍴r←⍴dm ⋄ dm←(r,1)⍴dm ⋄ :End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PL385 Unicode"/>
                <a:ea typeface="Arial"/>
              </a:rPr>
              <a:t>[2]    u←{⍵[⍋⍵]}∪ct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PL385 Unicode"/>
                <a:ea typeface="Arial"/>
              </a:rPr>
              <a:t>[3]    z←u,(u,ctl){+⌿⍵}⎕U2338(((≢u),1↓⍴dm)⍴0)⍪d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PL385 Unicode"/>
                <a:ea typeface="Arial"/>
              </a:rPr>
              <a:t>     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901800" y="3875040"/>
            <a:ext cx="806616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he cmpx function already includes a check on the results of the expressions to be timed and puts a * on the output if they are differe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I took the indexing out of the individual expressions to bring the timing differences into sharper focu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he key operator includes "special code" for specific operands.  Currently {+⌿⍵}⌸ has special code but {⍺,+⌿⍵}⌸ does not.  We can change that in the future with usage experienc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{⍵[⍋⍵]} and {⍵[⍋⍵;]} are idioms (since 12.x?).  key_sum1 exploits this but neither key_sum nor trad_calc_sum d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926280" y="3505320"/>
            <a:ext cx="41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alibri"/>
                <a:ea typeface="Arial"/>
              </a:rPr>
              <a:t>and his precomments for the benchmark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w results looked l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752040" y="1700280"/>
            <a:ext cx="804456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BenchMark1¨10*⍳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x trad_calc_sum y → 1.5E¯5 |   0% ⎕⎕⎕⎕⎕⎕⎕⎕⎕⎕⎕⎕⎕⎕⎕⎕⎕⎕⎕⎕⎕                 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x key_sum y        → 2.8E¯5 | +90% ⎕⎕⎕⎕⎕⎕⎕⎕⎕⎕⎕⎕⎕⎕⎕⎕⎕⎕⎕⎕⎕⎕⎕⎕⎕⎕⎕⎕⎕⎕⎕⎕⎕⎕⎕⎕⎕⎕⎕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k1←x key_sum1 y            → 7.4E¯6 | -50% ⎕⎕⎕⎕⎕⎕⎕⎕⎕⎕⎕                           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x trad_calc_sum y → 2.1E¯5 |    0% ⎕⎕⎕⎕⎕⎕⎕⎕⎕⎕⎕⎕⎕⎕⎕⎕⎕⎕⎕                   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x key_sum y        → 4.3E¯5 | +110% ⎕⎕⎕⎕⎕⎕⎕⎕⎕⎕⎕⎕⎕⎕⎕⎕⎕⎕⎕⎕⎕⎕⎕⎕⎕⎕⎕⎕⎕⎕⎕⎕⎕⎕⎕⎕⎕⎕⎕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k1←x key_sum1 y            → 9.1E¯6 |  -56% ⎕⎕⎕⎕⎕⎕⎕⎕                              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x trad_calc_sum y → 7.8E¯5 |   0% ⎕⎕⎕⎕⎕⎕⎕⎕⎕⎕⎕⎕⎕⎕⎕⎕⎕⎕⎕⎕⎕⎕⎕⎕⎕⎕⎕⎕⎕⎕        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x key_sum y        → 1.1E¯4 | +35% ⎕⎕⎕⎕⎕⎕⎕⎕⎕⎕⎕⎕⎕⎕⎕⎕⎕⎕⎕⎕⎕⎕⎕⎕⎕⎕⎕⎕⎕⎕⎕⎕⎕⎕⎕⎕⎕⎕⎕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k1←x key_sum1 y            → 2.2E¯5 | -73% ⎕⎕⎕⎕⎕⎕⎕⎕                              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10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x trad_calc_sum y → 6.3E¯4 |   0% ⎕⎕⎕⎕⎕⎕⎕⎕⎕⎕⎕⎕⎕⎕⎕⎕⎕⎕⎕⎕⎕⎕⎕⎕⎕⎕⎕⎕⎕⎕⎕⎕⎕⎕⎕   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x key_sum y        → 7.2E¯4 | +13% ⎕⎕⎕⎕⎕⎕⎕⎕⎕⎕⎕⎕⎕⎕⎕⎕⎕⎕⎕⎕⎕⎕⎕⎕⎕⎕⎕⎕⎕⎕⎕⎕⎕⎕⎕⎕⎕⎕⎕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k1←x key_sum1 y            → 1.5E¯4 | -77% ⎕⎕⎕⎕⎕⎕⎕⎕                              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100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x trad_calc_sum y → 6.2E¯3 |   0% ⎕⎕⎕⎕⎕⎕⎕⎕⎕⎕⎕⎕⎕⎕⎕⎕⎕⎕⎕⎕⎕⎕⎕⎕⎕⎕⎕⎕⎕⎕⎕⎕⎕⎕⎕⎕  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x key_sum y        → 6.9E¯3 | +11% ⎕⎕⎕⎕⎕⎕⎕⎕⎕⎕⎕⎕⎕⎕⎕⎕⎕⎕⎕⎕⎕⎕⎕⎕⎕⎕⎕⎕⎕⎕⎕⎕⎕⎕⎕⎕⎕⎕⎕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k1←x key_sum1 y            → 1.4E¯3 | -77% ⎕⎕⎕⎕⎕⎕⎕⎕                              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ome supr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ing is faster than grading, which is part of sorting  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ould this make sen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</a:rPr>
              <a:t>numbers←100?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</a:rPr>
              <a:t>cmpx '⍋numbers' '{⍵[⍋⍵]} numbers'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</a:rPr>
              <a:t>  ⍋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</a:rPr>
              <a:t>numbers        → 1.1E¯6 |   0% ⎕⎕⎕⎕⎕⎕⎕⎕⎕⎕⎕⎕⎕⎕⎕⎕⎕⎕⎕⎕⎕⎕⎕⎕⎕⎕⎕⎕⎕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</a:rPr>
              <a:t>* {⍵[⍋⍵]} numbers → 1.6E¯6 | +38% ⎕⎕⎕⎕⎕⎕⎕⎕⎕⎕⎕⎕⎕⎕⎕⎕⎕⎕⎕⎕⎕⎕⎕⎕⎕⎕⎕⎕⎕⎕⎕⎕⎕⎕⎕⎕⎕⎕⎕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ll, OK, like expecte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But with growing amou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424080" y="1700280"/>
            <a:ext cx="8075160" cy="44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numbers←1000?1000           thousan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cmpx '⍋numbers' '{⍵[⍋⍵]} numbers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⍋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numbers        → 1.1E¯5 |   0% ⎕⎕⎕⎕⎕⎕⎕⎕⎕⎕⎕⎕⎕⎕⎕⎕⎕⎕⎕⎕⎕⎕⎕⎕⎕⎕⎕⎕⎕⎕⎕⎕⎕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* {⍵[⍋⍵]} numbers → 1.3E¯5 | +21% ⎕⎕⎕⎕⎕⎕⎕⎕⎕⎕⎕⎕⎕⎕⎕⎕⎕⎕⎕⎕⎕⎕⎕⎕⎕⎕⎕⎕⎕⎕⎕⎕⎕⎕⎕⎕⎕⎕⎕⎕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numbers←10000?10000         ten thousan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cmpx '⍋numbers' '{⍵[⍋⍵]} numbers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⍋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numbers        → 1.3E¯4 |   0% ⎕⎕⎕⎕⎕⎕⎕⎕⎕⎕⎕⎕⎕⎕⎕⎕⎕⎕⎕⎕⎕⎕⎕⎕⎕⎕⎕⎕⎕⎕⎕⎕⎕⎕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* {⍵[⍋⍵]} numbers → 1.5E¯4 | +17% ⎕⎕⎕⎕⎕⎕⎕⎕⎕⎕⎕⎕⎕⎕⎕⎕⎕⎕⎕⎕⎕⎕⎕⎕⎕⎕⎕⎕⎕⎕⎕⎕⎕⎕⎕⎕⎕⎕⎕⎕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numbers←100000?100000       hundred thousan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cmpx '⍋numbers' '{⍵[⍋⍵]} numbers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⍋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numbers        → 8.2E¯3 |   0% ⎕⎕⎕⎕⎕⎕⎕⎕⎕⎕⎕⎕⎕⎕⎕⎕⎕⎕⎕⎕⎕⎕⎕⎕⎕⎕⎕⎕⎕⎕⎕⎕⎕⎕⎕⎕⎕⎕⎕⎕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* {⍵[⍋⍵]} numbers → 1.7E¯3 | -79% ⎕⎕⎕⎕⎕⎕⎕⎕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numbers←1000000?1000000     mill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cmpx '⍋numbers' '{⍵[⍋⍵]} numbers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⍋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numbers        → 1.1E¯1 |   0% ⎕⎕⎕⎕⎕⎕⎕⎕⎕⎕⎕⎕⎕⎕⎕⎕⎕⎕⎕⎕⎕⎕⎕⎕⎕⎕⎕⎕⎕⎕⎕⎕⎕⎕⎕⎕⎕⎕⎕⎕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* {⍵[⍋⍵]} numbers → 2.7E¯2 | -77% ⎕⎕⎕⎕⎕⎕⎕⎕⎕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numbers←10000000?10000000   ten mill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cmpx '⍋numbers' '{⍵[⍋⍵]} numbers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⍋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numbers        → 2.0E0  |   0% ⎕⎕⎕⎕⎕⎕⎕⎕⎕⎕⎕⎕⎕⎕⎕⎕⎕⎕⎕⎕⎕⎕⎕⎕⎕⎕⎕⎕⎕⎕⎕⎕⎕⎕⎕⎕⎕⎕⎕⎕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* {⍵[⍋⍵]} numbers → 4.1E¯1 | -80% ⎕⎕⎕⎕⎕⎕⎕⎕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nverted t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able as nested vector, each column either vector or matrix (normally numeric vector or character matr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Fits well together with old APL convention on storing data in component files as logical table: each column in own component, first component serving as directory including column names et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QAPL database fetch with option ”columnwise” returns data blocks this way, for exam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nverted t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861480" y="1773360"/>
            <a:ext cx="7939800" cy="48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tn←'o' 'c:\nexttab\demodata.tbl'#.Cmp.c_m'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vars←'r' tn  #.Cmp.c_m'?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va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LASTNAME  FIRSTNAME  SEX  DATEOFBIRTH  DIVISION  POSITION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SALARY  PROVISION  STARTDAT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matrix←'m' tn    #.Cmp.c_m'' '*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       ⍴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49 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inverted←'r' tn  #.Cmp.c_m '' '*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      ⍴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invert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 ⍴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¨invert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49 9  49 8  49  49  49  49  49  49  49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 ⎕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dr ¨ invert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82 82 83 323 163 163 323 163 32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 ⎕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size 'matrix‘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98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 ⎕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size 'inverted‘    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ve times smaller than nested matr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198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ptimized </a:t>
            </a:r>
            <a:r>
              <a:rPr b="0" lang="fi-FI" sz="4400" spc="-1" strike="noStrike">
                <a:solidFill>
                  <a:srgbClr val="000000"/>
                </a:solidFill>
                <a:latin typeface="APL385 Unicode"/>
              </a:rPr>
              <a:t>⍳</a:t>
            </a: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 for inverted tables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APL385 Unicode"/>
              </a:rPr>
              <a:t>X (8⌶) 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94920" y="1557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some_picked←3 6 9 Inv_get_by_index inver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inverted (8⌶) some_pic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3 6 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Picking data from inverted t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786600" y="1109520"/>
            <a:ext cx="4795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fi-FI" sz="1600" spc="-1" strike="noStrike">
                <a:solidFill>
                  <a:srgbClr val="000000"/>
                </a:solidFill>
                <a:latin typeface="APL385 Unicode"/>
                <a:ea typeface="Arial"/>
              </a:rPr>
              <a:t>bool←49⍴0 ⋄ ind←2 3 4 6 ⋄ bool[ind]←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286200" y="4992840"/>
            <a:ext cx="3198240" cy="641520"/>
          </a:xfrm>
          <a:prstGeom prst="rect">
            <a:avLst/>
          </a:prstGeom>
          <a:noFill/>
          <a:ln w="9360">
            <a:solidFill>
              <a:srgbClr val="000000">
                <a:alpha val="7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∇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z←Inv2Mtx invmat;f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[1]    z←⍉↑{1&lt;⍴⍴⍵:↓⍵ ⋄ ⍵}¨inv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477000" y="4067280"/>
            <a:ext cx="8410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cmpx 'x←ind  Inv_get_by_index  inverted' 'x←bool  Inv_get_by_scan  inverted'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x←ind  Inv_get_by_index  inverted → 5.2E¯6 |   0% ⎕⎕⎕⎕⎕⎕⎕⎕⎕⎕⎕⎕⎕⎕⎕⎕⎕⎕⎕⎕⎕⎕⎕⎕⎕⎕⎕⎕⎕⎕⎕⎕⎕⎕⎕⎕⎕⎕⎕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x←bool  Inv_get_by_scan  inverted → 4.2E¯6 | -20% ⎕⎕⎕⎕⎕⎕⎕⎕⎕⎕⎕⎕⎕⎕⎕⎕⎕⎕⎕⎕⎕⎕⎕⎕⎕⎕⎕⎕⎕⎕⎕⎕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5"/>
          <p:cNvSpPr/>
          <p:nvPr/>
        </p:nvSpPr>
        <p:spPr>
          <a:xfrm>
            <a:off x="3546360" y="4992840"/>
            <a:ext cx="4829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PL385 Unicode"/>
                <a:ea typeface="Arial"/>
              </a:rPr>
              <a:t>Inv2Mtx ind_picke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PL385 Unicode"/>
                <a:ea typeface="Arial"/>
              </a:rPr>
              <a:t> </a:t>
            </a:r>
            <a:r>
              <a:rPr b="0" lang="fi-FI" sz="1000" spc="-1" strike="noStrike">
                <a:solidFill>
                  <a:srgbClr val="000000"/>
                </a:solidFill>
                <a:latin typeface="APL385 Unicode"/>
                <a:ea typeface="Arial"/>
              </a:rPr>
              <a:t>Smith      Lloyd     1 19611012 200 2000 37000    0 1996070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PL385 Unicode"/>
                <a:ea typeface="Arial"/>
              </a:rPr>
              <a:t> </a:t>
            </a:r>
            <a:r>
              <a:rPr b="0" lang="fi-FI" sz="1000" spc="-1" strike="noStrike">
                <a:solidFill>
                  <a:srgbClr val="000000"/>
                </a:solidFill>
                <a:latin typeface="APL385 Unicode"/>
                <a:ea typeface="Arial"/>
              </a:rPr>
              <a:t>Brown      Kim       2 19670721 300 3000 27000 8000 2001092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PL385 Unicode"/>
                <a:ea typeface="Arial"/>
              </a:rPr>
              <a:t> </a:t>
            </a:r>
            <a:r>
              <a:rPr b="0" lang="fi-FI" sz="1000" spc="-1" strike="noStrike">
                <a:solidFill>
                  <a:srgbClr val="000000"/>
                </a:solidFill>
                <a:latin typeface="APL385 Unicode"/>
                <a:ea typeface="Arial"/>
              </a:rPr>
              <a:t>Wilson     Peter     1 19700701 400 4000 32000    0 200110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PL385 Unicode"/>
                <a:ea typeface="Arial"/>
              </a:rPr>
              <a:t> </a:t>
            </a:r>
            <a:r>
              <a:rPr b="0" lang="fi-FI" sz="1000" spc="-1" strike="noStrike">
                <a:solidFill>
                  <a:srgbClr val="000000"/>
                </a:solidFill>
                <a:latin typeface="APL385 Unicode"/>
                <a:ea typeface="Arial"/>
              </a:rPr>
              <a:t>Davis      Ken       1 19750308 200 2200 28000    0 1998110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6"/>
          <p:cNvSpPr/>
          <p:nvPr/>
        </p:nvSpPr>
        <p:spPr>
          <a:xfrm>
            <a:off x="496800" y="1522440"/>
            <a:ext cx="467208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⎕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vr 'Inv_get_by_index'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   ∇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z←indexes Inv_get_by_index inv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[1]    z←(⊂⊂indexes)⌷¨invtable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   ∇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⎕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vr 'Inv_get_by_scan'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   ∇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z←loc Inv_get_by_scan inv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[1]    z←(⊂loc)⌿¨inv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   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7"/>
          <p:cNvSpPr/>
          <p:nvPr/>
        </p:nvSpPr>
        <p:spPr>
          <a:xfrm>
            <a:off x="347040" y="3370320"/>
            <a:ext cx="411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ind_picked← ind Inv_get_by_index  invert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scan_picked←bool  Inv_get_by_scan  inve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8"/>
          <p:cNvSpPr/>
          <p:nvPr/>
        </p:nvSpPr>
        <p:spPr>
          <a:xfrm>
            <a:off x="4864680" y="3370320"/>
            <a:ext cx="219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ind_picked≡scan_pick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264240" y="6021360"/>
            <a:ext cx="8020440" cy="733320"/>
          </a:xfrm>
          <a:prstGeom prst="rect">
            <a:avLst/>
          </a:prstGeom>
          <a:noFill/>
          <a:ln w="9360">
            <a:solidFill>
              <a:srgbClr val="00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Or dynamic fn from manual,     which uses rank-oper, needs ⎕ml ≤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unvert←{⍉ ↑ ⊂</a:t>
            </a:r>
            <a:r>
              <a:rPr b="0" lang="fi-FI" sz="1400" spc="-1" strike="noStrike">
                <a:solidFill>
                  <a:srgbClr val="000000"/>
                </a:solidFill>
                <a:latin typeface="Calibri"/>
                <a:ea typeface="Arial"/>
              </a:rPr>
              <a:t>  ⍤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¯1 ¨ ⍵}         cmpx gives about the same execution spe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with larger amounts for Inv2Mtx vs unve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Straight Arrow Connector 2"/>
          <p:cNvCxnSpPr/>
          <p:nvPr/>
        </p:nvCxnSpPr>
        <p:spPr>
          <a:xfrm>
            <a:off x="971280" y="5638320"/>
            <a:ext cx="1080" cy="38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06320" y="333360"/>
            <a:ext cx="6274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mounts of data to pick and size of inverted table seem to ma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752040" y="1989000"/>
            <a:ext cx="804456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ind←100000?2369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ind←{⍵[⍋⍵]} 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bool←236970⍴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bool[ind]←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1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cmpx    'x←ind Inv_get_by_index data'   'y←bool Inv_get_by_scan data'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x←ind Inv_get_by_index data → 4.3E¯3 |   0% ⎕⎕⎕⎕⎕⎕⎕⎕⎕⎕⎕⎕⎕⎕⎕⎕⎕⎕⎕⎕⎕⎕⎕⎕⎕⎕⎕⎕⎕⎕⎕⎕⎕⎕⎕⎕⎕⎕⎕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y←bool Inv_get_by_scan data → 3.0E¯3 | -31% ⎕⎕⎕⎕⎕⎕⎕⎕⎕⎕⎕⎕⎕⎕⎕⎕⎕⎕⎕⎕⎕⎕⎕⎕⎕⎕⎕⎕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ind←150000?2369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ind←{⍵[⍋⍵]} 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bool←236970⍴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bool[ind]←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1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cmpx    'x←ind Inv_get_by_index data'   'y←bool Inv_get_by_scan data'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x←ind Inv_get_by_index data → 6.2E¯3 |   0% ⎕⎕⎕⎕⎕⎕⎕⎕⎕⎕⎕⎕⎕⎕⎕⎕⎕⎕⎕⎕⎕⎕⎕⎕⎕⎕⎕⎕⎕⎕⎕⎕⎕⎕⎕⎕⎕⎕⎕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y←bool Inv_get_by_scan data → 3.3E¯3 | -47% ⎕⎕⎕⎕⎕⎕⎕⎕⎕⎕⎕⎕⎕⎕⎕⎕⎕⎕⎕⎕⎕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684360" y="1312920"/>
            <a:ext cx="48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tn←'o' 'h:\konserni\data\2012100.dcf' #.Cmp.c_m ''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data←'r' tn    #.Cmp.c_m '' 'org,tl,selite'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5599440" y="1389240"/>
            <a:ext cx="31982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]display ⍴¨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┌→──────────────────────────────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│ ┌→─────┐ ┌→─────┐ ┌→────────┐ 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│ │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236970│ │236970│ │236970 30│ 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│ └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~─────┘ └~─────┘ └~────────┘ 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└∊──────────────────────────────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bout speed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at is fast enoug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things in the long line of versions (6 – 14,  1992-201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GUI objects (1992), []NA =&gt;DDE,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id and namespaces in 1994 (ver 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f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LE,  SQAPL/ODBC,   TCP/IP,   Conga, Web services,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trol structures,  OO,  Classes,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code, SALT, User commands, []XML,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tensions to language &amp; system functions,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rovements to session working environ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 Some in use, some n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sons for ignoring or delaying adoption of new techn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Hum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too busy, too lazy , maybe bo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Practical  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If it works, don't touch it“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y general purpose utils written long ago, tested in heavy usage by time, safe and robus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yalog applications are generally considered fast among  clients in comparison to those built by mainstream vendors  / technic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ck of functionality has never been major problem In APL,  normally allows  many ways to same goal (some faster, more eloquent et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conomical (consult situa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ents  rather  pay me for playing,   not  tuning  the instru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neral hardware development  =&gt; speed &amp; capac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ch has exploded power to gigabytes and -hertz with less and less c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alibri"/>
              </a:rPr>
              <a:t>And so on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yalog has matured by time as a system development environment  and at some point you found out that you were able to do with it most of the things common clients wanted, when they were asking you a Windows based solution to their daily problems 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* which, by the way, mostly were/are not any rocket science, just practical nee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Produ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s the key success factor that has kept us alive in constant pressure of ever changing mainstream.  We have seen many ”APL Killers” come and go while we are still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s to be able to provide a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decent c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ing in way suppos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yalog v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my case, after many year sleep tempts to open your toolbox once again for evaluation  and re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Key operator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⌸ ( </a:t>
            </a:r>
            <a:r>
              <a:rPr b="0" lang="en-US" sz="2800" spc="-1" strike="noStrike">
                <a:solidFill>
                  <a:srgbClr val="000000"/>
                </a:solidFill>
                <a:latin typeface="APL385 Unicode"/>
              </a:rPr>
              <a:t>⎕U2338 in Class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ank ⍤ ( </a:t>
            </a:r>
            <a:r>
              <a:rPr b="0" lang="fi-FI" sz="2800" spc="-1" strike="noStrike">
                <a:solidFill>
                  <a:srgbClr val="000000"/>
                </a:solidFill>
                <a:latin typeface="APL385 Unicode"/>
              </a:rPr>
              <a:t>⎕U2364 in Classic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ally 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ow extension to iota </a:t>
            </a:r>
            <a:r>
              <a:rPr b="0" lang="fi-FI" sz="2800" spc="-1" strike="noStrike">
                <a:solidFill>
                  <a:srgbClr val="000000"/>
                </a:solidFill>
                <a:latin typeface="APL385 Unicode"/>
              </a:rPr>
              <a:t>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pport for use of inverted tables </a:t>
            </a:r>
            <a:r>
              <a:rPr b="0" lang="en-US" sz="2800" spc="-1" strike="noStrike">
                <a:solidFill>
                  <a:srgbClr val="000000"/>
                </a:solidFill>
                <a:latin typeface="APL385 Unicode"/>
              </a:rPr>
              <a:t>(8⌶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benchmarks using Dyalog 14 Beta Classic   on calculation with oper Key vs traditional APL code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79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∇ </a:t>
            </a: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z←ctl key_sum dm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1] z←ctl{⍺,+⌿⍵}⎕U2338 dm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2] z←z[⍋z[;1];]                   extracting the eqvivalent part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fi-FI" sz="1600" spc="-1" strike="noStrike">
                <a:solidFill>
                  <a:srgbClr val="000000"/>
                </a:solidFill>
                <a:latin typeface="APL385 Unicode"/>
              </a:rPr>
              <a:t>∇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PL385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∇ </a:t>
            </a: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z←ctl trad_calc_sum dm;i;p;r;l;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1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2]    :If 1=⍴r←⍴dm     ⍝ ensu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3]        dm←(r,1)⍴dm  ⍝ that dm is matri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4]    :EndI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5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6]   ⍝ sort ascend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7]    i←⍋ctl ⋄ ctl←ctl[i] ⋄ dm←dm[i;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8]   ⍝ calculating field parts from FINNAPL Idiom Libr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9]    p←(1↓i)-¯1↓i←(l/⍳⍴l),⎕IO+⍴l←1,(1↓ctl)≠¯1↓ct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10]   ⍝ ... as is logic below for summing par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11]   z←(∪ctl),(~z=x)×z-x←¯1 0↓0,[1]z←(+⍀dm)[+\p;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     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303160" y="1844640"/>
            <a:ext cx="26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  <a:ea typeface="Arial"/>
              </a:rPr>
              <a:t>vs </a:t>
            </a:r>
            <a:r>
              <a:rPr b="1" lang="fi-FI" sz="1800" spc="-1" strike="noStrike">
                <a:solidFill>
                  <a:srgbClr val="000000"/>
                </a:solidFill>
                <a:latin typeface="Calibri"/>
                <a:ea typeface="Arial"/>
              </a:rPr>
              <a:t>calc_sum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  <a:ea typeface="Arial"/>
              </a:rPr>
              <a:t> from my util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Straight Arrow Connector 5"/>
          <p:cNvCxnSpPr/>
          <p:nvPr/>
        </p:nvCxnSpPr>
        <p:spPr>
          <a:xfrm flipH="1">
            <a:off x="4066920" y="2467080"/>
            <a:ext cx="144216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sults where a bit unexpec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60080" y="1484280"/>
            <a:ext cx="6825600" cy="53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BenchMark 100</a:t>
            </a:r>
            <a:r>
              <a:rPr b="0" lang="fi-FI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1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testdata[;1] key_sum testdata[;2 3]        → 6.1E¯5 |   0% ⎕⎕⎕⎕⎕⎕⎕⎕⎕⎕⎕⎕⎕⎕⎕⎕⎕⎕⎕⎕⎕⎕⎕⎕⎕⎕⎕⎕⎕⎕⎕⎕⎕⎕⎕⎕⎕⎕⎕⎕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oldsums←testdata[;1] #.Clc.calc_sum testdata[;2 3] → 5.1E¯5 | -16% ⎕⎕⎕⎕⎕⎕⎕⎕⎕⎕⎕⎕⎕⎕⎕⎕⎕⎕⎕⎕⎕⎕⎕⎕⎕⎕⎕⎕⎕⎕⎕⎕⎕⎕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testdata[;1] trad_calc_sum testdata[;2 3] → 2.5E¯5 | -59% ⎕⎕⎕⎕⎕⎕⎕⎕⎕⎕⎕⎕⎕⎕⎕⎕⎕  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(⊂keysums)≡¨oldsums tradsum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1 1                                                                             BenchMark 100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100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testdata[;1] key_sum testdata[;2 3]        → 1.2E¯3 |   0% ⎕⎕⎕⎕⎕⎕⎕⎕⎕⎕⎕⎕⎕⎕⎕⎕⎕⎕⎕⎕⎕⎕⎕⎕⎕⎕⎕⎕⎕⎕⎕⎕⎕⎕⎕⎕⎕⎕⎕⎕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oldsums←testdata[;1] #.Clc.calc_sum testdata[;2 3] → 9.4E¯4 | -23% ⎕⎕⎕⎕⎕⎕⎕⎕⎕⎕⎕⎕⎕⎕⎕⎕⎕⎕⎕⎕⎕⎕⎕⎕⎕⎕⎕⎕⎕⎕⎕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testdata[;1] trad_calc_sum testdata[;2 3] → 9.0E¯4 | -26% ⎕⎕⎕⎕⎕⎕⎕⎕⎕⎕⎕⎕⎕⎕⎕⎕⎕⎕⎕⎕⎕⎕⎕⎕⎕⎕⎕⎕⎕⎕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(⊂keysums)≡¨oldsums tradsum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1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BenchMark 1000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1000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testdata[;1] key_sum testdata[;2 3]        → 1.2E¯2 |   0% ⎕⎕⎕⎕⎕⎕⎕⎕⎕⎕⎕⎕⎕⎕⎕⎕⎕⎕⎕⎕⎕⎕⎕⎕⎕⎕⎕⎕⎕⎕⎕⎕⎕⎕⎕⎕⎕⎕⎕⎕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oldsums←testdata[;1] #.Clc.calc_sum testdata[;2 3] → 8.9E¯3 | -27% ⎕⎕⎕⎕⎕⎕⎕⎕⎕⎕⎕⎕⎕⎕⎕⎕⎕⎕⎕⎕⎕⎕⎕⎕⎕⎕⎕⎕⎕⎕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testdata[;1] trad_calc_sum testdata[;2 3] → 8.8E¯3 | -27% ⎕⎕⎕⎕⎕⎕⎕⎕⎕⎕⎕⎕⎕⎕⎕⎕⎕⎕⎕⎕⎕⎕⎕⎕⎕⎕⎕⎕⎕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(⊂keysums)≡¨oldsums tradsum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1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BenchMark 10000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10000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testdata[;1] key_sum testdata[;2 3]        → 1.3E¯1 |   0% ⎕⎕⎕⎕⎕⎕⎕⎕⎕⎕⎕⎕⎕⎕⎕⎕⎕⎕⎕⎕⎕⎕⎕⎕⎕⎕⎕⎕⎕⎕⎕⎕⎕⎕⎕⎕⎕⎕⎕⎕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oldsums←testdata[;1] #.Clc.calc_sum testdata[;2 3] → 8.9E¯2 | -30% ⎕⎕⎕⎕⎕⎕⎕⎕⎕⎕⎕⎕⎕⎕⎕⎕⎕⎕⎕⎕⎕⎕⎕⎕⎕⎕⎕⎕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testdata[;1] trad_calc_sum testdata[;2 3] → 9.0E¯2 | -30% ⎕⎕⎕⎕⎕⎕⎕⎕⎕⎕⎕⎕⎕⎕⎕⎕⎕⎕⎕⎕⎕⎕⎕⎕⎕⎕⎕⎕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(⊂keysums)≡¨oldsums tradsum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1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BenchMark 100000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100000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testdata[;1] key_sum testdata[;2 3]        → 1.3E0  |   0% ⎕⎕⎕⎕⎕⎕⎕⎕⎕⎕⎕⎕⎕⎕⎕⎕⎕⎕⎕⎕⎕⎕⎕⎕⎕⎕⎕⎕⎕⎕⎕⎕⎕⎕⎕⎕⎕⎕⎕⎕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oldsums←testdata[;1] #.Clc.calc_sum testdata[;2 3] → 9.2E¯1 | -30% ⎕⎕⎕⎕⎕⎕⎕⎕⎕⎕⎕⎕⎕⎕⎕⎕⎕⎕⎕⎕⎕⎕⎕⎕⎕⎕⎕⎕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testdata[;1] trad_calc_sum testdata[;2 3] → 9.2E¯1 | -31% ⎕⎕⎕⎕⎕⎕⎕⎕⎕⎕⎕⎕⎕⎕⎕⎕⎕⎕⎕⎕⎕⎕⎕⎕⎕⎕⎕⎕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(⊂keysums)≡¨oldsums tradsum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1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BenchMark ''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3904367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testdata[;1] key_sum testdata[;2 3]        → 5.3E0  |   0% ⎕⎕⎕⎕⎕⎕⎕⎕⎕⎕⎕⎕⎕⎕⎕⎕⎕⎕⎕⎕⎕⎕⎕⎕⎕⎕⎕⎕⎕⎕⎕⎕⎕⎕⎕⎕⎕⎕⎕⎕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oldsums←testdata[;1] #.Clc.calc_sum testdata[;2 3] → 3.7E0  | -29% ⎕⎕⎕⎕⎕⎕⎕⎕⎕⎕⎕⎕⎕⎕⎕⎕⎕⎕⎕⎕⎕⎕⎕⎕⎕⎕⎕⎕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testdata[;1] trad_calc_sum testdata[;2 3] → 3.6E0  | -32% ⎕⎕⎕⎕⎕⎕⎕⎕⎕⎕⎕⎕⎕⎕⎕⎕⎕⎕⎕⎕⎕⎕⎕⎕⎕⎕⎕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(⊂keysums)≡¨oldsums tradsum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1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ime to contact Morte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371628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o passed the ball to Ro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4T15:01:44Z</dcterms:created>
  <dc:creator>kjk</dc:creator>
  <dc:description/>
  <dc:language>en-US</dc:language>
  <cp:lastModifiedBy>kjk</cp:lastModifiedBy>
  <dcterms:modified xsi:type="dcterms:W3CDTF">2014-09-23T04:53:42Z</dcterms:modified>
  <cp:revision>90</cp:revision>
  <dc:subject/>
  <dc:title>New Tricks to Old Dogs</dc:title>
</cp:coreProperties>
</file>