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D04-E6EB-40BA-89F5-A67B3FF3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31D-62C2-494F-9780-FD573400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C5E-216C-40FA-945A-BD2E56E9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0BC-FF7E-47FE-B3DF-4A592F5D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055-399A-4C98-9941-EBA6859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935-24AB-4578-9741-3B5808A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177-50E5-4101-AA59-7D7FBF26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B16-5FB2-41CC-AF5C-BE945DD1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AA8-5360-477D-93F3-2A24EDE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A8B-1B3C-436E-BE62-46845AA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996-04E8-42B4-AB53-F94612E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BF3-E762-4ED7-936F-31968BA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46E3-08A2-4674-B094-E8B2B40DC54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ricks to old do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92360" y="2274840"/>
            <a:ext cx="58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"It's not difficult to teach new tricks to old dogs. What is difficult is to make them to forget the old one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220640" y="385452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Paul Berry, APL1984 Conference, 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581120" y="52768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Development is  fast                                         Changes are s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3840" y="14400"/>
            <a:ext cx="64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Kimmo Kekäläinen/KJK-Tieto  Oy  22. Sept ember 2014, Eastbourne, Eng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oger’s key_sum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21800" y="1916280"/>
            <a:ext cx="749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z←ctl key_sum1 dm;u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:If 1=⍴r←⍴dm ⋄ dm←(r,1)⍴dm ⋄ :End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2]    u←{⍵[⍋⍵]}∪c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[3]    z←u,(u,ctl){+⌿⍵}⎕U2338(((≢u),1↓⍴dm)⍴0)⍪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1800" y="3875040"/>
            <a:ext cx="8066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cmpx function already includes a check on the results of the expressions to be timed and puts a * on the output if they are differ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 took the indexing out of the individual expressions to bring the timing differences into sharper foc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 key operator includes "special code" for specific operands.  Currently {+⌿⍵}⌸ has special code but {⍺,+⌿⍵}⌸ does not.  We can change that in the future with usage exper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{⍵[⍋⍵]} and {⍵[⍋⍵;]} are idioms (since 12.x?).  key_sum1 exploits this but neither key_sum nor trad_calc_sum 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26280" y="3505320"/>
            <a:ext cx="41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and his precomments for the benchmar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w results looked 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52040" y="1700280"/>
            <a:ext cx="80445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1¨10*⍳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1.5E¯5 |   0% ⎕⎕⎕⎕⎕⎕⎕⎕⎕⎕⎕⎕⎕⎕⎕⎕⎕⎕⎕⎕⎕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2.8E¯5 | +9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7.4E¯6 | -50% ⎕⎕⎕⎕⎕⎕⎕⎕⎕⎕⎕        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2.1E¯5 |    0% ⎕⎕⎕⎕⎕⎕⎕⎕⎕⎕⎕⎕⎕⎕⎕⎕⎕⎕⎕                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4.3E¯5 | +11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9.1E¯6 |  -56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7.8E¯5 |   0% ⎕⎕⎕⎕⎕⎕⎕⎕⎕⎕⎕⎕⎕⎕⎕⎕⎕⎕⎕⎕⎕⎕⎕⎕⎕⎕⎕⎕⎕⎕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1.1E¯4 | +35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2.2E¯5 | -73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3E¯4 |   0% ⎕⎕⎕⎕⎕⎕⎕⎕⎕⎕⎕⎕⎕⎕⎕⎕⎕⎕⎕⎕⎕⎕⎕⎕⎕⎕⎕⎕⎕⎕⎕⎕⎕⎕⎕   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7.2E¯4 | +13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5E¯4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x trad_calc_sum y → 6.2E¯3 |   0% ⎕⎕⎕⎕⎕⎕⎕⎕⎕⎕⎕⎕⎕⎕⎕⎕⎕⎕⎕⎕⎕⎕⎕⎕⎕⎕⎕⎕⎕⎕⎕⎕⎕⎕⎕⎕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x key_sum y        → 6.9E¯3 | +11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k1←x key_sum1 y            → 1.4E¯3 | -77% ⎕⎕⎕⎕⎕⎕⎕⎕     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ome supr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ing is faster than grading, which is part of sorting  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ould this make sen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←100?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cmpx '⍋numbers' '{⍵[⍋⍵]} number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  ⍋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numbers        → 1.1E¯6 |   0% ⎕⎕⎕⎕⎕⎕⎕⎕⎕⎕⎕⎕⎕⎕⎕⎕⎕⎕⎕⎕⎕⎕⎕⎕⎕⎕⎕⎕⎕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</a:rPr>
              <a:t>* {⍵[⍋⍵]} numbers → 1.6E¯6 | +38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ll, OK, like expect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ut with growing amou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24080" y="1700280"/>
            <a:ext cx="8075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?1000          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5 |   0% ⎕⎕⎕⎕⎕⎕⎕⎕⎕⎕⎕⎕⎕⎕⎕⎕⎕⎕⎕⎕⎕⎕⎕⎕⎕⎕⎕⎕⎕⎕⎕⎕⎕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3E¯5 | +21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?10000         ten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3E¯4 |   0% ⎕⎕⎕⎕⎕⎕⎕⎕⎕⎕⎕⎕⎕⎕⎕⎕⎕⎕⎕⎕⎕⎕⎕⎕⎕⎕⎕⎕⎕⎕⎕⎕⎕⎕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5E¯4 | +17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?100000       hundred thous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8.2E¯3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1.7E¯3 | -79% ⎕⎕⎕⎕⎕⎕⎕⎕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?1000000    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1.1E¯1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2.7E¯2 | -77% ⎕⎕⎕⎕⎕⎕⎕⎕⎕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←10000000?10000000   ten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cmpx '⍋numbers' '{⍵[⍋⍵]} numbers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⍋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numbers        → 2.0E0  |   0% ⎕⎕⎕⎕⎕⎕⎕⎕⎕⎕⎕⎕⎕⎕⎕⎕⎕⎕⎕⎕⎕⎕⎕⎕⎕⎕⎕⎕⎕⎕⎕⎕⎕⎕⎕⎕⎕⎕⎕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* {⍵[⍋⍵]} numbers → 4.1E¯1 | -80% ⎕⎕⎕⎕⎕⎕⎕⎕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ble as nested vector, each column either vector or matrix (normally numeric vector or character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ts well together with old APL convention on storing data in component files as logical table: each column in own component, first component serving as directory including column names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QAPL database fetch with option ”columnwise” returns data blocks this way, fo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nverted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61480" y="1773360"/>
            <a:ext cx="79398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tn←'o' 'c:\nexttab\demodata.tbl'#.Cmp.c_m'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←'r' tn  #.Cmp.c_m'?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v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LASTNAME  FIRSTNAME  SEX  DATEOFBIRTH  DIVISION  POSITION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SALARY  PROVISION  STARTDA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←'m' tn    #.Cmp.c_m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←'r' tn  #.Cmp.c_m '' '*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   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⍴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¨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49 9  49 8  49  49  49  49  49  49  49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  ⎕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dr ¨ inver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</a:rPr>
              <a:t>82 82 83 323 163 163 323 163 3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matrix‘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98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⎕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ize 'inverted‘    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ve times smaller than nested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ptimized </a:t>
            </a: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⍳</a:t>
            </a: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 for inverted tables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APL385 Unicode"/>
              </a:rPr>
              <a:t>X (8⌶) 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1557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some_picked←3 6 9 Inv_get_by_index inve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inverted (8⌶) some_p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3 6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icking data from inverted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86600" y="1109520"/>
            <a:ext cx="47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49⍴0 ⋄ ind←2 3 4 6 ⋄ bool[ind]←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286200" y="4992840"/>
            <a:ext cx="3198240" cy="641520"/>
          </a:xfrm>
          <a:prstGeom prst="rect">
            <a:avLst/>
          </a:prstGeom>
          <a:noFill/>
          <a:ln w="9360">
            <a:solidFill>
              <a:srgbClr val="0000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v2Mtx invmat;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⍉↑{1&lt;⍴⍴⍵:↓⍵ ⋄ ⍵}¨inv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77000" y="4067280"/>
            <a:ext cx="841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'x←ind  Inv_get_by_index  inverted' 'x←bool  Inv_get_by_scan  inverted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 Inv_get_by_index  inverted → 5.2E¯6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bool  Inv_get_by_scan  inverted → 4.2E¯6 | -20% ⎕⎕⎕⎕⎕⎕⎕⎕⎕⎕⎕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546360" y="4992840"/>
            <a:ext cx="482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Inv2Mtx ind_pick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Smith      Lloyd     1 19611012 200 2000 37000    0 199607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Brown      Kim       2 19670721 300 3000 27000 8000 2001092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Wilson     Peter     1 19700701 400 4000 32000    0 20011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000" spc="-1" strike="noStrike">
                <a:solidFill>
                  <a:srgbClr val="000000"/>
                </a:solidFill>
                <a:latin typeface="APL385 Unicode"/>
                <a:ea typeface="Arial"/>
              </a:rPr>
              <a:t>Davis      Ken       1 19750308 200 2200 28000    0 199811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496800" y="1522440"/>
            <a:ext cx="46720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index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indexes Inv_get_by_index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⊂indexes)⌷¨invtable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⎕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vr 'Inv_get_by_scan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z←loc Inv_get_by_scan 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[1]    z←(⊂loc)⌿¨inv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   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347040" y="3370320"/>
            <a:ext cx="411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← ind Inv_get_by_index  inver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scan_picked←bool  Inv_get_by_scan 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4864680" y="3370320"/>
            <a:ext cx="219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_picked≡scan_pi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64240" y="6021360"/>
            <a:ext cx="8020440" cy="733320"/>
          </a:xfrm>
          <a:prstGeom prst="rect">
            <a:avLst/>
          </a:prstGeom>
          <a:noFill/>
          <a:ln w="9360">
            <a:solidFill>
              <a:srgbClr val="00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Or dynamic fn from manual,     which uses rank-oper, needs ⎕ml ≤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unvert←{⍉ ↑ ⊂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  <a:ea typeface="Arial"/>
              </a:rPr>
              <a:t>  ⍤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¯1 ¨ ⍵}         cmpx gives about the same execution spe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APL385 Unicode"/>
                <a:ea typeface="Arial"/>
              </a:rPr>
              <a:t>with larger amounts for Inv2Mtx vs unv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2"/>
          <p:cNvCxnSpPr/>
          <p:nvPr/>
        </p:nvCxnSpPr>
        <p:spPr>
          <a:xfrm>
            <a:off x="971280" y="5638320"/>
            <a:ext cx="108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6320" y="333360"/>
            <a:ext cx="6274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mounts of data to pick and size of inverted table seem to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52040" y="1989000"/>
            <a:ext cx="80445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0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4.3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0E¯3 | -31% ⎕⎕⎕⎕⎕⎕⎕⎕⎕⎕⎕⎕⎕⎕⎕⎕⎕⎕⎕⎕⎕⎕⎕⎕⎕⎕⎕⎕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150000?236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ind←{⍵[⍋⍵]} 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←236970⍴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bool[ind]←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1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cmpx    'x←ind Inv_get_by_index data'   'y←bool Inv_get_by_scan data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x←ind Inv_get_by_index data → 6.2E¯3 |   0% ⎕⎕⎕⎕⎕⎕⎕⎕⎕⎕⎕⎕⎕⎕⎕⎕⎕⎕⎕⎕⎕⎕⎕⎕⎕⎕⎕⎕⎕⎕⎕⎕⎕⎕⎕⎕⎕⎕⎕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y←bool Inv_get_by_scan data → 3.3E¯3 | -47% ⎕⎕⎕⎕⎕⎕⎕⎕⎕⎕⎕⎕⎕⎕⎕⎕⎕⎕⎕⎕⎕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84360" y="1312920"/>
            <a:ext cx="48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tn←'o' 'h:\konserni\data\2012100.dcf' #.Cmp.c_m '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data←'r' tn    #.Cmp.c_m '' 'org,tl,selite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599440" y="1389240"/>
            <a:ext cx="3198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]display ⍴¨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┌→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┌→─────┐ ┌→─────┐ ┌→────────┐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│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236970│ │236970│ │236970 30│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│ └</a:t>
            </a: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~─────┘ └~─────┘ └~────────┘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PL385 Unicode"/>
                <a:ea typeface="Arial"/>
              </a:rPr>
              <a:t>└∊─────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bout spe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is fast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things in the long line of versions (6 – 14,  1992-201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GUI objects (1992), []NA =&gt;DDE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id and namespaces in 1994 (ver 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f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LE,  SQAPL/ODBC,   TCP/IP,   Conga, Web servic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trol structures,  OO,  Classe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code, SALT, User commands, []XML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tensions to language &amp; system functions,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rovements to session working enviro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 Some in use, som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ignoring or delaying adoption of new tech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um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oo busy, too lazy , maybe b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ractical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If it works, don't touch it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general purpose utils written long ago, tested in heavy usage by time, safe and robu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yalog applications are generally considered fast among  clients in comparison to those built by mainstream vendors  / techni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functionality has never been major problem In APL,  normally allows  many ways to same goal (some faster, more eloquent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al (consult situ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s  rather  pay me for playing,   not  tuning  the 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l hardware development  =&gt; speed &amp;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has exploded power to gigabytes and -hertz with less and less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And so on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yalog has matured by time as a system development environment  and at some point you found out that you were able to do with it most of the things common clients wanted, when they were asking you a Windows based solution to their daily problems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* which, by the way, mostly were/are not any rocket science, just practic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he key success factor that has kept us alive in constant pressure of ever changing mainstream.  We have seen many ”APL Killers” come and go while we are still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s to be able to provide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decent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ing in way suppos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yalog v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my case, after many year sleep tempts to open your toolbox once again for evaluation  and re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y operator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⌸ (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⎕U2338 in Class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k ⍤ (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⎕U2364 in Classic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lly 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ow extension to iota </a:t>
            </a:r>
            <a:r>
              <a:rPr b="0" lang="fi-FI" sz="2800" spc="-1" strike="noStrike">
                <a:solidFill>
                  <a:srgbClr val="000000"/>
                </a:solidFill>
                <a:latin typeface="APL385 Unicode"/>
              </a:rPr>
              <a:t>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pport for use of inverted tables </a:t>
            </a:r>
            <a:r>
              <a:rPr b="0" lang="en-US" sz="2800" spc="-1" strike="noStrike">
                <a:solidFill>
                  <a:srgbClr val="000000"/>
                </a:solidFill>
                <a:latin typeface="APL385 Unicode"/>
              </a:rPr>
              <a:t>(8⌶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benchmarks using Dyalog 14 Beta Classic   on calculation with oper Key vs traditional APL code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79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key_sum dm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 z←ctl{⍺,+⌿⍵}⎕U2338 dm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z←z[⍋z[;1];]                   extracting the eqvivalent part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∇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z←ctl trad_calc_sum dm;i;p;r;l;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2]    :If 1=⍴r←⍴dm     ⍝ ensu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3]        dm←(r,1)⍴dm  ⍝ that dm is matr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4]    :End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5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6]   ⍝ sort asce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7]    i←⍋ctl ⋄ ctl←ctl[i] ⋄ dm←dm[i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8]   ⍝ calculating field parts from FINNAPL Idiom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9]    p←(1↓i)-¯1↓i←(l/⍳⍴l),⎕IO+⍴l←1,(1↓ctl)≠¯1↓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0]   ⍝ ... as is logic below for summing p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11]   z←(∪ctl),(~z=x)×z-x←¯1 0↓0,[1]z←(+⍀dm)[+\p;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303160" y="1844640"/>
            <a:ext cx="26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vs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calc_sum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  <a:ea typeface="Arial"/>
              </a:rPr>
              <a:t> from my uti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H="1">
            <a:off x="4066920" y="2467080"/>
            <a:ext cx="14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sults where a bit unexpec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60080" y="1484280"/>
            <a:ext cx="68256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</a:t>
            </a: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6.1E¯5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5.1E¯5 | -16% ⎕⎕⎕⎕⎕⎕⎕⎕⎕⎕⎕⎕⎕⎕⎕⎕⎕⎕⎕⎕⎕⎕⎕⎕⎕⎕⎕⎕⎕⎕⎕⎕⎕⎕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2.5E¯5 | -59% ⎕⎕⎕⎕⎕⎕⎕⎕⎕⎕⎕⎕⎕⎕⎕⎕⎕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                                                                             BenchMark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3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4E¯4 | -23% ⎕⎕⎕⎕⎕⎕⎕⎕⎕⎕⎕⎕⎕⎕⎕⎕⎕⎕⎕⎕⎕⎕⎕⎕⎕⎕⎕⎕⎕⎕⎕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4 | -26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2E¯2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3 | -27% ⎕⎕⎕⎕⎕⎕⎕⎕⎕⎕⎕⎕⎕⎕⎕⎕⎕⎕⎕⎕⎕⎕⎕⎕⎕⎕⎕⎕⎕⎕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8.8E¯3 | -27% ⎕⎕⎕⎕⎕⎕⎕⎕⎕⎕⎕⎕⎕⎕⎕⎕⎕⎕⎕⎕⎕⎕⎕⎕⎕⎕⎕⎕⎕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¯1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8.9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0E¯2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1000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1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9.2E¯1 | -30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9.2E¯1 | -31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BenchMark ''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Amount of rows: 390436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keysums←testdata[;1] key_sum testdata[;2 3]        → 5.3E0  |   0% ⎕⎕⎕⎕⎕⎕⎕⎕⎕⎕⎕⎕⎕⎕⎕⎕⎕⎕⎕⎕⎕⎕⎕⎕⎕⎕⎕⎕⎕⎕⎕⎕⎕⎕⎕⎕⎕⎕⎕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oldsums←testdata[;1] #.Clc.calc_sum testdata[;2 3] → 3.7E0  | -29% ⎕⎕⎕⎕⎕⎕⎕⎕⎕⎕⎕⎕⎕⎕⎕⎕⎕⎕⎕⎕⎕⎕⎕⎕⎕⎕⎕⎕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tradsums←testdata[;1] trad_calc_sum testdata[;2 3] → 3.6E0  | -32% ⎕⎕⎕⎕⎕⎕⎕⎕⎕⎕⎕⎕⎕⎕⎕⎕⎕⎕⎕⎕⎕⎕⎕⎕⎕⎕⎕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(⊂keysums)≡¨oldsums tradsum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0000"/>
                </a:solidFill>
                <a:latin typeface="APL385 Unicode"/>
                <a:ea typeface="Arial"/>
              </a:rPr>
              <a:t>1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ime to contact Mor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o passed the ball to Ro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15:01:44Z</dcterms:created>
  <dc:creator>kjk</dc:creator>
  <dc:description/>
  <dc:language>en-US</dc:language>
  <cp:lastModifiedBy>kjk</cp:lastModifiedBy>
  <dcterms:modified xsi:type="dcterms:W3CDTF">2014-09-23T04:53:42Z</dcterms:modified>
  <cp:revision>90</cp:revision>
  <dc:subject/>
  <dc:title>New Tricks to Old Dogs</dc:title>
</cp:coreProperties>
</file>