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7183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B5189-3C0A-4F5C-A4B9-9CD9332F64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BE4A1-4632-4B97-B454-5C90AC35A4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771FE-5D7C-4EEB-B496-5D77D4FC71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AABAC-4267-4896-BFDF-9069AFDCD95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26810-D619-460D-B343-D9E40DA450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B99B5-14AF-4389-BA11-4C3A63CC5E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F0725-80BF-4159-92F9-1B7BB85397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B4281-2E35-4CAA-BC91-336AC18783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38542-A486-4DFF-822F-8581E19F96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057B1-EDE6-4AEF-B1E3-5422E9A3FF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10045-F62F-4220-9CD3-279F651883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D1EEB-0EE7-4165-98C7-B5DD7BAB3B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yalogpower-768x1024.gif                                       00020D4A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42840"/>
            <a:ext cx="9191520" cy="68864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"/>
          <p:cNvPicPr/>
          <p:nvPr/>
        </p:nvPicPr>
        <p:blipFill>
          <a:blip r:embed="rId3"/>
          <a:stretch/>
        </p:blipFill>
        <p:spPr>
          <a:xfrm>
            <a:off x="324000" y="5587920"/>
            <a:ext cx="952200" cy="936720"/>
          </a:xfrm>
          <a:prstGeom prst="rect">
            <a:avLst/>
          </a:prstGeom>
          <a:ln w="0">
            <a:noFill/>
          </a:ln>
        </p:spPr>
      </p:pic>
      <p:pic>
        <p:nvPicPr>
          <p:cNvPr id="2" name="Picture 1" descr=""/>
          <p:cNvPicPr/>
          <p:nvPr/>
        </p:nvPicPr>
        <p:blipFill>
          <a:blip r:embed="rId4"/>
          <a:stretch/>
        </p:blipFill>
        <p:spPr>
          <a:xfrm>
            <a:off x="7164360" y="6421320"/>
            <a:ext cx="1274760" cy="1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sldNum" idx="1"/>
          </p:nvPr>
        </p:nvSpPr>
        <p:spPr>
          <a:xfrm>
            <a:off x="3566880" y="633744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Geneva"/>
              </a:rPr>
              <a:t>Slide </a:t>
            </a:r>
            <a:fld id="{5E150251-72DA-4FA8-B98A-8689EF77CE66}" type="slidenum">
              <a:rPr b="0" lang="en-GB" sz="1200" spc="-1" strike="noStrike">
                <a:solidFill>
                  <a:srgbClr val="898989"/>
                </a:solidFill>
                <a:latin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3" descr=""/>
          <p:cNvPicPr/>
          <p:nvPr/>
        </p:nvPicPr>
        <p:blipFill>
          <a:blip r:embed="rId1"/>
          <a:stretch/>
        </p:blipFill>
        <p:spPr>
          <a:xfrm>
            <a:off x="3071880" y="2286000"/>
            <a:ext cx="3247920" cy="3887640"/>
          </a:xfrm>
          <a:prstGeom prst="rect">
            <a:avLst/>
          </a:prstGeom>
          <a:ln w="0">
            <a:noFill/>
          </a:ln>
        </p:spPr>
      </p:pic>
      <p:sp>
        <p:nvSpPr>
          <p:cNvPr id="41" name="Title Placeholder 4"/>
          <p:cNvSpPr/>
          <p:nvPr/>
        </p:nvSpPr>
        <p:spPr>
          <a:xfrm>
            <a:off x="685800" y="1413000"/>
            <a:ext cx="77724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Geneva"/>
              </a:rPr>
              <a:t>Gitte &amp; N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itle Placeholder 4"/>
          <p:cNvSpPr/>
          <p:nvPr/>
        </p:nvSpPr>
        <p:spPr>
          <a:xfrm>
            <a:off x="652320" y="620640"/>
            <a:ext cx="7886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Geneva"/>
              </a:rPr>
              <a:t>The SharpPlot Chart Wiza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SharpPlot, as of v14.0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55640" y="1700280"/>
            <a:ext cx="860256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Dyalog took over Causeway in 2008 (v12.0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27920" indent="-280080"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Nic’s in charge since 2013 (v14.0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RainPro frozen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27920" indent="-280080"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SharpRain for emulation/conversion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harpPlot on all platform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27920" indent="-280080"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.Net version 10x faster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harpPlot Chart Wizar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817416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The visual interpretation of data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46" name="Picture 4" descr="rabbit-or-duck.jpg"/>
          <p:cNvPicPr/>
          <p:nvPr/>
        </p:nvPicPr>
        <p:blipFill>
          <a:blip r:embed="rId1"/>
          <a:stretch/>
        </p:blipFill>
        <p:spPr>
          <a:xfrm>
            <a:off x="1928880" y="1643040"/>
            <a:ext cx="5395680" cy="42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The SharpPlot Chart Wizard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55640" y="1700280"/>
            <a:ext cx="763272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Visually explore workspace data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teractively experiment chart setting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Produce images (many formats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utomate chart generation from similar data (produce APL script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14240" y="278568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Live Demo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0T07:31:57Z</dcterms:created>
  <dc:creator>Nicolas</dc:creator>
  <dc:description/>
  <dc:language>en-US</dc:language>
  <cp:lastModifiedBy>Nicolas</cp:lastModifiedBy>
  <cp:lastPrinted>2014-08-15T09:52:37Z</cp:lastPrinted>
  <dcterms:modified xsi:type="dcterms:W3CDTF">2014-09-22T20:33:32Z</dcterms:modified>
  <cp:revision>28</cp:revision>
  <dc:subject/>
  <dc:title>Slide 0</dc:title>
</cp:coreProperties>
</file>