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76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co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 values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cont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lure poi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covery Action     Recovered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write 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o T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write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o T1 redo T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T1 commit   redo T0 redo T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nt consults coordinator or if failed another site for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another site then sends a query status for the transaction pending. Each site consults own log and if final outcome for this transaction found then returned back to recovered particip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avoid recovered participant from stalling restart of DBMS service to local users then store in own log with ready message a list of locks held. Then can re- lock and restart service. When final outcome known then can commit/rollback and resources now available lo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FCB7-D060-458D-A482-B4F9375C2FF0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FB58-E19B-41C6-8BE9-D3923E3B7ECB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4478-7E42-43F2-A261-F028A70BCEB4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6765-98CC-4827-A7EC-6E57D8CC5A66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FB52-AE6B-4144-B866-A397EB89A380}" type="slidenum">
              <a:rPr b="0" lang="en-US" sz="12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nsistent because RI is vio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ional cannot go from failed back to Active can only Abort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ly Committed  - user enters commit statement to move from 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ains in this state whilst DBMS does the commit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system failure e.g. log full then system moves to Fail and onto Ab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user transaction cannot proceed due to some logic error e.g. insert fails due to RI constraint then transaction enters a logical ‘failed’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can only sensible end by Ab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 mix of logical and physical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active, commit, abort correspond to SQL comm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active is implicit with respect to ISO SQL Se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it/ rollback automatically starts a new trans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ISO SQL always in a transaction - only difference is whether a 1 SQL statement or N SQL statement transaction. This is determined by the autocommit se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llustra - if not in a transaction then autocommit is set t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Interleaving CPU / 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e as multiprogramming argument for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fficiency change on system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Same as argument for time sharing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support change on time slice for round r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atio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n to illustrate a particular problem using actual dat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required by the general solution to th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        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s same value thus no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reads old value; reversed T1 reads new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2 reads new  value; reversed T1 reads ol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er effects final value appearing in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9667-3899-47AF-B80E-CE08051FDF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5F62-25B6-400C-A9DB-381BDF4A95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307D-20BF-4908-BB3F-796D625243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67F1-AEFC-4905-827C-D762D847F8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86B9-4B74-4B40-A475-AEDC43415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7096-06DB-41FB-A9CB-22A81318FD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2ABA-767D-46E7-A134-E7C7C3FDE0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B13B-2D60-4779-A634-72A4C380B1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6162-AE6E-4FA8-ACFC-501385C837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3016-AD1A-4D36-A848-B2E5FD4779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8FD7-93EF-4BB8-9536-75ADF5082E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896C-4993-4556-A4A4-94C3CCAB3F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"/>
          <p:cNvPicPr/>
          <p:nvPr/>
        </p:nvPicPr>
        <p:blipFill>
          <a:blip r:embed="rId4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3" marL="1600200" indent="-2286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4" marL="2057400" indent="-228600">
              <a:spcBef>
                <a:spcPts val="499"/>
              </a:spcBef>
              <a:buClr>
                <a:srgbClr val="ff8000"/>
              </a:buClr>
              <a:buFont typeface="Genev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ftr" idx="1"/>
          </p:nvPr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3672-D969-4FC8-B89B-5745492D6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dt" idx="3"/>
          </p:nvPr>
        </p:nvSpPr>
        <p:spPr>
          <a:xfrm>
            <a:off x="4190760" y="6477120"/>
            <a:ext cx="152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6339-130E-4C1A-90CE-4DD01D87DB15}" type="datetime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QL and SQAPL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393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6440" y="1412640"/>
            <a:ext cx="8331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haracter-st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ACTER(N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fixed-length character st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VARCHAR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 VARYING(N),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ACTER VARYING(N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variable-length character string with at mos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charact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it-strin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fixed-length bit st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VARBI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T VARYING(N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bit string with at mos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bi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ders Wait for Writ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440" y="1754280"/>
            <a:ext cx="91411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                  T2                     T3                    T4                    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st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st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>
            <a:off x="8381880" y="2224080"/>
            <a:ext cx="0" cy="408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609480" y="2757600"/>
            <a:ext cx="0" cy="180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2286000" y="3290760"/>
            <a:ext cx="0" cy="172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267080" y="5424480"/>
            <a:ext cx="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>
            <a:off x="6095880" y="6033960"/>
            <a:ext cx="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eadlock Dete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 Manager builds 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ait-f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graph for all the transactions in pro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adlock exists if the graph contains a cycle. Detection algorithm run frequ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st Update Wait-for graph showing cycle.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1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3132000" y="5335560"/>
            <a:ext cx="271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 flipH="1">
            <a:off x="3182400" y="6021360"/>
            <a:ext cx="2614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ffect of locking on databas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68360" y="206028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ers and Writers concurrently accessing the same data item under Two Phase locking will be forced to serialise I.e wait until exclusive access is pos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rs will experience delayed respon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improve performance reduced levels of locking (or consistency of final results) are available. Use with cau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QL 92 Consistency Levels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-  From highest to lowest leve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erializable i.e Two Phase Lock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peatable Re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hantom reads possi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Committ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locks dropped after data has been re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n repeatable &amp;  phantom reads possibl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Uncommitted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(Lowest Leve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s data that still have write locks in pl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irty read possibl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interactions between T1 and T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rty read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can read uncommitted data from T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n repeatable r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re-reads data committed by T2 and now sees the new data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hantom r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re-executes a query and discovers new data inserted or changed by committed T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 Repeatable Read   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440" y="1212840"/>
            <a:ext cx="91411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   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_i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ept  dept_id  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    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emp select e1, dept_id from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ame = ‘Sal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dept set dept_id = ‘d2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ept_id = ‘d1’;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emp select e2, dept_id from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ame = ‘Sales’;  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539640" y="1268280"/>
            <a:ext cx="2365560" cy="107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"/>
          <p:cNvSpPr/>
          <p:nvPr/>
        </p:nvSpPr>
        <p:spPr>
          <a:xfrm>
            <a:off x="539640" y="1844640"/>
            <a:ext cx="233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5076720" y="1268280"/>
            <a:ext cx="2670120" cy="107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5076720" y="1844640"/>
            <a:ext cx="264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5075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 Repeatable Read - locking at Read Committed level  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326880" y="2278080"/>
            <a:ext cx="870912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locks X(emp)  S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……..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lock S(dept)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quire lock X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update ……..; commit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drop lock  X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lock S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…...;  commit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locks X(emp) S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0" y="20178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762120" y="5589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252360" y="2017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e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 as NOT 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Non Repeatable Read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4"/>
          <p:cNvSpPr/>
          <p:nvPr/>
        </p:nvSpPr>
        <p:spPr>
          <a:xfrm>
            <a:off x="1158840" y="6093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"/>
          <p:cNvSpPr/>
          <p:nvPr/>
        </p:nvSpPr>
        <p:spPr>
          <a:xfrm flipH="1">
            <a:off x="2286000" y="3959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consistent Analysis / Phantom R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1440" y="1757520"/>
            <a:ext cx="914112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Stock      pn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um(qty) from st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no = 2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no = 5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Actual 1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Reported 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4500720" y="5661000"/>
            <a:ext cx="43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7310520" y="5661000"/>
            <a:ext cx="43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4503600" y="3598920"/>
            <a:ext cx="51912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"/>
          <p:cNvSpPr/>
          <p:nvPr/>
        </p:nvSpPr>
        <p:spPr>
          <a:xfrm flipV="1">
            <a:off x="4579920" y="5198760"/>
            <a:ext cx="36684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3429000" y="1927080"/>
            <a:ext cx="205740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 flipH="1">
            <a:off x="5094000" y="3755880"/>
            <a:ext cx="2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H="1">
            <a:off x="5094000" y="535608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5520" y="71604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1844640"/>
            <a:ext cx="8096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is a date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YYY-MM-D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time of day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(I)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time of day with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ecimal fractions of a second: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-F....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 WITH TIME ZON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a time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with a time zone added: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-HH-MM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consistent Analysis / Phantom Read locking analysi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2 For each row acquire lock S(stock) , read value, drop lock S(stock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1 Allows lock X(stock) to be acquired on previously read row  Completes updates. Drops X(stock) lo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2 acquires S(stock) and so reads both old and new values causing the probl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64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108000" y="1946160"/>
            <a:ext cx="9036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0" y="1828800"/>
            <a:ext cx="9036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stock row pno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stock row pno =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Inconsistent Analysis 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"/>
          <p:cNvSpPr/>
          <p:nvPr/>
        </p:nvSpPr>
        <p:spPr>
          <a:xfrm>
            <a:off x="414036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committed / Dirty R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306360" y="1525680"/>
            <a:ext cx="8658360" cy="45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    acc_i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                      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account set balance = 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cc_id = 1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balance from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cc_id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s credit check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ollba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2589120" y="1598760"/>
            <a:ext cx="3051360" cy="993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2604960" y="1981080"/>
            <a:ext cx="302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committed / Dirty Read locking analysi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ing at Read Uncommitted Level which effectively means Lock Compatability Matrix is chang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Shared and eXclusive locks changes from No to Y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 Concurrent Writes are still not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0" y="1828800"/>
            <a:ext cx="853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0" y="1969920"/>
            <a:ext cx="8820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Uncommitted / Dirty Read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762120" y="60213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"/>
          <p:cNvSpPr/>
          <p:nvPr/>
        </p:nvSpPr>
        <p:spPr>
          <a:xfrm flipH="1">
            <a:off x="2437920" y="327816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granularit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able locking provides least concurr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sk Page lock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st common level. The number of rows locked depends on row size/page size ratio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ow locking provides maximum concurr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monly used for on line transaction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ighest system cost as requires most loc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ransaction Locking and Chrash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71604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640" y="2060640"/>
            <a:ext cx="8096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-STAMP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ate, time, fractions of a second and an optiona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ITH TIME ZON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qualifie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YYY-MM-DD-HH-MM-SS-F...F{-HH-MM}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NTERVAL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relative value used to increment or decremen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, TIM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STAM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EAR/MONTH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Y/TIM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- Immediate Update of row data on Dis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1440" y="1754280"/>
            <a:ext cx="91425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head Log on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100 where p# = 1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0, qty, 200,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from stock where p# = 2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1, p#,  2,,  qty, 10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stock values( 3, 600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2, p#,, 3, qty,,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 commit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 Pag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100 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 stock valu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2360520" y="5027760"/>
            <a:ext cx="6556320" cy="152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7018200" y="5791320"/>
            <a:ext cx="181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6"/>
          <p:cNvSpPr/>
          <p:nvPr/>
        </p:nvSpPr>
        <p:spPr>
          <a:xfrm flipV="1">
            <a:off x="8542440" y="4871880"/>
            <a:ext cx="36648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sequ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68360" y="177300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 Ahead Protocol means BI,AI and other log entries are written 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bef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data row on disk is chang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ransaction ends with a commit no further ac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nded with a rollback then system must apply BI to row data to restore the original values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0" y="1676520"/>
            <a:ext cx="9144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= a - 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 = c - 1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 = b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b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out log assuming execute in order T0 T1 and show Datab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alues assuming Immediate Update of databas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0" y="18288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177336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"/>
          <p:cNvSpPr/>
          <p:nvPr/>
        </p:nvSpPr>
        <p:spPr>
          <a:xfrm flipV="1">
            <a:off x="3809880" y="2895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 flipV="1">
            <a:off x="66294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6"/>
          <p:cNvSpPr/>
          <p:nvPr/>
        </p:nvSpPr>
        <p:spPr>
          <a:xfrm flipV="1">
            <a:off x="8381880" y="28191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080" y="54900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Immediate Update of row data in memory</a:t>
            </a: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1440" y="1395360"/>
            <a:ext cx="914256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qty *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  Data Buffer P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Buff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                              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1, qty,1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2, qty, 40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40  8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flush on     commit/page full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before row    data buffer flush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 Database P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1, qty,10,2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1, 9.2, qty, 40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g Fi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1913040" y="3119400"/>
            <a:ext cx="366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1913040" y="3652560"/>
            <a:ext cx="36648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5410080" y="2349360"/>
            <a:ext cx="267336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835200" y="2874960"/>
            <a:ext cx="2901600" cy="12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5410080" y="4788000"/>
            <a:ext cx="28260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"/>
          <p:cNvSpPr/>
          <p:nvPr/>
        </p:nvSpPr>
        <p:spPr>
          <a:xfrm>
            <a:off x="762120" y="5235480"/>
            <a:ext cx="29779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"/>
          <p:cNvSpPr/>
          <p:nvPr/>
        </p:nvSpPr>
        <p:spPr>
          <a:xfrm>
            <a:off x="6553080" y="35686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1"/>
          <p:cNvSpPr/>
          <p:nvPr/>
        </p:nvSpPr>
        <p:spPr>
          <a:xfrm flipV="1">
            <a:off x="838080" y="42969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3733920" y="422100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g Based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ystem crash loses memory buffer pag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mitted changes may not be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w data Buffer pages not yet flushed o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n committed changes may be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w data Buffer pages already flushed o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AL ensures that Log pages are already on disk ( a different disk from the table data!) before row data buffer pages flushed to disk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covery Proces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lo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orwards from the sta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utting all transactions found onto one of the lis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ndo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ansactions with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 commi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erminato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do    transaction with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mmi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erminato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o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backward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crash point ‘undoing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Before Im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o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orward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start ‘redoing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After Im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Text Box 3"/>
          <p:cNvSpPr/>
          <p:nvPr/>
        </p:nvSpPr>
        <p:spPr>
          <a:xfrm>
            <a:off x="0" y="160020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ing the data from the Transaction Log slide show the recovered database values. Assume failure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writ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b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0" y="242244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4"/>
          <p:cNvSpPr/>
          <p:nvPr/>
        </p:nvSpPr>
        <p:spPr>
          <a:xfrm flipV="1">
            <a:off x="3809880" y="35002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"/>
          <p:cNvSpPr/>
          <p:nvPr/>
        </p:nvSpPr>
        <p:spPr>
          <a:xfrm flipV="1">
            <a:off x="6629400" y="35002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6080" y="1483920"/>
            <a:ext cx="853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omain can be defined as follows: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;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IGHTNUMBER CHAR(5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sing domain definitions makes it easier to see which columns are rela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hanging a domain definition one place changes it consistently everywhere it is us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efault values can be defined for domai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straints can be defined for domains (lat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b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0" y="18288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No entries as no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0 b 2000 2050 by applying 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0 a 1000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base values as at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"/>
          <p:cNvSpPr/>
          <p:nvPr/>
        </p:nvSpPr>
        <p:spPr>
          <a:xfrm flipV="1">
            <a:off x="3809880" y="2895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"/>
          <p:cNvSpPr/>
          <p:nvPr/>
        </p:nvSpPr>
        <p:spPr>
          <a:xfrm flipV="1">
            <a:off x="66294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6"/>
          <p:cNvSpPr/>
          <p:nvPr/>
        </p:nvSpPr>
        <p:spPr>
          <a:xfrm flipV="1">
            <a:off x="6553080" y="51055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H="1">
            <a:off x="4724280" y="56386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c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c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573120" y="2276640"/>
            <a:ext cx="8351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Undo 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950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2050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 flipV="1">
            <a:off x="5925960" y="505944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5"/>
          <p:cNvSpPr/>
          <p:nvPr/>
        </p:nvSpPr>
        <p:spPr>
          <a:xfrm flipH="1">
            <a:off x="4097160" y="505944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6"/>
          <p:cNvSpPr/>
          <p:nvPr/>
        </p:nvSpPr>
        <p:spPr>
          <a:xfrm>
            <a:off x="5911920" y="306864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7"/>
          <p:cNvSpPr/>
          <p:nvPr/>
        </p:nvSpPr>
        <p:spPr>
          <a:xfrm flipV="1">
            <a:off x="7859880" y="51210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ndo backwards &amp; redo forwards through log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Text Box 1027"/>
          <p:cNvSpPr/>
          <p:nvPr/>
        </p:nvSpPr>
        <p:spPr>
          <a:xfrm>
            <a:off x="0" y="2112840"/>
            <a:ext cx="896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 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    20 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ackwards using 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wards using 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028"/>
          <p:cNvSpPr/>
          <p:nvPr/>
        </p:nvSpPr>
        <p:spPr>
          <a:xfrm flipV="1">
            <a:off x="6477120" y="2857320"/>
            <a:ext cx="5331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029"/>
          <p:cNvSpPr/>
          <p:nvPr/>
        </p:nvSpPr>
        <p:spPr>
          <a:xfrm flipV="1">
            <a:off x="6400800" y="39240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030"/>
          <p:cNvSpPr/>
          <p:nvPr/>
        </p:nvSpPr>
        <p:spPr>
          <a:xfrm flipV="1">
            <a:off x="7391520" y="384768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33"/>
          <p:cNvSpPr/>
          <p:nvPr/>
        </p:nvSpPr>
        <p:spPr>
          <a:xfrm flipV="1">
            <a:off x="6400800" y="56005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035"/>
          <p:cNvSpPr/>
          <p:nvPr/>
        </p:nvSpPr>
        <p:spPr>
          <a:xfrm flipV="1">
            <a:off x="7391520" y="560052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037"/>
          <p:cNvSpPr/>
          <p:nvPr/>
        </p:nvSpPr>
        <p:spPr>
          <a:xfrm flipV="1">
            <a:off x="7315200" y="27810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heckpoi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360" y="1700280"/>
            <a:ext cx="8207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ushes all log buffer pages 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ushes all modified data buffer pages 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s a log record with list of open trans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overy takes place from the latest checkpoint record in the lo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duces recovery ti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k Crash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es database dumps are taken period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lushes all buffers; copies database files; writes out a dump recor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ad latest database dump on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log start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mmediately afte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ump which has been loaded rollforward ‘redoing’ all committed trans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e E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644040"/>
            <a:ext cx="8713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9280" y="1526760"/>
            <a:ext cx="907272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domains contain the value,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ULL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efine a different default value:</a:t>
            </a:r>
            <a:br>
              <a:rPr sz="32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‘&lt;literal&gt;’;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‘niladic function’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literal, such as ‘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???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’, ‘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O-VALU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’,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iladic function, such a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USER, CURRENT-USER, SESSION-USER, SYSTEM-USER, CURRENT-DATE, CURRENT-TIME,  CURRENT-TIMESTAMP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efaults defined in a column takes precedence over the abo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4661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644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omain is dropped as follow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domain is used in column definition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causes columns to be defined directly on the underlying data typ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1057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Schem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3040" y="1784160"/>
            <a:ext cx="873792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reate a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UTHORIZATION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LEO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as now been created and is owner by the user “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EO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ables can now be created and added to the 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1057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Schem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03040" y="1916280"/>
            <a:ext cx="87379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schema is not emp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everything in the 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9160" y="644040"/>
            <a:ext cx="83948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79400" y="1412640"/>
            <a:ext cx="7680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create a table in th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FLIGHTNUMBER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VARCHAR(25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 AIRPORT-COD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TIM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TIM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AIRPORT-COD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TIM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TIM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RIMARY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PORT(AIRPORTCOD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TO-AIRPORTCODE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(AIRPORTCODE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034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90200" y="1483920"/>
            <a:ext cx="853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FLIGHTNUMBE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EEKDA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CHAR(2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WEEKDAY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T-SCHEDULE(FL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FLIGHTNUMBER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#AVAIL-SEATS   SMALLINT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RIMARY KE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DAT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(FL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ata Mode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4944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atabase models some portion of the real worl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Data Mode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s link between user’s view of the world and bits stored in compu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 will concentrate on the Relational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952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71400" y="1483920"/>
            <a:ext cx="8940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RESERV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FLIGHTNUMBER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US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INTEGER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A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CHAR(4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ECK-IN-STATUS  CHAR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DATE, CUS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(FL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DATE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(DAT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CUS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USTOMER(CUS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9520" y="716040"/>
            <a:ext cx="8539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12560" y="131076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tab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ERVATION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ERVATION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CASCAD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table is referenced by view/constraint defini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referencing view/constraint defini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2240" y="860040"/>
            <a:ext cx="7745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058840"/>
            <a:ext cx="81374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add a column to a tab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TER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D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DECIMAL(7,2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f n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s specified, the new column will ha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ULL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alues for all tuples already in the datab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2240" y="860040"/>
            <a:ext cx="7745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5280" y="2058840"/>
            <a:ext cx="81374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column from a t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TER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 (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or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CASCADE)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column is referenc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referencing view/constraint definition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825048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6080" y="1671120"/>
            <a:ext cx="87375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 dataset consisting of 5 tables are available as .csv files or as an excel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Let us get this data into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Get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Next let us create the database using SQ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First you must create a database in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Q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504360"/>
            <a:ext cx="871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47640" y="1311120"/>
            <a:ext cx="5384880" cy="51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lect-from-wher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lect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where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rom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uple variabl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tring match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ordering of ro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t oper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built-in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ested subquer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joi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ecursive quer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sert, delete, upd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3880" y="644040"/>
            <a:ext cx="8539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- select-from-wher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61960" y="3471480"/>
            <a:ext cx="833112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SELECT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columns of the res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tables to be scanned in the quer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WHERE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condition on the columns of the tables in 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124000" y="1674720"/>
            <a:ext cx="5562000" cy="1531080"/>
            <a:chOff x="2124000" y="1674720"/>
            <a:chExt cx="5562000" cy="1531080"/>
          </a:xfrm>
        </p:grpSpPr>
        <p:sp>
          <p:nvSpPr>
            <p:cNvPr id="317" name="Rectangle 4"/>
            <p:cNvSpPr/>
            <p:nvPr/>
          </p:nvSpPr>
          <p:spPr>
            <a:xfrm>
              <a:off x="2124000" y="1674720"/>
              <a:ext cx="4555080" cy="146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2187000" y="1778400"/>
              <a:ext cx="5499000" cy="14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...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, ...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3880" y="765000"/>
            <a:ext cx="90424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elect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53520" y="2133720"/>
            <a:ext cx="8466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the airlines in FLT-SCHEDULE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the airlines in FLT-SCHEDULE with duplicates remove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DISTIN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3880" y="765000"/>
            <a:ext cx="90424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elect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53520" y="2133720"/>
            <a:ext cx="8466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all columns in FLT-SCHEDULE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FLT# and price raised by 10%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#, PRICE*1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2600" y="627120"/>
            <a:ext cx="8177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where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53520" y="2491920"/>
            <a:ext cx="84661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FLT# and price in FLT-SCHEDULE for flights out of Atlanta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ata Mode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483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data model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collection of concepts for describing data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databas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schema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description of a particular collection of data, using a given data mode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relational model of data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the most widely used model toda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Main concept: 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relatio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basically a table with rows and colum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Every relation has 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Geneva"/>
              </a:rPr>
              <a:t>schema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which describes the columns, or field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78822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from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12560" y="2205000"/>
            <a:ext cx="883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, WEEKDAY, and FROM-AIRPORTCODE in FLT-WEEKDAY and FLT-SCHEDUL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.FLT#,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EEKDAY, FROM-AIRPORTCOD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,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.FLT# =  FLT-SCHEDULE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dot-notatio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isambiguates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# 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n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-WEEKDAY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nd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3520" y="539640"/>
            <a:ext cx="868212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tuple vari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53880" y="2161800"/>
            <a:ext cx="904248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alia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, WEEKDAY, T.FROM-AIRPORTCOD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 S, FLT-SCHEDULE 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 =  T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re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tuple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3520" y="539640"/>
            <a:ext cx="868212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tuple vari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53880" y="2449440"/>
            <a:ext cx="9042480" cy="32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’s heritage as a tuple calculus language sh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uple variables are useful when one relation is used “twice” in a que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S.FLT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FLT-SCHEDULE S, FLT-SCHEDULE 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S.PRICE &gt; T.PRIC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T.FLT# = “DL21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”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2240" y="468000"/>
            <a:ext cx="86821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tring match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6440" y="2133720"/>
            <a:ext cx="83311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wildcard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arches us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%: matches any substr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_: matches any charac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S.FLT#, WEEKDAY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WEEKDAY S, FLT-SCHEDULE T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S.FLT# =  T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T.AIRLINE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LIK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“%an%”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%an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merican, Airtran, Scandinavian, Lufthansa, PanAm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merican, Airtran, 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“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ny string with at least three charact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3" name="Group 7"/>
          <p:cNvGrpSpPr/>
          <p:nvPr/>
        </p:nvGrpSpPr>
        <p:grpSpPr>
          <a:xfrm>
            <a:off x="971640" y="5950080"/>
            <a:ext cx="385200" cy="0"/>
            <a:chOff x="971640" y="5950080"/>
            <a:chExt cx="385200" cy="0"/>
          </a:xfrm>
        </p:grpSpPr>
        <p:sp>
          <p:nvSpPr>
            <p:cNvPr id="334" name="Line 4"/>
            <p:cNvSpPr/>
            <p:nvPr/>
          </p:nvSpPr>
          <p:spPr>
            <a:xfrm>
              <a:off x="971640" y="595008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>
              <a:off x="1115640" y="5950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6"/>
            <p:cNvSpPr/>
            <p:nvPr/>
          </p:nvSpPr>
          <p:spPr>
            <a:xfrm>
              <a:off x="1271880" y="595008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160" y="539640"/>
            <a:ext cx="8178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ordering of row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6440" y="2060640"/>
            <a:ext cx="833112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order by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orders the rows in a query result in ascending (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as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or descending (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des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or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, airline, and price from FLT-SCHEDULE for flights out of Atlanta ordered by ascending airline and descending price: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RDER B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C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 P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SC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8600" y="499680"/>
            <a:ext cx="86817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set operat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14240" y="2581200"/>
            <a:ext cx="8429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and FLT# with more than 100 seats in FLT-INSTANCE 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preserves duplicat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1282680" y="1273320"/>
            <a:ext cx="5582880" cy="1302840"/>
            <a:chOff x="1282680" y="1273320"/>
            <a:chExt cx="5582880" cy="1302840"/>
          </a:xfrm>
        </p:grpSpPr>
        <p:grpSp>
          <p:nvGrpSpPr>
            <p:cNvPr id="342" name="Group 15"/>
            <p:cNvGrpSpPr/>
            <p:nvPr/>
          </p:nvGrpSpPr>
          <p:grpSpPr>
            <a:xfrm>
              <a:off x="1282680" y="1273320"/>
              <a:ext cx="5582880" cy="847080"/>
              <a:chOff x="1282680" y="1273320"/>
              <a:chExt cx="5582880" cy="847080"/>
            </a:xfrm>
          </p:grpSpPr>
          <p:grpSp>
            <p:nvGrpSpPr>
              <p:cNvPr id="343" name="Group 11"/>
              <p:cNvGrpSpPr/>
              <p:nvPr/>
            </p:nvGrpSpPr>
            <p:grpSpPr>
              <a:xfrm>
                <a:off x="3227400" y="1273320"/>
                <a:ext cx="3638160" cy="847080"/>
                <a:chOff x="3227400" y="1273320"/>
                <a:chExt cx="3638160" cy="847080"/>
              </a:xfrm>
            </p:grpSpPr>
            <p:grpSp>
              <p:nvGrpSpPr>
                <p:cNvPr id="344" name="Group 8"/>
                <p:cNvGrpSpPr/>
                <p:nvPr/>
              </p:nvGrpSpPr>
              <p:grpSpPr>
                <a:xfrm>
                  <a:off x="3227400" y="1273320"/>
                  <a:ext cx="3638160" cy="847080"/>
                  <a:chOff x="3227400" y="1273320"/>
                  <a:chExt cx="3638160" cy="847080"/>
                </a:xfrm>
              </p:grpSpPr>
              <p:grpSp>
                <p:nvGrpSpPr>
                  <p:cNvPr id="345" name="Group 6"/>
                  <p:cNvGrpSpPr/>
                  <p:nvPr/>
                </p:nvGrpSpPr>
                <p:grpSpPr>
                  <a:xfrm>
                    <a:off x="3227400" y="1273320"/>
                    <a:ext cx="3638160" cy="847080"/>
                    <a:chOff x="3227400" y="1273320"/>
                    <a:chExt cx="3638160" cy="847080"/>
                  </a:xfrm>
                </p:grpSpPr>
                <p:sp>
                  <p:nvSpPr>
                    <p:cNvPr id="346" name="Oval 4"/>
                    <p:cNvSpPr/>
                    <p:nvPr/>
                  </p:nvSpPr>
                  <p:spPr>
                    <a:xfrm>
                      <a:off x="3227400" y="1273320"/>
                      <a:ext cx="2254680" cy="847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5"/>
                    <p:cNvSpPr/>
                    <p:nvPr/>
                  </p:nvSpPr>
                  <p:spPr>
                    <a:xfrm>
                      <a:off x="4610880" y="1273320"/>
                      <a:ext cx="2254680" cy="847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Freeform 7"/>
                  <p:cNvSpPr/>
                  <p:nvPr/>
                </p:nvSpPr>
                <p:spPr>
                  <a:xfrm>
                    <a:off x="4581360" y="1365840"/>
                    <a:ext cx="913680" cy="669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563">
                        <a:moveTo>
                          <a:pt x="237" y="2"/>
                        </a:moveTo>
                        <a:lnTo>
                          <a:pt x="219" y="0"/>
                        </a:lnTo>
                        <a:lnTo>
                          <a:pt x="206" y="11"/>
                        </a:lnTo>
                        <a:lnTo>
                          <a:pt x="194" y="11"/>
                        </a:lnTo>
                        <a:lnTo>
                          <a:pt x="181" y="16"/>
                        </a:lnTo>
                        <a:lnTo>
                          <a:pt x="175" y="27"/>
                        </a:lnTo>
                        <a:lnTo>
                          <a:pt x="162" y="27"/>
                        </a:lnTo>
                        <a:lnTo>
                          <a:pt x="156" y="37"/>
                        </a:lnTo>
                        <a:lnTo>
                          <a:pt x="143" y="43"/>
                        </a:lnTo>
                        <a:lnTo>
                          <a:pt x="131" y="48"/>
                        </a:lnTo>
                        <a:lnTo>
                          <a:pt x="118" y="53"/>
                        </a:lnTo>
                        <a:lnTo>
                          <a:pt x="112" y="64"/>
                        </a:lnTo>
                        <a:lnTo>
                          <a:pt x="106" y="74"/>
                        </a:lnTo>
                        <a:lnTo>
                          <a:pt x="100" y="85"/>
                        </a:lnTo>
                        <a:lnTo>
                          <a:pt x="87" y="96"/>
                        </a:lnTo>
                        <a:lnTo>
                          <a:pt x="81" y="106"/>
                        </a:lnTo>
                        <a:lnTo>
                          <a:pt x="75" y="117"/>
                        </a:lnTo>
                        <a:lnTo>
                          <a:pt x="63" y="122"/>
                        </a:lnTo>
                        <a:lnTo>
                          <a:pt x="56" y="133"/>
                        </a:lnTo>
                        <a:lnTo>
                          <a:pt x="44" y="144"/>
                        </a:lnTo>
                        <a:lnTo>
                          <a:pt x="37" y="154"/>
                        </a:lnTo>
                        <a:lnTo>
                          <a:pt x="37" y="164"/>
                        </a:lnTo>
                        <a:lnTo>
                          <a:pt x="37" y="175"/>
                        </a:lnTo>
                        <a:lnTo>
                          <a:pt x="31" y="186"/>
                        </a:lnTo>
                        <a:lnTo>
                          <a:pt x="31" y="196"/>
                        </a:lnTo>
                        <a:lnTo>
                          <a:pt x="24" y="207"/>
                        </a:lnTo>
                        <a:lnTo>
                          <a:pt x="18" y="217"/>
                        </a:lnTo>
                        <a:lnTo>
                          <a:pt x="18" y="228"/>
                        </a:lnTo>
                        <a:lnTo>
                          <a:pt x="6" y="233"/>
                        </a:lnTo>
                        <a:lnTo>
                          <a:pt x="6" y="244"/>
                        </a:lnTo>
                        <a:lnTo>
                          <a:pt x="0" y="255"/>
                        </a:lnTo>
                        <a:lnTo>
                          <a:pt x="12" y="255"/>
                        </a:lnTo>
                        <a:lnTo>
                          <a:pt x="12" y="265"/>
                        </a:lnTo>
                        <a:lnTo>
                          <a:pt x="12" y="276"/>
                        </a:lnTo>
                        <a:lnTo>
                          <a:pt x="12" y="286"/>
                        </a:lnTo>
                        <a:lnTo>
                          <a:pt x="6" y="297"/>
                        </a:lnTo>
                        <a:lnTo>
                          <a:pt x="6" y="308"/>
                        </a:lnTo>
                        <a:lnTo>
                          <a:pt x="6" y="318"/>
                        </a:lnTo>
                        <a:lnTo>
                          <a:pt x="6" y="329"/>
                        </a:lnTo>
                        <a:lnTo>
                          <a:pt x="6" y="340"/>
                        </a:lnTo>
                        <a:lnTo>
                          <a:pt x="18" y="350"/>
                        </a:lnTo>
                        <a:lnTo>
                          <a:pt x="18" y="361"/>
                        </a:lnTo>
                        <a:lnTo>
                          <a:pt x="24" y="371"/>
                        </a:lnTo>
                        <a:lnTo>
                          <a:pt x="24" y="382"/>
                        </a:lnTo>
                        <a:lnTo>
                          <a:pt x="24" y="393"/>
                        </a:lnTo>
                        <a:lnTo>
                          <a:pt x="37" y="398"/>
                        </a:lnTo>
                        <a:lnTo>
                          <a:pt x="50" y="408"/>
                        </a:lnTo>
                        <a:lnTo>
                          <a:pt x="44" y="419"/>
                        </a:lnTo>
                        <a:lnTo>
                          <a:pt x="50" y="429"/>
                        </a:lnTo>
                        <a:lnTo>
                          <a:pt x="56" y="440"/>
                        </a:lnTo>
                        <a:lnTo>
                          <a:pt x="63" y="451"/>
                        </a:lnTo>
                        <a:lnTo>
                          <a:pt x="69" y="461"/>
                        </a:lnTo>
                        <a:lnTo>
                          <a:pt x="81" y="466"/>
                        </a:lnTo>
                        <a:lnTo>
                          <a:pt x="87" y="477"/>
                        </a:lnTo>
                        <a:lnTo>
                          <a:pt x="100" y="482"/>
                        </a:lnTo>
                        <a:lnTo>
                          <a:pt x="106" y="493"/>
                        </a:lnTo>
                        <a:lnTo>
                          <a:pt x="118" y="499"/>
                        </a:lnTo>
                        <a:lnTo>
                          <a:pt x="125" y="509"/>
                        </a:lnTo>
                        <a:lnTo>
                          <a:pt x="137" y="514"/>
                        </a:lnTo>
                        <a:lnTo>
                          <a:pt x="143" y="525"/>
                        </a:lnTo>
                        <a:lnTo>
                          <a:pt x="156" y="530"/>
                        </a:lnTo>
                        <a:lnTo>
                          <a:pt x="162" y="541"/>
                        </a:lnTo>
                        <a:lnTo>
                          <a:pt x="175" y="546"/>
                        </a:lnTo>
                        <a:lnTo>
                          <a:pt x="188" y="552"/>
                        </a:lnTo>
                        <a:lnTo>
                          <a:pt x="200" y="557"/>
                        </a:lnTo>
                        <a:lnTo>
                          <a:pt x="212" y="562"/>
                        </a:lnTo>
                        <a:lnTo>
                          <a:pt x="225" y="562"/>
                        </a:lnTo>
                        <a:lnTo>
                          <a:pt x="237" y="562"/>
                        </a:lnTo>
                        <a:lnTo>
                          <a:pt x="249" y="557"/>
                        </a:lnTo>
                        <a:lnTo>
                          <a:pt x="256" y="546"/>
                        </a:lnTo>
                        <a:lnTo>
                          <a:pt x="269" y="541"/>
                        </a:lnTo>
                        <a:lnTo>
                          <a:pt x="281" y="535"/>
                        </a:lnTo>
                        <a:lnTo>
                          <a:pt x="294" y="530"/>
                        </a:lnTo>
                        <a:lnTo>
                          <a:pt x="300" y="519"/>
                        </a:lnTo>
                        <a:lnTo>
                          <a:pt x="312" y="514"/>
                        </a:lnTo>
                        <a:lnTo>
                          <a:pt x="325" y="509"/>
                        </a:lnTo>
                        <a:lnTo>
                          <a:pt x="331" y="499"/>
                        </a:lnTo>
                        <a:lnTo>
                          <a:pt x="343" y="493"/>
                        </a:lnTo>
                        <a:lnTo>
                          <a:pt x="350" y="482"/>
                        </a:lnTo>
                        <a:lnTo>
                          <a:pt x="356" y="472"/>
                        </a:lnTo>
                        <a:lnTo>
                          <a:pt x="362" y="461"/>
                        </a:lnTo>
                        <a:lnTo>
                          <a:pt x="375" y="451"/>
                        </a:lnTo>
                        <a:lnTo>
                          <a:pt x="375" y="440"/>
                        </a:lnTo>
                        <a:lnTo>
                          <a:pt x="387" y="429"/>
                        </a:lnTo>
                        <a:lnTo>
                          <a:pt x="394" y="419"/>
                        </a:lnTo>
                        <a:lnTo>
                          <a:pt x="394" y="408"/>
                        </a:lnTo>
                        <a:lnTo>
                          <a:pt x="406" y="403"/>
                        </a:lnTo>
                        <a:lnTo>
                          <a:pt x="406" y="393"/>
                        </a:lnTo>
                        <a:lnTo>
                          <a:pt x="413" y="382"/>
                        </a:lnTo>
                        <a:lnTo>
                          <a:pt x="419" y="371"/>
                        </a:lnTo>
                        <a:lnTo>
                          <a:pt x="419" y="361"/>
                        </a:lnTo>
                        <a:lnTo>
                          <a:pt x="419" y="350"/>
                        </a:lnTo>
                        <a:lnTo>
                          <a:pt x="425" y="340"/>
                        </a:lnTo>
                        <a:lnTo>
                          <a:pt x="425" y="329"/>
                        </a:lnTo>
                        <a:lnTo>
                          <a:pt x="425" y="318"/>
                        </a:lnTo>
                        <a:lnTo>
                          <a:pt x="425" y="308"/>
                        </a:lnTo>
                        <a:lnTo>
                          <a:pt x="425" y="297"/>
                        </a:lnTo>
                        <a:lnTo>
                          <a:pt x="431" y="286"/>
                        </a:lnTo>
                        <a:lnTo>
                          <a:pt x="431" y="276"/>
                        </a:lnTo>
                        <a:lnTo>
                          <a:pt x="431" y="265"/>
                        </a:lnTo>
                        <a:lnTo>
                          <a:pt x="431" y="255"/>
                        </a:lnTo>
                        <a:lnTo>
                          <a:pt x="431" y="244"/>
                        </a:lnTo>
                        <a:lnTo>
                          <a:pt x="425" y="233"/>
                        </a:lnTo>
                        <a:lnTo>
                          <a:pt x="419" y="222"/>
                        </a:lnTo>
                        <a:lnTo>
                          <a:pt x="419" y="212"/>
                        </a:lnTo>
                        <a:lnTo>
                          <a:pt x="413" y="202"/>
                        </a:lnTo>
                        <a:lnTo>
                          <a:pt x="413" y="191"/>
                        </a:lnTo>
                        <a:lnTo>
                          <a:pt x="413" y="180"/>
                        </a:lnTo>
                        <a:lnTo>
                          <a:pt x="406" y="169"/>
                        </a:lnTo>
                        <a:lnTo>
                          <a:pt x="400" y="159"/>
                        </a:lnTo>
                        <a:lnTo>
                          <a:pt x="394" y="149"/>
                        </a:lnTo>
                        <a:lnTo>
                          <a:pt x="387" y="138"/>
                        </a:lnTo>
                        <a:lnTo>
                          <a:pt x="375" y="127"/>
                        </a:lnTo>
                        <a:lnTo>
                          <a:pt x="368" y="117"/>
                        </a:lnTo>
                        <a:lnTo>
                          <a:pt x="362" y="106"/>
                        </a:lnTo>
                        <a:lnTo>
                          <a:pt x="350" y="101"/>
                        </a:lnTo>
                        <a:lnTo>
                          <a:pt x="350" y="90"/>
                        </a:lnTo>
                        <a:lnTo>
                          <a:pt x="337" y="85"/>
                        </a:lnTo>
                        <a:lnTo>
                          <a:pt x="331" y="74"/>
                        </a:lnTo>
                        <a:lnTo>
                          <a:pt x="319" y="69"/>
                        </a:lnTo>
                        <a:lnTo>
                          <a:pt x="319" y="58"/>
                        </a:lnTo>
                        <a:lnTo>
                          <a:pt x="306" y="53"/>
                        </a:lnTo>
                        <a:lnTo>
                          <a:pt x="294" y="43"/>
                        </a:lnTo>
                        <a:lnTo>
                          <a:pt x="281" y="37"/>
                        </a:lnTo>
                        <a:lnTo>
                          <a:pt x="269" y="32"/>
                        </a:lnTo>
                        <a:lnTo>
                          <a:pt x="262" y="21"/>
                        </a:lnTo>
                        <a:lnTo>
                          <a:pt x="249" y="16"/>
                        </a:lnTo>
                        <a:lnTo>
                          <a:pt x="243" y="5"/>
                        </a:lnTo>
                        <a:lnTo>
                          <a:pt x="231" y="0"/>
                        </a:lnTo>
                        <a:lnTo>
                          <a:pt x="219" y="0"/>
                        </a:lnTo>
                        <a:lnTo>
                          <a:pt x="204" y="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Rectangle 9"/>
                <p:cNvSpPr/>
                <p:nvPr/>
              </p:nvSpPr>
              <p:spPr>
                <a:xfrm>
                  <a:off x="5751360" y="149328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0"/>
                <p:cNvSpPr/>
                <p:nvPr/>
              </p:nvSpPr>
              <p:spPr>
                <a:xfrm>
                  <a:off x="3922920" y="155052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14"/>
              <p:cNvGrpSpPr/>
              <p:nvPr/>
            </p:nvGrpSpPr>
            <p:grpSpPr>
              <a:xfrm>
                <a:off x="1282680" y="1493280"/>
                <a:ext cx="1941840" cy="454680"/>
                <a:chOff x="1282680" y="1493280"/>
                <a:chExt cx="1941840" cy="454680"/>
              </a:xfrm>
            </p:grpSpPr>
            <p:graphicFrame>
              <p:nvGraphicFramePr>
                <p:cNvPr id="352" name="Object 12"/>
                <p:cNvGraphicFramePr/>
                <p:nvPr/>
              </p:nvGraphicFramePr>
              <p:xfrm>
                <a:off x="1746000" y="1510920"/>
                <a:ext cx="287640" cy="2854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53" name="Object 1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746000" y="1510920"/>
                          <a:ext cx="287640" cy="285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54" name="Rectangle 13"/>
                <p:cNvSpPr/>
                <p:nvPr/>
              </p:nvSpPr>
              <p:spPr>
                <a:xfrm>
                  <a:off x="1282680" y="1493280"/>
                  <a:ext cx="1941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 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Rectangle 16"/>
            <p:cNvSpPr/>
            <p:nvPr/>
          </p:nvSpPr>
          <p:spPr>
            <a:xfrm>
              <a:off x="4126680" y="2121480"/>
              <a:ext cx="204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union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9520" y="49968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set oper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7240" y="2736720"/>
            <a:ext cx="839016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with more than 100 seats in FLT-INSTANC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TERSECT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preserves duplicat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8" name="Group 17"/>
          <p:cNvGrpSpPr/>
          <p:nvPr/>
        </p:nvGrpSpPr>
        <p:grpSpPr>
          <a:xfrm>
            <a:off x="1386000" y="1422360"/>
            <a:ext cx="5583960" cy="1303200"/>
            <a:chOff x="1386000" y="1422360"/>
            <a:chExt cx="5583960" cy="1303200"/>
          </a:xfrm>
        </p:grpSpPr>
        <p:grpSp>
          <p:nvGrpSpPr>
            <p:cNvPr id="359" name="Group 15"/>
            <p:cNvGrpSpPr/>
            <p:nvPr/>
          </p:nvGrpSpPr>
          <p:grpSpPr>
            <a:xfrm>
              <a:off x="1386000" y="1422360"/>
              <a:ext cx="5583960" cy="847440"/>
              <a:chOff x="1386000" y="1422360"/>
              <a:chExt cx="5583960" cy="847440"/>
            </a:xfrm>
          </p:grpSpPr>
          <p:grpSp>
            <p:nvGrpSpPr>
              <p:cNvPr id="360" name="Group 11"/>
              <p:cNvGrpSpPr/>
              <p:nvPr/>
            </p:nvGrpSpPr>
            <p:grpSpPr>
              <a:xfrm>
                <a:off x="3331080" y="1422360"/>
                <a:ext cx="3638880" cy="847440"/>
                <a:chOff x="3331080" y="1422360"/>
                <a:chExt cx="3638880" cy="847440"/>
              </a:xfrm>
            </p:grpSpPr>
            <p:grpSp>
              <p:nvGrpSpPr>
                <p:cNvPr id="361" name="Group 8"/>
                <p:cNvGrpSpPr/>
                <p:nvPr/>
              </p:nvGrpSpPr>
              <p:grpSpPr>
                <a:xfrm>
                  <a:off x="3331080" y="1422360"/>
                  <a:ext cx="3638880" cy="847440"/>
                  <a:chOff x="3331080" y="1422360"/>
                  <a:chExt cx="3638880" cy="847440"/>
                </a:xfrm>
              </p:grpSpPr>
              <p:grpSp>
                <p:nvGrpSpPr>
                  <p:cNvPr id="362" name="Group 6"/>
                  <p:cNvGrpSpPr/>
                  <p:nvPr/>
                </p:nvGrpSpPr>
                <p:grpSpPr>
                  <a:xfrm>
                    <a:off x="3331080" y="1422360"/>
                    <a:ext cx="3638880" cy="847440"/>
                    <a:chOff x="3331080" y="1422360"/>
                    <a:chExt cx="3638880" cy="847440"/>
                  </a:xfrm>
                </p:grpSpPr>
                <p:sp>
                  <p:nvSpPr>
                    <p:cNvPr id="363" name="Oval 4"/>
                    <p:cNvSpPr/>
                    <p:nvPr/>
                  </p:nvSpPr>
                  <p:spPr>
                    <a:xfrm>
                      <a:off x="3331080" y="1422360"/>
                      <a:ext cx="2255400" cy="8474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Oval 5"/>
                    <p:cNvSpPr/>
                    <p:nvPr/>
                  </p:nvSpPr>
                  <p:spPr>
                    <a:xfrm>
                      <a:off x="4714560" y="1422360"/>
                      <a:ext cx="2255400" cy="8474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Freeform 7"/>
                  <p:cNvSpPr/>
                  <p:nvPr/>
                </p:nvSpPr>
                <p:spPr>
                  <a:xfrm>
                    <a:off x="4685040" y="1515240"/>
                    <a:ext cx="91404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563">
                        <a:moveTo>
                          <a:pt x="237" y="2"/>
                        </a:moveTo>
                        <a:lnTo>
                          <a:pt x="219" y="0"/>
                        </a:lnTo>
                        <a:lnTo>
                          <a:pt x="206" y="11"/>
                        </a:lnTo>
                        <a:lnTo>
                          <a:pt x="194" y="11"/>
                        </a:lnTo>
                        <a:lnTo>
                          <a:pt x="181" y="16"/>
                        </a:lnTo>
                        <a:lnTo>
                          <a:pt x="175" y="27"/>
                        </a:lnTo>
                        <a:lnTo>
                          <a:pt x="162" y="27"/>
                        </a:lnTo>
                        <a:lnTo>
                          <a:pt x="156" y="37"/>
                        </a:lnTo>
                        <a:lnTo>
                          <a:pt x="143" y="43"/>
                        </a:lnTo>
                        <a:lnTo>
                          <a:pt x="131" y="48"/>
                        </a:lnTo>
                        <a:lnTo>
                          <a:pt x="118" y="53"/>
                        </a:lnTo>
                        <a:lnTo>
                          <a:pt x="112" y="64"/>
                        </a:lnTo>
                        <a:lnTo>
                          <a:pt x="106" y="74"/>
                        </a:lnTo>
                        <a:lnTo>
                          <a:pt x="100" y="85"/>
                        </a:lnTo>
                        <a:lnTo>
                          <a:pt x="87" y="96"/>
                        </a:lnTo>
                        <a:lnTo>
                          <a:pt x="81" y="106"/>
                        </a:lnTo>
                        <a:lnTo>
                          <a:pt x="75" y="117"/>
                        </a:lnTo>
                        <a:lnTo>
                          <a:pt x="63" y="122"/>
                        </a:lnTo>
                        <a:lnTo>
                          <a:pt x="56" y="133"/>
                        </a:lnTo>
                        <a:lnTo>
                          <a:pt x="44" y="144"/>
                        </a:lnTo>
                        <a:lnTo>
                          <a:pt x="37" y="154"/>
                        </a:lnTo>
                        <a:lnTo>
                          <a:pt x="37" y="164"/>
                        </a:lnTo>
                        <a:lnTo>
                          <a:pt x="37" y="175"/>
                        </a:lnTo>
                        <a:lnTo>
                          <a:pt x="31" y="186"/>
                        </a:lnTo>
                        <a:lnTo>
                          <a:pt x="31" y="196"/>
                        </a:lnTo>
                        <a:lnTo>
                          <a:pt x="24" y="207"/>
                        </a:lnTo>
                        <a:lnTo>
                          <a:pt x="18" y="217"/>
                        </a:lnTo>
                        <a:lnTo>
                          <a:pt x="18" y="228"/>
                        </a:lnTo>
                        <a:lnTo>
                          <a:pt x="6" y="233"/>
                        </a:lnTo>
                        <a:lnTo>
                          <a:pt x="6" y="244"/>
                        </a:lnTo>
                        <a:lnTo>
                          <a:pt x="0" y="255"/>
                        </a:lnTo>
                        <a:lnTo>
                          <a:pt x="12" y="255"/>
                        </a:lnTo>
                        <a:lnTo>
                          <a:pt x="12" y="265"/>
                        </a:lnTo>
                        <a:lnTo>
                          <a:pt x="12" y="276"/>
                        </a:lnTo>
                        <a:lnTo>
                          <a:pt x="12" y="286"/>
                        </a:lnTo>
                        <a:lnTo>
                          <a:pt x="6" y="297"/>
                        </a:lnTo>
                        <a:lnTo>
                          <a:pt x="6" y="308"/>
                        </a:lnTo>
                        <a:lnTo>
                          <a:pt x="6" y="318"/>
                        </a:lnTo>
                        <a:lnTo>
                          <a:pt x="6" y="329"/>
                        </a:lnTo>
                        <a:lnTo>
                          <a:pt x="6" y="340"/>
                        </a:lnTo>
                        <a:lnTo>
                          <a:pt x="18" y="350"/>
                        </a:lnTo>
                        <a:lnTo>
                          <a:pt x="18" y="361"/>
                        </a:lnTo>
                        <a:lnTo>
                          <a:pt x="24" y="371"/>
                        </a:lnTo>
                        <a:lnTo>
                          <a:pt x="24" y="382"/>
                        </a:lnTo>
                        <a:lnTo>
                          <a:pt x="24" y="393"/>
                        </a:lnTo>
                        <a:lnTo>
                          <a:pt x="37" y="398"/>
                        </a:lnTo>
                        <a:lnTo>
                          <a:pt x="50" y="408"/>
                        </a:lnTo>
                        <a:lnTo>
                          <a:pt x="44" y="419"/>
                        </a:lnTo>
                        <a:lnTo>
                          <a:pt x="50" y="429"/>
                        </a:lnTo>
                        <a:lnTo>
                          <a:pt x="56" y="440"/>
                        </a:lnTo>
                        <a:lnTo>
                          <a:pt x="63" y="451"/>
                        </a:lnTo>
                        <a:lnTo>
                          <a:pt x="69" y="461"/>
                        </a:lnTo>
                        <a:lnTo>
                          <a:pt x="81" y="466"/>
                        </a:lnTo>
                        <a:lnTo>
                          <a:pt x="87" y="477"/>
                        </a:lnTo>
                        <a:lnTo>
                          <a:pt x="100" y="482"/>
                        </a:lnTo>
                        <a:lnTo>
                          <a:pt x="106" y="493"/>
                        </a:lnTo>
                        <a:lnTo>
                          <a:pt x="118" y="499"/>
                        </a:lnTo>
                        <a:lnTo>
                          <a:pt x="125" y="509"/>
                        </a:lnTo>
                        <a:lnTo>
                          <a:pt x="137" y="514"/>
                        </a:lnTo>
                        <a:lnTo>
                          <a:pt x="143" y="525"/>
                        </a:lnTo>
                        <a:lnTo>
                          <a:pt x="156" y="530"/>
                        </a:lnTo>
                        <a:lnTo>
                          <a:pt x="162" y="541"/>
                        </a:lnTo>
                        <a:lnTo>
                          <a:pt x="175" y="546"/>
                        </a:lnTo>
                        <a:lnTo>
                          <a:pt x="188" y="552"/>
                        </a:lnTo>
                        <a:lnTo>
                          <a:pt x="200" y="557"/>
                        </a:lnTo>
                        <a:lnTo>
                          <a:pt x="212" y="562"/>
                        </a:lnTo>
                        <a:lnTo>
                          <a:pt x="225" y="562"/>
                        </a:lnTo>
                        <a:lnTo>
                          <a:pt x="237" y="562"/>
                        </a:lnTo>
                        <a:lnTo>
                          <a:pt x="249" y="557"/>
                        </a:lnTo>
                        <a:lnTo>
                          <a:pt x="256" y="546"/>
                        </a:lnTo>
                        <a:lnTo>
                          <a:pt x="269" y="541"/>
                        </a:lnTo>
                        <a:lnTo>
                          <a:pt x="281" y="535"/>
                        </a:lnTo>
                        <a:lnTo>
                          <a:pt x="294" y="530"/>
                        </a:lnTo>
                        <a:lnTo>
                          <a:pt x="300" y="519"/>
                        </a:lnTo>
                        <a:lnTo>
                          <a:pt x="312" y="514"/>
                        </a:lnTo>
                        <a:lnTo>
                          <a:pt x="325" y="509"/>
                        </a:lnTo>
                        <a:lnTo>
                          <a:pt x="331" y="499"/>
                        </a:lnTo>
                        <a:lnTo>
                          <a:pt x="343" y="493"/>
                        </a:lnTo>
                        <a:lnTo>
                          <a:pt x="350" y="482"/>
                        </a:lnTo>
                        <a:lnTo>
                          <a:pt x="356" y="472"/>
                        </a:lnTo>
                        <a:lnTo>
                          <a:pt x="362" y="461"/>
                        </a:lnTo>
                        <a:lnTo>
                          <a:pt x="375" y="451"/>
                        </a:lnTo>
                        <a:lnTo>
                          <a:pt x="375" y="440"/>
                        </a:lnTo>
                        <a:lnTo>
                          <a:pt x="387" y="429"/>
                        </a:lnTo>
                        <a:lnTo>
                          <a:pt x="394" y="419"/>
                        </a:lnTo>
                        <a:lnTo>
                          <a:pt x="394" y="408"/>
                        </a:lnTo>
                        <a:lnTo>
                          <a:pt x="406" y="403"/>
                        </a:lnTo>
                        <a:lnTo>
                          <a:pt x="406" y="393"/>
                        </a:lnTo>
                        <a:lnTo>
                          <a:pt x="413" y="382"/>
                        </a:lnTo>
                        <a:lnTo>
                          <a:pt x="419" y="371"/>
                        </a:lnTo>
                        <a:lnTo>
                          <a:pt x="419" y="361"/>
                        </a:lnTo>
                        <a:lnTo>
                          <a:pt x="419" y="350"/>
                        </a:lnTo>
                        <a:lnTo>
                          <a:pt x="425" y="340"/>
                        </a:lnTo>
                        <a:lnTo>
                          <a:pt x="425" y="329"/>
                        </a:lnTo>
                        <a:lnTo>
                          <a:pt x="425" y="318"/>
                        </a:lnTo>
                        <a:lnTo>
                          <a:pt x="425" y="308"/>
                        </a:lnTo>
                        <a:lnTo>
                          <a:pt x="425" y="297"/>
                        </a:lnTo>
                        <a:lnTo>
                          <a:pt x="431" y="286"/>
                        </a:lnTo>
                        <a:lnTo>
                          <a:pt x="431" y="276"/>
                        </a:lnTo>
                        <a:lnTo>
                          <a:pt x="431" y="265"/>
                        </a:lnTo>
                        <a:lnTo>
                          <a:pt x="431" y="255"/>
                        </a:lnTo>
                        <a:lnTo>
                          <a:pt x="431" y="244"/>
                        </a:lnTo>
                        <a:lnTo>
                          <a:pt x="425" y="233"/>
                        </a:lnTo>
                        <a:lnTo>
                          <a:pt x="419" y="222"/>
                        </a:lnTo>
                        <a:lnTo>
                          <a:pt x="419" y="212"/>
                        </a:lnTo>
                        <a:lnTo>
                          <a:pt x="413" y="202"/>
                        </a:lnTo>
                        <a:lnTo>
                          <a:pt x="413" y="191"/>
                        </a:lnTo>
                        <a:lnTo>
                          <a:pt x="413" y="180"/>
                        </a:lnTo>
                        <a:lnTo>
                          <a:pt x="406" y="169"/>
                        </a:lnTo>
                        <a:lnTo>
                          <a:pt x="400" y="159"/>
                        </a:lnTo>
                        <a:lnTo>
                          <a:pt x="394" y="149"/>
                        </a:lnTo>
                        <a:lnTo>
                          <a:pt x="387" y="138"/>
                        </a:lnTo>
                        <a:lnTo>
                          <a:pt x="375" y="127"/>
                        </a:lnTo>
                        <a:lnTo>
                          <a:pt x="368" y="117"/>
                        </a:lnTo>
                        <a:lnTo>
                          <a:pt x="362" y="106"/>
                        </a:lnTo>
                        <a:lnTo>
                          <a:pt x="350" y="101"/>
                        </a:lnTo>
                        <a:lnTo>
                          <a:pt x="350" y="90"/>
                        </a:lnTo>
                        <a:lnTo>
                          <a:pt x="337" y="85"/>
                        </a:lnTo>
                        <a:lnTo>
                          <a:pt x="331" y="74"/>
                        </a:lnTo>
                        <a:lnTo>
                          <a:pt x="319" y="69"/>
                        </a:lnTo>
                        <a:lnTo>
                          <a:pt x="319" y="58"/>
                        </a:lnTo>
                        <a:lnTo>
                          <a:pt x="306" y="53"/>
                        </a:lnTo>
                        <a:lnTo>
                          <a:pt x="294" y="43"/>
                        </a:lnTo>
                        <a:lnTo>
                          <a:pt x="281" y="37"/>
                        </a:lnTo>
                        <a:lnTo>
                          <a:pt x="269" y="32"/>
                        </a:lnTo>
                        <a:lnTo>
                          <a:pt x="262" y="21"/>
                        </a:lnTo>
                        <a:lnTo>
                          <a:pt x="249" y="16"/>
                        </a:lnTo>
                        <a:lnTo>
                          <a:pt x="243" y="5"/>
                        </a:lnTo>
                        <a:lnTo>
                          <a:pt x="231" y="0"/>
                        </a:lnTo>
                        <a:lnTo>
                          <a:pt x="219" y="0"/>
                        </a:lnTo>
                        <a:lnTo>
                          <a:pt x="204" y="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Rectangle 9"/>
                <p:cNvSpPr/>
                <p:nvPr/>
              </p:nvSpPr>
              <p:spPr>
                <a:xfrm>
                  <a:off x="5855760" y="164232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10"/>
                <p:cNvSpPr/>
                <p:nvPr/>
              </p:nvSpPr>
              <p:spPr>
                <a:xfrm>
                  <a:off x="4027320" y="164232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14"/>
              <p:cNvGrpSpPr/>
              <p:nvPr/>
            </p:nvGrpSpPr>
            <p:grpSpPr>
              <a:xfrm>
                <a:off x="1386000" y="1642320"/>
                <a:ext cx="1942920" cy="454680"/>
                <a:chOff x="1386000" y="1642320"/>
                <a:chExt cx="1942920" cy="454680"/>
              </a:xfrm>
            </p:grpSpPr>
            <p:graphicFrame>
              <p:nvGraphicFramePr>
                <p:cNvPr id="369" name="Object 12"/>
                <p:cNvGraphicFramePr/>
                <p:nvPr/>
              </p:nvGraphicFramePr>
              <p:xfrm>
                <a:off x="1849320" y="1650600"/>
                <a:ext cx="287640" cy="2858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70" name="Object 1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49320" y="1650600"/>
                          <a:ext cx="287640" cy="285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71" name="Rectangle 13"/>
                <p:cNvSpPr/>
                <p:nvPr/>
              </p:nvSpPr>
              <p:spPr>
                <a:xfrm>
                  <a:off x="1386000" y="1642320"/>
                  <a:ext cx="19429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 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16"/>
            <p:cNvSpPr/>
            <p:nvPr/>
          </p:nvSpPr>
          <p:spPr>
            <a:xfrm>
              <a:off x="3926160" y="2270880"/>
              <a:ext cx="255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intersect 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2240" y="499680"/>
            <a:ext cx="8682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 set oper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74200" y="2733840"/>
            <a:ext cx="8534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except FLT# with more than 100 seats in FLT-INSTANC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EXCEPT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preserves duplica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5" name="Group 13"/>
          <p:cNvGrpSpPr/>
          <p:nvPr/>
        </p:nvGrpSpPr>
        <p:grpSpPr>
          <a:xfrm>
            <a:off x="1517760" y="1413000"/>
            <a:ext cx="5381280" cy="1303200"/>
            <a:chOff x="1517760" y="1413000"/>
            <a:chExt cx="5381280" cy="1303200"/>
          </a:xfrm>
        </p:grpSpPr>
        <p:grpSp>
          <p:nvGrpSpPr>
            <p:cNvPr id="376" name="Group 11"/>
            <p:cNvGrpSpPr/>
            <p:nvPr/>
          </p:nvGrpSpPr>
          <p:grpSpPr>
            <a:xfrm>
              <a:off x="1517760" y="1413000"/>
              <a:ext cx="5381280" cy="847440"/>
              <a:chOff x="1517760" y="1413000"/>
              <a:chExt cx="5381280" cy="847440"/>
            </a:xfrm>
          </p:grpSpPr>
          <p:grpSp>
            <p:nvGrpSpPr>
              <p:cNvPr id="377" name="Group 9"/>
              <p:cNvGrpSpPr/>
              <p:nvPr/>
            </p:nvGrpSpPr>
            <p:grpSpPr>
              <a:xfrm>
                <a:off x="3259440" y="1413000"/>
                <a:ext cx="3639600" cy="847440"/>
                <a:chOff x="3259440" y="1413000"/>
                <a:chExt cx="3639600" cy="847440"/>
              </a:xfrm>
            </p:grpSpPr>
            <p:grpSp>
              <p:nvGrpSpPr>
                <p:cNvPr id="378" name="Group 6"/>
                <p:cNvGrpSpPr/>
                <p:nvPr/>
              </p:nvGrpSpPr>
              <p:grpSpPr>
                <a:xfrm>
                  <a:off x="3259440" y="1413000"/>
                  <a:ext cx="3639600" cy="847440"/>
                  <a:chOff x="3259440" y="1413000"/>
                  <a:chExt cx="3639600" cy="847440"/>
                </a:xfrm>
              </p:grpSpPr>
              <p:sp>
                <p:nvSpPr>
                  <p:cNvPr id="379" name="Oval 4"/>
                  <p:cNvSpPr/>
                  <p:nvPr/>
                </p:nvSpPr>
                <p:spPr>
                  <a:xfrm>
                    <a:off x="3259440" y="1413000"/>
                    <a:ext cx="2255760" cy="8474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Oval 5"/>
                  <p:cNvSpPr/>
                  <p:nvPr/>
                </p:nvSpPr>
                <p:spPr>
                  <a:xfrm>
                    <a:off x="4643280" y="1413000"/>
                    <a:ext cx="2255760" cy="84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Rectangle 7"/>
                <p:cNvSpPr/>
                <p:nvPr/>
              </p:nvSpPr>
              <p:spPr>
                <a:xfrm>
                  <a:off x="5784480" y="163296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8"/>
                <p:cNvSpPr/>
                <p:nvPr/>
              </p:nvSpPr>
              <p:spPr>
                <a:xfrm>
                  <a:off x="4056840" y="1632960"/>
                  <a:ext cx="419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Rectangle 10"/>
              <p:cNvSpPr/>
              <p:nvPr/>
            </p:nvSpPr>
            <p:spPr>
              <a:xfrm>
                <a:off x="1517760" y="1632960"/>
                <a:ext cx="1536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\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2"/>
            <p:cNvSpPr/>
            <p:nvPr/>
          </p:nvSpPr>
          <p:spPr>
            <a:xfrm>
              <a:off x="4057200" y="2261520"/>
              <a:ext cx="2044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minus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3880" y="539640"/>
            <a:ext cx="82504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built-i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23640" y="2204640"/>
            <a:ext cx="9180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unt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s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average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minim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maxim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unt flights scheduled for Tuesdays from FLT-WEEKDAY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 *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WEEKDAY = “TU”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average ticket price by airline from FLT-SCHEDUL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3880" y="539640"/>
            <a:ext cx="90424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built-i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06440" y="195876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average ticket price by airline for scheduled flights out of Atlanta for airlines with more than 5 scheduled flights out of Atlanta from FLT-SCHEDUL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HAVING COUN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&gt;= 5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highest priced flight(s) out of Atlanta from FLT-SCHEDUL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0560" y="719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Levels of Abstra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700280"/>
            <a:ext cx="46148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Views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escribe how users see the data.                                 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Conceptual schema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fines logical structu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Physical schema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scribes the files and indexes us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sometimes called the </a:t>
            </a: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ANSI/SPARC mode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84040" y="5646600"/>
            <a:ext cx="5537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0720" y="5794200"/>
            <a:ext cx="56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8"/>
          <p:cNvGrpSpPr/>
          <p:nvPr/>
        </p:nvGrpSpPr>
        <p:grpSpPr>
          <a:xfrm>
            <a:off x="5390640" y="2498760"/>
            <a:ext cx="3690360" cy="3279600"/>
            <a:chOff x="5390640" y="2498760"/>
            <a:chExt cx="3690360" cy="3279600"/>
          </a:xfrm>
        </p:grpSpPr>
        <p:sp>
          <p:nvSpPr>
            <p:cNvPr id="175" name="Oval 9"/>
            <p:cNvSpPr/>
            <p:nvPr/>
          </p:nvSpPr>
          <p:spPr>
            <a:xfrm>
              <a:off x="6705720" y="4660920"/>
              <a:ext cx="104112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6689880" y="4757760"/>
              <a:ext cx="2880" cy="9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1"/>
            <p:cNvSpPr/>
            <p:nvPr/>
          </p:nvSpPr>
          <p:spPr>
            <a:xfrm>
              <a:off x="6705720" y="5575320"/>
              <a:ext cx="104112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7759800" y="48006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6018840" y="4022640"/>
              <a:ext cx="251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ic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"/>
            <p:cNvSpPr/>
            <p:nvPr/>
          </p:nvSpPr>
          <p:spPr>
            <a:xfrm>
              <a:off x="5790600" y="3336840"/>
              <a:ext cx="292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ceptu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539064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6"/>
            <p:cNvSpPr/>
            <p:nvPr/>
          </p:nvSpPr>
          <p:spPr>
            <a:xfrm>
              <a:off x="668592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798300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5410080" y="2527200"/>
              <a:ext cx="10414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6705720" y="2527200"/>
              <a:ext cx="104112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8001000" y="2527200"/>
              <a:ext cx="10414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1"/>
            <p:cNvSpPr/>
            <p:nvPr/>
          </p:nvSpPr>
          <p:spPr>
            <a:xfrm>
              <a:off x="5867280" y="3365640"/>
              <a:ext cx="2793960" cy="35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2"/>
            <p:cNvSpPr/>
            <p:nvPr/>
          </p:nvSpPr>
          <p:spPr>
            <a:xfrm>
              <a:off x="6095880" y="4051440"/>
              <a:ext cx="2336760" cy="35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5931000" y="28954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7226280" y="2895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 flipH="1">
              <a:off x="7988040" y="28954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>
              <a:off x="7226280" y="3733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7226280" y="4419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>
              <a:off x="6833880" y="495288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f0e3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6503040" y="155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904248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12560" y="239040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t membership: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,  NOT I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irlines from FLT-SCHEDULE where FLT# is in the set of FLT#’s for flights on Tuesdays from FLT-WEEK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904248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8000" y="234900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’s for flights on Tuesdays or Thursdays from FLT-WEEK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ISTINCT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LT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LT-WEEKDA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EEKDAY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(“TU”, “TH”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8466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6440" y="2304720"/>
            <a:ext cx="833112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 for flights from Atlanta to Chicago with a price that is lower than all flights from Birmingham to Chicago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=“CHI”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P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=“BIR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=“CHI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2240" y="644040"/>
            <a:ext cx="8537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jo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29840" y="1628640"/>
            <a:ext cx="8534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cross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artesian produc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inner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] 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join: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only keeps rows that satisfy the join condi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left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left table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right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right table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full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both tables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natural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or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 on-condition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ust be specified for all inner and outer joi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natural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equi-join on columns with same name; one column preserv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2600" y="636480"/>
            <a:ext cx="83217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 jo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58920" y="1700280"/>
            <a:ext cx="85341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ll two-leg, one-day trips out of Atlanta; show also a leg-one even if there is no connecting leg-two the same 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X.FLT# LEG-ONE, Y.FLT# LEG-TWO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(FLT-SCHEDUL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JO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) X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LEFT OUTER JOI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-SCHEDUL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JO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) Y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(X.TO-AIRPORTCODE=Y.FROM-AIRPORTCOD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X.DATE=Y.DAT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X.ATIME&lt;Y.DTIME)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X.FROM-AIRPORTCODE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8682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- recursive queri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5600" y="17427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ot in SQL2; maybe in SQL3...(?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ll reachable airports for multi-leg trips out of Atlanta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IT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 D, TO-AIRPORTCODE   A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CURSI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ACHES(D, A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/*initially empty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.D, REACHES.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, REAC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.A=REACHES.D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ACHES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000" y="499680"/>
            <a:ext cx="93236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insert,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delete, 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9120" y="141264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12”, “DELTA”, 11-15-00, “ATL”,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13-05-00, ”CHI”, 650, 00351.00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(FLT#,AIRLIN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12”, “DELTA”);   /*default nulls added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nsert into FLT-INSTANCE all flights scheduled for Thursday, 9/10/98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(FLT#, DAT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, 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 S, FLT-WEEKDAY 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.FLT#=D.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.WEEKDAY=“TH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9042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-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sert,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delete,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34680" y="1929960"/>
            <a:ext cx="854532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ncel all flight instances for Delta 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9/10/98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LETE 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ATE=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=“DELTA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53520" y="499680"/>
            <a:ext cx="879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sert, delete,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06080" y="1963440"/>
            <a:ext cx="853452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pdate all reservations for customers on DL212 on 9/10/98 to reservations on AA121 on 9/10/98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RESERV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=“AA121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ATE=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=“DL212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25520" y="57312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  - 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618920" y="1598400"/>
            <a:ext cx="5994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st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precompi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mpedance mismatc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atabase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ursor typ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etch ori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exception handl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Geneva"/>
              </a:rPr>
              <a:t>Data Independ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600" y="1593720"/>
            <a:ext cx="4572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Simple Idea: Applications should be insulated from how data is structured and stor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Logical data independenc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rom change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of data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Physical data independenc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rom change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ucture of data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5193720" y="2212920"/>
            <a:ext cx="3753360" cy="3809520"/>
            <a:chOff x="5193720" y="2212920"/>
            <a:chExt cx="3753360" cy="3809520"/>
          </a:xfrm>
        </p:grpSpPr>
        <p:sp>
          <p:nvSpPr>
            <p:cNvPr id="199" name="Oval 5"/>
            <p:cNvSpPr/>
            <p:nvPr/>
          </p:nvSpPr>
          <p:spPr>
            <a:xfrm>
              <a:off x="6540120" y="4724640"/>
              <a:ext cx="1065600" cy="23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"/>
            <p:cNvSpPr/>
            <p:nvPr/>
          </p:nvSpPr>
          <p:spPr>
            <a:xfrm>
              <a:off x="6523560" y="4836960"/>
              <a:ext cx="2880" cy="11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6540120" y="5786640"/>
              <a:ext cx="1065600" cy="23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"/>
            <p:cNvSpPr/>
            <p:nvPr/>
          </p:nvSpPr>
          <p:spPr>
            <a:xfrm>
              <a:off x="7619040" y="4886640"/>
              <a:ext cx="0" cy="97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5837400" y="3983040"/>
              <a:ext cx="251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ic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5604480" y="3186360"/>
              <a:ext cx="292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ceptu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519372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651852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784908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5213880" y="2245680"/>
              <a:ext cx="106596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6540120" y="2245680"/>
              <a:ext cx="106560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7865640" y="2245680"/>
              <a:ext cx="106596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7"/>
            <p:cNvSpPr/>
            <p:nvPr/>
          </p:nvSpPr>
          <p:spPr>
            <a:xfrm>
              <a:off x="5681880" y="3219840"/>
              <a:ext cx="2859840" cy="41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"/>
            <p:cNvSpPr/>
            <p:nvPr/>
          </p:nvSpPr>
          <p:spPr>
            <a:xfrm>
              <a:off x="5915880" y="4016520"/>
              <a:ext cx="2391840" cy="41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>
              <a:off x="5747040" y="2673720"/>
              <a:ext cx="54540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>
              <a:off x="7072920" y="2673720"/>
              <a:ext cx="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1"/>
            <p:cNvSpPr/>
            <p:nvPr/>
          </p:nvSpPr>
          <p:spPr>
            <a:xfrm flipH="1">
              <a:off x="7852680" y="2673720"/>
              <a:ext cx="54540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2"/>
            <p:cNvSpPr/>
            <p:nvPr/>
          </p:nvSpPr>
          <p:spPr>
            <a:xfrm>
              <a:off x="7072920" y="3647520"/>
              <a:ext cx="0" cy="35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>
              <a:off x="7072920" y="4444200"/>
              <a:ext cx="0" cy="44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4"/>
            <p:cNvSpPr/>
            <p:nvPr/>
          </p:nvSpPr>
          <p:spPr>
            <a:xfrm>
              <a:off x="6669720" y="506376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f0e3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25"/>
          <p:cNvSpPr/>
          <p:nvPr/>
        </p:nvSpPr>
        <p:spPr>
          <a:xfrm rot="20380800">
            <a:off x="4349880" y="3034800"/>
            <a:ext cx="1512720" cy="304920"/>
          </a:xfrm>
          <a:custGeom>
            <a:avLst/>
            <a:gdLst>
              <a:gd name="textAreaLeft" fmla="*/ 189000 w 1512720"/>
              <a:gd name="textAreaRight" fmla="*/ 1323720 w 1512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6"/>
          <p:cNvSpPr/>
          <p:nvPr/>
        </p:nvSpPr>
        <p:spPr>
          <a:xfrm rot="19727400">
            <a:off x="4350960" y="4146480"/>
            <a:ext cx="1725480" cy="293760"/>
          </a:xfrm>
          <a:custGeom>
            <a:avLst/>
            <a:gdLst>
              <a:gd name="textAreaLeft" fmla="*/ 261360 w 1725480"/>
              <a:gd name="textAreaRight" fmla="*/ 1464120 w 1725480"/>
              <a:gd name="textAreaTop" fmla="*/ 73440 h 293760"/>
              <a:gd name="textAreaBottom" fmla="*/ 220320 h 29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0" y="5400"/>
                </a:lnTo>
                <a:lnTo>
                  <a:pt x="15050" y="0"/>
                </a:lnTo>
                <a:lnTo>
                  <a:pt x="21600" y="10800"/>
                </a:lnTo>
                <a:lnTo>
                  <a:pt x="15050" y="21600"/>
                </a:lnTo>
                <a:lnTo>
                  <a:pt x="15050" y="16200"/>
                </a:lnTo>
                <a:lnTo>
                  <a:pt x="0" y="16200"/>
                </a:lnTo>
                <a:lnTo>
                  <a:pt x="32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228600" y="55627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2240" y="539640"/>
            <a:ext cx="88614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 -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host languag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32880" y="1815840"/>
            <a:ext cx="8331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QL doesn’t do iteration, recursion, report printing, user interaction, and SQL doesn’t do Window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QL may be embedded in host languages, like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BOL, FORTRAN, MUMPS, PL/I, PASCAL, ADA, C, C++, JAV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r used from languages like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3880" y="539280"/>
            <a:ext cx="904248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impedance mismatch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06440" y="1628640"/>
            <a:ext cx="83311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 is a powerful, set-oriented, declarative langua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 queries return sets of r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host languages cannot handle large sets of structured data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ursors resolve the mismatc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m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61960" y="1765080"/>
            <a:ext cx="83311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view is a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virtua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tabl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view is defin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query on a view is wri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&lt;= 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2235240" y="2914560"/>
            <a:ext cx="2743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61960" y="2557440"/>
            <a:ext cx="83311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query on a view is comput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&lt;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view definition is dropp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 [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]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235240" y="2914560"/>
            <a:ext cx="2743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0488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iews inherit column names of the base tables they are defin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lumns may be explicitly named in the view defini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lumn names must be named if inheriting them causes ambigu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iews may have computed columns, e.g. from applying built-in-functions; these must be named in the view defini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8704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9960" y="15663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6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se views ar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not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updata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PRI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;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VG-ATL-PRI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AVG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5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is view is theoretically updatable, bu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5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annot be updated in SQL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-AND-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.*,  D.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 S, FLT-WEEKDAY 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.FLT# = S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Rectangle 4"/>
          <p:cNvSpPr/>
          <p:nvPr/>
        </p:nvSpPr>
        <p:spPr>
          <a:xfrm rot="3075600">
            <a:off x="5746680" y="1960200"/>
            <a:ext cx="2028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 flipH="1">
            <a:off x="5148000" y="1998720"/>
            <a:ext cx="113508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 rot="3087000">
            <a:off x="6258960" y="3022200"/>
            <a:ext cx="172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d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"/>
          <p:cNvSpPr/>
          <p:nvPr/>
        </p:nvSpPr>
        <p:spPr>
          <a:xfrm flipH="1">
            <a:off x="6070320" y="3233880"/>
            <a:ext cx="42372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 rot="2907600">
            <a:off x="7053840" y="5050800"/>
            <a:ext cx="167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 of two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H="1">
            <a:off x="6678720" y="5257800"/>
            <a:ext cx="520560" cy="4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9520" y="573120"/>
            <a:ext cx="8755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49240" y="174276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a view is </a:t>
            </a:r>
            <a:r>
              <a:rPr b="1" lang="en-US" sz="2000" spc="-1" strike="noStrike">
                <a:solidFill>
                  <a:srgbClr val="333333"/>
                </a:solidFill>
                <a:latin typeface="Geneva"/>
              </a:rPr>
              <a:t>updatable if and only if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contain any of the keywords JOIN, UNION, INTERSECT, EXCEP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contain the keyword DISTINC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very column in the view corresponds to a uniquely identifiable base table colum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FROM clause references exactly one table which must be a base table or an updatable view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table referenced in the FROM clause cannot be referenced in the FROM clause of a nested WHERE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have a GROUP BY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have a HAVING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updatable means insert, delete, update all ok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610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12560" y="1962000"/>
            <a:ext cx="81198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LOW-ATL-FARES  /*updatabl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*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&lt;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PDAT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-ATL-FARES      /*moves row          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T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 = 00250.00                      /* outside th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TO-AIRPORTCODE = “BOS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-ATL-FARES     /*creates row        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22”, ”DELTA”,           /*outside th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”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R”, 11-15-00, ”CHI”, 13-05-00, 00180.00);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552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61960" y="1936800"/>
            <a:ext cx="833112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nstraint: a conditional expression required not to evaluate to</a:t>
            </a:r>
            <a:r>
              <a:rPr b="0" i="1" lang="en-US" sz="2400" spc="-1" strike="noStrike">
                <a:solidFill>
                  <a:srgbClr val="333333"/>
                </a:solidFill>
                <a:latin typeface="Geneva"/>
              </a:rPr>
              <a:t> fals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cannot be created if it is already violat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is enforced from the point of creation forwa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has a unique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f a constraint is violated its name is made available to the us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nstraints cannot reference parameters or host variables; they are application independ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data type checking is a primitive form of constrai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537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domain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6080" y="1412640"/>
            <a:ext cx="86360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ssociated with a domain; applies to all columns defined on the domai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WEEKDAY CHAR(2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WEEKDAY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 IN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 “MO”, “TU”, “WE”, “TH”, “FR”, “SA”, “SU”)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RICE DECIMAL(7,2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PRIC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&gt; 00000.00 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# CHAR(5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FLT#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 NOT NUL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1520" y="6202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Q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06080" y="1844640"/>
            <a:ext cx="85345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SQL consists of the following par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Data Definition Language (DD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teractive Data Manipulation Language (Interactive D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Embedded Data Manipulation Language (Embedded D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Vie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tegrit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atalog and Dictionary Facilit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base table, column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85640" y="1519200"/>
            <a:ext cx="88394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ssociated with a specific base t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SCHEDUL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IGHTNUMBER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VARCHAR(25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OM-AIRPORTCOD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-CO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TIM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O-AIRPORTCOD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-CO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TIM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TPK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PRIMARY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OM-AIRPORTCODE-FK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(AIRPORTCODE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DELE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ET NULL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UPDA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ASCA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(AIRPORTCODE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DELE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ET NULL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UPDA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ASCA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C-DTIME-ATIM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TIME &lt; ATIME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general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1590840"/>
            <a:ext cx="9042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pplies to an arbitrary combination of columns and table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onnecting RESERVATIONS for a customer must make sens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ASSERTION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C-CONNECTING-FLIGHTS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HECK (NOT EXISTS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*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SCHEDULE FS1 FS2, RESERVATION R1 R2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FLT#=R1.FLT#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2.FLT#=R2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R1.DATE=R2.DAT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TO-AIRPORTCODE=FS2.FROM-AIRPORTCOD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ATIME+ INTERVAL “30” MINUTE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&gt; FS2.DTIME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8539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(not so) general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5600" y="15267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ot all constraints can be specifie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WEEKDAY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IGHTNUMBER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WEEKDAY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HAR(2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....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INSTANC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FLIGHTNUMBER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DAT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....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ASSERTION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ATE-WEEKDAY-CHECK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EXISTS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(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INSTANCE FI, FLT-WEEKDAY FSD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I.FLT#=FSD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weekday-of(FI.DATE) &lt;&gt; FSD.WEEKDAY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weekday-of: DATE    WEEKDA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859280" y="4995720"/>
          <a:ext cx="220680" cy="1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4995720"/>
                    <a:ext cx="220680" cy="1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537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72680" y="138240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a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omic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nsistent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olated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d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urable (ACID) transactions are supported b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09120" indent="-2343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MMIT and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09120" indent="-2343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OLLBACK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OPE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WHILE TRUE DO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EXEC SQL FETCH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FL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INTO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:FLT#, :AIRLINE, :PRICE;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DO YOUR THING WITH THE DATA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END-WHILE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CLOSE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QUIT: IF SQLCODE &lt; 0 THEN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ROLLBACK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ELSE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COMMIT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07600" y="145548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scretionary Access Control (DAC) is supported by GRANT and REVOK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privileges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table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users&gt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WITH GRANT OPTI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]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16680" indent="-23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REVOKE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GRANT OPTION FOR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] &lt;privileges&gt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table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users&gt; {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RESTRICT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| 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CASCADE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}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2" marL="948600" indent="-189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&lt;privileges&gt;: SELECT, INSERT(X), INSERT,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UPDATE(X), UPDATE, 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ASCADE: revoke cascades through its subtre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STRICT: revoke succeeds only if there is no subtre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7963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0488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INSERT, DELET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1, U2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WITH GRANT OPTI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PDATE(PRICE)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3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REVOKE GRANT OPTION FOR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2 </a:t>
            </a: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CASCADE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REVOKE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U2</a:t>
            </a: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 CASCADE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atalog and Dictionary Fac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28560" y="1227240"/>
            <a:ext cx="83361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7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n INFORMATION_SCHEMA contains the following tables (or rather views) for the CURRENT_USER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INFORMATION-_SCHEMA_CATALOG_NAME: single-row, single-column table with the name of the catalog in which the INFORMATION_SCHEMA reside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SCHEMATA created by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OMAIN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VIEW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OLUMNS of table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OLUMN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USAGE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OMAIN_CONSTRAINTS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REFERENTIAL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HECK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and 18 others ...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16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tructure of a DB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A typical DBMS has a layered architectu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figure does not show the concurrency control and recovery component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ach system has its own varia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book shows a somewhat more detailed version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You will see the “real deal” in PostgreSQ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’s a pretty full-featured examp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ext class: we will start on this stack, bottom up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1127160" y="5565600"/>
            <a:ext cx="4656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7"/>
          <p:cNvGrpSpPr/>
          <p:nvPr/>
        </p:nvGrpSpPr>
        <p:grpSpPr>
          <a:xfrm>
            <a:off x="4572000" y="2579760"/>
            <a:ext cx="3276720" cy="4017960"/>
            <a:chOff x="4572000" y="2579760"/>
            <a:chExt cx="3276720" cy="4017960"/>
          </a:xfrm>
        </p:grpSpPr>
        <p:sp>
          <p:nvSpPr>
            <p:cNvPr id="459" name="Rectangle 8"/>
            <p:cNvSpPr/>
            <p:nvPr/>
          </p:nvSpPr>
          <p:spPr>
            <a:xfrm>
              <a:off x="5027400" y="2579760"/>
              <a:ext cx="2364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ry Optim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Exec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9"/>
            <p:cNvSpPr/>
            <p:nvPr/>
          </p:nvSpPr>
          <p:spPr>
            <a:xfrm>
              <a:off x="4948920" y="3409920"/>
              <a:ext cx="252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lational Oper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4644000" y="3919320"/>
              <a:ext cx="315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s and Access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5001480" y="4502160"/>
              <a:ext cx="241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ffer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4695120" y="5027400"/>
              <a:ext cx="303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k Space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4597560" y="2585880"/>
              <a:ext cx="3222360" cy="28717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4"/>
            <p:cNvSpPr/>
            <p:nvPr/>
          </p:nvSpPr>
          <p:spPr>
            <a:xfrm>
              <a:off x="4572000" y="334944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5"/>
            <p:cNvSpPr/>
            <p:nvPr/>
          </p:nvSpPr>
          <p:spPr>
            <a:xfrm>
              <a:off x="4572000" y="38829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6"/>
            <p:cNvSpPr/>
            <p:nvPr/>
          </p:nvSpPr>
          <p:spPr>
            <a:xfrm>
              <a:off x="4572000" y="43401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7"/>
            <p:cNvSpPr/>
            <p:nvPr/>
          </p:nvSpPr>
          <p:spPr>
            <a:xfrm>
              <a:off x="4572000" y="494964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8"/>
            <p:cNvSpPr/>
            <p:nvPr/>
          </p:nvSpPr>
          <p:spPr>
            <a:xfrm>
              <a:off x="5651640" y="595296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9"/>
            <p:cNvSpPr/>
            <p:nvPr/>
          </p:nvSpPr>
          <p:spPr>
            <a:xfrm>
              <a:off x="5635800" y="6005520"/>
              <a:ext cx="288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0"/>
            <p:cNvSpPr/>
            <p:nvPr/>
          </p:nvSpPr>
          <p:spPr>
            <a:xfrm>
              <a:off x="6705720" y="6032520"/>
              <a:ext cx="0" cy="51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"/>
            <p:cNvSpPr/>
            <p:nvPr/>
          </p:nvSpPr>
          <p:spPr>
            <a:xfrm>
              <a:off x="5651640" y="648648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5925960" y="6145200"/>
              <a:ext cx="50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49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3"/>
            <p:cNvSpPr/>
            <p:nvPr/>
          </p:nvSpPr>
          <p:spPr>
            <a:xfrm>
              <a:off x="6095880" y="54831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Line 24"/>
          <p:cNvSpPr/>
          <p:nvPr/>
        </p:nvSpPr>
        <p:spPr>
          <a:xfrm>
            <a:off x="7924680" y="4130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8153280" y="41180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7924680" y="5273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7"/>
          <p:cNvSpPr/>
          <p:nvPr/>
        </p:nvSpPr>
        <p:spPr>
          <a:xfrm>
            <a:off x="6855840" y="620640"/>
            <a:ext cx="1890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rc 28"/>
          <p:cNvSpPr/>
          <p:nvPr/>
        </p:nvSpPr>
        <p:spPr>
          <a:xfrm>
            <a:off x="8534520" y="1917720"/>
            <a:ext cx="457200" cy="1447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rc 29"/>
          <p:cNvSpPr/>
          <p:nvPr/>
        </p:nvSpPr>
        <p:spPr>
          <a:xfrm>
            <a:off x="8532720" y="3363840"/>
            <a:ext cx="457200" cy="1447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599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599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0"/>
          <p:cNvSpPr/>
          <p:nvPr/>
        </p:nvSpPr>
        <p:spPr>
          <a:xfrm flipH="1">
            <a:off x="8305560" y="48117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2216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388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644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nsaction Concep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current Execu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flict Serializ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QL 92 Consistency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acle multi version concurrency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nsaction 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ash Recove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54"/>
          <p:cNvGrpSpPr/>
          <p:nvPr/>
        </p:nvGrpSpPr>
        <p:grpSpPr>
          <a:xfrm>
            <a:off x="260280" y="895320"/>
            <a:ext cx="8851680" cy="5000760"/>
            <a:chOff x="260280" y="895320"/>
            <a:chExt cx="8851680" cy="5000760"/>
          </a:xfrm>
        </p:grpSpPr>
        <p:sp>
          <p:nvSpPr>
            <p:cNvPr id="225" name="Rectangle 2"/>
            <p:cNvSpPr/>
            <p:nvPr/>
          </p:nvSpPr>
          <p:spPr>
            <a:xfrm>
              <a:off x="325800" y="1954440"/>
              <a:ext cx="861840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"/>
            <p:cNvSpPr/>
            <p:nvPr/>
          </p:nvSpPr>
          <p:spPr>
            <a:xfrm>
              <a:off x="376560" y="3357360"/>
              <a:ext cx="231948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76560" y="4093200"/>
              <a:ext cx="414828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376560" y="4796640"/>
              <a:ext cx="729756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376560" y="5511960"/>
              <a:ext cx="618012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>
              <a:off x="376560" y="2652120"/>
              <a:ext cx="191484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325800" y="1619280"/>
              <a:ext cx="2654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260280" y="3082680"/>
              <a:ext cx="2451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T-INST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260280" y="2361600"/>
              <a:ext cx="2654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T-WEEKD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289800" y="3802320"/>
              <a:ext cx="2552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IRPLA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2"/>
            <p:cNvSpPr/>
            <p:nvPr/>
          </p:nvSpPr>
          <p:spPr>
            <a:xfrm>
              <a:off x="260280" y="4521960"/>
              <a:ext cx="2755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>
              <a:off x="361800" y="337032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  date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plane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4"/>
            <p:cNvSpPr/>
            <p:nvPr/>
          </p:nvSpPr>
          <p:spPr>
            <a:xfrm>
              <a:off x="260280" y="5170680"/>
              <a:ext cx="2247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5"/>
            <p:cNvSpPr/>
            <p:nvPr/>
          </p:nvSpPr>
          <p:spPr>
            <a:xfrm>
              <a:off x="361800" y="1963800"/>
              <a:ext cx="8750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airline     dtime     from-airportcode      atime     to-airportcode      miles    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6"/>
            <p:cNvSpPr/>
            <p:nvPr/>
          </p:nvSpPr>
          <p:spPr>
            <a:xfrm>
              <a:off x="361800" y="2649240"/>
              <a:ext cx="336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week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7"/>
            <p:cNvSpPr/>
            <p:nvPr/>
          </p:nvSpPr>
          <p:spPr>
            <a:xfrm>
              <a:off x="361800" y="4091760"/>
              <a:ext cx="4381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plane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 plane-type        total-#se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8"/>
            <p:cNvSpPr/>
            <p:nvPr/>
          </p:nvSpPr>
          <p:spPr>
            <a:xfrm>
              <a:off x="361800" y="479520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cust# 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first     middle      last    phone#     street        city    state     z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9"/>
            <p:cNvSpPr/>
            <p:nvPr/>
          </p:nvSpPr>
          <p:spPr>
            <a:xfrm>
              <a:off x="361800" y="553284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  date    cust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  seat#     check-in-status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ticket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>
              <a:off x="707364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62607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2"/>
            <p:cNvSpPr/>
            <p:nvPr/>
          </p:nvSpPr>
          <p:spPr>
            <a:xfrm>
              <a:off x="565128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3"/>
            <p:cNvSpPr/>
            <p:nvPr/>
          </p:nvSpPr>
          <p:spPr>
            <a:xfrm>
              <a:off x="46353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>
              <a:off x="351792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290808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>
              <a:off x="18921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7"/>
            <p:cNvSpPr/>
            <p:nvPr/>
          </p:nvSpPr>
          <p:spPr>
            <a:xfrm>
              <a:off x="118080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>
              <a:off x="554940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>
              <a:off x="35179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>
              <a:off x="26035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1"/>
            <p:cNvSpPr/>
            <p:nvPr/>
          </p:nvSpPr>
          <p:spPr>
            <a:xfrm>
              <a:off x="16891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>
              <a:off x="97776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39"/>
            <p:cNvGrpSpPr/>
            <p:nvPr/>
          </p:nvGrpSpPr>
          <p:grpSpPr>
            <a:xfrm>
              <a:off x="260280" y="895320"/>
              <a:ext cx="8478000" cy="726480"/>
              <a:chOff x="260280" y="895320"/>
              <a:chExt cx="8478000" cy="726480"/>
            </a:xfrm>
          </p:grpSpPr>
          <p:sp>
            <p:nvSpPr>
              <p:cNvPr id="257" name="Rectangle 33"/>
              <p:cNvSpPr/>
              <p:nvPr/>
            </p:nvSpPr>
            <p:spPr>
              <a:xfrm>
                <a:off x="325800" y="1194840"/>
                <a:ext cx="4046400" cy="3409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4"/>
              <p:cNvSpPr/>
              <p:nvPr/>
            </p:nvSpPr>
            <p:spPr>
              <a:xfrm>
                <a:off x="260280" y="895320"/>
                <a:ext cx="173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IRPO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35"/>
              <p:cNvSpPr/>
              <p:nvPr/>
            </p:nvSpPr>
            <p:spPr>
              <a:xfrm>
                <a:off x="395280" y="1258560"/>
                <a:ext cx="8343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Geneva"/>
                  </a:rPr>
                  <a:t>airportcod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eneva"/>
                  </a:rPr>
                  <a:t>        name     city     st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36"/>
              <p:cNvSpPr/>
              <p:nvPr/>
            </p:nvSpPr>
            <p:spPr>
              <a:xfrm>
                <a:off x="19936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37"/>
              <p:cNvSpPr/>
              <p:nvPr/>
            </p:nvSpPr>
            <p:spPr>
              <a:xfrm>
                <a:off x="29080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38"/>
              <p:cNvSpPr/>
              <p:nvPr/>
            </p:nvSpPr>
            <p:spPr>
              <a:xfrm>
                <a:off x="36190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Line 40"/>
            <p:cNvSpPr/>
            <p:nvPr/>
          </p:nvSpPr>
          <p:spPr>
            <a:xfrm>
              <a:off x="8254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17398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2"/>
            <p:cNvSpPr/>
            <p:nvPr/>
          </p:nvSpPr>
          <p:spPr>
            <a:xfrm>
              <a:off x="255240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3"/>
            <p:cNvSpPr/>
            <p:nvPr/>
          </p:nvSpPr>
          <p:spPr>
            <a:xfrm>
              <a:off x="468612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4"/>
            <p:cNvSpPr/>
            <p:nvPr/>
          </p:nvSpPr>
          <p:spPr>
            <a:xfrm>
              <a:off x="549864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5"/>
            <p:cNvSpPr/>
            <p:nvPr/>
          </p:nvSpPr>
          <p:spPr>
            <a:xfrm>
              <a:off x="732744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6"/>
            <p:cNvSpPr/>
            <p:nvPr/>
          </p:nvSpPr>
          <p:spPr>
            <a:xfrm>
              <a:off x="81406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7"/>
            <p:cNvSpPr/>
            <p:nvPr/>
          </p:nvSpPr>
          <p:spPr>
            <a:xfrm>
              <a:off x="2713320" y="3357360"/>
              <a:ext cx="171000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8"/>
            <p:cNvSpPr/>
            <p:nvPr/>
          </p:nvSpPr>
          <p:spPr>
            <a:xfrm>
              <a:off x="875880" y="265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9"/>
            <p:cNvSpPr/>
            <p:nvPr/>
          </p:nvSpPr>
          <p:spPr>
            <a:xfrm>
              <a:off x="977760" y="337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0"/>
            <p:cNvSpPr/>
            <p:nvPr/>
          </p:nvSpPr>
          <p:spPr>
            <a:xfrm>
              <a:off x="1689120" y="337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1"/>
            <p:cNvSpPr/>
            <p:nvPr/>
          </p:nvSpPr>
          <p:spPr>
            <a:xfrm>
              <a:off x="1384200" y="409320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2"/>
            <p:cNvSpPr/>
            <p:nvPr/>
          </p:nvSpPr>
          <p:spPr>
            <a:xfrm>
              <a:off x="2908080" y="409320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3"/>
            <p:cNvSpPr/>
            <p:nvPr/>
          </p:nvSpPr>
          <p:spPr>
            <a:xfrm>
              <a:off x="2698560" y="3357360"/>
              <a:ext cx="1739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#avail-se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"/>
          <p:cNvSpPr/>
          <p:nvPr/>
        </p:nvSpPr>
        <p:spPr>
          <a:xfrm>
            <a:off x="271800" y="165096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T-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55700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quence of SQL statements that form a logical unit of work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the database from one logically consistent state to another. E.g delete or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consist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lete from order_header where ono = 123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inconsisten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I failure now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lete from order_line where ono = 123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consisten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No unmatched  FK’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proper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1700280"/>
            <a:ext cx="8207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mic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SQL complete or none are comple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sist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rogrammer responsibi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ultiple transactions execute in isolatio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rabili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uccessful commits survive system failur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State Diagra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2" name="Oval 3"/>
          <p:cNvSpPr/>
          <p:nvPr/>
        </p:nvSpPr>
        <p:spPr>
          <a:xfrm>
            <a:off x="3270240" y="1593720"/>
            <a:ext cx="199404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603360" y="2965320"/>
            <a:ext cx="199368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6089760" y="1746360"/>
            <a:ext cx="1993680" cy="1307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6089760" y="4641840"/>
            <a:ext cx="199368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3270240" y="4565520"/>
            <a:ext cx="199404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763560" y="3430440"/>
            <a:ext cx="1596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3446640" y="1677960"/>
            <a:ext cx="1917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all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6156360" y="2135160"/>
            <a:ext cx="1977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3506760" y="4954680"/>
            <a:ext cx="167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6300720" y="4995720"/>
            <a:ext cx="1841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2529000" y="2808360"/>
            <a:ext cx="811080" cy="40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2300400" y="4129200"/>
            <a:ext cx="963360" cy="65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4267080" y="2909880"/>
            <a:ext cx="0" cy="157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24480" y="2286000"/>
            <a:ext cx="58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5424480" y="5181480"/>
            <a:ext cx="58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9"/>
          <p:cNvSpPr/>
          <p:nvPr/>
        </p:nvSpPr>
        <p:spPr>
          <a:xfrm>
            <a:off x="1332000" y="614052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"/>
          <p:cNvSpPr/>
          <p:nvPr/>
        </p:nvSpPr>
        <p:spPr>
          <a:xfrm>
            <a:off x="5338800" y="614052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"/>
          <p:cNvSpPr/>
          <p:nvPr/>
        </p:nvSpPr>
        <p:spPr>
          <a:xfrm>
            <a:off x="2484360" y="5924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2"/>
          <p:cNvSpPr/>
          <p:nvPr/>
        </p:nvSpPr>
        <p:spPr>
          <a:xfrm>
            <a:off x="6348240" y="5924520"/>
            <a:ext cx="20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sta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8360" y="177336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ti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 whilst execut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tially Commit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QL commit statement execution star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ai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ormal execution cannot proce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mitte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guaranteed  to sta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ollback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guaranteed un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QL Transaction stat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68360" y="169992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QL statement starts a transaction that is terminated b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mit;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kes all changes  permanent                      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llback;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ves all change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DDL comman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ystem generated rollback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Quitting the session                    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it at regular interval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will keep your transactions sho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voids wasting system resour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revents loss of work if system generated rollback occu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use of rollback to undo user mistake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enefits from concurrent execution of trans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leaving of CPU and I/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different transactions to execute in paralle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reases system utilisation and throughp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long  and short running transactions to make progress if not accessing the same data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ternative is to serialise and then the short transactions have long wai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ads and Wri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transaction can be regarded as a sequence of database reads and writ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current transactions only conflict when accessing the same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al variables are in separate address space so no confli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utation on local variables only explains how the write value is formed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( SQL version 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0" y="1778040"/>
            <a:ext cx="91411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val = current from grant;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val = current from gra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grant set current = val;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date grant set current = v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3 2500   @t4 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4191120" y="2147760"/>
            <a:ext cx="0" cy="332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"/>
          <p:cNvSpPr/>
          <p:nvPr/>
        </p:nvSpPr>
        <p:spPr>
          <a:xfrm flipV="1">
            <a:off x="4952880" y="6095520"/>
            <a:ext cx="51912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 flipV="1">
            <a:off x="3276720" y="6095520"/>
            <a:ext cx="67140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( Read/Write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440" y="1525680"/>
            <a:ext cx="91411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3 2500   @t4 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3429000" y="5791320"/>
            <a:ext cx="6714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4800600" y="5791320"/>
            <a:ext cx="9000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77835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16000" y="2133360"/>
            <a:ext cx="65023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primitive typ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omai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1440" y="1525680"/>
            <a:ext cx="91411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2 2500   @t4 27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 flipV="1">
            <a:off x="3200400" y="5866920"/>
            <a:ext cx="97632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 flipV="1">
            <a:off x="4800600" y="5866920"/>
            <a:ext cx="6714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440" y="1525680"/>
            <a:ext cx="914112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1440" y="1790640"/>
            <a:ext cx="914112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 2200  2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"/>
          <p:cNvSpPr/>
          <p:nvPr/>
        </p:nvSpPr>
        <p:spPr>
          <a:xfrm flipV="1">
            <a:off x="4046400" y="6121440"/>
            <a:ext cx="3668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 flipV="1">
            <a:off x="4732200" y="6121440"/>
            <a:ext cx="51912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chedule is a sequence of reads/writes of a set of concurrent users that preserves the order of the reads/writes of the individual users. E.g. Lost Update(Read/Write) sli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rial schedule is a schedule where the reads/writes of each users are executed consecutively without any interleaving of different users reads/writes  E.g. Lost Update  Serial Schedule 1 sli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schedu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-36360" y="1700280"/>
            <a:ext cx="914220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U1        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read A                    write A                   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                   write A                    read A                   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effect of reversing the interleaved sequence U1 U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the two read A may be interchanged without effect - rest are conflicting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the new sequence changes the value read or the value after the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Write B are not conflicting as on differen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914400" y="1995480"/>
            <a:ext cx="0" cy="14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200400" y="2071800"/>
            <a:ext cx="0" cy="12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5562720" y="1995480"/>
            <a:ext cx="0" cy="12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7924680" y="1995480"/>
            <a:ext cx="0" cy="119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2209680"/>
            <a:ext cx="96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2529000" y="2209680"/>
            <a:ext cx="13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"/>
          <p:cNvSpPr/>
          <p:nvPr/>
        </p:nvSpPr>
        <p:spPr>
          <a:xfrm>
            <a:off x="5043600" y="220968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"/>
          <p:cNvSpPr/>
          <p:nvPr/>
        </p:nvSpPr>
        <p:spPr>
          <a:xfrm>
            <a:off x="7253280" y="2209680"/>
            <a:ext cx="126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flict Serialisabilit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chedule S is conflict serialisable if it is conflict equivalent to a serial schedu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wo schedules are conflict equivalent if one can be transformed into the other by a series of swaps of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non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flicting 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e Lost Update schedule Conflict Serialisable 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1440" y="2227320"/>
            <a:ext cx="9141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Schedu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1  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>
            <a:off x="3214800" y="42210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3811680" y="371628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"/>
          <p:cNvSpPr/>
          <p:nvPr/>
        </p:nvSpPr>
        <p:spPr>
          <a:xfrm>
            <a:off x="14400" y="331632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7"/>
          <p:cNvSpPr/>
          <p:nvPr/>
        </p:nvSpPr>
        <p:spPr>
          <a:xfrm>
            <a:off x="5805360" y="3392640"/>
            <a:ext cx="24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371600" y="3025800"/>
            <a:ext cx="0" cy="256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6781680" y="3025800"/>
            <a:ext cx="0" cy="248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458640" y="5564160"/>
            <a:ext cx="8150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e Lost Update schedule Conflict Serialisable 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440" y="1938240"/>
            <a:ext cx="9141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Schedu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1  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"/>
          <p:cNvSpPr/>
          <p:nvPr/>
        </p:nvSpPr>
        <p:spPr>
          <a:xfrm>
            <a:off x="3214800" y="406548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3811680" y="361008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6"/>
          <p:cNvSpPr/>
          <p:nvPr/>
        </p:nvSpPr>
        <p:spPr>
          <a:xfrm>
            <a:off x="14400" y="299880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>
            <a:off x="5805360" y="3075120"/>
            <a:ext cx="24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1371600" y="2708280"/>
            <a:ext cx="0" cy="256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6781680" y="2708280"/>
            <a:ext cx="0" cy="248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1390680" y="5516640"/>
            <a:ext cx="6902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- Requires moving write A passed read A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not allowed as they are conflicting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00" y="620280"/>
            <a:ext cx="91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 Conflict Serialisable schedul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1440" y="1601640"/>
            <a:ext cx="91411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            U2                                               U1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3214800" y="36576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3811680" y="320184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14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5729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447920" y="2071800"/>
            <a:ext cx="0" cy="431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7010280" y="2071800"/>
            <a:ext cx="0" cy="424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027"/>
          <p:cNvSpPr/>
          <p:nvPr/>
        </p:nvSpPr>
        <p:spPr>
          <a:xfrm>
            <a:off x="1440" y="1601640"/>
            <a:ext cx="91411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            U2                                               U1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028"/>
          <p:cNvSpPr/>
          <p:nvPr/>
        </p:nvSpPr>
        <p:spPr>
          <a:xfrm>
            <a:off x="3214800" y="36576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029"/>
          <p:cNvSpPr/>
          <p:nvPr/>
        </p:nvSpPr>
        <p:spPr>
          <a:xfrm>
            <a:off x="3811680" y="320184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030"/>
          <p:cNvSpPr/>
          <p:nvPr/>
        </p:nvSpPr>
        <p:spPr>
          <a:xfrm>
            <a:off x="14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31"/>
          <p:cNvSpPr/>
          <p:nvPr/>
        </p:nvSpPr>
        <p:spPr>
          <a:xfrm>
            <a:off x="5729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32"/>
          <p:cNvSpPr/>
          <p:nvPr/>
        </p:nvSpPr>
        <p:spPr>
          <a:xfrm>
            <a:off x="1447920" y="2071800"/>
            <a:ext cx="0" cy="431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033"/>
          <p:cNvSpPr/>
          <p:nvPr/>
        </p:nvSpPr>
        <p:spPr>
          <a:xfrm>
            <a:off x="7010280" y="2071800"/>
            <a:ext cx="0" cy="424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34"/>
          <p:cNvSpPr/>
          <p:nvPr/>
        </p:nvSpPr>
        <p:spPr>
          <a:xfrm>
            <a:off x="3505320" y="4876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s as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035"/>
          <p:cNvSpPr/>
          <p:nvPr/>
        </p:nvSpPr>
        <p:spPr>
          <a:xfrm flipV="1">
            <a:off x="685800" y="32000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036"/>
          <p:cNvSpPr/>
          <p:nvPr/>
        </p:nvSpPr>
        <p:spPr>
          <a:xfrm>
            <a:off x="228600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400" y="620280"/>
            <a:ext cx="91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 Conflict Serialisable schedul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3516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06440" y="1483920"/>
            <a:ext cx="8331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umer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NTEGER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(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,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SMALLINT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re subsets of the integers (machine dependen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AL, DOUBLE PRECISION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re floating-point and double-precision floating-point (machine dependen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OA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floating-point with at leas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gi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CIMAL(P,D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C(P,D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NUMERIC(P,D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, with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gits of which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are to the right of the decimal poi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flict Serialisable schedules via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68360" y="249192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ach transaction must obtain a lock before accessing a data valu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hared lock granted allows read ac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clusive lock granted allows write ac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ocks are 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requested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from and 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granted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y the Lock Manager pro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sures that any interleaving of concurrent transactions produces a conflict serialisable schedule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Compatibility Matri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82680" y="1341360"/>
            <a:ext cx="815004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ck manager grants lock requests by referen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already granted on data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reques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              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ata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e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              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ble entry Yes then lock types are compatible and requested lock is gr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ble entry No then requesting transaction is placed into a wait state until the lock holding transaction(s) have completed and returned the 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"/>
          <p:cNvSpPr/>
          <p:nvPr/>
        </p:nvSpPr>
        <p:spPr>
          <a:xfrm>
            <a:off x="6019920" y="2589120"/>
            <a:ext cx="0" cy="13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3824280" y="3489480"/>
            <a:ext cx="370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igorous Two Phase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owing Phase  =  Active stat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ocks may be requested bu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dropp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hrinking Phase  =  Partially committed or  fail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ocks are dropped bu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ques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ll locks held until end of transaction signalled by rollback or comm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Locking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440" y="1822320"/>
            <a:ext cx="9141120" cy="42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Lock Manag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"/>
          <p:cNvSpPr/>
          <p:nvPr/>
        </p:nvSpPr>
        <p:spPr>
          <a:xfrm>
            <a:off x="4495680" y="2386080"/>
            <a:ext cx="0" cy="370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2452680" y="257184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6"/>
          <p:cNvSpPr/>
          <p:nvPr/>
        </p:nvSpPr>
        <p:spPr>
          <a:xfrm flipH="1">
            <a:off x="1969920" y="3181320"/>
            <a:ext cx="253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"/>
          <p:cNvSpPr/>
          <p:nvPr/>
        </p:nvSpPr>
        <p:spPr>
          <a:xfrm flipH="1">
            <a:off x="4712760" y="3790800"/>
            <a:ext cx="170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498920" y="432432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2376360" y="508644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0"/>
          <p:cNvSpPr/>
          <p:nvPr/>
        </p:nvSpPr>
        <p:spPr>
          <a:xfrm flipH="1">
            <a:off x="4865760" y="5695920"/>
            <a:ext cx="14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1754280" y="5164200"/>
            <a:ext cx="243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for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4726080" y="5773680"/>
            <a:ext cx="281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for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2973240" y="272556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4802040" y="42498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578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Locking solu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(continued from previous slide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1440" y="1822320"/>
            <a:ext cx="91411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Lock Manag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 locks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ed by   programmer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s have been se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4419720" y="2452680"/>
            <a:ext cx="0" cy="370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"/>
          <p:cNvSpPr/>
          <p:nvPr/>
        </p:nvSpPr>
        <p:spPr>
          <a:xfrm>
            <a:off x="2376360" y="2637000"/>
            <a:ext cx="1725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>
            <a:off x="4433760" y="416088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7"/>
          <p:cNvSpPr/>
          <p:nvPr/>
        </p:nvSpPr>
        <p:spPr>
          <a:xfrm flipH="1">
            <a:off x="4713120" y="3246480"/>
            <a:ext cx="14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382680" y="3125880"/>
            <a:ext cx="3806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ock - System abo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s S (A)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4726080" y="42688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mmary of Lock Reques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2895480" y="42670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2895120" y="4724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se W locks on reads for values about to be updated 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se W locks on reads for values about to be updated 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 for W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oids dead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 flipH="1">
            <a:off x="2362320" y="32004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ffect of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 manager prevents writers and readers accessing the same data item concurr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 schedule containing conflicting actions cannot occu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ll allowed schedules are conflict serialisa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starv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rs may not make progress when many Readers are accessing the same data it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vent by not granting further Shared lock requests when an eXclusive request is wait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process waiting requests in FIFO ord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41:08Z</dcterms:created>
  <dc:creator>Leo Mark</dc:creator>
  <dc:description/>
  <dc:language>en-US</dc:language>
  <cp:lastModifiedBy>Gitte Christensen</cp:lastModifiedBy>
  <cp:lastPrinted>2012-10-13T15:41:03Z</cp:lastPrinted>
  <dcterms:modified xsi:type="dcterms:W3CDTF">2012-10-13T15:49:49Z</dcterms:modified>
  <cp:revision>182</cp:revision>
  <dc:subject/>
  <dc:title>SQL powerpoint</dc:title>
</cp:coreProperties>
</file>