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4A8-3ED7-4611-A355-EE13065D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4583-2819-40E6-884E-8100D080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4A9D-4006-4E3C-9524-08487C77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13D-D598-4D47-9F20-2846A62C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AAD-E903-4140-868B-649814FD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771-9852-4990-BA57-DE0C65DA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D76-74EF-409B-A657-C2466CF3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879-5B0A-470D-9734-4A12BE26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EAF-D0F9-4DD5-B09D-3CDD465C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3A6-C6A9-4D1E-B217-02E94CDF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919E-9A91-4120-B0E7-6A21E6FA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706-D24A-4ABA-9A64-15479466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C343-A6FC-4957-A914-225D14F6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CB87-DDFA-4039-8934-D09C861F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F3F4-7683-44C3-8A51-8C053E53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DE4-3B7D-4898-836B-E123991B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990-6BAF-4B20-921B-CC7E7BA9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6D8-D48B-44DF-A192-4444B4CE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860B-07DD-4B05-997A-FF66D937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EC4-F23C-4621-A904-06EFE563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7468-8E12-4D3C-A67E-1F31B61E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D48-6697-4ADF-A0F1-7713B05F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4CD0-C53C-4168-85B5-F02B6327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2F56-95AE-4570-A4B9-DA72941A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3B2-5453-46EF-8ECC-2F703566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EAA2-8876-4FCC-B8C3-56675E6A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C3F-0B21-45C0-90A9-CDC4BF90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ACFB-23BB-412B-82EF-509B3BE5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7FC1-101C-466E-9C1B-61EE1B6B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38A-DD0B-4FB8-BDA8-D34774FC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1B6C-E996-448E-A464-F33B05C39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7D2-7961-49AC-915E-3A12FB6C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8918-DC8B-4A5C-A2DB-39C9B397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D2C3-77FD-478A-B008-EE45BEC1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7D5-3CA8-4DA8-ACE0-7BAE3981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29D-0299-4C0C-8B62-F1FAD39F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7A5-5F16-4B17-9F3C-B1401A8E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2CE3-450D-4A38-B3D0-FF992BA7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A1D-0E1F-40CD-B960-7FA30300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177-D25F-4E73-9D2A-8A3F667A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8664-C569-4263-9964-6A083776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38C0-0269-445B-BE7B-AEB8608B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FB0-04EA-4045-8820-C54E47C61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D12-FD54-44C4-8A52-0791A7AF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4BD-B2ED-4D6C-8BDF-D2CCA5E32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AAA-1710-4268-B86A-23A4EE02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85DE-33DB-44F4-984B-0CEF7D2A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99A-8189-4E43-BEAF-BFF1934D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20C5-245A-408B-9E2D-6B25E651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98C-E845-48DB-B09A-7C8D6060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8ED-D631-4F25-AB35-C0BB77E4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E598-BA89-4D81-99A4-D7C40A3D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0EF-46BA-4140-BF73-75C66CA1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5CD0-1517-47A6-B674-E473A6DE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F4A5-BAC5-43ED-B96C-C6AE09268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D2F-8BD6-4CF0-A67B-F2F870A4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9A4-6F2B-4D28-8D40-9EA4EADD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0E13-211D-4D77-B0EE-556BD6E7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5E98-FD45-4FD0-AADC-5F3A5109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85A0-5A31-4EB9-95D4-552C3342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2F0F-591C-4371-BE38-746B595B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F7DC-DE56-40BE-8C32-5CC59B26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00E4-769D-4061-B9BA-59E4E886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211-4B0B-4CF7-8B45-E5FA1BB3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079F-DDC5-49E4-8A78-40C2A6BD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242-CEBF-497E-BA73-FA38A4A8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CAB-6D1A-4962-B496-0BB41581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CFB1-9BC3-4A15-9A89-41142202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FB83-0191-4BFD-9F55-A7386827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9FB-135B-48B0-8104-35F8B1F2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836-F747-4805-A728-0B46A100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C18C-6373-4B46-B265-730301EC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D5B-B65E-46E3-9DC2-8E8B29F6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50D-26E6-4AFA-9084-FA1C874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772-720D-4547-8B37-97893FF9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258-9849-4B72-A2E0-B1750CC2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5C9-2B0E-4947-8559-931F8362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29FB-9201-4C22-B964-1C4A86F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0F7-D847-4224-B12B-80D4D5A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58DB-756F-421E-9A35-9E52D8A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633A-65C0-43E5-A359-EC10F57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A220-453D-482B-BDF5-013031AE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57B-766F-4A8A-A2BD-8055F99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D19-FEC7-467B-84EE-A5570C6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7CAF-6DE6-471F-802D-4E21AFE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56CD-C639-4E7E-9DB4-59B7CF5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13B1-A976-4646-BCCF-6615E4A4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ED6-0538-42D9-A0D0-AEED8838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258-7EC6-4D60-9156-7B8B36A1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158-FD76-4E52-9C70-D514D45B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341-3CF4-4EEB-96C2-0F5502A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6F2-47D9-4762-9D69-B3FF940D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5B9-0BF7-4E1B-937C-8C316ED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458-68FD-4468-B5F5-5AD731D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034-6BE6-4CD9-ABB7-9593730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BA0-9DAA-4D21-B0B3-7CDEC1C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C2DC-603B-41E0-8D47-AC01D24E85E8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0FAB-C773-46F8-890B-1C9C50F687AC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202068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←t1.s1   ⍝ even if assigned a new nam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 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what does this look like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(S1: son of t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≡t1.s1   ⍝ it “remembers” its refer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⍬≡⍴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 is still just a ref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⍴⍕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s display has a length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v11←’var’ ⍝ If we change the 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⎕fx ‘f1’ ‘...’ ⍝ contents of s1: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t1.s1.⎕nl 2 3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abc.⎕nl 2 3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  ⍝ abc will “see” it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NC ’abc’  ‘t1’  ‘t1.s1’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745160"/>
            <a:ext cx="5113440" cy="865080"/>
            <a:chOff x="539640" y="4745160"/>
            <a:chExt cx="5113440" cy="865080"/>
          </a:xfrm>
        </p:grpSpPr>
        <p:sp>
          <p:nvSpPr>
            <p:cNvPr id="294" name="Rectangle 4"/>
            <p:cNvSpPr/>
            <p:nvPr/>
          </p:nvSpPr>
          <p:spPr>
            <a:xfrm>
              <a:off x="4645080" y="474516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24988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24988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835280" y="474516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24988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3349800" y="4745160"/>
              <a:ext cx="50292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5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,abc.⎕NL 2 3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APL385 Unicode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“Yes 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11-04-11T15:03:44Z</dcterms:modified>
  <cp:revision>46</cp:revision>
  <dc:subject/>
  <dc:title>Slide 1</dc:title>
</cp:coreProperties>
</file>