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B17D-8078-49C6-8E46-6039FC235A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DBE1-4C87-4CDF-A6BD-0A08768426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Unlocked code 2. e.g. compare versions + other external util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5127-8EC0-403C-9730-DD923A4096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ople take for granted []SE without realizing its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909A-041B-4D71-86B4-1A5D9FA5F1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)COPY requires some management (like clean up afterwar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972C-F0E4-4952-AF39-554DC961A1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following is probably known by many people (but not everyone) so we won’t spend much time on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041E-57B5-4FB2-AA34-5E56BEA01C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tiin []PATH before saving will includ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39CA-EF54-47EF-B84C-3AC894E7D8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tting []PATH before saving will includ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57B8-60C7-4A3F-A9EC-513561EA1D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you want APL to load your DSE file at startup time you’ll need to tell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6BAE-E796-4BCE-9C98-8E988DAA52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FD8-5F28-4B24-8E0F-43BB4327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296-F3C8-4CFA-859D-BF35CF13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417DA6-3432-42F1-9852-169C7242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ADB166-A19E-4228-803F-D936BF7E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AC9932-94D3-4C91-BA7E-448F4BED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D79F6C-6EE6-4FBB-9984-9E3A57CB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BD743A-5A09-4595-A0BD-9E7B3503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8884AF-99F5-4DB2-84C3-41C4F75C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AA4DBD-3FA9-4D60-8FFE-D1AF368B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F809D1-FBDC-4C91-A791-2BE794F8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F18B52-396C-44D4-BA65-9E0AD84C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F2CD2-FD30-45F6-9D62-EF9601D9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00A-DF13-4939-A7E6-BB73E6EC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F28F1-0DBD-4392-8023-A72718BA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F60D8-FAB4-4D59-9E03-A2CB9DFC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9C7DE-A0DA-4F45-B196-FF5387A7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5537B-1199-48F1-9496-262AC3BD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86695-1679-4E92-9477-D0BE3481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70B77-6A89-4893-9B79-24F7052A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7B254-0EE9-4970-8D3F-558B00DE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BF9A8-8650-4330-ABD3-CB9B5CBA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18D32-26FA-4D1D-B4A5-A3F91133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317C2-BE2C-4642-BC8F-8CF0471C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A17-B25E-4DDB-AA23-B1EEC2AB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C4A14-8627-45F1-B330-B1D6637F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276DC-B437-48AC-9EF2-DB7375B1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16550-36CF-4AF0-ABA1-9E7C50DA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215BF-684E-450C-97BA-0C439FA1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16EB5-2A0F-41B7-890C-7D9578BB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7CBB6-53FB-48EB-A801-6D7DD7C0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A42CE-61CB-4707-9919-22F6A4D3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95A08-FBDC-49B0-90D8-4214168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F73E5-1D09-4AB5-A65E-9F89CD2F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8A498-44ED-4A39-A446-9D430E91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01D7-1E5E-4B10-B3EC-FC676752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FB0D9-BD15-4898-9A07-42F0EBED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2C7F4-055D-4358-A029-5D1728E1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12F1A-E593-4DB0-BA56-F230DF15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6A4AD-5C4B-4CD6-86E8-0222A8C0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B1FCB-54B1-4BF6-8D3C-58ED1898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54DFD-FEE4-4D00-9AB9-F573DECD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BF491-81B8-4358-925A-9E3F4EC6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D9DD9-A918-4F86-977D-0B566750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4F2C2-6A4E-41EC-97AF-BC43659B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38D92-8AC3-495F-903D-76DB8A1C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8EE1-664F-4BC3-9BD9-E723BEFD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B3CA9-833F-4134-8B00-56B86EBB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E2AAA-1DD9-40E6-8AF2-3193E330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2A43F-2551-485F-AF70-61964DCC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50F37-53F3-45DF-A796-B7766AAF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66C00-2DCD-41C7-8220-6CE6D585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85C6B5-7802-4BA1-81E3-E6FACEC3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22FF7-9E21-471D-B9F8-3A3E60C6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F6D0A-10B7-4F5D-883A-DF1EC79F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CB16C4-E653-4096-8CC6-E4AA0954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C04206-FBF0-4355-BA18-3F6140A2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2C78-38F4-47FC-8632-40182F5F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ED180-707A-4031-890B-DA5685BC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7650F-7180-4D47-B489-12DD59E3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122AD-DC49-447C-9749-B2BDBBFC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A3D63-3A3A-43B0-87E8-0742BA5A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61FBC-7F50-4E6C-97B0-1EA39A01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8A9AC-CAD6-4B8F-8BA5-0576B095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E5B43-5547-447D-9FC5-641B3D92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05C4E-1BA8-4346-B066-2CE22570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7FB60-371A-4100-A85B-DD3C37AA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699FA-14E9-4426-9345-2A75E58C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E299-90CC-4C5D-9016-145741E7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F8021-CFEB-4A34-8C2B-520C7ADD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A1A61-EE70-4EA7-A774-C649876F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CAEE3-94B6-494D-ADA2-45AC9BCE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EFA97-4E44-4F68-B4D2-7964D88D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CC6D6-84A8-4C98-8A9C-F229CA35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2F015B-4424-4643-9FE5-312C68D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49444-B1F3-4BF3-AB59-4A99BEC4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83AA5-DF9E-4356-A1C1-F80892A5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52EC8E-BF00-43E3-9B83-A25DC409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073A-6F74-4868-AD1A-8DE3CB3B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9E23-66A7-4B7C-A19B-1F5962DC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D04E-305A-4126-ABA1-051B7CD7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E54-1518-4FD0-8BCA-0C2C858B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DAFB-D1B1-4C0B-939E-2AD2633D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9D44-F381-4504-A1DA-CF346ECE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7B24-6EF5-4F23-916C-C64D10B3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072B-2A87-4BFA-9E2F-C99F5A65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1C25-29D8-49BC-A8AE-A2009978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E52B4-2590-4794-B5F1-A78B3E53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D670F-FFA8-492B-AB06-B01EB0C2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B5D92-1DED-41C7-9245-B176DF25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DE591-4B19-4915-A3B5-DED6183D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64E61-154B-417E-9FE1-C2212964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7FE-29DA-4D3A-AB48-959B42BF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A3175-4544-4AF5-A448-CAC26CDD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C3E8E-3B09-4551-AC0E-6AC0FEF7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D460-CC1D-42B7-B1F2-268C3788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A2402-50AC-4D40-A5DE-707D82DB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A0F54-C29A-4539-9C8C-F6009F2D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8C4A9-82D5-48EB-89A1-A31F1BCE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C782D-1D3B-45EA-994B-7B441572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31F2-C885-4A51-A579-AF6A5B33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1E2B3-4751-4EFE-877F-BB66A94F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B6057-79C0-4710-9D21-A73168F3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DDE-ECF2-4B27-95DD-B5DE9403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4FE49-B8C4-4E2D-BB5B-DAB95F08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DD69D-D779-4D66-837B-06D74DF2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9E02B-3C20-4E4A-BB4C-64107905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85521-1690-428E-B013-7B427AC9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A5E30-7BA5-48D7-A03D-61C31A96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31473-F25F-4D53-8E2C-C0E83220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EB06B-6017-46E9-9497-57621C92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0DFF4-48A9-4C0B-AC35-AAB3CA5B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FBDE0-3E93-4DF0-96C2-3C804F8F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562A6-7FC1-4F48-B9E3-79CFB9EA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0975-8372-43F4-BD8A-57A7FAAE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C05AF-88B4-4B1E-ACD2-D72D55AB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6E8BC-D7C8-4777-B9AF-2E174E90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6F3E0-CA7B-4851-90AF-76E9971E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8600D-59B7-4940-8DD6-CAB394BC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A7094-4465-4714-B65C-4A26094C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457E7-DCEF-4B80-AAFB-69C9F28D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2997-E582-4EDF-ACB0-9B7946CA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CD711-ADDF-4215-82B1-24E7B29C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D0810-7AD8-4171-BB77-5019F3C4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EF04F-8B30-47D0-92D8-FCFE1408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773-701C-402F-A59E-94B2B5C3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D31C3-C261-4819-AE3A-A493630C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5B25C-92EF-4279-87D9-6827399E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5A625-964C-47DE-A9CF-C85D5C04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4610F-D11C-4A22-938A-72AB28FA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758EF-D144-49D5-8049-249EE1A5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768C6-8DAE-413A-B702-FA1A1EED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34439-67CF-446C-BDDF-FBE85060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EE6D8-D652-4468-B291-71312BC8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0A69A-D03C-4F6C-A884-35D73744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F24C3-0E4F-4805-9892-0388EA3E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858-E345-480A-A156-47F3AEF3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D5BDF-CA4B-4466-8920-34DF9A29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0D3AE-AC38-4597-8695-6368616E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49D73-E64B-455B-8FCB-5A91EE78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F185C-813B-446E-BD4F-CAE81B95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83C08-DAB3-4473-9F29-0140500E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09321-CCC8-4B78-B05C-ABBB6F2C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0649D-0F68-4AB3-AB12-0CC46949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97BB0-9494-4228-964A-02FFDC07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2571E-7BCF-48E3-B2BE-890BF07B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08548-E7DB-4054-BB89-5446CAC5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993-8B77-40D4-9CEA-F05D43ED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12B95-C321-4D4E-8559-3E2CBE0B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378A3-D2E5-4128-85B0-390EBE91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E6DF9-94E9-4BDA-8B98-BD56A7F9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1FCC9-5DB3-44F3-AE05-1380C7B4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74D75-5D2B-4107-B0A5-1CBFA8A6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5FD75-46F5-4F33-B13C-E482AFD7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D27B2-9419-41D4-959A-8546156E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96E35-87F6-4059-8F8D-FB6967C6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A39A7-7856-4CFF-B7C4-E813FD54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3AC2B-861A-4632-B896-B9EB00B4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DB8-4712-4C8C-BEE0-09AE9030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6B312-7E2B-41A4-A86E-0CA3D266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F7361-382E-4CFF-B7D0-B1D2C93C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BAA0B-2C4F-45CD-9921-6E7B1C1B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8677B-D410-4739-BF43-ED09A65D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13857-BDCD-4B4C-9EB0-0E69917C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3568F-CBD9-4B14-894E-8C1F0F51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BD680-C721-4F6A-A826-3592193F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B567DC-A5F2-432B-8E4B-D5B7F1AF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84DDDE-6131-4156-8FEF-9747AA09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96DB52-1079-4930-B7D6-A916D82B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48E7-178C-490D-86D1-115B12E159D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B76A-7CD3-4A92-A841-690A5B5190A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8DBF-5A31-44BB-AF6A-7BC520952A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37D8-6308-4F17-B6BD-AD0194354BC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81EB-42BB-46C7-8F2F-2F0D02F98B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CDBD-84D4-480B-A6A4-1A1537CAAD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5EFB-47BA-4940-92CB-1CFF65796C8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53B1-2B1D-4FF2-AEE5-CCAD53CBBA8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79DE-0A6B-4C4A-B980-AC46E314E2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4A82-2C11-4AFF-89FB-E25E31588F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4239-626F-43FF-B26C-DBAD66D454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8D33-F5C5-4B02-88C2-BFB3347AFF0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996D-3EC3-4767-8D2C-414FDD4FCBC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0062-1CAB-4453-9EED-EC24B8757C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33"/>
                </a:solidFill>
                <a:latin typeface="Geneva"/>
              </a:rPr>
              <a:t>Utilities in </a:t>
            </a:r>
            <a:r>
              <a:rPr b="1" i="1" lang="en-GB" sz="5400" spc="-1" strike="noStrike">
                <a:solidFill>
                  <a:srgbClr val="333333"/>
                </a:solidFill>
                <a:latin typeface="Geneva"/>
              </a:rPr>
              <a:t>Dyalog APL</a:t>
            </a:r>
            <a:endParaRPr b="1" lang="en-US" sz="5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3352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Dan Baronet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Boston 2011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0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C46D-EE5A-4319-A7BA-0BA95FD429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Date Placeholder 6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7" descr="newsnake.png"/>
          <p:cNvPicPr/>
          <p:nvPr/>
        </p:nvPicPr>
        <p:blipFill>
          <a:blip r:embed="rId1"/>
          <a:stretch/>
        </p:blipFill>
        <p:spPr>
          <a:xfrm>
            <a:off x="304920" y="4338720"/>
            <a:ext cx="160020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: using it as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may be convenient enough to store utilities in []SE and use them from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even add some GUI to use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D90B-DAAA-432B-888A-588714A43A2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5381640" cy="30481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"/>
          <p:cNvPicPr/>
          <p:nvPr/>
        </p:nvPicPr>
        <p:blipFill>
          <a:blip r:embed="rId2"/>
          <a:stretch/>
        </p:blipFill>
        <p:spPr>
          <a:xfrm>
            <a:off x="1914480" y="3218040"/>
            <a:ext cx="5375160" cy="3041640"/>
          </a:xfrm>
          <a:prstGeom prst="rect">
            <a:avLst/>
          </a:prstGeom>
          <a:ln w="0">
            <a:noFill/>
          </a:ln>
        </p:spPr>
      </p:pic>
      <p:sp>
        <p:nvSpPr>
          <p:cNvPr id="663" name="Oval 8"/>
          <p:cNvSpPr/>
          <p:nvPr/>
        </p:nvSpPr>
        <p:spPr>
          <a:xfrm>
            <a:off x="6324480" y="3286080"/>
            <a:ext cx="914400" cy="555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9"/>
          <p:cNvSpPr/>
          <p:nvPr/>
        </p:nvSpPr>
        <p:spPr>
          <a:xfrm>
            <a:off x="1828800" y="3478320"/>
            <a:ext cx="914400" cy="555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storing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stores utilities in []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re in namespa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  line Pars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&amp; Spice (UCMD framework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a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r Command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67BC-BB1C-47DC-9E3B-19E15EBBC6D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basically a pair of  functions to read and write APL code outside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e feature of SALT is to hook into the editor to save objects automat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ore functionality and can be used as a version control syst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FC90-B7C5-47CF-8AC8-81B654860C7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uses Unicode text files as storage mediu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xt files can be shared and integrate well with other VC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he base for Spi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67E8-10E5-4AC3-9AE1-1FBDEFFA49F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is the interface between you and your code stored in SALT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allows you to execute your code under your own ru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is the framework of User Command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7F88-22F2-4256-B2BB-30B3460649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Commands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CMDS are SALT based functions called thru the ] synta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the basic code resides in a SALTed text file with specific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 “]CAL  12” is entered in the session its main &lt;Run&gt; function is called with arguments ‘CAL’ ‘12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F86F-D664-40C6-9BBE-18A27A6756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Keyboard Shortcu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trl-Shift-End : highlight to  the end of t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Ctrl-delet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remove highlighted t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trl-Home/End  : go to the beginning/end of the t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Shift-Esc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cancel oper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Spac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(in session): mark current line for re-execution (several can be marked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Keypad -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toggle line numbe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Keypad /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reformat according to configur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Ctrl-Up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   : localize  na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Ctrl-Shift-BS/Enter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 undo/redo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6387-FDA3-4ED9-B1D5-E35753B599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amp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&lt;calendar&gt; fun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&lt;time&gt; user comm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yalog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CDD7-B0F1-4EF7-B993-7450E7D695F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APL Wiki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A1BC-90AE-414D-8F8D-7AEB61CC00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B357-91AD-499A-B0EB-CB0CBB92518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2"/>
          <a:stretch/>
        </p:blipFill>
        <p:spPr>
          <a:xfrm>
            <a:off x="-11160" y="762120"/>
            <a:ext cx="915516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vs #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2 “work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p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” available at all times when using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[]S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ich holds session (static) 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#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hich is the workspace as such (dynamic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CBA9-E5D6-4B87-9CA8-2F50ADED1A9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7F3E-62DD-4833-92A6-268613E3867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2" descr=""/>
          <p:cNvPicPr/>
          <p:nvPr/>
        </p:nvPicPr>
        <p:blipFill>
          <a:blip r:embed="rId2"/>
          <a:stretch/>
        </p:blipFill>
        <p:spPr>
          <a:xfrm>
            <a:off x="76320" y="723960"/>
            <a:ext cx="8991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780D-86F6-4656-8412-F44A4B90611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3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28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emory lay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F1C5-7D08-4C31-A813-773BB8FBD1E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1752480" y="2057400"/>
            <a:ext cx="5867640" cy="358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905120" y="2209680"/>
            <a:ext cx="1600200" cy="327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]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lowchart: Direct Access Storage 8"/>
          <p:cNvSpPr/>
          <p:nvPr/>
        </p:nvSpPr>
        <p:spPr>
          <a:xfrm>
            <a:off x="380880" y="3124080"/>
            <a:ext cx="990720" cy="121932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lowchart: Direct Access Storage 9"/>
          <p:cNvSpPr/>
          <p:nvPr/>
        </p:nvSpPr>
        <p:spPr>
          <a:xfrm>
            <a:off x="7924680" y="3048120"/>
            <a:ext cx="990720" cy="12189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0"/>
          <p:cNvSpPr/>
          <p:nvPr/>
        </p:nvSpPr>
        <p:spPr>
          <a:xfrm>
            <a:off x="3657600" y="2209680"/>
            <a:ext cx="3809880" cy="32767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eft-Right Arrow 11"/>
          <p:cNvSpPr/>
          <p:nvPr/>
        </p:nvSpPr>
        <p:spPr>
          <a:xfrm>
            <a:off x="1295280" y="3352680"/>
            <a:ext cx="914400" cy="6858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eft-Right Arrow 12"/>
          <p:cNvSpPr/>
          <p:nvPr/>
        </p:nvSpPr>
        <p:spPr>
          <a:xfrm>
            <a:off x="7118280" y="3352680"/>
            <a:ext cx="990720" cy="76212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viously  []SE was only used in GUI versions to hold session objects (menus, toolbars, statusbars, …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now used to also contain utilities like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57EF-BA9E-432A-9DC6-77DC06EB0D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#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# is dynamic, this is where you )LOAD workspaces and )SAVE them fro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write utilities, store them in a .DWS file and )COPY them when need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at’s one way to do it and it’s been done for ag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9149-A54A-44A5-BDD9-FA0A15BA3B8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 is static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utilities there and refer to them either using their full path (e.g. []SE.myUtil) or by setting []PATH to ‘[]SE’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other APL offers th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many this is new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1688-DA62-4AB7-8C9F-285E5352E5B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loading and sav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 is loaded at start-up ti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modify it it can be saved using the Session/Save menu item: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F36B-CA30-43AA-BBD3-CB2351707E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502920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410000" cy="243828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loading and sav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wish to use a different name for the session file you can use Save as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914D-272F-4E73-B4B5-7C2919189DB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2"/>
          <a:stretch/>
        </p:blipFill>
        <p:spPr>
          <a:xfrm>
            <a:off x="2052720" y="2757600"/>
            <a:ext cx="4881600" cy="3443040"/>
          </a:xfrm>
          <a:prstGeom prst="rect">
            <a:avLst/>
          </a:prstGeom>
          <a:ln w="0">
            <a:noFill/>
          </a:ln>
        </p:spPr>
      </p:pic>
      <p:sp>
        <p:nvSpPr>
          <p:cNvPr id="645" name="Oval 9"/>
          <p:cNvSpPr/>
          <p:nvPr/>
        </p:nvSpPr>
        <p:spPr>
          <a:xfrm>
            <a:off x="2819520" y="5002200"/>
            <a:ext cx="121896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loading and sav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76212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want APL to use it automatically you will then need to tell APL which session (.DSE) file to load at start-up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EBF2-B621-4BFA-A0F9-6476B9CD08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2057400" y="3505320"/>
            <a:ext cx="4960800" cy="27432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5962680" cy="44193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"/>
          <p:cNvPicPr/>
          <p:nvPr/>
        </p:nvPicPr>
        <p:blipFill>
          <a:blip r:embed="rId3"/>
          <a:stretch/>
        </p:blipFill>
        <p:spPr>
          <a:xfrm>
            <a:off x="1676520" y="1905120"/>
            <a:ext cx="5962680" cy="4419360"/>
          </a:xfrm>
          <a:prstGeom prst="rect">
            <a:avLst/>
          </a:prstGeom>
          <a:ln w="0">
            <a:noFill/>
          </a:ln>
        </p:spPr>
      </p:pic>
      <p:sp>
        <p:nvSpPr>
          <p:cNvPr id="654" name="Oval 11"/>
          <p:cNvSpPr/>
          <p:nvPr/>
        </p:nvSpPr>
        <p:spPr>
          <a:xfrm>
            <a:off x="5943600" y="2057400"/>
            <a:ext cx="1219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4191120" y="5257800"/>
            <a:ext cx="121896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anb</dc:creator>
  <dc:description/>
  <dc:language>en-US</dc:language>
  <cp:lastModifiedBy>danb</cp:lastModifiedBy>
  <dcterms:modified xsi:type="dcterms:W3CDTF">2011-09-30T19:43:05Z</dcterms:modified>
  <cp:revision>1077</cp:revision>
  <dc:subject/>
  <dc:title>DirectX +-=assembler of graphics</dc:title>
</cp:coreProperties>
</file>