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5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167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-36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388584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5E66-BA1A-4BD7-8F3C-FD1457892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C8CC-6F73-438B-8ADB-25CCF955F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20AA-D58C-4D37-B2BD-5EAC61811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arrot  calls Bird’s constructor to create Desc, then, upon return, Desc is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base call is made at the statement’s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2CEF-F55D-4419-9EE9-2DD3F3487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specific to 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B2A8-3330-4F77-AF48-AE5BB3D9D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ime constructors will take 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CDB3-E72B-4D80-A205-C96584DD9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llie inherits 3 members (fields) and creates 1 of it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vector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E28B-1D4E-431C-9FE1-4C43A85AF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llie inherits 3 members (fields) and creates 1 of it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vector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1C8D-83E5-4DBC-9167-680E9C10B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 of called constructors. Before setting it Name, Collie calls the Dog ctor which, before setting its Type, calls the Animal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4216-67E6-49C1-9D38-B0C48E639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778D-86F2-4A3C-94C0-D5CF380B8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ese statements are not used the default is </a:t>
            </a:r>
            <a:r>
              <a:rPr b="0" i="1" lang="en-GB" sz="1200" spc="-1" strike="noStrike">
                <a:solidFill>
                  <a:srgbClr val="99cc00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E08C-46B8-4DA7-A5E1-DD934C538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word in the :FIELD statements is the var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 slight difference between a variable and a private instance field: their []N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688F-8EDC-44A7-B92F-2AF55B1E0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1A7E-44A6-45F2-A9EC-286329BE8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F816-6EE2-4980-8AD7-F92E5EA5B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A8A6-68A8-403F-890D-E36187C43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ID is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40CD-A850-4B22-B47F-7F51052B3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2029-612D-435D-BE97-B6B4D2A9E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9E2D-A82A-4E3D-AEF1-8C718516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rder is unimportant; if &lt;general&gt; is not there and there is no match on the length a LENGTH error will be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547F-AD58-4BC7-B75B-FA04A1EC2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VE button is a du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ABEC-BCF6-42B7-9E4F-5546892AD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468A-4E37-4CE6-91AB-50874EE40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VE button is still a du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106E-8900-40D6-AE53-F4CE6CAAF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E8D2-C886-42CA-8BE3-3E55E937C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7848-3654-4597-8BEB-8182341FB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DFE5-7F66-425C-A2A1-B5525B355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trig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0ED2-D359-47BA-B6C8-CECC80B97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4BA7-00DC-40C8-B0D2-6F0282369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no real need to make that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EE6B-6A06-4D31-BB90-2DA49D36A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cies came up with a solution to this problem and invented their own Code Management Systems to group code &amp; data into units but this took a lot of man-days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ha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29FC-1CB8-4FCC-94EA-4E30FC1C2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the other property I. There are 2 ways to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D716-BECE-4FB7-9E22-D25CE3817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returns a sca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0DC6-B6EC-4211-AAA8-8FF960669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ACF5-FFE8-4714-B362-58CC51ABD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eturns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use of []TH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A990-13B4-41F9-A93C-FAF1D0752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no []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78E2-BCB0-4C4E-8984-A7514ECAB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blems are still the same tho: name clashing &amp; cleaning afterw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58C1-4013-44E5-B979-83E1AD4A6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F072-CB8A-4F34-8762-039A9C893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programmers invented tricks to shadow the names and execute code hidden on the stack but that was like a crutch, something better wa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D2AF-4091-4F56-8C0C-0F9CA2F2F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794D-07EF-456E-AE79-30B6406E3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EBE7-D444-44C2-8EC6-7BA98AB25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kspace releases memory when unused. New prim are squash, power, enhancements are to LCM &amp; G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DBBC-14C5-43B1-B8E9-12328B17D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had to use the Properties windows on fns and to export the 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3AE1-AD14-40D9-8649-67289E6B2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s can include pointers to functions in languages that support it (like C). All these structures are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53B1-0A9E-43BF-A131-454476AE7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will be interactive, stop and ask questions any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D215-F6F0-4F59-833B-D2A3D8D4B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tion of passing messages is omni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F697-6302-45BD-A3D6-CE2741704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Basic had no concept of function &amp; local variable, trad system have no concept of objects and their "local"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3E8F-4254-4E7B-BC90-ED32A2C78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 terms to be used in order to speak the same "LANGUAG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A173-5C6D-4E03-99AC-8195862A9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 a single, widely-agreed upon definition of object-oriented 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a survey of nearly 40 years of computing literature identified a number of fundamental concepts, identified in the strong majority of definitions of O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 research supporting or dismissing OOP has been difficult to come b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following slides some of the terms used (e.g. SHARED=STATIC) vary from one implementation/languag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1021-004F-4830-A99A-4EF3ABA66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like a “struct”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ext in green refers to items already implemented in Dyalog A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96B3-E7DB-41F5-8608-59501EA7A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A3F1-ECD0-42DA-A8B4-158757BCD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0FBA-9574-4E8A-B426-39676A6AF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utlet is the interface to use to connect into the electrical net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ances must conform to be able to plug into it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AFE5-7092-4F3C-9324-D1163FCC0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ime permits show OO implementation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8AD0-FAED-4361-8F97-F465DB181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ctions are said to be abstract because they do not have code, only synt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lasses are ABSTRACT and cannot be instantiated. Just like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03A4-A0BB-4641-867E-E6F0CBF9B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for others – ex: photoshop plugins which state how to access their inn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how you present yourself to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726E-4252-4E28-917D-5F0AD2D7F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faces allow to map some names (from the class) onto another set of names (of the instan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6A30-963F-40D5-867C-A6BE1C965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ol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uld be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essn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In OO there are many types of objects, they are not listed here (e.g. singleton, immutable, prototyp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all OO languages suppor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r ev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n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.  Instances are also called ‘actors’ in some lit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ed words in italic are found in DYW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file to be un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C95E-3886-4336-A24B-88A67324D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k of an object (namespace) as a mini workspace which can be initialized ([]LX) via a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5587-79FA-4BAB-9C4B-0B901F3A4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361F-BEC6-4A7F-86B6-21FF5C20F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D=STATIC in C#. Shared members are common to all instances and do not need or cannot be copied, e.g. global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3089-D3F7-4A69-9B1D-5772D19AE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practice APL does not copy the me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0A6D-8676-4DE1-94B5-4F80703AE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Shared code can be called directly via the class, no instance re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298B-EC74-4148-A12E-6E326B0EB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languages use the term FINAL instead of READONLY; the terms vary from one languag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4036-F270-4F8D-9340-88CAED6F0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because everyone else is doing it or MS$ (or anyone else) sets the trend or... Explain in more detai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CA3B-5DA7-416D-A07E-33D08B038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Ex: VISIBL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96BF-A490-42D5-AC89-6DC03E01C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es are commonly used as a means of interprocess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1251-FC80-4118-BDDD-96399B679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hing to do with money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Not all languages support it, e.g. VB, which is a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bject-bas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something we (programmers) are familiar with: modify code to get new code OR rather call existing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44BD-805D-47C0-8CC8-BBDAB6B40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8EE7-787D-40A6-809C-CC10FCC2E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is a class, green is an instance. Fido is an instance of a Collie. It also has all the characteristics of a Dog and an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DC15-5C90-49B4-8990-A7F705C35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ways to do this and not all languages do it in a consistent manner. There is a lot is disagreement in th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C5CC-1B0B-4484-9893-A28412A85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other way to achieve (some sort of) multiple inheritance is by using multiple implemen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58B4-A77A-405A-8BA8-2B46353F4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D57A-3548-421F-BDBF-B0C6049B7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8B8D-702D-46E5-AD4D-36F42699A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D365-4CC7-4DA6-86DA-AA237DCF1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ew discipline, paradigm, technology, methodology.  SIMULA was the 1</a:t>
            </a:r>
            <a:r>
              <a:rPr b="0" lang="fr-CA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object language. Others; Eiffel, CLOS, SELF, Java, B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Unlike APL it has been GROWING since the 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cceptance was due a lot to C-&gt;C++ by not having programmers to learn a new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0051-42D7-4736-8C7F-9608BEB73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F0C1-D772-435F-8CBE-C1537C85F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done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DAA2-0CBB-41F5-BE75-FAB5F9488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RIDE is also known as VIRTUAL in some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A and B ar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epend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&lt;M2&gt; is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routi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&lt;M1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8355-E4E7-4AFE-BC85-5752796C6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B is based on A. When it calls M1, M2 is not seen from M1. M2 could be called by other f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7402-2D23-48EA-81DB-CDBA3153F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 wants to override M2 but A does not allo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6204-537F-4801-9E6F-F8DB66F3E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can be overridden and it is effectively don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16D4-0BFC-456B-9990-05334970F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933F-47F4-4944-A85A-4778EDCA0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OO languages do NOT offer encapsulation. private=local for a function,public=global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A7BD-A543-46FA-B9FC-3D6D0FB58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uares are classes. It’s like localized vars in APL (except that they cannot be seen in subfns). SHARED is also called STATIC some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7371-DA38-4694-B2DE-DC5F8A639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ctrl struct were a new concept for programmers, oo is another step in the sam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475C-A063-4FAA-9A1D-6757AC7D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uares are classes. It’s like localized vars in APL (except that they cannot be seen in subfns). SHARED is also called STATIC some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D9A8-B655-4B07-AB70-56A6ECC70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kin to localized vars in APL, they can be reached up the stack by called functions. Protected is not supported yet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4FE0-3957-4CFC-8EAB-A4C0855C4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kin to localized vars in APL, they can be reached up the stack by called functions. Protected is not supported yet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8E83-1924-4FC4-BD88-F1462669E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glob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8B16-412C-405B-81B1-E3ED14BD4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elevator &amp; its repairman. He has access to the inner workings of the elev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lso other possibilities. Not all languages support these concepts. DYW does not.  This one is, among others, seen in C+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pled with nesting the complexity of a system can become overwhel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A81B-B44F-4288-BE82-EE1534AE9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do that in APL using :case on []DR of the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A212-BBE9-423B-BA48-73843ABC7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Foo is called with an integer the left fn is used. If it is called with a string the right one is used. Else an error occ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PL polymorphism is basic (typeless argu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2E9D-0F0B-41E5-8202-B1458E80C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PL most fns are overloa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24DF-508C-4533-A444-69583A4FB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arguments have to be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coerce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o a new type to achieve proper behavi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E036-A406-4B4C-BDAC-2195B6CAF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: object to hold 2 strings (e.g. name, surname) and a method (function, pgm) to  display them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become more elaborate with ctors,  etc. to initialize (and verify) the initial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1B96-435B-4684-943C-415DAA2C4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0543-A165-4F54-B9F2-BF718273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will now go over each one of these, not necessarily in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D46E-C2B9-4992-A81B-8F388781B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circle to denote editing a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FC7C-9DC9-4461-8B4E-B527B4A95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CLASSES is a new system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750D-840F-4F81-AA1C-8F85E78F5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 is a fn, op or Dfn/op. Only regular fns can be public. Properties are like variables whose assignment (or reading) is caught via a fn BEFORE being done.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2C2E-7736-4007-93D6-6B8F15A5A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ll see this in more details in the Encapsul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F140-F283-48B3-897C-099CD43F9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may be more than 1 constructor. D-fns &amp; ops cannot be public (they cannot use the :access stat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5570-17A1-4642-B729-AFA515B30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rties can be shared too; ra contains Name (there can be many!), NewValue is set &amp; maybe Index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ing of &lt;G/Set&gt; un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rder to delve into the OO paradigm we need to understand a few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digm=theoretical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4842-F17E-4D71-9068-21EED2D08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E268-313C-455E-A3D8-97FA57DA3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ns are not really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me as []NS []OR ‘class’ then call the constructor is per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7FC3-1A4E-471A-95B1-11C135619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0F7B-F5D2-4769-BA2C-59CDD6D5C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ide the brackets is the name of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705E-D7D7-46F7-A08D-97EE02FF6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sometimes useful to known who is w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19A9-07A8-42B5-87C6-FDF9421E1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.Nlegs is not new, it’s been there since refs were introduced. ‘Nlegs’ needs to be in every item of ‘Animal’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DAA1-2B2C-45AF-9651-3AFA4C9FA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ancy naming (“message passing”) scheme does not apply here – its use is kept to stay synchronized with the fundamental concept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A456-37B1-4852-90E4-D66939CF9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mber this? Rex is a Collie, a Dog, an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1982-D4AE-4F4F-9EBD-DD97FFCD1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A0AF-7175-4ABB-B880-BEB1A8395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925-AB9C-4831-968C-9917F3FD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FA5-1ADE-4641-BB0F-CC3CB0FC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869-71C0-4E67-A7D5-884ED0D7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051-0D83-4444-8320-CC4DC740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8F6B-4424-4EBE-990B-43737D1B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E45A-0E15-46FE-A211-A4778394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6A6D-55F1-4EC4-BD0C-A4C1968C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7714-3A49-40E1-AC40-8154778F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C346-13A8-4D4D-85E2-5F94AB55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AF6B-9BD6-476B-9897-69085A6A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A51A-8C23-4C4B-987F-7AEB80B4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59E-F9E4-4FC7-895F-53E683DC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D82F-6FE7-492A-B8B4-82708FF5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9471-83BA-4C30-8731-D0D7AF23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DAC5-6379-41CB-85A0-71EE82AF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F6EA-7B59-4D4B-A728-CD3F8EA0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B1A6-7A45-4266-B99F-05C36E26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B60-EDC9-4938-821E-EA3382B3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406-9B52-4A89-ABA2-87232505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3D7-4A84-474C-803B-D0657BA0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D14-CC13-4D4E-8966-4F645C87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6C6-4A4C-424F-ACEC-A46DE826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32F-CCB0-4929-A6E3-79501DCB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68D-CEF2-4666-B1DB-9CB1718E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D7F5-80F2-428F-9900-CDC90AF75A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897A-6C31-463A-BE9D-A9D25B6FF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http://www.dyalog.com/" TargetMode="External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slide" Target="slide127.xml"/><Relationship Id="rId3" Type="http://schemas.openxmlformats.org/officeDocument/2006/relationships/slide" Target="slide119.xml"/><Relationship Id="rId4" Type="http://schemas.openxmlformats.org/officeDocument/2006/relationships/slide" Target="slide173.xml"/><Relationship Id="rId5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Arrow 3"/>
          <p:cNvSpPr/>
          <p:nvPr/>
        </p:nvSpPr>
        <p:spPr>
          <a:xfrm>
            <a:off x="2714760" y="2827440"/>
            <a:ext cx="4000320" cy="12859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ee821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3080" y="1096560"/>
            <a:ext cx="84596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469ff"/>
                </a:solidFill>
                <a:latin typeface="Geneva"/>
              </a:rPr>
              <a:t>Object Oriented Programming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0920" y="3212640"/>
            <a:ext cx="5113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New Dire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an Barone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01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Geneva"/>
              </a:rPr>
              <a:t>V1.24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A827-E103-49D2-8B53-688AC72A79D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200720" cy="26762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642960" y="2286000"/>
            <a:ext cx="7715160" cy="9288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49B7-14CE-4344-936F-8DBD5A1CDB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17" descr=""/>
          <p:cNvPicPr/>
          <p:nvPr/>
        </p:nvPicPr>
        <p:blipFill>
          <a:blip r:embed="rId1"/>
          <a:stretch/>
        </p:blipFill>
        <p:spPr>
          <a:xfrm>
            <a:off x="5076720" y="1420920"/>
            <a:ext cx="3888000" cy="276696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39" descr=""/>
          <p:cNvPicPr/>
          <p:nvPr/>
        </p:nvPicPr>
        <p:blipFill>
          <a:blip r:embed="rId2"/>
          <a:stretch/>
        </p:blipFill>
        <p:spPr>
          <a:xfrm>
            <a:off x="5364000" y="3292560"/>
            <a:ext cx="3637080" cy="344952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323640" y="1564920"/>
            <a:ext cx="4679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parrot is a bir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Coco←⎕NEW Parro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Coco.Des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Not a plain Bird, a Parro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title"/>
          </p:nvPr>
        </p:nvSpPr>
        <p:spPr>
          <a:xfrm>
            <a:off x="468360" y="49356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99" name="Group 16"/>
          <p:cNvGrpSpPr/>
          <p:nvPr/>
        </p:nvGrpSpPr>
        <p:grpSpPr>
          <a:xfrm>
            <a:off x="395280" y="4157640"/>
            <a:ext cx="5256000" cy="1942920"/>
            <a:chOff x="395280" y="4157640"/>
            <a:chExt cx="5256000" cy="1942920"/>
          </a:xfrm>
        </p:grpSpPr>
        <p:sp>
          <p:nvSpPr>
            <p:cNvPr id="900" name="Rectangle 4"/>
            <p:cNvSpPr/>
            <p:nvPr/>
          </p:nvSpPr>
          <p:spPr>
            <a:xfrm>
              <a:off x="715680" y="495756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1" name="AutoShape 5"/>
            <p:cNvCxnSpPr>
              <a:stCxn id="900" idx="3"/>
              <a:endCxn id="902" idx="1"/>
            </p:cNvCxnSpPr>
            <p:nvPr/>
          </p:nvCxnSpPr>
          <p:spPr>
            <a:xfrm flipV="1">
              <a:off x="2126160" y="4557600"/>
              <a:ext cx="321120" cy="80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2" name="Rectangle 6"/>
            <p:cNvSpPr/>
            <p:nvPr/>
          </p:nvSpPr>
          <p:spPr>
            <a:xfrm>
              <a:off x="2446920" y="415764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y (Bird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7"/>
            <p:cNvSpPr/>
            <p:nvPr/>
          </p:nvSpPr>
          <p:spPr>
            <a:xfrm>
              <a:off x="395280" y="53582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0"/>
            <p:cNvSpPr/>
            <p:nvPr/>
          </p:nvSpPr>
          <p:spPr>
            <a:xfrm>
              <a:off x="2446920" y="530064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arrot: 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5" name="AutoShape 11"/>
            <p:cNvCxnSpPr>
              <a:stCxn id="900" idx="3"/>
              <a:endCxn id="904" idx="1"/>
            </p:cNvCxnSpPr>
            <p:nvPr/>
          </p:nvCxnSpPr>
          <p:spPr>
            <a:xfrm>
              <a:off x="2126160" y="5358240"/>
              <a:ext cx="32112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6" name="Rectangle 13"/>
            <p:cNvSpPr/>
            <p:nvPr/>
          </p:nvSpPr>
          <p:spPr>
            <a:xfrm>
              <a:off x="4241160" y="530064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co (Parrot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7" name="AutoShape 15"/>
            <p:cNvCxnSpPr>
              <a:stCxn id="904" idx="3"/>
              <a:endCxn id="906" idx="1"/>
            </p:cNvCxnSpPr>
            <p:nvPr/>
          </p:nvCxnSpPr>
          <p:spPr>
            <a:xfrm>
              <a:off x="3856680" y="5700960"/>
              <a:ext cx="384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08" name="Rectangle 18"/>
          <p:cNvSpPr/>
          <p:nvPr/>
        </p:nvSpPr>
        <p:spPr>
          <a:xfrm>
            <a:off x="6804000" y="3005280"/>
            <a:ext cx="1224000" cy="2538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9"/>
          <p:cNvSpPr/>
          <p:nvPr/>
        </p:nvSpPr>
        <p:spPr>
          <a:xfrm>
            <a:off x="6408720" y="5603760"/>
            <a:ext cx="2340000" cy="2174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0"/>
          <p:cNvSpPr/>
          <p:nvPr/>
        </p:nvSpPr>
        <p:spPr>
          <a:xfrm>
            <a:off x="395280" y="3292560"/>
            <a:ext cx="3960720" cy="431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21"/>
          <p:cNvSpPr/>
          <p:nvPr/>
        </p:nvSpPr>
        <p:spPr>
          <a:xfrm>
            <a:off x="4140360" y="242892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22"/>
          <p:cNvSpPr/>
          <p:nvPr/>
        </p:nvSpPr>
        <p:spPr>
          <a:xfrm>
            <a:off x="6118200" y="422928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23"/>
          <p:cNvSpPr/>
          <p:nvPr/>
        </p:nvSpPr>
        <p:spPr>
          <a:xfrm>
            <a:off x="8028000" y="502128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24"/>
          <p:cNvSpPr/>
          <p:nvPr/>
        </p:nvSpPr>
        <p:spPr>
          <a:xfrm>
            <a:off x="6443640" y="2500200"/>
            <a:ext cx="71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5" name="AutoShape 25"/>
          <p:cNvCxnSpPr>
            <a:stCxn id="911" idx="1"/>
            <a:endCxn id="912" idx="7"/>
          </p:cNvCxnSpPr>
          <p:nvPr/>
        </p:nvCxnSpPr>
        <p:spPr>
          <a:xfrm flipH="1" rot="16200000">
            <a:off x="4264920" y="2325960"/>
            <a:ext cx="1800720" cy="2028240"/>
          </a:xfrm>
          <a:prstGeom prst="curvedConnector5">
            <a:avLst>
              <a:gd name="adj1" fmla="val -439"/>
              <a:gd name="adj2" fmla="val 49991"/>
              <a:gd name="adj3" fmla="val -43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6" name="AutoShape 26"/>
          <p:cNvCxnSpPr>
            <a:stCxn id="913" idx="1"/>
            <a:endCxn id="914" idx="1"/>
          </p:cNvCxnSpPr>
          <p:nvPr/>
        </p:nvCxnSpPr>
        <p:spPr>
          <a:xfrm flipV="1" rot="16200000">
            <a:off x="5985720" y="2979000"/>
            <a:ext cx="2521800" cy="1585080"/>
          </a:xfrm>
          <a:prstGeom prst="curvedConnector5">
            <a:avLst>
              <a:gd name="adj1" fmla="val 129711"/>
              <a:gd name="adj2" fmla="val 50000"/>
              <a:gd name="adj3" fmla="val 12971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7" name="Freeform 30"/>
          <p:cNvSpPr/>
          <p:nvPr/>
        </p:nvSpPr>
        <p:spPr>
          <a:xfrm>
            <a:off x="6443640" y="3141720"/>
            <a:ext cx="2089080" cy="215892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16" h="2087">
                <a:moveTo>
                  <a:pt x="0" y="0"/>
                </a:moveTo>
                <a:cubicBezTo>
                  <a:pt x="26" y="128"/>
                  <a:pt x="53" y="257"/>
                  <a:pt x="227" y="317"/>
                </a:cubicBezTo>
                <a:cubicBezTo>
                  <a:pt x="401" y="377"/>
                  <a:pt x="885" y="159"/>
                  <a:pt x="1044" y="363"/>
                </a:cubicBezTo>
                <a:cubicBezTo>
                  <a:pt x="1203" y="567"/>
                  <a:pt x="1316" y="1338"/>
                  <a:pt x="1180" y="1542"/>
                </a:cubicBezTo>
                <a:cubicBezTo>
                  <a:pt x="1044" y="1746"/>
                  <a:pt x="424" y="1497"/>
                  <a:pt x="227" y="1588"/>
                </a:cubicBezTo>
                <a:cubicBezTo>
                  <a:pt x="30" y="1679"/>
                  <a:pt x="15" y="1883"/>
                  <a:pt x="0" y="208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31"/>
          <p:cNvSpPr/>
          <p:nvPr/>
        </p:nvSpPr>
        <p:spPr>
          <a:xfrm>
            <a:off x="6189840" y="4373640"/>
            <a:ext cx="7128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38"/>
          <p:cNvSpPr/>
          <p:nvPr/>
        </p:nvSpPr>
        <p:spPr>
          <a:xfrm>
            <a:off x="6443640" y="5373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1770-B377-469A-8441-B6D33A46A1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35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create classes and instances at all leve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title"/>
          </p:nvPr>
        </p:nvSpPr>
        <p:spPr>
          <a:xfrm>
            <a:off x="468360" y="63792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61128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5"/>
          <p:cNvSpPr/>
          <p:nvPr/>
        </p:nvSpPr>
        <p:spPr>
          <a:xfrm>
            <a:off x="2556000" y="43308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rot: 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7"/>
          <p:cNvSpPr/>
          <p:nvPr/>
        </p:nvSpPr>
        <p:spPr>
          <a:xfrm>
            <a:off x="6877080" y="4724280"/>
            <a:ext cx="1800360" cy="93672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eety (Maca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9"/>
          <p:cNvSpPr/>
          <p:nvPr/>
        </p:nvSpPr>
        <p:spPr>
          <a:xfrm>
            <a:off x="4643280" y="5013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aw: Parr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AutoShape 10"/>
          <p:cNvCxnSpPr>
            <a:stCxn id="925" idx="3"/>
            <a:endCxn id="926" idx="1"/>
          </p:cNvCxnSpPr>
          <p:nvPr/>
        </p:nvCxnSpPr>
        <p:spPr>
          <a:xfrm>
            <a:off x="2195280" y="3933360"/>
            <a:ext cx="36108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AutoShape 11"/>
          <p:cNvCxnSpPr>
            <a:stCxn id="925" idx="3"/>
            <a:endCxn id="931" idx="1"/>
          </p:cNvCxnSpPr>
          <p:nvPr/>
        </p:nvCxnSpPr>
        <p:spPr>
          <a:xfrm flipV="1">
            <a:off x="2195280" y="3069360"/>
            <a:ext cx="36108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AutoShape 13"/>
          <p:cNvCxnSpPr>
            <a:stCxn id="926" idx="3"/>
            <a:endCxn id="928" idx="1"/>
          </p:cNvCxnSpPr>
          <p:nvPr/>
        </p:nvCxnSpPr>
        <p:spPr>
          <a:xfrm>
            <a:off x="4140000" y="4835520"/>
            <a:ext cx="503640" cy="68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3" name="AutoShape 14"/>
          <p:cNvCxnSpPr>
            <a:stCxn id="928" idx="3"/>
            <a:endCxn id="927" idx="1"/>
          </p:cNvCxnSpPr>
          <p:nvPr/>
        </p:nvCxnSpPr>
        <p:spPr>
          <a:xfrm flipV="1">
            <a:off x="6227640" y="5192280"/>
            <a:ext cx="65016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Text Box 16"/>
          <p:cNvSpPr/>
          <p:nvPr/>
        </p:nvSpPr>
        <p:spPr>
          <a:xfrm>
            <a:off x="7021800" y="42670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7"/>
          <p:cNvSpPr/>
          <p:nvPr/>
        </p:nvSpPr>
        <p:spPr>
          <a:xfrm>
            <a:off x="2762280" y="39337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8"/>
          <p:cNvSpPr/>
          <p:nvPr/>
        </p:nvSpPr>
        <p:spPr>
          <a:xfrm>
            <a:off x="2556000" y="2565360"/>
            <a:ext cx="1584360" cy="100800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y (Bi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9"/>
          <p:cNvSpPr/>
          <p:nvPr/>
        </p:nvSpPr>
        <p:spPr>
          <a:xfrm>
            <a:off x="25092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20"/>
          <p:cNvSpPr/>
          <p:nvPr/>
        </p:nvSpPr>
        <p:spPr>
          <a:xfrm>
            <a:off x="4788000" y="350028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co (Parro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8" name="AutoShape 21"/>
          <p:cNvCxnSpPr>
            <a:stCxn id="926" idx="3"/>
            <a:endCxn id="937" idx="1"/>
          </p:cNvCxnSpPr>
          <p:nvPr/>
        </p:nvCxnSpPr>
        <p:spPr>
          <a:xfrm flipV="1">
            <a:off x="4140000" y="4005000"/>
            <a:ext cx="648360" cy="83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FC8E-3143-4795-BD7F-AA2FBF5DF3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95280" y="637920"/>
            <a:ext cx="85694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820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nstructors with argum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the animal kingdom as exampl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4" name="Rectangle 4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5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6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ll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7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: 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do (Coll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9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g Dane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0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lli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1" name="AutoShape 11"/>
          <p:cNvCxnSpPr>
            <a:stCxn id="944" idx="3"/>
            <a:endCxn id="945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AutoShape 12"/>
          <p:cNvCxnSpPr>
            <a:stCxn id="944" idx="3"/>
            <a:endCxn id="947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AutoShape 13"/>
          <p:cNvCxnSpPr>
            <a:stCxn id="945" idx="3"/>
            <a:endCxn id="949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AutoShape 14"/>
          <p:cNvCxnSpPr>
            <a:stCxn id="945" idx="3"/>
            <a:endCxn id="950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5" name="AutoShape 15"/>
          <p:cNvCxnSpPr>
            <a:stCxn id="950" idx="3"/>
            <a:endCxn id="948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6" name="AutoShape 16"/>
          <p:cNvCxnSpPr>
            <a:stCxn id="950" idx="3"/>
            <a:endCxn id="946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Text Box 17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8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9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0"/>
          <p:cNvSpPr/>
          <p:nvPr/>
        </p:nvSpPr>
        <p:spPr>
          <a:xfrm>
            <a:off x="4859280" y="3141720"/>
            <a:ext cx="1944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Dane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13A4-AEFD-4A2C-A76D-3ABAAB69F4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65" name="Picture 13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5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967" name="Text Box 16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18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31"/>
          <p:cNvSpPr/>
          <p:nvPr/>
        </p:nvSpPr>
        <p:spPr>
          <a:xfrm>
            <a:off x="2195640" y="3220920"/>
            <a:ext cx="576000" cy="287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32"/>
          <p:cNvSpPr/>
          <p:nvPr/>
        </p:nvSpPr>
        <p:spPr>
          <a:xfrm>
            <a:off x="5435640" y="2109960"/>
            <a:ext cx="43164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33"/>
          <p:cNvSpPr/>
          <p:nvPr/>
        </p:nvSpPr>
        <p:spPr>
          <a:xfrm>
            <a:off x="6948360" y="3844800"/>
            <a:ext cx="43200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4"/>
          <p:cNvSpPr/>
          <p:nvPr/>
        </p:nvSpPr>
        <p:spPr>
          <a:xfrm>
            <a:off x="324000" y="5084640"/>
            <a:ext cx="4103640" cy="36036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35"/>
          <p:cNvSpPr/>
          <p:nvPr/>
        </p:nvSpPr>
        <p:spPr>
          <a:xfrm>
            <a:off x="2411280" y="1708200"/>
            <a:ext cx="2089440" cy="384120"/>
          </a:xfrm>
          <a:prstGeom prst="leftArrow">
            <a:avLst>
              <a:gd name="adj1" fmla="val 50000"/>
              <a:gd name="adj2" fmla="val 135989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36"/>
          <p:cNvSpPr/>
          <p:nvPr/>
        </p:nvSpPr>
        <p:spPr>
          <a:xfrm rot="3022200">
            <a:off x="4621680" y="2540520"/>
            <a:ext cx="1871640" cy="384120"/>
          </a:xfrm>
          <a:prstGeom prst="leftArrow">
            <a:avLst>
              <a:gd name="adj1" fmla="val 50000"/>
              <a:gd name="adj2" fmla="val 121813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37"/>
          <p:cNvSpPr/>
          <p:nvPr/>
        </p:nvSpPr>
        <p:spPr>
          <a:xfrm flipH="1" rot="20800200">
            <a:off x="3634920" y="3860280"/>
            <a:ext cx="2376720" cy="384480"/>
          </a:xfrm>
          <a:prstGeom prst="leftArrow">
            <a:avLst>
              <a:gd name="adj1" fmla="val 50000"/>
              <a:gd name="adj2" fmla="val 154541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7EE0-08A7-4D3E-BB27-7D7E5F550B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1" name="Text Box 17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17"/>
          <p:cNvSpPr/>
          <p:nvPr/>
        </p:nvSpPr>
        <p:spPr>
          <a:xfrm>
            <a:off x="605880" y="2714760"/>
            <a:ext cx="743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go over this again slowl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CD86-6457-44C5-8B0D-8A1D112F0FE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87" name="Picture 3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989" name="Text Box 5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7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8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9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0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11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12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3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14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15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Oval 16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1" name="AutoShape 17"/>
          <p:cNvCxnSpPr>
            <a:stCxn id="1000" idx="7"/>
            <a:endCxn id="999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2" name="AutoShape 18"/>
          <p:cNvCxnSpPr>
            <a:stCxn id="995" idx="1"/>
            <a:endCxn id="996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3" name="AutoShape 19"/>
          <p:cNvCxnSpPr>
            <a:stCxn id="997" idx="0"/>
            <a:endCxn id="998" idx="0"/>
          </p:cNvCxnSpPr>
          <p:nvPr/>
        </p:nvCxnSpPr>
        <p:spPr>
          <a:xfrm flipV="1" rot="16200000">
            <a:off x="4382640" y="-218520"/>
            <a:ext cx="423000" cy="4998240"/>
          </a:xfrm>
          <a:prstGeom prst="curvedConnector5">
            <a:avLst>
              <a:gd name="adj1" fmla="val 154088"/>
              <a:gd name="adj2" fmla="val 49996"/>
              <a:gd name="adj3" fmla="val 1540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4" name="Straight Arrow Connector 25"/>
          <p:cNvCxnSpPr/>
          <p:nvPr/>
        </p:nvCxnSpPr>
        <p:spPr>
          <a:xfrm flipH="1">
            <a:off x="2069280" y="2428920"/>
            <a:ext cx="252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5" name="Rectangle 26"/>
          <p:cNvSpPr/>
          <p:nvPr/>
        </p:nvSpPr>
        <p:spPr>
          <a:xfrm>
            <a:off x="4500720" y="2857680"/>
            <a:ext cx="78552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6" name="AutoShape 19"/>
          <p:cNvCxnSpPr>
            <a:stCxn id="1005" idx="3"/>
          </p:cNvCxnSpPr>
          <p:nvPr/>
        </p:nvCxnSpPr>
        <p:spPr>
          <a:xfrm>
            <a:off x="5286240" y="3035160"/>
            <a:ext cx="643320" cy="1751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7" name="Rectangle 30"/>
          <p:cNvSpPr/>
          <p:nvPr/>
        </p:nvSpPr>
        <p:spPr>
          <a:xfrm>
            <a:off x="5929200" y="4714920"/>
            <a:ext cx="819360" cy="28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33"/>
          <p:cNvSpPr/>
          <p:nvPr/>
        </p:nvSpPr>
        <p:spPr>
          <a:xfrm>
            <a:off x="1285920" y="2714760"/>
            <a:ext cx="214308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9" name="AutoShape 19"/>
          <p:cNvCxnSpPr>
            <a:endCxn id="1005" idx="1"/>
          </p:cNvCxnSpPr>
          <p:nvPr/>
        </p:nvCxnSpPr>
        <p:spPr>
          <a:xfrm>
            <a:off x="3428640" y="2928600"/>
            <a:ext cx="1072440" cy="106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4D8E-4521-4603-8ED9-7F0D7C489B0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900000" y="1803240"/>
            <a:ext cx="73440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nceals the exact details of how a particular class works from objects that use its co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allow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member there are various access leve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CAE0-56B3-4D2C-B72A-E24D26271D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321840" y="184464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xpose a member you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u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ake it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unction) you must use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:Access public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te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) you must use this statemen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: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yFiel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title"/>
          </p:nvPr>
        </p:nvSpPr>
        <p:spPr>
          <a:xfrm>
            <a:off x="394920" y="549000"/>
            <a:ext cx="8350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64F7-8310-4C3D-AE00-584E41EBBF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250560" y="1630080"/>
            <a:ext cx="331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to the right shows a few fields (vars) and their ac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ccess is the same for methods (fns) and properti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94920" y="49356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25" name="Group 15"/>
          <p:cNvGrpSpPr/>
          <p:nvPr/>
        </p:nvGrpSpPr>
        <p:grpSpPr>
          <a:xfrm>
            <a:off x="3695760" y="1860480"/>
            <a:ext cx="5268960" cy="4232160"/>
            <a:chOff x="3695760" y="1860480"/>
            <a:chExt cx="5268960" cy="4232160"/>
          </a:xfrm>
        </p:grpSpPr>
        <p:pic>
          <p:nvPicPr>
            <p:cNvPr id="1026" name="Picture 4" descr=""/>
            <p:cNvPicPr/>
            <p:nvPr/>
          </p:nvPicPr>
          <p:blipFill>
            <a:blip r:embed="rId1"/>
            <a:stretch/>
          </p:blipFill>
          <p:spPr>
            <a:xfrm>
              <a:off x="3695760" y="1860480"/>
              <a:ext cx="52689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Rectangle 7"/>
            <p:cNvSpPr/>
            <p:nvPr/>
          </p:nvSpPr>
          <p:spPr>
            <a:xfrm>
              <a:off x="4716360" y="3371760"/>
              <a:ext cx="36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8"/>
            <p:cNvSpPr/>
            <p:nvPr/>
          </p:nvSpPr>
          <p:spPr>
            <a:xfrm>
              <a:off x="5508720" y="3589200"/>
              <a:ext cx="3031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9"/>
            <p:cNvSpPr/>
            <p:nvPr/>
          </p:nvSpPr>
          <p:spPr>
            <a:xfrm>
              <a:off x="7308720" y="3805200"/>
              <a:ext cx="36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10"/>
            <p:cNvSpPr/>
            <p:nvPr/>
          </p:nvSpPr>
          <p:spPr>
            <a:xfrm>
              <a:off x="5508720" y="4020840"/>
              <a:ext cx="3031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11"/>
            <p:cNvSpPr/>
            <p:nvPr/>
          </p:nvSpPr>
          <p:spPr>
            <a:xfrm>
              <a:off x="6227640" y="423684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12"/>
            <p:cNvSpPr/>
            <p:nvPr/>
          </p:nvSpPr>
          <p:spPr>
            <a:xfrm>
              <a:off x="6227640" y="4452840"/>
              <a:ext cx="3034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13"/>
            <p:cNvSpPr/>
            <p:nvPr/>
          </p:nvSpPr>
          <p:spPr>
            <a:xfrm>
              <a:off x="6227640" y="466848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14"/>
            <p:cNvSpPr/>
            <p:nvPr/>
          </p:nvSpPr>
          <p:spPr>
            <a:xfrm>
              <a:off x="7913520" y="486540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A6F3-4748-4405-A45D-DAFE8F7BD2A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/>
          </p:nvPr>
        </p:nvSpPr>
        <p:spPr>
          <a:xfrm>
            <a:off x="936720" y="1977840"/>
            <a:ext cx="748800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instance gets a copy of each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membe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is kept in the class for all instances to see (and us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2E97-B79E-48C1-9D9B-0A8A10B8CE5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15960" y="3319560"/>
            <a:ext cx="581328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B064-92AE-4D65-96DA-5D8D5A9AB3F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609120" y="1773000"/>
            <a:ext cx="8210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 keepCou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each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its own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D and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keeps track of the number of instances created private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DDB7-FAE9-417B-A898-55520209927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/>
          </p:nvPr>
        </p:nvSpPr>
        <p:spPr>
          <a:xfrm>
            <a:off x="394920" y="1588680"/>
            <a:ext cx="482436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9" name="Rectangle 4"/>
          <p:cNvSpPr/>
          <p:nvPr/>
        </p:nvSpPr>
        <p:spPr>
          <a:xfrm>
            <a:off x="3562200" y="2565360"/>
            <a:ext cx="194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pCou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←0,1,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yID MyNam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5"/>
          <p:cNvSpPr/>
          <p:nvPr/>
        </p:nvSpPr>
        <p:spPr>
          <a:xfrm>
            <a:off x="1137600" y="246204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Count' rema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6"/>
          <p:cNvSpPr/>
          <p:nvPr/>
        </p:nvSpPr>
        <p:spPr>
          <a:xfrm>
            <a:off x="104292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7"/>
          <p:cNvSpPr/>
          <p:nvPr/>
        </p:nvSpPr>
        <p:spPr>
          <a:xfrm>
            <a:off x="356220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9"/>
          <p:cNvSpPr/>
          <p:nvPr/>
        </p:nvSpPr>
        <p:spPr>
          <a:xfrm>
            <a:off x="5900040" y="303372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memb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reated in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4" name="AutoShape 10"/>
          <p:cNvCxnSpPr>
            <a:stCxn id="1049" idx="2"/>
            <a:endCxn id="1051" idx="0"/>
          </p:cNvCxnSpPr>
          <p:nvPr/>
        </p:nvCxnSpPr>
        <p:spPr>
          <a:xfrm flipH="1">
            <a:off x="2015280" y="3860640"/>
            <a:ext cx="252036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5" name="AutoShape 11"/>
          <p:cNvCxnSpPr>
            <a:stCxn id="1049" idx="2"/>
            <a:endCxn id="1052" idx="0"/>
          </p:cNvCxnSpPr>
          <p:nvPr/>
        </p:nvCxnSpPr>
        <p:spPr>
          <a:xfrm>
            <a:off x="4535280" y="386064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6" name="AutoShape 12"/>
          <p:cNvCxnSpPr>
            <a:stCxn id="1049" idx="2"/>
            <a:endCxn id="1057" idx="0"/>
          </p:cNvCxnSpPr>
          <p:nvPr/>
        </p:nvCxnSpPr>
        <p:spPr>
          <a:xfrm>
            <a:off x="4535280" y="3860640"/>
            <a:ext cx="2523240" cy="64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58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7" name="Rectangle 15"/>
          <p:cNvSpPr/>
          <p:nvPr/>
        </p:nvSpPr>
        <p:spPr>
          <a:xfrm>
            <a:off x="6084720" y="450864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FA7E-D713-4675-B2A4-B2ECEF03B03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446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1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2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3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keepCount.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keepCount.⎕nl-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Count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2.⎕nl-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Count  MyNam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1.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64" name="Group 10"/>
          <p:cNvGrpSpPr/>
          <p:nvPr/>
        </p:nvGrpSpPr>
        <p:grpSpPr>
          <a:xfrm>
            <a:off x="5035680" y="1460520"/>
            <a:ext cx="3929040" cy="4751280"/>
            <a:chOff x="5035680" y="1460520"/>
            <a:chExt cx="3929040" cy="4751280"/>
          </a:xfrm>
        </p:grpSpPr>
        <p:pic>
          <p:nvPicPr>
            <p:cNvPr id="1065" name="Picture 5" descr=""/>
            <p:cNvPicPr/>
            <p:nvPr/>
          </p:nvPicPr>
          <p:blipFill>
            <a:blip r:embed="rId1"/>
            <a:stretch/>
          </p:blipFill>
          <p:spPr>
            <a:xfrm>
              <a:off x="5035680" y="1460520"/>
              <a:ext cx="39290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Rectangle 6"/>
            <p:cNvSpPr/>
            <p:nvPr/>
          </p:nvSpPr>
          <p:spPr>
            <a:xfrm>
              <a:off x="6162840" y="2520720"/>
              <a:ext cx="20160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7"/>
            <p:cNvSpPr/>
            <p:nvPr/>
          </p:nvSpPr>
          <p:spPr>
            <a:xfrm>
              <a:off x="5683320" y="4339800"/>
              <a:ext cx="576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8"/>
            <p:cNvSpPr/>
            <p:nvPr/>
          </p:nvSpPr>
          <p:spPr>
            <a:xfrm>
              <a:off x="6188040" y="3116160"/>
              <a:ext cx="23749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9"/>
            <p:cNvSpPr/>
            <p:nvPr/>
          </p:nvSpPr>
          <p:spPr>
            <a:xfrm>
              <a:off x="5683320" y="4700160"/>
              <a:ext cx="647640" cy="287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2D33-29E2-424B-A526-75DC7E8334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06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PL a function CANNOT have different definitions using a single na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OH, a constructor MAY have severa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nce APL is typeless the only way to tell which function to use is by the NUMBER of arguments, from 0 (niladic) to any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title"/>
          </p:nvPr>
        </p:nvSpPr>
        <p:spPr>
          <a:xfrm>
            <a:off x="144360" y="56664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/>
          </p:nvPr>
        </p:nvSpPr>
        <p:spPr>
          <a:xfrm>
            <a:off x="5363640" y="1483920"/>
            <a:ext cx="302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Class manyCtors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general x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any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can be anythin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nil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no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mon1(a1)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1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MUST be a ve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mon5(a1 a2 a3 a4 a5)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5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MUST be exactly 5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EndClass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5402-3868-4557-B918-2BBBEE334C4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title"/>
          </p:nvPr>
        </p:nvSpPr>
        <p:spPr>
          <a:xfrm>
            <a:off x="144360" y="56664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0" name="Text Box 4"/>
          <p:cNvSpPr/>
          <p:nvPr/>
        </p:nvSpPr>
        <p:spPr>
          <a:xfrm>
            <a:off x="395280" y="1892160"/>
            <a:ext cx="4681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ing on the number of arguments, the proper fn will be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Group 16"/>
          <p:cNvGrpSpPr/>
          <p:nvPr/>
        </p:nvGrpSpPr>
        <p:grpSpPr>
          <a:xfrm>
            <a:off x="5715000" y="1857240"/>
            <a:ext cx="2655720" cy="4214880"/>
            <a:chOff x="5715000" y="1857240"/>
            <a:chExt cx="2655720" cy="4214880"/>
          </a:xfrm>
        </p:grpSpPr>
        <p:sp>
          <p:nvSpPr>
            <p:cNvPr id="1082" name="Rectangle 5"/>
            <p:cNvSpPr/>
            <p:nvPr/>
          </p:nvSpPr>
          <p:spPr>
            <a:xfrm>
              <a:off x="5838840" y="242064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6"/>
            <p:cNvSpPr/>
            <p:nvPr/>
          </p:nvSpPr>
          <p:spPr>
            <a:xfrm>
              <a:off x="5838840" y="332892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7"/>
            <p:cNvSpPr/>
            <p:nvPr/>
          </p:nvSpPr>
          <p:spPr>
            <a:xfrm>
              <a:off x="5838840" y="441792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8"/>
            <p:cNvSpPr/>
            <p:nvPr/>
          </p:nvSpPr>
          <p:spPr>
            <a:xfrm>
              <a:off x="5838840" y="5497560"/>
              <a:ext cx="2377080" cy="2174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"/>
            <p:cNvSpPr/>
            <p:nvPr/>
          </p:nvSpPr>
          <p:spPr>
            <a:xfrm>
              <a:off x="5715000" y="1857240"/>
              <a:ext cx="2643840" cy="421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Straight Connector 13"/>
            <p:cNvSpPr/>
            <p:nvPr/>
          </p:nvSpPr>
          <p:spPr>
            <a:xfrm>
              <a:off x="5715000" y="294804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Straight Connector 14"/>
            <p:cNvSpPr/>
            <p:nvPr/>
          </p:nvSpPr>
          <p:spPr>
            <a:xfrm>
              <a:off x="5715000" y="385740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Straight Connector 15"/>
            <p:cNvSpPr/>
            <p:nvPr/>
          </p:nvSpPr>
          <p:spPr>
            <a:xfrm>
              <a:off x="5726880" y="496764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6614-1CAB-49D8-85F0-F17F740BAEE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follows C# rules clos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to edit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much lik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members (vars &amp; fns) can all be accessed 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makes an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can be based on another on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use constructors to initialize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409C-4FEE-4C67-90FD-481530F3BCA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97128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714240" y="1933560"/>
            <a:ext cx="77868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re are MANY other things related to OO that have been implemented but are out of the scope of this present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find more visit Dyalog’s website a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www.dyalog.com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and grab the free document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D231-A497-48BB-AD48-18879CDAC87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97128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15CD-0211-448D-8264-CDFC1E86B7F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oice of exercis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2" action="ppaction://hlinksldjump"/>
              </a:rPr>
              <a:t>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rs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 formatted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3" action="ppaction://hlinksldjump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raphical objec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lnet cli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0" name="Rectangle 6">
            <a:hlinkClick r:id="rId4" action="ppaction://hlinksldjump"/>
          </p:cNvPr>
          <p:cNvSpPr/>
          <p:nvPr/>
        </p:nvSpPr>
        <p:spPr>
          <a:xfrm>
            <a:off x="6357960" y="5429160"/>
            <a:ext cx="1785960" cy="571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19AA-C552-4789-862C-E4B8848E78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riving from Dyalog GUI clas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esides classes you can write classes derived fro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LE servers/contro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Net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viewed as an ob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24A1-7AFA-4F12-BF36-2B3887D5881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428840" y="3500280"/>
            <a:ext cx="6357960" cy="2675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642960" y="2857680"/>
            <a:ext cx="592920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125C-749A-4390-8247-B2923DFA80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form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('caption' 'zzz')('size'(100 200)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XL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oleclient'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⊂'classname' 'Excel.application'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←'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sent←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System.DateTime.Now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6DF0-9E34-4DA7-A22D-F06CCC1119C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need to write a class that will create a form, just lik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form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('caption' 'zzz')('size'(100 200)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ith 2 buttons already setup for SAVE and QUIT so we can d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myForm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(…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6621-FBE7-40C0-B3F1-668E3E466D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30" name="Picture 2" descr=""/>
          <p:cNvPicPr/>
          <p:nvPr/>
        </p:nvPicPr>
        <p:blipFill>
          <a:blip r:embed="rId1"/>
          <a:stretch/>
        </p:blipFill>
        <p:spPr>
          <a:xfrm>
            <a:off x="1390680" y="1657440"/>
            <a:ext cx="6362640" cy="4629240"/>
          </a:xfrm>
          <a:prstGeom prst="rect">
            <a:avLst/>
          </a:prstGeom>
          <a:ln w="0">
            <a:noFill/>
          </a:ln>
        </p:spPr>
      </p:pic>
      <p:sp>
        <p:nvSpPr>
          <p:cNvPr id="1131" name="Oval 6"/>
          <p:cNvSpPr/>
          <p:nvPr/>
        </p:nvSpPr>
        <p:spPr>
          <a:xfrm>
            <a:off x="4010040" y="3857760"/>
            <a:ext cx="1133640" cy="407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6663-27E2-4A8D-BEB0-5CCC4FBD759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6" name="TextBox 6"/>
          <p:cNvSpPr/>
          <p:nvPr/>
        </p:nvSpPr>
        <p:spPr>
          <a:xfrm>
            <a:off x="627480" y="2000160"/>
            <a:ext cx="76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1←⎕new Dialog(‘pref form' (100 500) ⍬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1714680" y="3071880"/>
            <a:ext cx="5736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D34C-74E8-438F-8D45-88D0A15BEFA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1"/>
          <a:stretch/>
        </p:blipFill>
        <p:spPr>
          <a:xfrm>
            <a:off x="428760" y="2786040"/>
            <a:ext cx="8288280" cy="2857680"/>
          </a:xfrm>
          <a:prstGeom prst="rect">
            <a:avLst/>
          </a:prstGeom>
          <a:ln w="0">
            <a:noFill/>
          </a:ln>
        </p:spPr>
      </p:pic>
      <p:sp>
        <p:nvSpPr>
          <p:cNvPr id="1143" name="TextBox 8"/>
          <p:cNvSpPr/>
          <p:nvPr/>
        </p:nvSpPr>
        <p:spPr>
          <a:xfrm>
            <a:off x="598320" y="1857240"/>
            <a:ext cx="60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lass creates an edit objec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Oval 9"/>
          <p:cNvSpPr/>
          <p:nvPr/>
        </p:nvSpPr>
        <p:spPr>
          <a:xfrm>
            <a:off x="3795840" y="4021200"/>
            <a:ext cx="50004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125C-0687-4E97-9A84-6E029DC975D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49" name="TextBox 6"/>
          <p:cNvSpPr/>
          <p:nvPr/>
        </p:nvSpPr>
        <p:spPr>
          <a:xfrm>
            <a:off x="183960" y="1571760"/>
            <a:ext cx="886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←⎕new Dialog('pref form' (200 3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fn←f1.⎕new EditField ('First name:' '' (10 60) (⍬ 1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ln←f1.⎕new EditField ('Last name:' '' (38 60) (⍬ 1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ad←f1.⎕new EditField ('Address:' '' (66 60) (90 230) (⊂'style' 'multi')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(fn ln ad).Text←'Jeremy' 'Cricket'('TopFlower' 'last field'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Picture 2" descr=""/>
          <p:cNvPicPr/>
          <p:nvPr/>
        </p:nvPicPr>
        <p:blipFill>
          <a:blip r:embed="rId1">
            <a:alphaModFix amt="26000"/>
          </a:blip>
          <a:stretch/>
        </p:blipFill>
        <p:spPr>
          <a:xfrm>
            <a:off x="2286000" y="3360600"/>
            <a:ext cx="471492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C359-E38F-415D-B504-75063D3A3D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an interf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0990-43DB-4324-AFC8-5AD7D1AEE5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2840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Complex nu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rational or “normal number” is a decimal number that can be viewed on the line of “real”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-10                     -5                       0                     </a:t>
            </a:r>
            <a:r>
              <a:rPr b="0" lang="en-GB" sz="2800" spc="-1" strike="noStrike">
                <a:solidFill>
                  <a:srgbClr val="ff0000"/>
                </a:solidFill>
                <a:latin typeface="Geneva"/>
              </a:rPr>
              <a:t>+5.3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 +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61" name="Group 47"/>
          <p:cNvGrpSpPr/>
          <p:nvPr/>
        </p:nvGrpSpPr>
        <p:grpSpPr>
          <a:xfrm>
            <a:off x="785880" y="4925880"/>
            <a:ext cx="7787160" cy="146160"/>
            <a:chOff x="785880" y="4925880"/>
            <a:chExt cx="7787160" cy="146160"/>
          </a:xfrm>
        </p:grpSpPr>
        <p:cxnSp>
          <p:nvCxnSpPr>
            <p:cNvPr id="1162" name="Straight Arrow Connector 7"/>
            <p:cNvCxnSpPr/>
            <p:nvPr/>
          </p:nvCxnSpPr>
          <p:spPr>
            <a:xfrm>
              <a:off x="785880" y="4999680"/>
              <a:ext cx="7787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163" name="Straight Connector 10"/>
            <p:cNvSpPr/>
            <p:nvPr/>
          </p:nvSpPr>
          <p:spPr>
            <a:xfrm flipH="1">
              <a:off x="4642920" y="492876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Straight Connector 11"/>
            <p:cNvSpPr/>
            <p:nvPr/>
          </p:nvSpPr>
          <p:spPr>
            <a:xfrm flipH="1">
              <a:off x="50007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Straight Connector 12"/>
            <p:cNvSpPr/>
            <p:nvPr/>
          </p:nvSpPr>
          <p:spPr>
            <a:xfrm flipH="1">
              <a:off x="53557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Straight Connector 13"/>
            <p:cNvSpPr/>
            <p:nvPr/>
          </p:nvSpPr>
          <p:spPr>
            <a:xfrm flipH="1">
              <a:off x="57135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Straight Connector 14"/>
            <p:cNvSpPr/>
            <p:nvPr/>
          </p:nvSpPr>
          <p:spPr>
            <a:xfrm flipH="1">
              <a:off x="60717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Straight Connector 15"/>
            <p:cNvSpPr/>
            <p:nvPr/>
          </p:nvSpPr>
          <p:spPr>
            <a:xfrm flipH="1">
              <a:off x="64296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Straight Connector 16"/>
            <p:cNvSpPr/>
            <p:nvPr/>
          </p:nvSpPr>
          <p:spPr>
            <a:xfrm flipH="1">
              <a:off x="67845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Straight Connector 17"/>
            <p:cNvSpPr/>
            <p:nvPr/>
          </p:nvSpPr>
          <p:spPr>
            <a:xfrm flipH="1">
              <a:off x="71424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Straight Connector 32"/>
            <p:cNvSpPr/>
            <p:nvPr/>
          </p:nvSpPr>
          <p:spPr>
            <a:xfrm flipH="1">
              <a:off x="17859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Straight Connector 33"/>
            <p:cNvSpPr/>
            <p:nvPr/>
          </p:nvSpPr>
          <p:spPr>
            <a:xfrm flipH="1">
              <a:off x="21438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Straight Connector 34"/>
            <p:cNvSpPr/>
            <p:nvPr/>
          </p:nvSpPr>
          <p:spPr>
            <a:xfrm flipH="1">
              <a:off x="24987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Straight Connector 35"/>
            <p:cNvSpPr/>
            <p:nvPr/>
          </p:nvSpPr>
          <p:spPr>
            <a:xfrm flipH="1">
              <a:off x="28566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Straight Connector 36"/>
            <p:cNvSpPr/>
            <p:nvPr/>
          </p:nvSpPr>
          <p:spPr>
            <a:xfrm flipH="1">
              <a:off x="32148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Straight Connector 37"/>
            <p:cNvSpPr/>
            <p:nvPr/>
          </p:nvSpPr>
          <p:spPr>
            <a:xfrm flipH="1">
              <a:off x="357264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Straight Connector 38"/>
            <p:cNvSpPr/>
            <p:nvPr/>
          </p:nvSpPr>
          <p:spPr>
            <a:xfrm flipH="1">
              <a:off x="39276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Straight Connector 39"/>
            <p:cNvSpPr/>
            <p:nvPr/>
          </p:nvSpPr>
          <p:spPr>
            <a:xfrm flipH="1">
              <a:off x="4285440" y="492588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Straight Connector 40"/>
            <p:cNvSpPr/>
            <p:nvPr/>
          </p:nvSpPr>
          <p:spPr>
            <a:xfrm flipH="1">
              <a:off x="142884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Straight Connector 41"/>
            <p:cNvSpPr/>
            <p:nvPr/>
          </p:nvSpPr>
          <p:spPr>
            <a:xfrm flipH="1">
              <a:off x="75013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42"/>
            <p:cNvSpPr/>
            <p:nvPr/>
          </p:nvSpPr>
          <p:spPr>
            <a:xfrm flipH="1">
              <a:off x="785844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Straight Connector 43"/>
            <p:cNvSpPr/>
            <p:nvPr/>
          </p:nvSpPr>
          <p:spPr>
            <a:xfrm flipH="1">
              <a:off x="82141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Straight Connector 44"/>
            <p:cNvSpPr/>
            <p:nvPr/>
          </p:nvSpPr>
          <p:spPr>
            <a:xfrm flipH="1">
              <a:off x="10713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Oval 48"/>
          <p:cNvSpPr/>
          <p:nvPr/>
        </p:nvSpPr>
        <p:spPr>
          <a:xfrm>
            <a:off x="6429240" y="485784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BA4D-B168-4BB6-8FFC-02A1FB5FCD7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2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285480" y="1671120"/>
            <a:ext cx="37861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omplex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a number in th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plan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2 rational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re used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present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90" name="Group 99"/>
          <p:cNvGrpSpPr/>
          <p:nvPr/>
        </p:nvGrpSpPr>
        <p:grpSpPr>
          <a:xfrm>
            <a:off x="1734120" y="1455480"/>
            <a:ext cx="6338520" cy="5045400"/>
            <a:chOff x="1734120" y="1455480"/>
            <a:chExt cx="6338520" cy="5045400"/>
          </a:xfrm>
        </p:grpSpPr>
        <p:grpSp>
          <p:nvGrpSpPr>
            <p:cNvPr id="1191" name="Group 28"/>
            <p:cNvGrpSpPr/>
            <p:nvPr/>
          </p:nvGrpSpPr>
          <p:grpSpPr>
            <a:xfrm>
              <a:off x="2143080" y="5315400"/>
              <a:ext cx="5929560" cy="142560"/>
              <a:chOff x="2143080" y="5315400"/>
              <a:chExt cx="5929560" cy="142560"/>
            </a:xfrm>
          </p:grpSpPr>
          <p:cxnSp>
            <p:nvCxnSpPr>
              <p:cNvPr id="1192" name="Straight Arrow Connector 29"/>
              <p:cNvCxnSpPr/>
              <p:nvPr/>
            </p:nvCxnSpPr>
            <p:spPr>
              <a:xfrm>
                <a:off x="2143080" y="5387400"/>
                <a:ext cx="5929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193" name="Straight Connector 30"/>
              <p:cNvSpPr/>
              <p:nvPr/>
            </p:nvSpPr>
            <p:spPr>
              <a:xfrm flipH="1">
                <a:off x="5079600" y="531828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Straight Connector 31"/>
              <p:cNvSpPr/>
              <p:nvPr/>
            </p:nvSpPr>
            <p:spPr>
              <a:xfrm flipH="1">
                <a:off x="53521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Straight Connector 45"/>
              <p:cNvSpPr/>
              <p:nvPr/>
            </p:nvSpPr>
            <p:spPr>
              <a:xfrm flipH="1">
                <a:off x="562248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Straight Connector 46"/>
              <p:cNvSpPr/>
              <p:nvPr/>
            </p:nvSpPr>
            <p:spPr>
              <a:xfrm flipH="1">
                <a:off x="58950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Straight Connector 47"/>
              <p:cNvSpPr/>
              <p:nvPr/>
            </p:nvSpPr>
            <p:spPr>
              <a:xfrm flipH="1">
                <a:off x="61675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Straight Connector 48"/>
              <p:cNvSpPr/>
              <p:nvPr/>
            </p:nvSpPr>
            <p:spPr>
              <a:xfrm flipH="1">
                <a:off x="64400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Straight Connector 49"/>
              <p:cNvSpPr/>
              <p:nvPr/>
            </p:nvSpPr>
            <p:spPr>
              <a:xfrm flipH="1">
                <a:off x="67104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Straight Connector 50"/>
              <p:cNvSpPr/>
              <p:nvPr/>
            </p:nvSpPr>
            <p:spPr>
              <a:xfrm flipH="1">
                <a:off x="69829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Straight Connector 51"/>
              <p:cNvSpPr/>
              <p:nvPr/>
            </p:nvSpPr>
            <p:spPr>
              <a:xfrm flipH="1">
                <a:off x="29041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Straight Connector 52"/>
              <p:cNvSpPr/>
              <p:nvPr/>
            </p:nvSpPr>
            <p:spPr>
              <a:xfrm flipH="1">
                <a:off x="31766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Straight Connector 53"/>
              <p:cNvSpPr/>
              <p:nvPr/>
            </p:nvSpPr>
            <p:spPr>
              <a:xfrm flipH="1">
                <a:off x="34470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Straight Connector 54"/>
              <p:cNvSpPr/>
              <p:nvPr/>
            </p:nvSpPr>
            <p:spPr>
              <a:xfrm flipH="1">
                <a:off x="37195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Straight Connector 55"/>
              <p:cNvSpPr/>
              <p:nvPr/>
            </p:nvSpPr>
            <p:spPr>
              <a:xfrm flipH="1">
                <a:off x="39920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Straight Connector 56"/>
              <p:cNvSpPr/>
              <p:nvPr/>
            </p:nvSpPr>
            <p:spPr>
              <a:xfrm flipH="1">
                <a:off x="426456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Straight Connector 57"/>
              <p:cNvSpPr/>
              <p:nvPr/>
            </p:nvSpPr>
            <p:spPr>
              <a:xfrm flipH="1">
                <a:off x="45349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Straight Connector 58"/>
              <p:cNvSpPr/>
              <p:nvPr/>
            </p:nvSpPr>
            <p:spPr>
              <a:xfrm flipH="1">
                <a:off x="4807440" y="531540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Straight Connector 59"/>
              <p:cNvSpPr/>
              <p:nvPr/>
            </p:nvSpPr>
            <p:spPr>
              <a:xfrm flipH="1">
                <a:off x="26319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Straight Connector 60"/>
              <p:cNvSpPr/>
              <p:nvPr/>
            </p:nvSpPr>
            <p:spPr>
              <a:xfrm flipH="1">
                <a:off x="72561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Straight Connector 61"/>
              <p:cNvSpPr/>
              <p:nvPr/>
            </p:nvSpPr>
            <p:spPr>
              <a:xfrm flipH="1">
                <a:off x="75279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Straight Connector 62"/>
              <p:cNvSpPr/>
              <p:nvPr/>
            </p:nvSpPr>
            <p:spPr>
              <a:xfrm flipH="1">
                <a:off x="779904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Straight Connector 63"/>
              <p:cNvSpPr/>
              <p:nvPr/>
            </p:nvSpPr>
            <p:spPr>
              <a:xfrm flipH="1">
                <a:off x="23601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Group 64"/>
            <p:cNvGrpSpPr/>
            <p:nvPr/>
          </p:nvGrpSpPr>
          <p:grpSpPr>
            <a:xfrm>
              <a:off x="4439880" y="1455480"/>
              <a:ext cx="189360" cy="5045400"/>
              <a:chOff x="4439880" y="1455480"/>
              <a:chExt cx="189360" cy="5045400"/>
            </a:xfrm>
          </p:grpSpPr>
          <p:cxnSp>
            <p:nvCxnSpPr>
              <p:cNvPr id="1215" name="Straight Arrow Connector 65"/>
              <p:cNvCxnSpPr/>
              <p:nvPr/>
            </p:nvCxnSpPr>
            <p:spPr>
              <a:xfrm flipV="1">
                <a:off x="4535280" y="1455480"/>
                <a:ext cx="2520" cy="5045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216" name="Straight Connector 66"/>
              <p:cNvSpPr/>
              <p:nvPr/>
            </p:nvSpPr>
            <p:spPr>
              <a:xfrm>
                <a:off x="4443840" y="40014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Straight Connector 67"/>
              <p:cNvSpPr/>
              <p:nvPr/>
            </p:nvSpPr>
            <p:spPr>
              <a:xfrm>
                <a:off x="4442760" y="37692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Straight Connector 68"/>
              <p:cNvSpPr/>
              <p:nvPr/>
            </p:nvSpPr>
            <p:spPr>
              <a:xfrm>
                <a:off x="4442760" y="35395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Straight Connector 69"/>
              <p:cNvSpPr/>
              <p:nvPr/>
            </p:nvSpPr>
            <p:spPr>
              <a:xfrm>
                <a:off x="4441680" y="3307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Straight Connector 70"/>
              <p:cNvSpPr/>
              <p:nvPr/>
            </p:nvSpPr>
            <p:spPr>
              <a:xfrm>
                <a:off x="4442760" y="30754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Straight Connector 71"/>
              <p:cNvSpPr/>
              <p:nvPr/>
            </p:nvSpPr>
            <p:spPr>
              <a:xfrm>
                <a:off x="4441680" y="28436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Straight Connector 72"/>
              <p:cNvSpPr/>
              <p:nvPr/>
            </p:nvSpPr>
            <p:spPr>
              <a:xfrm>
                <a:off x="4441680" y="26136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Straight Connector 73"/>
              <p:cNvSpPr/>
              <p:nvPr/>
            </p:nvSpPr>
            <p:spPr>
              <a:xfrm>
                <a:off x="4440600" y="23817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Straight Connector 74"/>
              <p:cNvSpPr/>
              <p:nvPr/>
            </p:nvSpPr>
            <p:spPr>
              <a:xfrm>
                <a:off x="4442760" y="58521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Straight Connector 75"/>
              <p:cNvSpPr/>
              <p:nvPr/>
            </p:nvSpPr>
            <p:spPr>
              <a:xfrm>
                <a:off x="4441680" y="5620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Straight Connector 76"/>
              <p:cNvSpPr/>
              <p:nvPr/>
            </p:nvSpPr>
            <p:spPr>
              <a:xfrm>
                <a:off x="4441680" y="53902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Straight Connector 77"/>
              <p:cNvSpPr/>
              <p:nvPr/>
            </p:nvSpPr>
            <p:spPr>
              <a:xfrm>
                <a:off x="4440600" y="51584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Straight Connector 78"/>
              <p:cNvSpPr/>
              <p:nvPr/>
            </p:nvSpPr>
            <p:spPr>
              <a:xfrm>
                <a:off x="4441680" y="49266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Straight Connector 79"/>
              <p:cNvSpPr/>
              <p:nvPr/>
            </p:nvSpPr>
            <p:spPr>
              <a:xfrm>
                <a:off x="4440600" y="46947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Straight Connector 80"/>
              <p:cNvSpPr/>
              <p:nvPr/>
            </p:nvSpPr>
            <p:spPr>
              <a:xfrm>
                <a:off x="4440600" y="44647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Straight Connector 81"/>
              <p:cNvSpPr/>
              <p:nvPr/>
            </p:nvSpPr>
            <p:spPr>
              <a:xfrm>
                <a:off x="4439880" y="42328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Straight Connector 82"/>
              <p:cNvSpPr/>
              <p:nvPr/>
            </p:nvSpPr>
            <p:spPr>
              <a:xfrm>
                <a:off x="4442760" y="60836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Straight Connector 83"/>
              <p:cNvSpPr/>
              <p:nvPr/>
            </p:nvSpPr>
            <p:spPr>
              <a:xfrm>
                <a:off x="4442760" y="21492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Straight Connector 84"/>
              <p:cNvSpPr/>
              <p:nvPr/>
            </p:nvSpPr>
            <p:spPr>
              <a:xfrm>
                <a:off x="4442760" y="19177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Straight Connector 85"/>
              <p:cNvSpPr/>
              <p:nvPr/>
            </p:nvSpPr>
            <p:spPr>
              <a:xfrm>
                <a:off x="4442760" y="1687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Straight Connector 86"/>
              <p:cNvSpPr/>
              <p:nvPr/>
            </p:nvSpPr>
            <p:spPr>
              <a:xfrm>
                <a:off x="4442760" y="63151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TextBox 87"/>
            <p:cNvSpPr/>
            <p:nvPr/>
          </p:nvSpPr>
          <p:spPr>
            <a:xfrm>
              <a:off x="1734120" y="5600880"/>
              <a:ext cx="633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-4                   -2                    0                   +2                  +4                  +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Box 88"/>
            <p:cNvSpPr/>
            <p:nvPr/>
          </p:nvSpPr>
          <p:spPr>
            <a:xfrm>
              <a:off x="3931200" y="431496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Box 89"/>
            <p:cNvSpPr/>
            <p:nvPr/>
          </p:nvSpPr>
          <p:spPr>
            <a:xfrm>
              <a:off x="3971520" y="338616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TextBox 90"/>
            <p:cNvSpPr/>
            <p:nvPr/>
          </p:nvSpPr>
          <p:spPr>
            <a:xfrm>
              <a:off x="3971520" y="245700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Straight Connector 92"/>
            <p:cNvSpPr/>
            <p:nvPr/>
          </p:nvSpPr>
          <p:spPr>
            <a:xfrm flipV="1">
              <a:off x="6164280" y="2814840"/>
              <a:ext cx="1440" cy="292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Straight Connector 94"/>
            <p:cNvSpPr/>
            <p:nvPr/>
          </p:nvSpPr>
          <p:spPr>
            <a:xfrm flipH="1" flipV="1">
              <a:off x="3999960" y="3538800"/>
              <a:ext cx="25714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97"/>
            <p:cNvSpPr/>
            <p:nvPr/>
          </p:nvSpPr>
          <p:spPr>
            <a:xfrm>
              <a:off x="6019920" y="3405240"/>
              <a:ext cx="285480" cy="285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TextBox 98"/>
          <p:cNvSpPr/>
          <p:nvPr/>
        </p:nvSpPr>
        <p:spPr>
          <a:xfrm>
            <a:off x="5871600" y="19573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 3J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87C3-1759-45B7-BEE9-F9750095A51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will contain 2 real numbers and 3 methods to perform Add, Multiply and return the Reciprocal of a complex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642680"/>
            <a:ext cx="76723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serve as base and be copied into another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4A35-D941-492A-A4CB-289097B2539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143000" y="3571920"/>
            <a:ext cx="2071800" cy="25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7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sUt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3500280" y="378612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COPY  Files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9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sUt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642960" y="2214720"/>
            <a:ext cx="7643880" cy="1071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833 L -0.5382 0.16123 E">
                                      <p:cBhvr>
                                        <p:cTn id="3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6287-F547-487D-85C6-F537378CD3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thods to perform Add and Multiply will b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in the class) methods and the Reciprocal will be an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670D-9B04-4CF8-AE3C-F3BE5B4E51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 =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,  where i = ¯1 * 0.5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gineers use the J notation,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j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4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enote the complex number with a real value of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an imaginary value of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4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0A3E-B736-4EBE-8B8E-6144B4372E7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ddition of 2 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1 + C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1+a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+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1+b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12BB-A841-4A9B-A404-A4FFF03975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82072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ication of 2 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2         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=(a1×a2) + (b1i × b2i) + (a1×b2i) + (b1i×a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((a1×a2) - (b1 × b2))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((a1×b2) + (b1×a2))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270" name="Group 9"/>
          <p:cNvGrpSpPr/>
          <p:nvPr/>
        </p:nvGrpSpPr>
        <p:grpSpPr>
          <a:xfrm>
            <a:off x="2700360" y="3518280"/>
            <a:ext cx="1295280" cy="705240"/>
            <a:chOff x="2700360" y="3518280"/>
            <a:chExt cx="1295280" cy="705240"/>
          </a:xfrm>
        </p:grpSpPr>
        <p:sp>
          <p:nvSpPr>
            <p:cNvPr id="1271" name="AutoShape 5"/>
            <p:cNvSpPr/>
            <p:nvPr/>
          </p:nvSpPr>
          <p:spPr>
            <a:xfrm rot="5400000">
              <a:off x="2541600" y="3730320"/>
              <a:ext cx="565200" cy="247680"/>
            </a:xfrm>
            <a:prstGeom prst="rightArrow">
              <a:avLst>
                <a:gd name="adj1" fmla="val 50000"/>
                <a:gd name="adj2" fmla="val 57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AutoShape 6"/>
            <p:cNvSpPr/>
            <p:nvPr/>
          </p:nvSpPr>
          <p:spPr>
            <a:xfrm rot="5400000">
              <a:off x="3589200" y="3741480"/>
              <a:ext cx="565200" cy="247680"/>
            </a:xfrm>
            <a:prstGeom prst="rightArrow">
              <a:avLst>
                <a:gd name="adj1" fmla="val 50000"/>
                <a:gd name="adj2" fmla="val 57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AutoShape 7"/>
            <p:cNvSpPr/>
            <p:nvPr/>
          </p:nvSpPr>
          <p:spPr>
            <a:xfrm rot="2700000">
              <a:off x="3012840" y="3736800"/>
              <a:ext cx="720720" cy="247680"/>
            </a:xfrm>
            <a:prstGeom prst="rightArrow">
              <a:avLst>
                <a:gd name="adj1" fmla="val 50000"/>
                <a:gd name="adj2" fmla="val 7274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8"/>
            <p:cNvSpPr/>
            <p:nvPr/>
          </p:nvSpPr>
          <p:spPr>
            <a:xfrm rot="8100000">
              <a:off x="2963520" y="3756960"/>
              <a:ext cx="720720" cy="247680"/>
            </a:xfrm>
            <a:prstGeom prst="rightArrow">
              <a:avLst>
                <a:gd name="adj1" fmla="val 50000"/>
                <a:gd name="adj2" fmla="val 7274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281A-AE27-45CE-A93F-46741FEBFDE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iprocal of a complex number is 1÷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ch that        C × R = 1 =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0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eal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((a1×a2) - (b1 × b2))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img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((a1×b2) + (b1×a2))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lv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a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 Ca÷((Ca×Ca)-(Cb×Cb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Rb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-Cb÷((Ca×Ca)-(Cb×Cb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CA82-105A-4768-83BE-6E8707ECF9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hing to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comple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85" name="Picture 4" descr=""/>
          <p:cNvPicPr/>
          <p:nvPr/>
        </p:nvPicPr>
        <p:blipFill>
          <a:blip r:embed="rId1"/>
          <a:stretch/>
        </p:blipFill>
        <p:spPr>
          <a:xfrm>
            <a:off x="2195640" y="3362400"/>
            <a:ext cx="43923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9AB8-4545-43BF-B758-27D570017D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field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91" name="Picture 5" descr=""/>
          <p:cNvPicPr/>
          <p:nvPr/>
        </p:nvPicPr>
        <p:blipFill>
          <a:blip r:embed="rId1"/>
          <a:stretch/>
        </p:blipFill>
        <p:spPr>
          <a:xfrm>
            <a:off x="1979640" y="2844720"/>
            <a:ext cx="482436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A3A0-EF8E-471A-A9FE-1DB1DE181F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constructor, it takes 2 numbers as arguments, it merely sets the 2 field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97" name="Picture 6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52560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DF3C-36F0-44E2-A7EA-A0AA71E4188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←⎕NEW complex (3,4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re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ase creation of complex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j←{⎕new complex (⍺ ⍵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2←5 j 1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2.im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0FEE-D203-4BD9-86E7-E12F778802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yping c1 does not provide useful inform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 would be nice if we could find what the numbers are without having to 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(real img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viewed as an ob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serve as base and be copied into another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modifi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11AA-DB7D-4411-B1FD-47D512310F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42960" y="5572080"/>
            <a:ext cx="4214880" cy="5716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D25E-E410-4472-AD4E-CC90F964FF3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isplay form can be improv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to show a different string, e.g. 3J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 ⎕DF '3J4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or whatev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ncluding the setting in the construc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E78B-A04D-41E3-AD8E-FBAB6103B7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ignment does not change the disp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img←2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verify that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c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the same display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properties to change th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2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DF to change the display in the &lt;set&gt;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4453-30A6-4CE1-9894-0DB6F5123A6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first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23" name="Picture 6" descr=""/>
          <p:cNvPicPr/>
          <p:nvPr/>
        </p:nvPicPr>
        <p:blipFill>
          <a:blip r:embed="rId1"/>
          <a:stretch/>
        </p:blipFill>
        <p:spPr>
          <a:xfrm>
            <a:off x="2124000" y="2847960"/>
            <a:ext cx="45356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B51B-2F58-44FB-8ABC-0E016BB7D3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s←c1  complex.plus  c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.real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4752-9352-4C38-B005-600AF8A476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34" name="Picture 4" descr=""/>
          <p:cNvPicPr/>
          <p:nvPr/>
        </p:nvPicPr>
        <p:blipFill>
          <a:blip r:embed="rId1"/>
          <a:stretch/>
        </p:blipFill>
        <p:spPr>
          <a:xfrm>
            <a:off x="1763640" y="2954160"/>
            <a:ext cx="547236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FBED-8504-4475-9421-EFFF7F016F5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t←c1  complex.times  c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t.real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0291-1B1F-40C7-9F0F-09780E464E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eciprocal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45" name="Picture 5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1130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1C85-23D7-4F44-8BEA-9C4AC3016DE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omplex.plus/4⍴c1 ⍝ if funny display, us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←{⍵.(real  img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plus/4⍴c1     ⍝ 12 16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times\3⍴c1   ⍝ 3 4  ¯7 24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plus/c1 complex.times¨4⍴c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AAB6-9735-4D44-8BBE-5433D2885F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 ÷ c1   or   c1 × ÷c1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1 complex.times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2 complex.times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2.52   0.64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FBA5-FD33-41EE-8CB2-67C038AA0C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functions (magnitude?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cept a single (real)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(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84DB-19E2-4D06-A73F-AB48E8D79B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3571920"/>
            <a:ext cx="2071800" cy="25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ounded Rectangle 7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3500280" y="378612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COPY  Files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9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2.41962E-006 L -0.54132 0.21582 E">
                                      <p:cBhvr>
                                        <p:cTn id="48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C69D-DED9-4283-B1A4-BBC3693870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 with 2 integers representing fr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Numerator &amp; a Denomina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.:  3 / 7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th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508E-9BBF-4C0C-A757-669650C732E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will contain 2 integer numbers and 3 methods to perform Add, Multiply and return the Reciprocal of a pair of simple numbers representing a f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A79F-457E-435D-AD7F-B34B1DEE81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thods to perform Add and Multiply will b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in the class) methods and the Reciprocal will be an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4E5F-6C2E-4B71-9733-27A5BCF7F6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number will be call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number will be call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will be stored in a vector (2 elem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will be two properties to access them individu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2D6E-7356-4EBA-876A-C8FD67D7091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858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ddition of 2 simple numbers (fraction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1 + S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n1 x d2 + n2 x d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d1 x d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ication of 2 simple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1 x S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n1 x n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d1 x d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iprocal of a simple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÷S1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d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n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6100-495F-45AE-AAB7-544C3C821E6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hing to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simp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91" name="Picture 2" descr=""/>
          <p:cNvPicPr/>
          <p:nvPr/>
        </p:nvPicPr>
        <p:blipFill>
          <a:blip r:embed="rId1"/>
          <a:stretch/>
        </p:blipFill>
        <p:spPr>
          <a:xfrm>
            <a:off x="2571840" y="3286080"/>
            <a:ext cx="407196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BDF2-5CE1-4121-B5DE-8E10F708EF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97" name="Picture 2" descr=""/>
          <p:cNvPicPr/>
          <p:nvPr/>
        </p:nvPicPr>
        <p:blipFill>
          <a:blip r:embed="rId1"/>
          <a:stretch/>
        </p:blipFill>
        <p:spPr>
          <a:xfrm>
            <a:off x="2500200" y="2857680"/>
            <a:ext cx="44370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0699-FC6D-4523-B2D3-3B9B49DE60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constructor, it takes 2 numbers as arguments, it merely sets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03" name="Picture 2" descr=""/>
          <p:cNvPicPr/>
          <p:nvPr/>
        </p:nvPicPr>
        <p:blipFill>
          <a:blip r:embed="rId1"/>
          <a:stretch/>
        </p:blipFill>
        <p:spPr>
          <a:xfrm>
            <a:off x="2643120" y="2928960"/>
            <a:ext cx="44290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8F69-CFFF-4346-BDE8-12AEEE9387D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t this point the class does not do anythin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umbers’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s private and cannot be accessed from outsi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Let’s create properties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A99F-C3AC-4BA4-893B-113A1034D97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properties, they take 1 number to set a value in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14" name="Picture 2" descr=""/>
          <p:cNvPicPr/>
          <p:nvPr/>
        </p:nvPicPr>
        <p:blipFill>
          <a:blip r:embed="rId1"/>
          <a:stretch/>
        </p:blipFill>
        <p:spPr>
          <a:xfrm>
            <a:off x="2000160" y="2906640"/>
            <a:ext cx="5072040" cy="3094200"/>
          </a:xfrm>
          <a:prstGeom prst="rect">
            <a:avLst/>
          </a:prstGeom>
          <a:ln w="0">
            <a:noFill/>
          </a:ln>
        </p:spPr>
      </p:pic>
      <p:sp>
        <p:nvSpPr>
          <p:cNvPr id="1415" name="Rectangle 7"/>
          <p:cNvSpPr/>
          <p:nvPr/>
        </p:nvSpPr>
        <p:spPr>
          <a:xfrm>
            <a:off x="4062240" y="3684600"/>
            <a:ext cx="2858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(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not be stored as a unit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ly 1 workspace item (variable or function) per component in APL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ed to cleanup when finish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5C8F-8D1C-4BF0-AF46-32802CC1FC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242F-C030-4DCC-AAB8-1E2114125B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←⎕NEW simple(3,4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ase creation of simple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←{⎕new simple (⍺ ⍵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2←5 s 1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2.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 txBox="1"/>
          <p:nvPr/>
        </p:nvSpPr>
        <p:spPr>
          <a:xfrm>
            <a:off x="685800" y="19807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enter the second property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89AC-26EB-4CF8-89B6-F8B5DB4EF7E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6" name="Picture 9" descr=""/>
          <p:cNvPicPr/>
          <p:nvPr/>
        </p:nvPicPr>
        <p:blipFill>
          <a:blip r:embed="rId1"/>
          <a:stretch/>
        </p:blipFill>
        <p:spPr>
          <a:xfrm>
            <a:off x="1500120" y="2786040"/>
            <a:ext cx="61437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693E-A69C-4538-B87C-ED834DD7AD8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yping s1 does not provide useful inform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 would be nice if we could find what the numbers are without having to 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(N  D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4A65-FAF5-4063-B5E7-C13A2E4D4BA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isplay form can be improv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to show a different string, e.g. 3/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 ⎕DF '3/4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ncluding the setting in the construc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3D2A-3DD8-4020-A9C5-A350DE9647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ignment does not change the disp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N←2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verify that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s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the same display form it had bef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properties’ code to change th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⎕DF to change the display in the &lt;set&gt;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6357-C49D-4A5F-9554-68E1EF3528C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first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47" name="Picture 8" descr=""/>
          <p:cNvPicPr/>
          <p:nvPr/>
        </p:nvPicPr>
        <p:blipFill>
          <a:blip r:embed="rId1"/>
          <a:stretch/>
        </p:blipFill>
        <p:spPr>
          <a:xfrm>
            <a:off x="2143080" y="2705040"/>
            <a:ext cx="478620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AE8F-F2E3-4816-B8E7-3EB96C3E4DE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s←s1  simple.plus  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.N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BC02-23FA-4C87-9B2A-D4F1ED6078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ethod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58" name="Picture 8" descr=""/>
          <p:cNvPicPr/>
          <p:nvPr/>
        </p:nvPicPr>
        <p:blipFill>
          <a:blip r:embed="rId1"/>
          <a:stretch/>
        </p:blipFill>
        <p:spPr>
          <a:xfrm>
            <a:off x="1785960" y="2714760"/>
            <a:ext cx="5500800" cy="32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66B2-6577-41C2-B3D2-ADADE649C6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t←s1  simple.times  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t.N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196A-612F-4FD1-95BA-38C2611CF41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eciprocal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69" name="Picture 8" descr=""/>
          <p:cNvPicPr/>
          <p:nvPr/>
        </p:nvPicPr>
        <p:blipFill>
          <a:blip r:embed="rId1"/>
          <a:stretch/>
        </p:blipFill>
        <p:spPr>
          <a:xfrm>
            <a:off x="1857240" y="2786040"/>
            <a:ext cx="542952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(solution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ackag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over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roup items (vars &amp; fns) togeth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ct as a (static) un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stored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copied, like wss, into existing code and dispersed in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A766-C98E-4ADA-9D48-947D3BB0CDF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967D-781D-4704-B856-3C0DD8A86D3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imple.plus/4⍴s1 ⍝ if funny display, us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←{⍵.(N ‘/’ D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plus/4⍴s1     ⍝ 22/1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times\3⍴s1   ⍝ 11/2 121/4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plus/s1 simple.times¨4⍴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2766-49E1-4020-9C95-F383EEFEC17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 ÷ s1   or   s1 × ÷s1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1 simple.times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2 simple.times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5/66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38CD-B6E4-46F8-8B08-9A95930AD9A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functions (square, abs?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cept a single (real)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this into a complex number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1D24-6789-40AC-948E-0ADF5B4FB35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/>
          </p:nvPr>
        </p:nvSpPr>
        <p:spPr>
          <a:xfrm>
            <a:off x="610920" y="187632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e of modif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duced maintenance cos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an speed up development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CE6F-2EBA-4008-AF86-C33F27B42C7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O languages make abstraction eas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encourage architectures with elaborate layers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67E9-8EE8-4486-AB4A-BA1228A82F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/>
          </p:nvPr>
        </p:nvSpPr>
        <p:spPr>
          <a:xfrm>
            <a:off x="250560" y="191736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F5D6-1642-4AB1-BA3A-0C8EA917CE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4582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D7CE-3BEC-4DCF-8F28-6FC6DC04D85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/>
          </p:nvPr>
        </p:nvSpPr>
        <p:spPr>
          <a:xfrm>
            <a:off x="3059280" y="3610080"/>
            <a:ext cx="345744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uyer bewar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– pack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were only a partial solution to a more general probl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still happen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ean up was still need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CD9E-509D-45E6-8AE0-3F8E7A75021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– name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80s a Dyalog came up with the concept of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amespa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probably from other languages like C++ and Jav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s are like workspaces but nes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FCDE-5519-4ED0-95EF-D0519BEC81C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B8AE-CA05-41F0-8F7D-50733A317E6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3068640"/>
            <a:ext cx="813420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Geneva"/>
              </a:rPr>
              <a:t>Object Orientation</a:t>
            </a:r>
            <a:endParaRPr b="0" lang="en-US" sz="4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258920" y="171468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V11 was released in 200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jor features wa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14240" y="16426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S V1.0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V1.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1,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ar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2.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n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bc.dw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ar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te.t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unction_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do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lat structure for files and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EDC5-C47F-490B-AF08-9EA42208D58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286160" y="2286000"/>
            <a:ext cx="2286000" cy="30002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642960" y="2286000"/>
            <a:ext cx="2286000" cy="30002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70344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S V2.0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V8.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ir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s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2.ex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ar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bc.dws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ar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ote.tx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unction_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older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amespace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Etc.doc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n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ubf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ub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n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x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pb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ch.log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bjxv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ee (nested) structu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ED3B-CB8D-4ABC-9DBA-9382A44BE0F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4357800" y="2143080"/>
            <a:ext cx="2643120" cy="3714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714240" y="2143080"/>
            <a:ext cx="2643480" cy="3714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429080" y="2193840"/>
            <a:ext cx="1571760" cy="100008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776160" y="2184480"/>
            <a:ext cx="1571760" cy="100008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5286240" y="4357800"/>
            <a:ext cx="1490760" cy="1041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1071720" y="4357800"/>
            <a:ext cx="1490400" cy="10713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429080" y="3643200"/>
            <a:ext cx="2428920" cy="18129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765000" y="3602160"/>
            <a:ext cx="2021040" cy="18777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99680" y="1500120"/>
            <a:ext cx="83581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namespace is similar to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contains functions, variables (including some system variabl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can contain an entire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acts as a unit: it can be put as a single item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ynam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it can be moved into to execute code, no need to disperse conte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ADE4-8EFC-45BD-9EF7-4657FADC0A8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85840" y="1690560"/>
            <a:ext cx="885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namespace is similar to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ike a workspace, if you need to tweak one you take a copy and modify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orkspace: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ame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myApp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ewApp&lt;-[]NS []OR ’myApp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&lt;-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ewApp.A&lt;-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 newApp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5793-33D6-4686-84DD-3C1A201ECD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99680" y="1619280"/>
            <a:ext cx="8286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Reusabilit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one of the key conce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a template you create a new version possibly modifying it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1 namespace      many possibly different ver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B7BF-6DEC-4F83-AB2E-5CD6D58B61C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Right Arrow 7"/>
          <p:cNvSpPr/>
          <p:nvPr/>
        </p:nvSpPr>
        <p:spPr>
          <a:xfrm>
            <a:off x="3124080" y="402912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99680" y="1619280"/>
            <a:ext cx="8286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very much like namespa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a class you create a new version possibly modifying it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1 class      many possibly different ver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C371-9003-4031-9B89-8D68B71E60C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0" name="Right Arrow 7"/>
          <p:cNvSpPr/>
          <p:nvPr/>
        </p:nvSpPr>
        <p:spPr>
          <a:xfrm>
            <a:off x="1928880" y="4024440"/>
            <a:ext cx="428400" cy="28548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O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Net is based on namespaces and supports many OO concep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APL is based on namespaces and supports many OO concepts.</a:t>
            </a: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well hand in hand toge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2C38-0462-49C0-9659-26BB3619F4F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840D-F68B-43CF-9B61-06B3B57732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Dyalo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000" y="1588680"/>
            <a:ext cx="838836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not new! The ability to us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create classes was already in V10 but it was more difficult to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51" name="Group 8"/>
          <p:cNvGrpSpPr/>
          <p:nvPr/>
        </p:nvGrpSpPr>
        <p:grpSpPr>
          <a:xfrm>
            <a:off x="250920" y="3200400"/>
            <a:ext cx="8713800" cy="3036960"/>
            <a:chOff x="250920" y="3200400"/>
            <a:chExt cx="8713800" cy="3036960"/>
          </a:xfrm>
        </p:grpSpPr>
        <p:pic>
          <p:nvPicPr>
            <p:cNvPr id="252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3200400"/>
              <a:ext cx="291456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6" descr=""/>
            <p:cNvPicPr/>
            <p:nvPr/>
          </p:nvPicPr>
          <p:blipFill>
            <a:blip r:embed="rId2"/>
            <a:stretch/>
          </p:blipFill>
          <p:spPr>
            <a:xfrm>
              <a:off x="3316320" y="3200400"/>
              <a:ext cx="2192400" cy="30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7" descr=""/>
            <p:cNvPicPr/>
            <p:nvPr/>
          </p:nvPicPr>
          <p:blipFill>
            <a:blip r:embed="rId3"/>
            <a:stretch/>
          </p:blipFill>
          <p:spPr>
            <a:xfrm>
              <a:off x="5707080" y="3200400"/>
              <a:ext cx="3257640" cy="3036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0338-4D76-4CF0-A0F4-498B90ABCD8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09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lementary data elements (like int) and arrays of them (all the sam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ructures (like {i: int; d: date}), many elementary elements or structures (recursiv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amespaces (structures whose elements are referred to by name). They include c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lasses (namespaces with initializers &amp; cleaner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E0A9-C607-4FF0-81F9-839B92DDD0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 in Dyalog APL (DYW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2207880"/>
            <a:ext cx="777240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DYW all these objects exis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often simulate one by ano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: a table of names &amp; values can represent a namespace of variab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W can also store the ⎕OR of a name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C817-DF4C-4553-AAC8-FDE9AE982BB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eneva"/>
              </a:rPr>
              <a:t>This presentation is based on two things: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2600" y="2852640"/>
            <a:ext cx="828684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What is Object Orientation programming? 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11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How do I use it in APL?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68360" y="1557360"/>
            <a:ext cx="813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7373-7161-4669-84BD-52B318BB1D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4360" y="151560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raditional (procedural) systems, data is separated from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70" name="Group 24"/>
          <p:cNvGrpSpPr/>
          <p:nvPr/>
        </p:nvGrpSpPr>
        <p:grpSpPr>
          <a:xfrm>
            <a:off x="1116000" y="2492280"/>
            <a:ext cx="6624720" cy="3744720"/>
            <a:chOff x="1116000" y="2492280"/>
            <a:chExt cx="6624720" cy="3744720"/>
          </a:xfrm>
        </p:grpSpPr>
        <p:sp>
          <p:nvSpPr>
            <p:cNvPr id="271" name="Line 11"/>
            <p:cNvSpPr/>
            <p:nvPr/>
          </p:nvSpPr>
          <p:spPr>
            <a:xfrm>
              <a:off x="4322880" y="2492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1116000" y="2852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5"/>
            <p:cNvSpPr/>
            <p:nvPr/>
          </p:nvSpPr>
          <p:spPr>
            <a:xfrm>
              <a:off x="1116000" y="4005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6"/>
            <p:cNvSpPr/>
            <p:nvPr/>
          </p:nvSpPr>
          <p:spPr>
            <a:xfrm>
              <a:off x="2484360" y="5013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7"/>
            <p:cNvSpPr/>
            <p:nvPr/>
          </p:nvSpPr>
          <p:spPr>
            <a:xfrm>
              <a:off x="7020000" y="2852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8"/>
            <p:cNvSpPr/>
            <p:nvPr/>
          </p:nvSpPr>
          <p:spPr>
            <a:xfrm>
              <a:off x="3780000" y="2997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9"/>
            <p:cNvSpPr/>
            <p:nvPr/>
          </p:nvSpPr>
          <p:spPr>
            <a:xfrm>
              <a:off x="3778200" y="4005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0"/>
            <p:cNvSpPr/>
            <p:nvPr/>
          </p:nvSpPr>
          <p:spPr>
            <a:xfrm>
              <a:off x="3780000" y="5013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2"/>
            <p:cNvSpPr/>
            <p:nvPr/>
          </p:nvSpPr>
          <p:spPr>
            <a:xfrm>
              <a:off x="4327560" y="5732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"/>
            <p:cNvSpPr/>
            <p:nvPr/>
          </p:nvSpPr>
          <p:spPr>
            <a:xfrm>
              <a:off x="4327560" y="37159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>
              <a:off x="431316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2" name="AutoShape 15"/>
            <p:cNvCxnSpPr>
              <a:stCxn id="272" idx="5"/>
              <a:endCxn id="276" idx="1"/>
            </p:cNvCxnSpPr>
            <p:nvPr/>
          </p:nvCxnSpPr>
          <p:spPr>
            <a:xfrm flipV="1">
              <a:off x="1763280" y="3356640"/>
              <a:ext cx="201708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83" name="AutoShape 16"/>
            <p:cNvCxnSpPr>
              <a:stCxn id="276" idx="3"/>
              <a:endCxn id="275" idx="2"/>
            </p:cNvCxnSpPr>
            <p:nvPr/>
          </p:nvCxnSpPr>
          <p:spPr>
            <a:xfrm>
              <a:off x="4860720" y="3357000"/>
              <a:ext cx="22309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84" name="AutoShape 17"/>
            <p:cNvCxnSpPr>
              <a:stCxn id="273" idx="5"/>
              <a:endCxn id="276" idx="1"/>
            </p:cNvCxnSpPr>
            <p:nvPr/>
          </p:nvCxnSpPr>
          <p:spPr>
            <a:xfrm flipV="1">
              <a:off x="1763280" y="3356640"/>
              <a:ext cx="2017080" cy="118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18"/>
            <p:cNvCxnSpPr>
              <a:stCxn id="273" idx="5"/>
              <a:endCxn id="277" idx="1"/>
            </p:cNvCxnSpPr>
            <p:nvPr/>
          </p:nvCxnSpPr>
          <p:spPr>
            <a:xfrm flipV="1">
              <a:off x="1763640" y="4364640"/>
              <a:ext cx="201528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19"/>
            <p:cNvCxnSpPr>
              <a:stCxn id="277" idx="3"/>
              <a:endCxn id="275" idx="2"/>
            </p:cNvCxnSpPr>
            <p:nvPr/>
          </p:nvCxnSpPr>
          <p:spPr>
            <a:xfrm flipV="1">
              <a:off x="4859280" y="3393000"/>
              <a:ext cx="223272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20"/>
            <p:cNvCxnSpPr>
              <a:stCxn id="274" idx="5"/>
              <a:endCxn id="278" idx="1"/>
            </p:cNvCxnSpPr>
            <p:nvPr/>
          </p:nvCxnSpPr>
          <p:spPr>
            <a:xfrm flipV="1">
              <a:off x="3132000" y="5372640"/>
              <a:ext cx="64836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F9B9-8183-40E7-B854-769F3A3ED7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4360" y="16603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same in traditional APL systems, data is separated from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3" name="Group 33"/>
          <p:cNvGrpSpPr/>
          <p:nvPr/>
        </p:nvGrpSpPr>
        <p:grpSpPr>
          <a:xfrm>
            <a:off x="1042920" y="3068640"/>
            <a:ext cx="4321080" cy="1944720"/>
            <a:chOff x="1042920" y="3068640"/>
            <a:chExt cx="4321080" cy="1944720"/>
          </a:xfrm>
        </p:grpSpPr>
        <p:pic>
          <p:nvPicPr>
            <p:cNvPr id="294" name="Picture 25" descr=""/>
            <p:cNvPicPr/>
            <p:nvPr/>
          </p:nvPicPr>
          <p:blipFill>
            <a:blip r:embed="rId1"/>
            <a:stretch/>
          </p:blipFill>
          <p:spPr>
            <a:xfrm>
              <a:off x="1042920" y="3068640"/>
              <a:ext cx="43210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Rectangle 26"/>
            <p:cNvSpPr/>
            <p:nvPr/>
          </p:nvSpPr>
          <p:spPr>
            <a:xfrm>
              <a:off x="1090800" y="405720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7"/>
            <p:cNvSpPr/>
            <p:nvPr/>
          </p:nvSpPr>
          <p:spPr>
            <a:xfrm>
              <a:off x="2432880" y="4411440"/>
              <a:ext cx="75672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28"/>
            <p:cNvSpPr/>
            <p:nvPr/>
          </p:nvSpPr>
          <p:spPr>
            <a:xfrm>
              <a:off x="1090800" y="370584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9"/>
            <p:cNvSpPr/>
            <p:nvPr/>
          </p:nvSpPr>
          <p:spPr>
            <a:xfrm>
              <a:off x="2584080" y="371124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0"/>
            <p:cNvSpPr/>
            <p:nvPr/>
          </p:nvSpPr>
          <p:spPr>
            <a:xfrm>
              <a:off x="3489120" y="370872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31"/>
            <p:cNvSpPr/>
            <p:nvPr/>
          </p:nvSpPr>
          <p:spPr>
            <a:xfrm>
              <a:off x="3785040" y="405720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32"/>
            <p:cNvSpPr/>
            <p:nvPr/>
          </p:nvSpPr>
          <p:spPr>
            <a:xfrm>
              <a:off x="4387320" y="370332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51"/>
          <p:cNvGrpSpPr/>
          <p:nvPr/>
        </p:nvGrpSpPr>
        <p:grpSpPr>
          <a:xfrm>
            <a:off x="6299280" y="2421000"/>
            <a:ext cx="2376360" cy="3600000"/>
            <a:chOff x="6299280" y="2421000"/>
            <a:chExt cx="2376360" cy="3600000"/>
          </a:xfrm>
        </p:grpSpPr>
        <p:sp>
          <p:nvSpPr>
            <p:cNvPr id="303" name="Line 52"/>
            <p:cNvSpPr/>
            <p:nvPr/>
          </p:nvSpPr>
          <p:spPr>
            <a:xfrm>
              <a:off x="7449480" y="242100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53"/>
            <p:cNvSpPr/>
            <p:nvPr/>
          </p:nvSpPr>
          <p:spPr>
            <a:xfrm>
              <a:off x="6299280" y="27673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54"/>
            <p:cNvSpPr/>
            <p:nvPr/>
          </p:nvSpPr>
          <p:spPr>
            <a:xfrm>
              <a:off x="6299280" y="387540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55"/>
            <p:cNvSpPr/>
            <p:nvPr/>
          </p:nvSpPr>
          <p:spPr>
            <a:xfrm>
              <a:off x="6789960" y="48445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6"/>
            <p:cNvSpPr/>
            <p:nvPr/>
          </p:nvSpPr>
          <p:spPr>
            <a:xfrm>
              <a:off x="8417160" y="27673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57"/>
            <p:cNvSpPr/>
            <p:nvPr/>
          </p:nvSpPr>
          <p:spPr>
            <a:xfrm>
              <a:off x="7254720" y="290592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58"/>
            <p:cNvSpPr/>
            <p:nvPr/>
          </p:nvSpPr>
          <p:spPr>
            <a:xfrm>
              <a:off x="7254000" y="387540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59"/>
            <p:cNvSpPr/>
            <p:nvPr/>
          </p:nvSpPr>
          <p:spPr>
            <a:xfrm>
              <a:off x="7254720" y="484452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60"/>
            <p:cNvSpPr/>
            <p:nvPr/>
          </p:nvSpPr>
          <p:spPr>
            <a:xfrm>
              <a:off x="7451280" y="553608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61"/>
            <p:cNvSpPr/>
            <p:nvPr/>
          </p:nvSpPr>
          <p:spPr>
            <a:xfrm>
              <a:off x="7451280" y="359712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62"/>
            <p:cNvSpPr/>
            <p:nvPr/>
          </p:nvSpPr>
          <p:spPr>
            <a:xfrm>
              <a:off x="7446240" y="456696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4" name="AutoShape 63"/>
            <p:cNvCxnSpPr>
              <a:stCxn id="304" idx="5"/>
              <a:endCxn id="308" idx="1"/>
            </p:cNvCxnSpPr>
            <p:nvPr/>
          </p:nvCxnSpPr>
          <p:spPr>
            <a:xfrm flipV="1">
              <a:off x="6531120" y="3251880"/>
              <a:ext cx="72396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5" name="AutoShape 64"/>
            <p:cNvCxnSpPr>
              <a:stCxn id="308" idx="3"/>
              <a:endCxn id="307" idx="2"/>
            </p:cNvCxnSpPr>
            <p:nvPr/>
          </p:nvCxnSpPr>
          <p:spPr>
            <a:xfrm>
              <a:off x="7642800" y="3252240"/>
              <a:ext cx="80064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6" name="AutoShape 65"/>
            <p:cNvCxnSpPr>
              <a:stCxn id="305" idx="5"/>
              <a:endCxn id="308" idx="1"/>
            </p:cNvCxnSpPr>
            <p:nvPr/>
          </p:nvCxnSpPr>
          <p:spPr>
            <a:xfrm flipV="1">
              <a:off x="6531120" y="3251880"/>
              <a:ext cx="723960" cy="11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AutoShape 66"/>
            <p:cNvCxnSpPr>
              <a:stCxn id="305" idx="5"/>
              <a:endCxn id="309" idx="1"/>
            </p:cNvCxnSpPr>
            <p:nvPr/>
          </p:nvCxnSpPr>
          <p:spPr>
            <a:xfrm flipV="1">
              <a:off x="6531120" y="4221000"/>
              <a:ext cx="72324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AutoShape 67"/>
            <p:cNvCxnSpPr>
              <a:stCxn id="309" idx="3"/>
              <a:endCxn id="307" idx="2"/>
            </p:cNvCxnSpPr>
            <p:nvPr/>
          </p:nvCxnSpPr>
          <p:spPr>
            <a:xfrm flipV="1">
              <a:off x="7642080" y="3287160"/>
              <a:ext cx="801360" cy="93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" name="AutoShape 68"/>
            <p:cNvCxnSpPr>
              <a:stCxn id="306" idx="5"/>
              <a:endCxn id="310" idx="1"/>
            </p:cNvCxnSpPr>
            <p:nvPr/>
          </p:nvCxnSpPr>
          <p:spPr>
            <a:xfrm flipV="1">
              <a:off x="7021800" y="5190120"/>
              <a:ext cx="23292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B989-7A18-4B8D-ADDD-2E2D51377E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58724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OO systems, data is more tightly coupled with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25" name="Group 26"/>
          <p:cNvGrpSpPr/>
          <p:nvPr/>
        </p:nvGrpSpPr>
        <p:grpSpPr>
          <a:xfrm>
            <a:off x="1000080" y="3500280"/>
            <a:ext cx="3024360" cy="1656000"/>
            <a:chOff x="1000080" y="3500280"/>
            <a:chExt cx="3024360" cy="1656000"/>
          </a:xfrm>
        </p:grpSpPr>
        <p:sp>
          <p:nvSpPr>
            <p:cNvPr id="326" name="AutoShape 8"/>
            <p:cNvSpPr/>
            <p:nvPr/>
          </p:nvSpPr>
          <p:spPr>
            <a:xfrm>
              <a:off x="1000080" y="3500280"/>
              <a:ext cx="3024360" cy="165600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4"/>
            <p:cNvSpPr/>
            <p:nvPr/>
          </p:nvSpPr>
          <p:spPr>
            <a:xfrm>
              <a:off x="1215720" y="3787560"/>
              <a:ext cx="720720" cy="108144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7"/>
            <p:cNvSpPr/>
            <p:nvPr/>
          </p:nvSpPr>
          <p:spPr>
            <a:xfrm>
              <a:off x="3089520" y="3787560"/>
              <a:ext cx="720720" cy="108144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9"/>
          <p:cNvSpPr/>
          <p:nvPr/>
        </p:nvSpPr>
        <p:spPr>
          <a:xfrm>
            <a:off x="6804000" y="31417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7"/>
          <p:cNvSpPr/>
          <p:nvPr/>
        </p:nvSpPr>
        <p:spPr>
          <a:xfrm>
            <a:off x="6804000" y="40435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8"/>
          <p:cNvSpPr/>
          <p:nvPr/>
        </p:nvSpPr>
        <p:spPr>
          <a:xfrm>
            <a:off x="6804000" y="49705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9"/>
          <p:cNvSpPr/>
          <p:nvPr/>
        </p:nvSpPr>
        <p:spPr>
          <a:xfrm>
            <a:off x="7307280" y="38908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0"/>
          <p:cNvSpPr/>
          <p:nvPr/>
        </p:nvSpPr>
        <p:spPr>
          <a:xfrm>
            <a:off x="7307280" y="4789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1"/>
          <p:cNvSpPr/>
          <p:nvPr/>
        </p:nvSpPr>
        <p:spPr>
          <a:xfrm>
            <a:off x="7307280" y="5691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2"/>
          <p:cNvSpPr/>
          <p:nvPr/>
        </p:nvSpPr>
        <p:spPr>
          <a:xfrm>
            <a:off x="7307280" y="2757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3"/>
          <p:cNvSpPr/>
          <p:nvPr/>
        </p:nvSpPr>
        <p:spPr>
          <a:xfrm>
            <a:off x="3714840" y="4286160"/>
            <a:ext cx="3313080" cy="216000"/>
          </a:xfrm>
          <a:prstGeom prst="leftRightArrow">
            <a:avLst>
              <a:gd name="adj1" fmla="val 50000"/>
              <a:gd name="adj2" fmla="val 305346"/>
            </a:avLst>
          </a:prstGeom>
          <a:solidFill>
            <a:srgbClr val="79008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/>
          <p:cNvSpPr/>
          <p:nvPr/>
        </p:nvSpPr>
        <p:spPr>
          <a:xfrm>
            <a:off x="7000920" y="4143240"/>
            <a:ext cx="261720" cy="4813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7462800" y="4143240"/>
            <a:ext cx="260280" cy="4813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1C21-70A0-456C-97D7-969B198791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4360" y="16603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me thing in OO APL system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44" name="Group 21"/>
          <p:cNvGrpSpPr/>
          <p:nvPr/>
        </p:nvGrpSpPr>
        <p:grpSpPr>
          <a:xfrm>
            <a:off x="1000080" y="3143160"/>
            <a:ext cx="3457800" cy="2008440"/>
            <a:chOff x="1000080" y="3143160"/>
            <a:chExt cx="3457800" cy="2008440"/>
          </a:xfrm>
        </p:grpSpPr>
        <p:sp>
          <p:nvSpPr>
            <p:cNvPr id="345" name="AutoShape 5"/>
            <p:cNvSpPr/>
            <p:nvPr/>
          </p:nvSpPr>
          <p:spPr>
            <a:xfrm>
              <a:off x="1000080" y="3143160"/>
              <a:ext cx="3457800" cy="20084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6"/>
            <p:cNvSpPr/>
            <p:nvPr/>
          </p:nvSpPr>
          <p:spPr>
            <a:xfrm>
              <a:off x="1246680" y="3491640"/>
              <a:ext cx="824040" cy="13114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3388680" y="3491640"/>
              <a:ext cx="824040" cy="13114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AutoShape 8"/>
          <p:cNvSpPr/>
          <p:nvPr/>
        </p:nvSpPr>
        <p:spPr>
          <a:xfrm>
            <a:off x="5076720" y="28242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5076720" y="37260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5076720" y="46530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5"/>
          <p:cNvSpPr/>
          <p:nvPr/>
        </p:nvSpPr>
        <p:spPr>
          <a:xfrm>
            <a:off x="5580000" y="35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>
            <a:off x="558000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5580000" y="2440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6"/>
          <p:cNvSpPr/>
          <p:nvPr/>
        </p:nvSpPr>
        <p:spPr>
          <a:xfrm>
            <a:off x="5464080" y="430380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"/>
          <p:cNvSpPr/>
          <p:nvPr/>
        </p:nvSpPr>
        <p:spPr>
          <a:xfrm>
            <a:off x="5072040" y="3714840"/>
            <a:ext cx="1096920" cy="73656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5149800" y="3843360"/>
            <a:ext cx="262080" cy="4795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5829480" y="3843360"/>
            <a:ext cx="261720" cy="4795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28"/>
          <p:cNvSpPr/>
          <p:nvPr/>
        </p:nvSpPr>
        <p:spPr>
          <a:xfrm>
            <a:off x="4456080" y="3147840"/>
            <a:ext cx="615960" cy="5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30"/>
          <p:cNvSpPr/>
          <p:nvPr/>
        </p:nvSpPr>
        <p:spPr>
          <a:xfrm flipV="1">
            <a:off x="4471200" y="4446720"/>
            <a:ext cx="590760" cy="72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5572080" y="4500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CA47-D548-443E-9201-03A5B74612A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4"/>
          <p:cNvSpPr txBox="1"/>
          <p:nvPr/>
        </p:nvSpPr>
        <p:spPr>
          <a:xfrm>
            <a:off x="826920" y="270828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fc20"/>
                    </a:gs>
                    <a:gs pos="100000">
                      <a:srgbClr val="bed81b"/>
                    </a:gs>
                  </a:gsLst>
                  <a:lin ang="5400000"/>
                </a:gradFill>
                <a:latin typeface="Times New Roman"/>
              </a:rPr>
              <a:t>Definition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fc20"/>
                  </a:gs>
                  <a:gs pos="100000">
                    <a:srgbClr val="bed81b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80820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4000" y="106992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Object Oriented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0C0D-09C6-47A0-8FFD-37C15D2946B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660320"/>
            <a:ext cx="7989840" cy="68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bject Oriented paradigm is based 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338560" y="2517840"/>
            <a:ext cx="446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&amp;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459D-9B90-4A3A-9B14-1E46CFEE038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000" y="1750680"/>
            <a:ext cx="83516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1. 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fines the abstract characteristics of som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objec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, akin to a bluepri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 describes a collection of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members (data and cod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asses can be nes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73C2-11CD-4147-B41A-91BF5EF639C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000" y="1733040"/>
            <a:ext cx="835164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ex: House blueprint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3203280" y="3860640"/>
            <a:ext cx="3097440" cy="1944720"/>
            <a:chOff x="3203280" y="3860640"/>
            <a:chExt cx="3097440" cy="1944720"/>
          </a:xfrm>
        </p:grpSpPr>
        <p:sp>
          <p:nvSpPr>
            <p:cNvPr id="384" name="Rectangle 4"/>
            <p:cNvSpPr/>
            <p:nvPr/>
          </p:nvSpPr>
          <p:spPr>
            <a:xfrm>
              <a:off x="3564000" y="4581360"/>
              <a:ext cx="2376360" cy="12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5"/>
            <p:cNvSpPr/>
            <p:nvPr/>
          </p:nvSpPr>
          <p:spPr>
            <a:xfrm flipH="1">
              <a:off x="3203280" y="3860640"/>
              <a:ext cx="1584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"/>
            <p:cNvSpPr/>
            <p:nvPr/>
          </p:nvSpPr>
          <p:spPr>
            <a:xfrm flipH="1" flipV="1">
              <a:off x="4788000" y="3860640"/>
              <a:ext cx="151272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9"/>
            <p:cNvSpPr/>
            <p:nvPr/>
          </p:nvSpPr>
          <p:spPr>
            <a:xfrm>
              <a:off x="3786120" y="5000400"/>
              <a:ext cx="857160" cy="35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"/>
            <p:cNvSpPr/>
            <p:nvPr/>
          </p:nvSpPr>
          <p:spPr>
            <a:xfrm>
              <a:off x="5143680" y="5143320"/>
              <a:ext cx="3571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AB7E-EB79-420F-BFC2-E1F39C67155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000" y="17334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Geneva"/>
              </a:rPr>
              <a:t>can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mplement one or more </a:t>
            </a:r>
            <a:r>
              <a:rPr b="0" i="1" lang="en-US" sz="3200" spc="-1" strike="noStrike">
                <a:solidFill>
                  <a:srgbClr val="000000"/>
                </a:solidFill>
                <a:latin typeface="Geneva"/>
              </a:rPr>
              <a:t>interfac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wha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t should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class implements an interface it should do it completely, no partial implementation is allow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2798-A631-403C-A3D7-605C34EB1C0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000" y="1733040"/>
            <a:ext cx="8351640" cy="27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Interfa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how to communicate with an objec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 electrical system &amp; electrical outl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99" name="Picture 7" descr="C:\Users\Danb\Pictures\outlet.jpg"/>
          <p:cNvPicPr/>
          <p:nvPr/>
        </p:nvPicPr>
        <p:blipFill>
          <a:blip r:embed="rId1"/>
          <a:stretch/>
        </p:blipFill>
        <p:spPr>
          <a:xfrm>
            <a:off x="3049560" y="4043520"/>
            <a:ext cx="280836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5780-AF03-42B7-9FD6-603873CD827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ve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39640" y="2449440"/>
            <a:ext cx="410364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History of OO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Definitions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The APL way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6D0A-F3C7-4C6D-B3EA-C857D176DD3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4920" y="1820520"/>
            <a:ext cx="8064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llowing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maneuvering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nterface describes what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HA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be done with a machin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tee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direction);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// where to g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ccellerat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power);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// go fast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lowDow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strength); // go slow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does NOT specify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9A5B-D0D8-4CA9-A7E1-F473C10ACA2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7" descr="carcockpit3"/>
          <p:cNvPicPr/>
          <p:nvPr/>
        </p:nvPicPr>
        <p:blipFill>
          <a:blip r:embed="rId1"/>
          <a:stretch/>
        </p:blipFill>
        <p:spPr>
          <a:xfrm>
            <a:off x="5943600" y="1916280"/>
            <a:ext cx="3205080" cy="42494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81080" y="1371240"/>
            <a:ext cx="82072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a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79280" y="2085840"/>
            <a:ext cx="62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ar : maneuve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eeringWhee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te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urn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asPed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Accelle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ush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reakPed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lowD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hit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A157-A0D4-4C87-8E59-F9CAE494DEF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5" descr="cockpit2"/>
          <p:cNvPicPr/>
          <p:nvPr/>
        </p:nvPicPr>
        <p:blipFill>
          <a:blip r:embed="rId1"/>
          <a:stretch/>
        </p:blipFill>
        <p:spPr>
          <a:xfrm>
            <a:off x="5722920" y="2060640"/>
            <a:ext cx="3421080" cy="40323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5330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lan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250920" y="2157480"/>
            <a:ext cx="576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neuve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Yok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te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mov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Hand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Accelle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p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lap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lowD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degre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160B-F0F0-419A-8D41-8CC397277CF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158904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2. Instan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are tangibl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object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created from a specific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creation any specific action is carried out by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code) of the class if some sort of initialization is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destruction,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de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responsible for cleaning up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92D5-5B03-46A1-BE3D-9CA4E641CC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000" y="1588680"/>
            <a:ext cx="38178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2. Instan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New House (Blue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29" name="Group 11" descr=""/>
          <p:cNvPicPr/>
          <p:nvPr/>
        </p:nvPicPr>
        <p:blipFill>
          <a:blip r:embed="rId1"/>
          <a:stretch/>
        </p:blipFill>
        <p:spPr>
          <a:xfrm>
            <a:off x="3054240" y="2981160"/>
            <a:ext cx="3121200" cy="1968840"/>
          </a:xfrm>
          <a:prstGeom prst="rect">
            <a:avLst/>
          </a:prstGeom>
          <a:ln w="0">
            <a:noFill/>
          </a:ln>
        </p:spPr>
      </p:pic>
      <p:sp>
        <p:nvSpPr>
          <p:cNvPr id="430" name="Isosceles Triangle 12"/>
          <p:cNvSpPr/>
          <p:nvPr/>
        </p:nvSpPr>
        <p:spPr>
          <a:xfrm>
            <a:off x="3429000" y="2998800"/>
            <a:ext cx="2428920" cy="716040"/>
          </a:xfrm>
          <a:prstGeom prst="triangle">
            <a:avLst>
              <a:gd name="adj" fmla="val 49574"/>
            </a:avLst>
          </a:prstGeom>
          <a:solidFill>
            <a:srgbClr val="72b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605520" y="5072040"/>
            <a:ext cx="740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ter the creation of the new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or paints it i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8A0E-11BC-4C5D-9608-E5A8C0365A7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94920" y="1660320"/>
            <a:ext cx="8280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3.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the code and the data of a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de is divided int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unctions) and data is divided int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iables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als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hich are Fields implemented via functions to read/set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4F5D-6254-4EED-8FC6-AFD299126D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9528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se can reside inside the class if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in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 the .Ne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ateTim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a member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at does not require an instance to be called.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ateTime.Now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⍝ straight from the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2007/10/21  9:12:0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3ECC-156D-4373-99F2-6D64264A8D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94920" y="1589040"/>
            <a:ext cx="4824360" cy="12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3562200" y="2565360"/>
            <a:ext cx="194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695160" y="2462040"/>
            <a:ext cx="27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d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ain in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104292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356220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608328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5900040" y="303372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memb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reated in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AutoShape 10"/>
          <p:cNvCxnSpPr>
            <a:stCxn id="447" idx="2"/>
            <a:endCxn id="449" idx="0"/>
          </p:cNvCxnSpPr>
          <p:nvPr/>
        </p:nvCxnSpPr>
        <p:spPr>
          <a:xfrm flipH="1">
            <a:off x="2015280" y="3860640"/>
            <a:ext cx="252036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54" name="AutoShape 12"/>
          <p:cNvCxnSpPr>
            <a:stCxn id="447" idx="2"/>
            <a:endCxn id="450" idx="0"/>
          </p:cNvCxnSpPr>
          <p:nvPr/>
        </p:nvCxnSpPr>
        <p:spPr>
          <a:xfrm>
            <a:off x="4535280" y="386064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55" name="AutoShape 13"/>
          <p:cNvCxnSpPr>
            <a:stCxn id="447" idx="2"/>
            <a:endCxn id="451" idx="0"/>
          </p:cNvCxnSpPr>
          <p:nvPr/>
        </p:nvCxnSpPr>
        <p:spPr>
          <a:xfrm>
            <a:off x="4535640" y="3860640"/>
            <a:ext cx="252144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D9FF-28B1-421C-BBBE-5FC145B0BD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60320"/>
            <a:ext cx="7989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Method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also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bstrac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s (e.g. in interfaces) with no code, only calling synta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destructor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re method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1C52-98C7-4B02-9E3D-252AD26D83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Field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also b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read onl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4DCA-E3F0-446B-95B7-AE7DD8006AE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: why do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763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cause Object Orientation is a Valuable Tool of Though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o be able to Share Tools and Components more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o help us Manage Complexity in all Project Pha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.Net more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79F9-791F-4918-863C-486C8340FA8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720" y="1660320"/>
            <a:ext cx="835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operti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ar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Field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lemented by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access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s, i.e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 </a:t>
            </a:r>
            <a:r>
              <a:rPr b="0" lang="en-GB" sz="2800" spc="-1" strike="noStrike">
                <a:solidFill>
                  <a:srgbClr val="333333"/>
                </a:solidFill>
                <a:latin typeface="APL385 Unicode"/>
              </a:rPr>
              <a:t>PropX←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value 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⍝ </a:t>
            </a:r>
            <a:r>
              <a:rPr b="0" lang="fr-CA" sz="2800" spc="-1" strike="noStrike">
                <a:solidFill>
                  <a:srgbClr val="333333"/>
                </a:solidFill>
                <a:latin typeface="Geneva"/>
              </a:rPr>
              <a:t>is implemented by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 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SET valu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ED54-633B-4263-A29F-22FB99E9BD0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640" y="1805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4. Message passing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the (usually asynchronous) sending (often by copy) of a data item to a communication endpoint (process, thread, socket, etc.)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 procedural language (like Dyalog), it corresponds to a call made to a routi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5283-5D5B-44DF-AE97-AA2E31F0824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6560" y="1589040"/>
            <a:ext cx="839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5. 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This is a way to avoid rewriting code by writing general classes and classes that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deriv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from them and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inherit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their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members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This helps achieve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reusability, 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a cornerstone of OO by avoiding to rewrite code and use what already exis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6840-DC67-4A2A-BA22-D8CEF5B262E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95280" y="17334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We say that a (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derived)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class is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bas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on another 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33"/>
                </a:solidFill>
                <a:latin typeface="Geneva"/>
              </a:rPr>
              <a:t>All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classes (but one) are derived from another one or from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System.Object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(the defaul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1BBA-4EE3-456A-9721-E6449B1F90C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31280" y="166032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classes (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reusability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llie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Dog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91" name="Group 24"/>
          <p:cNvGrpSpPr/>
          <p:nvPr/>
        </p:nvGrpSpPr>
        <p:grpSpPr>
          <a:xfrm>
            <a:off x="322200" y="3287880"/>
            <a:ext cx="8353440" cy="2877480"/>
            <a:chOff x="322200" y="3287880"/>
            <a:chExt cx="8353440" cy="2877480"/>
          </a:xfrm>
        </p:grpSpPr>
        <p:sp>
          <p:nvSpPr>
            <p:cNvPr id="492" name="Rectangle 4"/>
            <p:cNvSpPr/>
            <p:nvPr/>
          </p:nvSpPr>
          <p:spPr>
            <a:xfrm>
              <a:off x="827280" y="436680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5"/>
            <p:cNvSpPr/>
            <p:nvPr/>
          </p:nvSpPr>
          <p:spPr>
            <a:xfrm>
              <a:off x="2914560" y="357480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g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6"/>
            <p:cNvSpPr/>
            <p:nvPr/>
          </p:nvSpPr>
          <p:spPr>
            <a:xfrm>
              <a:off x="7091280" y="515736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x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7"/>
            <p:cNvSpPr/>
            <p:nvPr/>
          </p:nvSpPr>
          <p:spPr>
            <a:xfrm>
              <a:off x="2914560" y="494316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h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8"/>
            <p:cNvSpPr/>
            <p:nvPr/>
          </p:nvSpPr>
          <p:spPr>
            <a:xfrm>
              <a:off x="7091280" y="400644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do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3"/>
            <p:cNvSpPr/>
            <p:nvPr/>
          </p:nvSpPr>
          <p:spPr>
            <a:xfrm>
              <a:off x="5002200" y="3287880"/>
              <a:ext cx="194472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at Dan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4"/>
            <p:cNvSpPr/>
            <p:nvPr/>
          </p:nvSpPr>
          <p:spPr>
            <a:xfrm>
              <a:off x="5002200" y="465444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lli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AutoShape 15"/>
            <p:cNvCxnSpPr>
              <a:stCxn id="492" idx="3"/>
              <a:endCxn id="493" idx="1"/>
            </p:cNvCxnSpPr>
            <p:nvPr/>
          </p:nvCxnSpPr>
          <p:spPr>
            <a:xfrm flipV="1">
              <a:off x="2411280" y="4079160"/>
              <a:ext cx="50400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0" name="AutoShape 16"/>
            <p:cNvCxnSpPr>
              <a:stCxn id="492" idx="3"/>
              <a:endCxn id="495" idx="1"/>
            </p:cNvCxnSpPr>
            <p:nvPr/>
          </p:nvCxnSpPr>
          <p:spPr>
            <a:xfrm>
              <a:off x="2411280" y="4871520"/>
              <a:ext cx="50400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1" name="AutoShape 17"/>
            <p:cNvCxnSpPr>
              <a:stCxn id="493" idx="3"/>
              <a:endCxn id="497" idx="1"/>
            </p:cNvCxnSpPr>
            <p:nvPr/>
          </p:nvCxnSpPr>
          <p:spPr>
            <a:xfrm flipV="1">
              <a:off x="4498920" y="3791520"/>
              <a:ext cx="504000" cy="28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2" name="AutoShape 18"/>
            <p:cNvCxnSpPr>
              <a:stCxn id="493" idx="3"/>
              <a:endCxn id="498" idx="1"/>
            </p:cNvCxnSpPr>
            <p:nvPr/>
          </p:nvCxnSpPr>
          <p:spPr>
            <a:xfrm>
              <a:off x="4498920" y="4079520"/>
              <a:ext cx="504000" cy="108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3" name="AutoShape 19"/>
            <p:cNvCxnSpPr>
              <a:stCxn id="498" idx="3"/>
              <a:endCxn id="496" idx="1"/>
            </p:cNvCxnSpPr>
            <p:nvPr/>
          </p:nvCxnSpPr>
          <p:spPr>
            <a:xfrm flipV="1">
              <a:off x="6586560" y="4511160"/>
              <a:ext cx="505440" cy="64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4" name="AutoShape 20"/>
            <p:cNvCxnSpPr>
              <a:stCxn id="498" idx="3"/>
              <a:endCxn id="494" idx="1"/>
            </p:cNvCxnSpPr>
            <p:nvPr/>
          </p:nvCxnSpPr>
          <p:spPr>
            <a:xfrm>
              <a:off x="6586560" y="5158800"/>
              <a:ext cx="505440" cy="50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5" name="Text Box 21"/>
            <p:cNvSpPr/>
            <p:nvPr/>
          </p:nvSpPr>
          <p:spPr>
            <a:xfrm>
              <a:off x="7164720" y="35492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bfd87"/>
                  </a:solidFill>
                  <a:latin typeface="Arial"/>
                </a:rPr>
                <a:t>Instanc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22"/>
            <p:cNvSpPr/>
            <p:nvPr/>
          </p:nvSpPr>
          <p:spPr>
            <a:xfrm>
              <a:off x="3193920" y="454644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Arial"/>
                </a:rPr>
                <a:t>Class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3"/>
            <p:cNvSpPr/>
            <p:nvPr/>
          </p:nvSpPr>
          <p:spPr>
            <a:xfrm>
              <a:off x="322200" y="487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2A73-823A-40B4-B5EF-E2AB15C2F1A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2400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e inheri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be based on several other classes Here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e is made out of 2 different clas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13" name="Group 21"/>
          <p:cNvGrpSpPr/>
          <p:nvPr/>
        </p:nvGrpSpPr>
        <p:grpSpPr>
          <a:xfrm>
            <a:off x="2771640" y="3429000"/>
            <a:ext cx="3889440" cy="2374920"/>
            <a:chOff x="2771640" y="3429000"/>
            <a:chExt cx="3889440" cy="2374920"/>
          </a:xfrm>
        </p:grpSpPr>
        <p:sp>
          <p:nvSpPr>
            <p:cNvPr id="514" name="Rectangle 9"/>
            <p:cNvSpPr/>
            <p:nvPr/>
          </p:nvSpPr>
          <p:spPr>
            <a:xfrm>
              <a:off x="2771640" y="342900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rs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0"/>
            <p:cNvSpPr/>
            <p:nvPr/>
          </p:nvSpPr>
          <p:spPr>
            <a:xfrm>
              <a:off x="2771640" y="479592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nkey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6" name="AutoShape 15"/>
            <p:cNvCxnSpPr>
              <a:stCxn id="515" idx="3"/>
              <a:endCxn id="517" idx="1"/>
            </p:cNvCxnSpPr>
            <p:nvPr/>
          </p:nvCxnSpPr>
          <p:spPr>
            <a:xfrm flipV="1">
              <a:off x="4356000" y="4725720"/>
              <a:ext cx="721440" cy="57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8" name="AutoShape 19"/>
            <p:cNvCxnSpPr>
              <a:stCxn id="514" idx="3"/>
              <a:endCxn id="517" idx="1"/>
            </p:cNvCxnSpPr>
            <p:nvPr/>
          </p:nvCxnSpPr>
          <p:spPr>
            <a:xfrm>
              <a:off x="4356000" y="3933360"/>
              <a:ext cx="721440" cy="79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7" name="Rectangle 20"/>
            <p:cNvSpPr/>
            <p:nvPr/>
          </p:nvSpPr>
          <p:spPr>
            <a:xfrm>
              <a:off x="5076720" y="422100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u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1C6F-740B-4173-96DD-279B0122D03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4720" y="1660320"/>
            <a:ext cx="8460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mulat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e inheri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implement several interfaces. Here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enguin implements 2 different behaviours (interfac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2556000" y="4005360"/>
            <a:ext cx="1584360" cy="1008000"/>
          </a:xfrm>
          <a:prstGeom prst="rect">
            <a:avLst/>
          </a:prstGeom>
          <a:solidFill>
            <a:srgbClr val="dd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wim,eg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2556000" y="5156280"/>
            <a:ext cx="1584360" cy="1008000"/>
          </a:xfrm>
          <a:prstGeom prst="rect">
            <a:avLst/>
          </a:prstGeom>
          <a:solidFill>
            <a:srgbClr val="dd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ly,eggs,s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7"/>
          <p:cNvCxnSpPr>
            <a:stCxn id="525" idx="3"/>
            <a:endCxn id="527" idx="1"/>
          </p:cNvCxnSpPr>
          <p:nvPr/>
        </p:nvCxnSpPr>
        <p:spPr>
          <a:xfrm flipV="1">
            <a:off x="4140360" y="5086080"/>
            <a:ext cx="7214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AutoShape 8"/>
          <p:cNvCxnSpPr>
            <a:stCxn id="524" idx="3"/>
            <a:endCxn id="527" idx="1"/>
          </p:cNvCxnSpPr>
          <p:nvPr/>
        </p:nvCxnSpPr>
        <p:spPr>
          <a:xfrm>
            <a:off x="4140360" y="4509720"/>
            <a:ext cx="72144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Rectangle 9"/>
          <p:cNvSpPr/>
          <p:nvPr/>
        </p:nvSpPr>
        <p:spPr>
          <a:xfrm>
            <a:off x="4861080" y="4365720"/>
            <a:ext cx="21589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gu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im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ies n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egg/y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oak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2CD0-19AC-4748-AC25-E5E8058052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When an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is created from a class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bas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on another one it inherits all its members automat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Members can be redefined but </a:t>
            </a:r>
            <a:r>
              <a:rPr b="0" lang="fr-CA" sz="3200" spc="-1" strike="noStrike" u="sng">
                <a:solidFill>
                  <a:srgbClr val="333333"/>
                </a:solidFill>
                <a:uFillTx/>
                <a:latin typeface="Geneva"/>
              </a:rPr>
              <a:t>subroutines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must be specifically set to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overrid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base class subroutin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36FE-B0DC-480E-BB19-40E705EB3F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a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derived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 class inherits all the base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900000" y="3355920"/>
            <a:ext cx="172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6156360" y="3355920"/>
            <a:ext cx="1727280" cy="21607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2: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-0.29254 -0.00023 E">
                                      <p:cBhvr>
                                        <p:cTn id="54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257E-007 L 0.28351 0.00023 E">
                                      <p:cBhvr>
                                        <p:cTn id="56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B995-5246-4AFB-9F7D-18B6D2C0923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a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derived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 class inherits all the base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900000" y="3355920"/>
            <a:ext cx="172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6156360" y="3355920"/>
            <a:ext cx="1727280" cy="21607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2: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-0.29254 -0.00023 E">
                                      <p:cBhvr>
                                        <p:cTn id="62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257E-007 L 0.28351 0.00023 E">
                                      <p:cBhvr>
                                        <p:cTn id="64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5220-C2C6-49CB-BC1E-7031955675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isto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8904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O is not new, it’s been around for a whi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tty much the same story as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50s: concep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60s: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mplementation (SIMULA compil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70s: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user base, Smalltalk compil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80s: starts to be used more serious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0s: popularity grows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≠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) thanks to C++ and Java &amp; the Interne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CD14-A7C0-4AF9-9A4E-5C862C227AB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40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itialization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is performed by the </a:t>
            </a:r>
            <a:r>
              <a:rPr b="0" i="1" lang="en-GB" sz="36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f a class is derived, the </a:t>
            </a:r>
            <a:r>
              <a:rPr b="0" lang="en-GB" sz="3600" spc="-1" strike="noStrike">
                <a:solidFill>
                  <a:srgbClr val="99cc00"/>
                </a:solidFill>
                <a:latin typeface="Geneva"/>
              </a:rPr>
              <a:t>base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class' </a:t>
            </a:r>
            <a:r>
              <a:rPr b="0" i="1" lang="en-GB" sz="36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will also be called if there is one.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03CB-776F-4B97-A664-918AC3E6AE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4000" y="1660680"/>
            <a:ext cx="864072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Some classes may be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seal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to prevent other classes from inheriting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288B-829F-4392-8CA8-A46A196AAC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e conce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1122480" y="446076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 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5376960" y="443700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B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 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1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2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3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4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5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6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7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8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0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1F9A-D760-411B-B900-7716B97B414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5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8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9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97EB-AD90-4484-BFFB-811DD3CF1CD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5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8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0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2"/>
          <p:cNvSpPr/>
          <p:nvPr/>
        </p:nvSpPr>
        <p:spPr>
          <a:xfrm>
            <a:off x="2055600" y="558972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:M2 does not allow to be overrid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AC36-D72F-4524-9A99-A88879099DA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2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AutoShape 6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7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: Overrid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8"/>
          <p:cNvSpPr/>
          <p:nvPr/>
        </p:nvSpPr>
        <p:spPr>
          <a:xfrm>
            <a:off x="1835280" y="3141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547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3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4"/>
          <p:cNvSpPr/>
          <p:nvPr/>
        </p:nvSpPr>
        <p:spPr>
          <a:xfrm>
            <a:off x="1547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5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7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B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0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1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3"/>
          <p:cNvSpPr/>
          <p:nvPr/>
        </p:nvSpPr>
        <p:spPr>
          <a:xfrm>
            <a:off x="1481040" y="558972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:M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llow to be overridden AND B wants to override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AB0E-6916-4A07-B616-AA2E730F325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6. Encapsu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Hides the underlying functionality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t conceals the exact details of how a particular class works from objects (external or internal) that use its c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This allows to modify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internal implementation of a class without requiring changes to its services (i.e. methods)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84A2-6A89-41C9-926F-9D6AB4F5C74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ample: a ca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nsider a car: the functionality is hidden, it is encapsulated, you don’t see all the wiring inside, you’re only given specific controls to manipulate the car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55" name="Picture 4" descr="dash-wiring4"/>
          <p:cNvPicPr/>
          <p:nvPr/>
        </p:nvPicPr>
        <p:blipFill>
          <a:blip r:embed="rId1"/>
          <a:stretch/>
        </p:blipFill>
        <p:spPr>
          <a:xfrm>
            <a:off x="2195640" y="3284640"/>
            <a:ext cx="4608360" cy="30733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closeddash1"/>
          <p:cNvPicPr/>
          <p:nvPr/>
        </p:nvPicPr>
        <p:blipFill>
          <a:blip r:embed="rId2"/>
          <a:stretch/>
        </p:blipFill>
        <p:spPr>
          <a:xfrm>
            <a:off x="2077920" y="3068640"/>
            <a:ext cx="479916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6C72-DB09-469D-8105-3C6BA302D65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capsulation (access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allow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member there are various leve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expose a member you must use some syntax that will declare it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default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the nor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9839-146A-439D-B362-E0C39BF72E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5"/>
          <p:cNvSpPr/>
          <p:nvPr/>
        </p:nvSpPr>
        <p:spPr>
          <a:xfrm>
            <a:off x="1908000" y="4214880"/>
            <a:ext cx="4969080" cy="195084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64072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ivat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not be seen from anywhere. Methods can only access it from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insid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sted or derived objects can't see it ei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72b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72b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D0F2-9C18-4FBE-A42F-FF34747931A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nother to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Orientation is another tool for programmers. Users won’t see any differen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 way for programmers to simplify their lives by supplying each other with already made objects (almost) ready to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8A67-D841-4A07-8131-7F4E059376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64072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ivat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alogy names are private in a D-f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←{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z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←99 ⋄ b ⍵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←{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z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+⍵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VALUE ERR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[0] b←{z+⍵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 ∧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E6B0-C49D-41DD-A337-C86CE24BD2C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rotecte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protect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 only be seen from within the instance of from nested or derived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1" name="Oval 4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F0E0-B3F7-4544-931E-04E234F6888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rotecte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alogy names are protected in a T-func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∇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r←a x;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z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[1]  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z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←99 ⋄ r←b x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∇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∇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r←b x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[1]  r←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z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+x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∇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 2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10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E963-AAFD-4546-BBFC-60ED465E7AA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ublic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 be seen from anywhere. All Methods can access it from anywhere whether it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 is s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ll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l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CFF2-FB95-46B1-B8D3-D42D270EE24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40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frien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lass declared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frie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see the offerer’s private and public member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4" name="AutoShape 14"/>
          <p:cNvSpPr/>
          <p:nvPr/>
        </p:nvSpPr>
        <p:spPr>
          <a:xfrm>
            <a:off x="5508720" y="4149720"/>
            <a:ext cx="2160360" cy="1727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Bp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B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iend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1890360" y="3521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1"/>
          <p:cNvSpPr/>
          <p:nvPr/>
        </p:nvSpPr>
        <p:spPr>
          <a:xfrm>
            <a:off x="5870160" y="3500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2"/>
          <p:cNvSpPr/>
          <p:nvPr/>
        </p:nvSpPr>
        <p:spPr>
          <a:xfrm>
            <a:off x="1547640" y="4148280"/>
            <a:ext cx="2160720" cy="93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Ap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A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3"/>
          <p:cNvSpPr/>
          <p:nvPr/>
        </p:nvSpPr>
        <p:spPr>
          <a:xfrm>
            <a:off x="5508720" y="472428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4"/>
          <p:cNvSpPr/>
          <p:nvPr/>
        </p:nvSpPr>
        <p:spPr>
          <a:xfrm flipH="1">
            <a:off x="3595680" y="4508640"/>
            <a:ext cx="220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5"/>
          <p:cNvSpPr/>
          <p:nvPr/>
        </p:nvSpPr>
        <p:spPr>
          <a:xfrm flipH="1" flipV="1">
            <a:off x="3564000" y="4724280"/>
            <a:ext cx="22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6"/>
          <p:cNvSpPr/>
          <p:nvPr/>
        </p:nvSpPr>
        <p:spPr>
          <a:xfrm>
            <a:off x="919800" y="5270400"/>
            <a:ext cx="37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 A sees B’s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its own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1765-A190-4728-AE5C-C0EB7A4CE3C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24000" y="17334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7. Polymorphism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 is behavior that allows a single definition to be used with different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typ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of data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a way to call various sections of code using the same na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yped languages can tell the difference by looking at the “signature” of the functions (their number of arguments and their typ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8A27-E4CC-4FCD-A3E8-F31F115327B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24000" y="1442880"/>
            <a:ext cx="864072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Polymorphism exampl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539640" y="2284560"/>
            <a:ext cx="360072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 (integer ar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fn called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an integer a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42 //“Int arg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4788000" y="2284560"/>
            <a:ext cx="360036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 (string ar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fn called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a string a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“String arg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"/>
          <p:cNvSpPr/>
          <p:nvPr/>
        </p:nvSpPr>
        <p:spPr>
          <a:xfrm>
            <a:off x="1621440" y="5430960"/>
            <a:ext cx="58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 function name, different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4BD7-9D8C-4E25-8136-B26F18D9FF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24000" y="1442880"/>
            <a:ext cx="864072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395280" y="2122560"/>
            <a:ext cx="79930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ogram that accepts multiple defin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said to b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verloade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c language example: + is used to add and caten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2+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‘aaa’+’bbb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aabb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D89E-D59A-4068-9E2C-AA3AAA8A32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24000" y="1658520"/>
            <a:ext cx="864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ore concept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395280" y="27176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many more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se presented here are the most common on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s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not an OO concept but it is often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4138-05C7-407E-8EF0-D9B7D82572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OO C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ncepts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8000" y="170136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O is based on +-7 key conce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bluepri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 are objects created from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ontain members (data &amp; cod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access is restric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relation between classes is based on inheritance and/or specific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at is an objec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object contains 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data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 </a:t>
            </a:r>
            <a:r>
              <a:rPr b="0" lang="en-GB" sz="2400" spc="-1" strike="noStrike" u="sng">
                <a:solidFill>
                  <a:srgbClr val="333333"/>
                </a:solidFill>
                <a:uFillTx/>
                <a:latin typeface="Geneva"/>
              </a:rPr>
              <a:t>and </a:t>
            </a:r>
            <a:r>
              <a:rPr b="0" i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code to handl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.g. Name and surname and a function to show them nic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C277-1228-4A79-8768-CC98E4F065C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C697-1FC4-41F2-94E0-31FBE514CD5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OO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27FF-513D-41AA-B541-476A63BF03E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WordArt 5"/>
          <p:cNvSpPr txBox="1"/>
          <p:nvPr/>
        </p:nvSpPr>
        <p:spPr>
          <a:xfrm>
            <a:off x="900000" y="1844640"/>
            <a:ext cx="7272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The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Dyalog APL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way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3694-DC58-4FA7-A8E7-0B74B41391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follows C# rules clos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xtensions to the language have been made in following with the 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: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Keywor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scheme introduced in the 90s (All new keywords start with ‘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: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’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me new system functions have been added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me new system 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1087-B130-49B7-8880-E04AA3CC782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731960"/>
            <a:ext cx="798984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see how Dyalog APL does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2554200" y="2589120"/>
            <a:ext cx="46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and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36E2-0E8B-47B9-B8C0-D6CE85F83D5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lass can be defined using the )EDitor as i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My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exiting, MyClass will be defined in the current namespace (e.g. #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67" name="Picture 4" descr=""/>
          <p:cNvPicPr/>
          <p:nvPr/>
        </p:nvPicPr>
        <p:blipFill>
          <a:blip r:embed="rId1"/>
          <a:stretch/>
        </p:blipFill>
        <p:spPr>
          <a:xfrm>
            <a:off x="5075280" y="2357280"/>
            <a:ext cx="331308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FD74-DD27-4AEB-B7BE-8170743BC92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workspac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My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ppears as a name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C ‘MyClass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CD5C-43B6-403F-8B90-08033020407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mbers in a clas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same as a varia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same as a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looks and feels like a variable but implemented as a (pair of)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can be eithe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the defaul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0F18-82A6-4231-AE7F-5AF34BAEA07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50560" y="1701720"/>
            <a:ext cx="331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to the right shows a few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s) and their ac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the same fo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ns) and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83" name="Group 10"/>
          <p:cNvGrpSpPr/>
          <p:nvPr/>
        </p:nvGrpSpPr>
        <p:grpSpPr>
          <a:xfrm>
            <a:off x="3635280" y="1933560"/>
            <a:ext cx="5268960" cy="4232160"/>
            <a:chOff x="3635280" y="1933560"/>
            <a:chExt cx="5268960" cy="4232160"/>
          </a:xfrm>
        </p:grpSpPr>
        <p:pic>
          <p:nvPicPr>
            <p:cNvPr id="784" name="Picture 6" descr=""/>
            <p:cNvPicPr/>
            <p:nvPr/>
          </p:nvPicPr>
          <p:blipFill>
            <a:blip r:embed="rId1"/>
            <a:stretch/>
          </p:blipFill>
          <p:spPr>
            <a:xfrm>
              <a:off x="3635280" y="1933560"/>
              <a:ext cx="52689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Rectangle 7"/>
            <p:cNvSpPr/>
            <p:nvPr/>
          </p:nvSpPr>
          <p:spPr>
            <a:xfrm>
              <a:off x="5419440" y="4319280"/>
              <a:ext cx="792360" cy="82872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8"/>
            <p:cNvSpPr/>
            <p:nvPr/>
          </p:nvSpPr>
          <p:spPr>
            <a:xfrm>
              <a:off x="5448240" y="3878280"/>
              <a:ext cx="18000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9"/>
            <p:cNvSpPr/>
            <p:nvPr/>
          </p:nvSpPr>
          <p:spPr>
            <a:xfrm>
              <a:off x="6211800" y="4929120"/>
              <a:ext cx="7189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F31C-5E96-4EB8-BAED-179F72B30E7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3168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class to the right shows a few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fns) and their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&lt;mon1&gt; is used as a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 It MUST be publi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93" name="Group 9"/>
          <p:cNvGrpSpPr/>
          <p:nvPr/>
        </p:nvGrpSpPr>
        <p:grpSpPr>
          <a:xfrm>
            <a:off x="4459320" y="1557360"/>
            <a:ext cx="4289400" cy="4608360"/>
            <a:chOff x="4459320" y="1557360"/>
            <a:chExt cx="4289400" cy="4608360"/>
          </a:xfrm>
        </p:grpSpPr>
        <p:pic>
          <p:nvPicPr>
            <p:cNvPr id="794" name="Picture 5" descr=""/>
            <p:cNvPicPr/>
            <p:nvPr/>
          </p:nvPicPr>
          <p:blipFill>
            <a:blip r:embed="rId1"/>
            <a:stretch/>
          </p:blipFill>
          <p:spPr>
            <a:xfrm>
              <a:off x="4459320" y="1557360"/>
              <a:ext cx="42894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Rectangle 6"/>
            <p:cNvSpPr/>
            <p:nvPr/>
          </p:nvSpPr>
          <p:spPr>
            <a:xfrm>
              <a:off x="5600880" y="3601800"/>
              <a:ext cx="215892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7"/>
            <p:cNvSpPr/>
            <p:nvPr/>
          </p:nvSpPr>
          <p:spPr>
            <a:xfrm>
              <a:off x="5599080" y="4336920"/>
              <a:ext cx="19447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8"/>
            <p:cNvSpPr/>
            <p:nvPr/>
          </p:nvSpPr>
          <p:spPr>
            <a:xfrm>
              <a:off x="5599080" y="3420720"/>
              <a:ext cx="1368360" cy="18072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9806-2D8A-43BE-851C-9163E15E52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316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class to the right shows 2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their acces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 is private and readonly (it has no </a:t>
            </a:r>
            <a:r>
              <a:rPr b="0" i="1" lang="en-GB" sz="2800" spc="-1" strike="noStrike">
                <a:solidFill>
                  <a:srgbClr val="99cc00"/>
                </a:solidFill>
                <a:latin typeface="Geneva"/>
              </a:rPr>
              <a:t>se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fn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 is public read/writ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03" name="Group 9"/>
          <p:cNvGrpSpPr/>
          <p:nvPr/>
        </p:nvGrpSpPr>
        <p:grpSpPr>
          <a:xfrm>
            <a:off x="4776840" y="1557360"/>
            <a:ext cx="3682800" cy="4608360"/>
            <a:chOff x="4776840" y="1557360"/>
            <a:chExt cx="3682800" cy="4608360"/>
          </a:xfrm>
        </p:grpSpPr>
        <p:pic>
          <p:nvPicPr>
            <p:cNvPr id="804" name="Picture 5" descr=""/>
            <p:cNvPicPr/>
            <p:nvPr/>
          </p:nvPicPr>
          <p:blipFill>
            <a:blip r:embed="rId1"/>
            <a:stretch/>
          </p:blipFill>
          <p:spPr>
            <a:xfrm>
              <a:off x="4776840" y="1557360"/>
              <a:ext cx="36828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Rectangle 6"/>
            <p:cNvSpPr/>
            <p:nvPr/>
          </p:nvSpPr>
          <p:spPr>
            <a:xfrm>
              <a:off x="5640120" y="2421000"/>
              <a:ext cx="2520720" cy="865080"/>
            </a:xfrm>
            <a:prstGeom prst="rect">
              <a:avLst/>
            </a:prstGeom>
            <a:solidFill>
              <a:srgbClr val="ff00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7"/>
            <p:cNvSpPr/>
            <p:nvPr/>
          </p:nvSpPr>
          <p:spPr>
            <a:xfrm>
              <a:off x="5640120" y="3429000"/>
              <a:ext cx="2520720" cy="2160360"/>
            </a:xfrm>
            <a:prstGeom prst="rect">
              <a:avLst/>
            </a:prstGeom>
            <a:solidFill>
              <a:srgbClr val="ff00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8"/>
            <p:cNvSpPr/>
            <p:nvPr/>
          </p:nvSpPr>
          <p:spPr>
            <a:xfrm>
              <a:off x="5713200" y="3573360"/>
              <a:ext cx="11505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name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the beginning APL had this kind of notion in the form of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Namespace = Workspace?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86ED-97DA-426C-B077-F1F8DB9484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8493-2A9D-46F6-A840-B0B66318C3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614160" y="158904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like blueprints: they define how things should b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NE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is a new system function that creates an object using a class as an instance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is in the class will appear in the instance as a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not a refere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stan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4B07-5467-409D-80C7-9BAC6E2BED8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685440" y="1874520"/>
            <a:ext cx="81342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NE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ccepts a one or two elements arg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ne is the class (not in quot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if present, is what to start/initialize the instance with. It can only be supplied if the class allow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title"/>
          </p:nvPr>
        </p:nvSpPr>
        <p:spPr>
          <a:xfrm>
            <a:off x="685800" y="566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5FF7-E9B0-4D59-B12F-13E7C19BC7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685440" y="1733400"/>
            <a:ext cx="813420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Instance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 ⎕NEW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display form includes [brackets] by defaul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Insta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[MyClass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is another type of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NC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myInstance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651A-021D-4F61-803D-20693BF7E2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685440" y="1733400"/>
            <a:ext cx="813420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allows to change the default Display Form of a name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⎕NEW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[MyClass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.⎕DF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OO class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O 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DF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A3B6-9AF4-4C2A-B476-5F7F8DD91F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323640" y="1587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lasses may requir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something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initialize the instance.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)ED ○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title"/>
          </p:nvPr>
        </p:nvSpPr>
        <p:spPr>
          <a:xfrm>
            <a:off x="323640" y="58104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onstruct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166680" y="3506760"/>
            <a:ext cx="415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t least tw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of le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ounds it mak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8"/>
          <p:cNvGrpSpPr/>
          <p:nvPr/>
        </p:nvGrpSpPr>
        <p:grpSpPr>
          <a:xfrm>
            <a:off x="4500720" y="2440080"/>
            <a:ext cx="4248000" cy="3652920"/>
            <a:chOff x="4500720" y="2440080"/>
            <a:chExt cx="4248000" cy="3652920"/>
          </a:xfrm>
        </p:grpSpPr>
        <p:pic>
          <p:nvPicPr>
            <p:cNvPr id="835" name="Picture 4" descr=""/>
            <p:cNvPicPr/>
            <p:nvPr/>
          </p:nvPicPr>
          <p:blipFill>
            <a:blip r:embed="rId1"/>
            <a:stretch/>
          </p:blipFill>
          <p:spPr>
            <a:xfrm>
              <a:off x="4500720" y="2440080"/>
              <a:ext cx="424800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Rectangle 6"/>
            <p:cNvSpPr/>
            <p:nvPr/>
          </p:nvSpPr>
          <p:spPr>
            <a:xfrm>
              <a:off x="5651640" y="3616560"/>
              <a:ext cx="2233800" cy="36036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7"/>
            <p:cNvSpPr/>
            <p:nvPr/>
          </p:nvSpPr>
          <p:spPr>
            <a:xfrm>
              <a:off x="5437440" y="4743720"/>
              <a:ext cx="2016000" cy="36036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4619-0398-41DB-A68D-6E9E449F58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323640" y="1587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everal instances can be made up of the same Animal clas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title"/>
          </p:nvPr>
        </p:nvSpPr>
        <p:spPr>
          <a:xfrm>
            <a:off x="323640" y="49356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onstruct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43" name="Picture 6" descr=""/>
          <p:cNvPicPr/>
          <p:nvPr/>
        </p:nvPicPr>
        <p:blipFill>
          <a:blip r:embed="rId1"/>
          <a:stretch/>
        </p:blipFill>
        <p:spPr>
          <a:xfrm>
            <a:off x="3429000" y="2135160"/>
            <a:ext cx="5175360" cy="229392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7"/>
          <p:cNvSpPr/>
          <p:nvPr/>
        </p:nvSpPr>
        <p:spPr>
          <a:xfrm>
            <a:off x="167040" y="2930400"/>
            <a:ext cx="85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running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in a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ce we hav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)o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ish monkey snake tiger Ani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NC ‘animals’   ⍝ this is a variable holding 4 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nimals.Nlegs   ⍝ how many legs for each anim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4 0 0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3067-EA1E-4D8F-8F6A-79545D231C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79280" y="566640"/>
            <a:ext cx="8856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message passing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PL this merely consists in calling the methods directly either from the instance or from the class if shared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class.sharedFn   arg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Instance.Fn   args ⍝ args if requir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7A64-A4B9-4251-BC79-BBD8279692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95280" y="56664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351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llie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Dog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55" name="Group 21"/>
          <p:cNvGrpSpPr/>
          <p:nvPr/>
        </p:nvGrpSpPr>
        <p:grpSpPr>
          <a:xfrm>
            <a:off x="179280" y="3359160"/>
            <a:ext cx="8353440" cy="2806200"/>
            <a:chOff x="179280" y="3359160"/>
            <a:chExt cx="8353440" cy="2806200"/>
          </a:xfrm>
        </p:grpSpPr>
        <p:sp>
          <p:nvSpPr>
            <p:cNvPr id="856" name="Rectangle 4"/>
            <p:cNvSpPr/>
            <p:nvPr/>
          </p:nvSpPr>
          <p:spPr>
            <a:xfrm>
              <a:off x="684360" y="436680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5"/>
            <p:cNvSpPr/>
            <p:nvPr/>
          </p:nvSpPr>
          <p:spPr>
            <a:xfrm>
              <a:off x="2771640" y="357480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og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6948360" y="515736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7"/>
            <p:cNvSpPr/>
            <p:nvPr/>
          </p:nvSpPr>
          <p:spPr>
            <a:xfrm>
              <a:off x="2771640" y="494316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h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8"/>
            <p:cNvSpPr/>
            <p:nvPr/>
          </p:nvSpPr>
          <p:spPr>
            <a:xfrm>
              <a:off x="6948360" y="400644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do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10"/>
            <p:cNvSpPr/>
            <p:nvPr/>
          </p:nvSpPr>
          <p:spPr>
            <a:xfrm>
              <a:off x="4859280" y="472716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lli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2" name="AutoShape 11"/>
            <p:cNvCxnSpPr>
              <a:stCxn id="856" idx="3"/>
              <a:endCxn id="857" idx="1"/>
            </p:cNvCxnSpPr>
            <p:nvPr/>
          </p:nvCxnSpPr>
          <p:spPr>
            <a:xfrm flipV="1">
              <a:off x="2268360" y="4079160"/>
              <a:ext cx="504000" cy="79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3" name="AutoShape 12"/>
            <p:cNvCxnSpPr>
              <a:stCxn id="856" idx="3"/>
              <a:endCxn id="859" idx="1"/>
            </p:cNvCxnSpPr>
            <p:nvPr/>
          </p:nvCxnSpPr>
          <p:spPr>
            <a:xfrm>
              <a:off x="2268360" y="4871520"/>
              <a:ext cx="50400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4" name="AutoShape 13"/>
            <p:cNvCxnSpPr>
              <a:stCxn id="857" idx="3"/>
              <a:endCxn id="865" idx="1"/>
            </p:cNvCxnSpPr>
            <p:nvPr/>
          </p:nvCxnSpPr>
          <p:spPr>
            <a:xfrm flipV="1">
              <a:off x="4355640" y="3863520"/>
              <a:ext cx="361080" cy="21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6" name="AutoShape 14"/>
            <p:cNvCxnSpPr>
              <a:stCxn id="857" idx="3"/>
              <a:endCxn id="861" idx="1"/>
            </p:cNvCxnSpPr>
            <p:nvPr/>
          </p:nvCxnSpPr>
          <p:spPr>
            <a:xfrm>
              <a:off x="4356000" y="4079160"/>
              <a:ext cx="504000" cy="115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7" name="AutoShape 15"/>
            <p:cNvCxnSpPr>
              <a:stCxn id="861" idx="3"/>
              <a:endCxn id="860" idx="1"/>
            </p:cNvCxnSpPr>
            <p:nvPr/>
          </p:nvCxnSpPr>
          <p:spPr>
            <a:xfrm flipV="1">
              <a:off x="6443640" y="4510800"/>
              <a:ext cx="505440" cy="72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8" name="AutoShape 16"/>
            <p:cNvCxnSpPr>
              <a:stCxn id="861" idx="3"/>
              <a:endCxn id="858" idx="1"/>
            </p:cNvCxnSpPr>
            <p:nvPr/>
          </p:nvCxnSpPr>
          <p:spPr>
            <a:xfrm>
              <a:off x="6443640" y="5232240"/>
              <a:ext cx="505440" cy="430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9" name="Text Box 17"/>
            <p:cNvSpPr/>
            <p:nvPr/>
          </p:nvSpPr>
          <p:spPr>
            <a:xfrm>
              <a:off x="7021800" y="35492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bfd87"/>
                  </a:solidFill>
                  <a:latin typeface="Arial"/>
                </a:rPr>
                <a:t>Instanc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 Box 18"/>
            <p:cNvSpPr/>
            <p:nvPr/>
          </p:nvSpPr>
          <p:spPr>
            <a:xfrm>
              <a:off x="3051000" y="454644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Arial"/>
                </a:rPr>
                <a:t>Class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19"/>
            <p:cNvSpPr/>
            <p:nvPr/>
          </p:nvSpPr>
          <p:spPr>
            <a:xfrm>
              <a:off x="179280" y="487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20"/>
            <p:cNvSpPr/>
            <p:nvPr/>
          </p:nvSpPr>
          <p:spPr>
            <a:xfrm>
              <a:off x="4716360" y="3359160"/>
              <a:ext cx="194472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at Dan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9139-770F-4F15-AF05-124E1EDB63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323640" y="1803240"/>
            <a:ext cx="813420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xample: a bird’s generic description is ‘plain Bird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Birdy←⎕NEW Bi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Birdy.Desc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lain Bi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title"/>
          </p:nvPr>
        </p:nvSpPr>
        <p:spPr>
          <a:xfrm>
            <a:off x="468360" y="56664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77" name="Group 27"/>
          <p:cNvGrpSpPr/>
          <p:nvPr/>
        </p:nvGrpSpPr>
        <p:grpSpPr>
          <a:xfrm>
            <a:off x="754200" y="4149720"/>
            <a:ext cx="3888720" cy="1008000"/>
            <a:chOff x="754200" y="4149720"/>
            <a:chExt cx="3888720" cy="1008000"/>
          </a:xfrm>
        </p:grpSpPr>
        <p:sp>
          <p:nvSpPr>
            <p:cNvPr id="878" name="Rectangle 4"/>
            <p:cNvSpPr/>
            <p:nvPr/>
          </p:nvSpPr>
          <p:spPr>
            <a:xfrm>
              <a:off x="1114200" y="414972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9" name="AutoShape 12"/>
            <p:cNvCxnSpPr>
              <a:stCxn id="878" idx="3"/>
              <a:endCxn id="880" idx="1"/>
            </p:cNvCxnSpPr>
            <p:nvPr/>
          </p:nvCxnSpPr>
          <p:spPr>
            <a:xfrm>
              <a:off x="2698560" y="4654080"/>
              <a:ext cx="360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0" name="Rectangle 19"/>
            <p:cNvSpPr/>
            <p:nvPr/>
          </p:nvSpPr>
          <p:spPr>
            <a:xfrm>
              <a:off x="3058920" y="4149720"/>
              <a:ext cx="158400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y (Bird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20"/>
            <p:cNvSpPr/>
            <p:nvPr/>
          </p:nvSpPr>
          <p:spPr>
            <a:xfrm>
              <a:off x="754200" y="46544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Rectangle 23"/>
          <p:cNvSpPr/>
          <p:nvPr/>
        </p:nvSpPr>
        <p:spPr>
          <a:xfrm>
            <a:off x="324000" y="3573360"/>
            <a:ext cx="1511280" cy="503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26"/>
          <p:cNvGrpSpPr/>
          <p:nvPr/>
        </p:nvGrpSpPr>
        <p:grpSpPr>
          <a:xfrm>
            <a:off x="4932360" y="2749680"/>
            <a:ext cx="3887640" cy="2766960"/>
            <a:chOff x="4932360" y="2749680"/>
            <a:chExt cx="3887640" cy="2766960"/>
          </a:xfrm>
        </p:grpSpPr>
        <p:pic>
          <p:nvPicPr>
            <p:cNvPr id="884" name="Picture 22" descr=""/>
            <p:cNvPicPr/>
            <p:nvPr/>
          </p:nvPicPr>
          <p:blipFill>
            <a:blip r:embed="rId1"/>
            <a:stretch/>
          </p:blipFill>
          <p:spPr>
            <a:xfrm>
              <a:off x="4932360" y="2749680"/>
              <a:ext cx="3887640" cy="27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Rectangle 24"/>
            <p:cNvSpPr/>
            <p:nvPr/>
          </p:nvSpPr>
          <p:spPr>
            <a:xfrm>
              <a:off x="6661080" y="4314960"/>
              <a:ext cx="1224000" cy="28872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Text Box 25"/>
          <p:cNvSpPr/>
          <p:nvPr/>
        </p:nvSpPr>
        <p:spPr>
          <a:xfrm>
            <a:off x="591840" y="5573880"/>
            <a:ext cx="80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Birdy is created, Bird’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al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90CB-E6C0-49D9-80CA-E2E106388E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1342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base class has a constructor it must be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se constructors are called when th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:Implements con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statement is reach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several classes are based one on another their constructors’ call are made in the same fash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title"/>
          </p:nvPr>
        </p:nvSpPr>
        <p:spPr>
          <a:xfrm>
            <a:off x="468360" y="63792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2:30:52Z</dcterms:created>
  <dc:creator>DanB</dc:creator>
  <dc:description/>
  <dc:language>en-US</dc:language>
  <cp:lastModifiedBy>danb</cp:lastModifiedBy>
  <dcterms:modified xsi:type="dcterms:W3CDTF">2011-09-02T01:53:25Z</dcterms:modified>
  <cp:revision>614</cp:revision>
  <dc:subject/>
  <dc:title>OO Obj OR pgm</dc:title>
</cp:coreProperties>
</file>