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6.wmf" ContentType="image/x-wmf"/>
  <Override PartName="/ppt/media/image83.wmf" ContentType="image/x-wmf"/>
  <Override PartName="/ppt/media/image11.png" ContentType="image/png"/>
  <Override PartName="/ppt/media/image65.wmf" ContentType="image/x-wmf"/>
  <Override PartName="/ppt/media/image66.png" ContentType="image/png"/>
  <Override PartName="/ppt/media/image67.png" ContentType="image/png"/>
  <Override PartName="/ppt/media/image70.png" ContentType="image/png"/>
  <Override PartName="/ppt/media/image69.png" ContentType="image/png"/>
  <Override PartName="/ppt/media/image72.wmf" ContentType="image/x-wmf"/>
  <Override PartName="/ppt/media/image71.png" ContentType="image/png"/>
  <Override PartName="/ppt/media/image74.png" ContentType="image/png"/>
  <Override PartName="/ppt/media/image75.png" ContentType="image/png"/>
  <Override PartName="/ppt/media/image76.wmf" ContentType="image/x-wmf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22.wmf" ContentType="image/x-wmf"/>
  <Override PartName="/ppt/media/image97.png" ContentType="image/png"/>
  <Override PartName="/ppt/media/image60.png" ContentType="image/png"/>
  <Override PartName="/ppt/media/image18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16.png" ContentType="image/png"/>
  <Override PartName="/ppt/media/image73.png" ContentType="image/png"/>
  <Override PartName="/ppt/media/image93.wmf" ContentType="image/x-wmf"/>
  <Override PartName="/ppt/media/image92.png" ContentType="image/png"/>
  <Override PartName="/ppt/media/image88.png" ContentType="image/png"/>
  <Override PartName="/ppt/media/image79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77.png" ContentType="image/png"/>
  <Override PartName="/ppt/media/image29.png" ContentType="image/png"/>
  <Override PartName="/ppt/media/image94.png" ContentType="image/png"/>
  <Override PartName="/ppt/media/image91.png" ContentType="image/png"/>
  <Override PartName="/ppt/media/image26.png" ContentType="image/png"/>
  <Override PartName="/ppt/media/image19.png" ContentType="image/png"/>
  <Override PartName="/ppt/media/image84.png" ContentType="image/png"/>
  <Override PartName="/ppt/media/image89.wmf" ContentType="image/x-wmf"/>
  <Override PartName="/ppt/media/image21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4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80.wmf" ContentType="image/x-wmf"/>
  <Override PartName="/ppt/media/image58.png" ContentType="image/png"/>
  <Override PartName="/ppt/media/image15.wmf" ContentType="image/x-wmf"/>
  <Override PartName="/ppt/media/image3.wmf" ContentType="image/x-wmf"/>
  <Override PartName="/ppt/media/image52.png" ContentType="image/png"/>
  <Override PartName="/ppt/media/image5.wmf" ContentType="image/x-wmf"/>
  <Override PartName="/ppt/media/image27.jpeg" ContentType="image/jpeg"/>
  <Override PartName="/ppt/media/image25.png" ContentType="image/png"/>
  <Override PartName="/ppt/media/image9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A954-A0BC-410F-87DB-A51F4447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8D85-DA37-4F22-9CB9-54785815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6A7B-0E93-4298-B078-DC9F48B2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between config and the workspace: the workspace is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1E38-7F02-43A0-8A77-B107FD0AE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FC45-8602-49C8-A3D2-109B983C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537A-6813-4AEE-BFCF-2DD8011B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C61-20F5-46AC-872C-7301CA4D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9629-DC0A-4F90-AE37-2C0720477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A1A4-8045-4B64-BD9D-8588FC4F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C7F3-C62A-4DE0-B24F-E959E6C2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Unix there is no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CDAC-BFF6-4320-B9FF-A171E5D8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06E1-CBB0-4742-BC85-DE521B000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794B-BB19-4F90-9282-80DC3344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D278-D859-43B0-AB2A-515EB8F8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E40F-BDBC-4E41-9785-B872511AC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974A-85FB-4568-B6B5-8F339505F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lename and the object name can b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BEE2-2ED2-4629-BC16-1EE7A760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678-1B66-40B0-AF4C-19ABD8066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2EA-CE41-4E5F-A538-A45F4A88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3876-C18D-4055-BC94-C137E6B4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E19B-BCDE-4243-9870-18E15AAB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the numbered and non numbered files are kept when versionning is in effect. The latest versioned file is the same as the non numbered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0FF1-0A68-431A-8806-4DC20362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06B4-F2E0-4F5E-9AC8-3449BFFE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name] only works under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ED5B-2A5D-4F94-B7A0-FB2862E3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FE23-37D9-4370-B565-E51FD8D8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6BE4-284D-41EC-B212-BF814658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figures out if it’s the name of a variable only when v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B5E2-27FC-4EB9-A689-0496CE14A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D1A6-C1CA-4F9F-847F-C66C9252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E5E-3B21-41D9-BFD1-A0E7F2B3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631-B5D7-4908-AAB6-FB3430CB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3A6D-9ECD-49FE-9BB1-0C5393AF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 (surrog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C30C-C579-4C0E-9CDB-966210EB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Save does it automatically if  that is the reason to change the format using the –conve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290-E49F-48F4-99FF-2DD11C20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less specifically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2CB-262B-4E8B-BA67-32CA7277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 you to specify if Spice is 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0E23-D4EB-47AF-9171-ADA50975D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C12C-CA44-40C5-862A-4C86BAB7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73BC-A1D0-42B3-83D9-82652B1E6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6F8E-EB77-4999-99A9-FBFF5861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4923-D7AA-43F2-8CD2-FAAD41761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E1C-B66C-445F-AE8E-65B0E971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1F4-30BF-4505-8E99-E6BA8D409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2178-C878-47FD-AECB-91B1CC7C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A6AB-4D0C-452A-B156-D996BC9D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5EA-DFF7-410B-8869-8A788F5B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BEFC-D163-4A4C-81E9-B4D0E18F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B145-F421-450F-AD2B-C9990569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1E3E-2650-4E94-AAF1-EBD0F281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most complex ucm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006-772E-49B1-995C-E54BC43B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479-1388-4004-8DB0-88657B10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B94-E5A9-413B-BB40-8861709D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594-F9C0-4F8A-891A-18B36A14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6CF5D-6F29-4136-8CD1-F2A7DF6CBB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66CCD-0C64-473B-B9F0-8BD608CE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A2C74-934F-4051-97E8-BFC09A4E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71A71-42A1-41BC-A0EC-C4CFDDA9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B65D5-603F-467E-B76A-79E66A2F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63102-74B7-4F40-B47D-0F426189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9FB52-5D10-40D1-A280-DD41175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788-93AC-4453-B45A-1582809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3CCA6-77C9-43CF-85F3-802E8FE4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3B22C-1485-4958-9335-5F8EA305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D561D-814E-4CBB-A46B-F508D060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1166C-B1D1-4430-A271-8FB8FDA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58535-C9F9-4377-B719-BA3D996DC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0BD-CD46-4581-BEFD-20D4F00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C5C-1B2D-4CDE-B6B0-75727561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0D7-B5F5-4DA8-A58D-DB182D7D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270-3EE3-4A30-9973-FB8B7B2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06A-8089-4419-B13D-EB68139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BA0-267A-48CC-AB50-F031F8A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7BD-0AB3-4427-A2B2-9BAAC67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6C83-AF55-4403-96CA-C416525D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45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EDA-4F3C-4933-ABC6-EECE59EAA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88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65.wmf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wmf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FD9-D350-4A55-90D6-BD8E4E9F8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551664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c  v1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857-9392-4764-BD7C-56964110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326D-F641-404F-A780-A75537D8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92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D593-CCFA-4CCA-8485-4301274A8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71E-CA66-45C4-B076-CEE80BEC6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408720" cy="3654360"/>
          </a:xfrm>
          <a:prstGeom prst="rect">
            <a:avLst/>
          </a:prstGeom>
          <a:ln w="0">
            <a:noFill/>
          </a:ln>
        </p:spPr>
      </p:pic>
      <p:sp>
        <p:nvSpPr>
          <p:cNvPr id="2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9705-C621-4B4E-ABCF-29B14690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5722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4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Oval 10"/>
          <p:cNvSpPr/>
          <p:nvPr/>
        </p:nvSpPr>
        <p:spPr>
          <a:xfrm>
            <a:off x="3151080" y="3274920"/>
            <a:ext cx="34128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556000" y="3500280"/>
            <a:ext cx="752400" cy="2034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936800" y="3490920"/>
            <a:ext cx="547560" cy="223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5A8-1428-4570-A591-89893D46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8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591B-FB0D-4C7C-967C-5D80FD95A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37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26E5-771D-4DEE-9866-328961412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49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D7DE-4C29-4316-AA8E-2951F55D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260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8BA-9B0F-4C6A-A396-B5BF61A3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67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1481-EA9F-41D4-9765-5DC95CBF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objects with a representation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BE67-1BA4-463A-90C8-9B913938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B8F2-D37C-43BE-B748-63257C02A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47720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6C8D-9750-4F9F-A9A3-E62DBD707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C56-B867-436A-B2F1-43BC9FDF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6C0-74F1-40A2-BDCB-6E4DCB670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you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9279-2F6C-4768-9E73-54E86E90F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30BE-D296-40B4-AC19-7C67D619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49E1-6CD6-4B79-B783-87B1A920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178-EEAC-4D1F-826E-7F5B77EFE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70A1-3361-4AD4-A708-F291C1CF1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33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6167-E141-45A8-838C-1BD6CA32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/[]CR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CE73-EF88-479D-9DD5-E60D5D31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4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E81D-F38B-4EEC-9F98-9FD762F9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54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58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364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1C25-0414-490B-802D-19004E641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7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76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27B0-C396-4BC1-99F2-E9C23792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89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2432-3EB1-47B9-9E6F-4CEF58920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92B1-9223-4F2E-8024-837A1A72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2"/>
          <a:stretch/>
        </p:blipFill>
        <p:spPr>
          <a:xfrm>
            <a:off x="3346560" y="2852640"/>
            <a:ext cx="5762520" cy="3934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539640" y="292428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0A2-F71A-4EFF-BFC5-080974793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2"/>
          <a:stretch/>
        </p:blipFill>
        <p:spPr>
          <a:xfrm>
            <a:off x="1619280" y="3166920"/>
            <a:ext cx="5977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70D2-F5EA-4E0A-A8D7-C0E37F590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1EB-05E1-48C4-9074-81D71847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3" descr=""/>
          <p:cNvPicPr/>
          <p:nvPr/>
        </p:nvPicPr>
        <p:blipFill>
          <a:blip r:embed="rId1"/>
          <a:stretch/>
        </p:blipFill>
        <p:spPr>
          <a:xfrm>
            <a:off x="2182680" y="411156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0548-826B-4654-978D-DA92EEA92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434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"/>
          <p:cNvSpPr/>
          <p:nvPr/>
        </p:nvSpPr>
        <p:spPr>
          <a:xfrm>
            <a:off x="4105440" y="4778280"/>
            <a:ext cx="93636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2D75-4F92-4658-9ABF-03D39B47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3" descr=""/>
          <p:cNvPicPr/>
          <p:nvPr/>
        </p:nvPicPr>
        <p:blipFill>
          <a:blip r:embed="rId1"/>
          <a:stretch/>
        </p:blipFill>
        <p:spPr>
          <a:xfrm>
            <a:off x="2081160" y="396720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2513-51C5-4A66-9DC9-76955FB2D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446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4014720" y="46432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C755-0073-46DD-8658-5BCB6B5EB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editor temporarily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50C7-74FF-492A-834D-7E6043081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66E3-2A9B-43B8-978E-A08F764C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1E5D-57AA-4CE0-AA3F-091068AA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3817-8061-41BE-9375-1EC1FB57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  <p:sp>
        <p:nvSpPr>
          <p:cNvPr id="476" name="Rounded Rectangle 7"/>
          <p:cNvSpPr/>
          <p:nvPr/>
        </p:nvSpPr>
        <p:spPr>
          <a:xfrm>
            <a:off x="539640" y="1916280"/>
            <a:ext cx="431964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lowchart: Magnetic Disk 12"/>
          <p:cNvSpPr/>
          <p:nvPr/>
        </p:nvSpPr>
        <p:spPr>
          <a:xfrm>
            <a:off x="5435640" y="2060640"/>
            <a:ext cx="2736720" cy="345600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ight Arrow 11"/>
          <p:cNvSpPr/>
          <p:nvPr/>
        </p:nvSpPr>
        <p:spPr>
          <a:xfrm>
            <a:off x="2987640" y="2781360"/>
            <a:ext cx="2808360" cy="4316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Arrow 13"/>
          <p:cNvSpPr/>
          <p:nvPr/>
        </p:nvSpPr>
        <p:spPr>
          <a:xfrm>
            <a:off x="4284720" y="3789360"/>
            <a:ext cx="1582560" cy="431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ight Arrow 14"/>
          <p:cNvSpPr/>
          <p:nvPr/>
        </p:nvSpPr>
        <p:spPr>
          <a:xfrm>
            <a:off x="3132000" y="4797360"/>
            <a:ext cx="2808360" cy="432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"/>
          <p:cNvSpPr/>
          <p:nvPr/>
        </p:nvSpPr>
        <p:spPr>
          <a:xfrm>
            <a:off x="2484360" y="3141720"/>
            <a:ext cx="2232000" cy="172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1042920" y="3789360"/>
            <a:ext cx="2376720" cy="1871640"/>
          </a:xfrm>
          <a:prstGeom prst="ellipse">
            <a:avLst/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0"/>
          <p:cNvSpPr/>
          <p:nvPr/>
        </p:nvSpPr>
        <p:spPr>
          <a:xfrm>
            <a:off x="900000" y="2349360"/>
            <a:ext cx="2376720" cy="194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ss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8"/>
          <p:cNvSpPr/>
          <p:nvPr/>
        </p:nvSpPr>
        <p:spPr>
          <a:xfrm>
            <a:off x="5946840" y="278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y/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9"/>
          <p:cNvSpPr/>
          <p:nvPr/>
        </p:nvSpPr>
        <p:spPr>
          <a:xfrm>
            <a:off x="5946120" y="3789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Arial"/>
              </a:rPr>
              <a:t>My/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6017400" y="4797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My/f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6D6E-3AF4-451D-BB9E-F38D5EF1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onl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ng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3F8D-2A4C-499A-ACE9-68975E0F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2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23864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F252-FA4C-4E17-BB9A-1559D24F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5" descr=""/>
          <p:cNvPicPr/>
          <p:nvPr/>
        </p:nvPicPr>
        <p:blipFill>
          <a:blip r:embed="rId5"/>
          <a:stretch/>
        </p:blipFill>
        <p:spPr>
          <a:xfrm>
            <a:off x="5232240" y="4869000"/>
            <a:ext cx="38037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6A8C-9EF1-4245-B675-8A5F95DE8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A8C5-345D-4410-9D1C-9D2FA6584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1B7-AC18-4158-86B8-B848B622C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9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5133960" cy="2962080"/>
          </a:xfrm>
          <a:prstGeom prst="rect">
            <a:avLst/>
          </a:prstGeom>
          <a:ln w="0">
            <a:noFill/>
          </a:ln>
        </p:spPr>
      </p:pic>
      <p:sp>
        <p:nvSpPr>
          <p:cNvPr id="5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B222-9BD8-4B3C-963A-CAA40AE52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4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481320" y="5084640"/>
            <a:ext cx="69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e all the versions you need to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2987640" y="3357720"/>
            <a:ext cx="719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971640" y="36450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5882040" y="220500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listed without 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play show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727960" y="3141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H="1" flipV="1">
            <a:off x="4355640" y="306828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3"/>
          <p:cNvSpPr/>
          <p:nvPr/>
        </p:nvSpPr>
        <p:spPr>
          <a:xfrm flipH="1">
            <a:off x="4355640" y="34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8606880" y="58053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7"/>
          <p:cNvSpPr/>
          <p:nvPr/>
        </p:nvSpPr>
        <p:spPr>
          <a:xfrm>
            <a:off x="1766160" y="2871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03C1-BED7-4BDA-9845-8EA38B9DF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56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5028-AA63-4B6C-81FE-2992C9EF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64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4616-DD31-4485-9A9A-F19E4ECD0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7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0AD6-5C0D-4680-9365-B14CF649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8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798-355C-4913-AA9C-89C5CE5C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2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BF4-572C-4250-B9F2-E69A1EC7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9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605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8A31-880D-4224-AA82-4779F6844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622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object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6EA9-0786-4400-9DE8-10DA4AF0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056E-DD40-4058-B448-805544175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AP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9F2-2F27-4978-BB73-FC3BEE6F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643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Picture 8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6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DF80-A25A-40F2-A64B-6FAB7E2F4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MCj02904610000[1]"/>
          <p:cNvPicPr/>
          <p:nvPr/>
        </p:nvPicPr>
        <p:blipFill>
          <a:blip r:embed="rId3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1116000" y="3645000"/>
            <a:ext cx="669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4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6A2-9C02-4B43-8E66-DC142C74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file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ir objects become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file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98CB-6C1A-467F-B800-46080F90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A93F-07F6-4D7C-9F4D-8AB868B1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when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5F33-60BC-4522-8A34-C39055EE0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5028-C9E1-4BB3-8251-414C21FC0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7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691A-3D6D-40EB-AB8E-831C1F03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F82D-DE6A-4422-9B66-66739179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use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with each directory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SALT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"/>
          <p:cNvSpPr/>
          <p:nvPr/>
        </p:nvSpPr>
        <p:spPr>
          <a:xfrm>
            <a:off x="2987640" y="537372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0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058160" cy="2271960"/>
          </a:xfrm>
          <a:prstGeom prst="rect">
            <a:avLst/>
          </a:prstGeom>
          <a:ln w="0">
            <a:noFill/>
          </a:ln>
        </p:spPr>
      </p:pic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4791-7519-476D-BD83-026D264F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make thi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a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6545160" y="47196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470560" y="468144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D0DF-C8BC-426E-9D14-6201F444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3223810000[1]"/>
          <p:cNvPicPr/>
          <p:nvPr/>
        </p:nvPicPr>
        <p:blipFill>
          <a:blip r:embed="rId1"/>
          <a:stretch/>
        </p:blipFill>
        <p:spPr>
          <a:xfrm>
            <a:off x="428472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B5FD-E974-471A-A557-E0C01078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351B-EFC3-49DE-AD83-C34AC49D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7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7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7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E695-BF89-4C74-8C25-57275E18B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F3D4-AFE4-45A9-A7C9-9DDDA94D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Ca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Vi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X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2411-6180-407D-8119-94236509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209-B25B-48D4-AE0E-E9D41D0DE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28AE-2359-4141-BE7A-49DB258A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3986-FCC5-44A7-B478-9A4B059A7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83E1-3F79-412C-8707-4899A5AF1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761760" y="46530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Rectangle 5" descr=""/>
          <p:cNvPicPr/>
          <p:nvPr/>
        </p:nvPicPr>
        <p:blipFill>
          <a:blip r:embed="rId1"/>
          <a:stretch/>
        </p:blipFill>
        <p:spPr>
          <a:xfrm>
            <a:off x="1322280" y="4260960"/>
            <a:ext cx="7053480" cy="110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2.5E-006 -0.16805 E">
                                      <p:cBhvr>
                                        <p:cTn id="167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098-D9A4-4156-96ED-DEA574E50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in conjunction 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the framework of the User Comm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uses SALT to load code (commands) and execu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lway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AA1-746A-4B9E-960E-67047C96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96268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Oval 6"/>
          <p:cNvSpPr/>
          <p:nvPr/>
        </p:nvSpPr>
        <p:spPr>
          <a:xfrm>
            <a:off x="1738440" y="27813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F83B-E264-41AB-8E09-DCA0A0CA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793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8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62680" cy="4343400"/>
          </a:xfrm>
          <a:prstGeom prst="rect">
            <a:avLst/>
          </a:prstGeom>
          <a:ln w="0">
            <a:noFill/>
          </a:ln>
        </p:spPr>
      </p:pic>
      <p:sp>
        <p:nvSpPr>
          <p:cNvPr id="7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4803-AC38-44DF-A0B8-F676E53CD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9640" y="14410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"/>
          <p:cNvSpPr/>
          <p:nvPr/>
        </p:nvSpPr>
        <p:spPr>
          <a:xfrm>
            <a:off x="1619280" y="295272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ED4-65EF-48D4-8678-76B686C0F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P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806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r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commands are called using a right bracket syntax like system commands  which use a right parenthesis syntax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workspac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load scrip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A9F-013C-4BAF-8547-EA5BDAAC3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9" descr=""/>
          <p:cNvPicPr/>
          <p:nvPr/>
        </p:nvPicPr>
        <p:blipFill>
          <a:blip r:embed="rId1"/>
          <a:stretch/>
        </p:blipFill>
        <p:spPr>
          <a:xfrm>
            <a:off x="882720" y="2421000"/>
            <a:ext cx="7505640" cy="3809880"/>
          </a:xfrm>
          <a:prstGeom prst="rect">
            <a:avLst/>
          </a:prstGeom>
          <a:ln w="0">
            <a:noFill/>
          </a:ln>
        </p:spPr>
      </p:pic>
      <p:sp>
        <p:nvSpPr>
          <p:cNvPr id="8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71BB-0505-46A8-BF57-DF103E27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  ]?  in the s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17" name="Oval 8"/>
          <p:cNvSpPr/>
          <p:nvPr/>
        </p:nvSpPr>
        <p:spPr>
          <a:xfrm>
            <a:off x="1306440" y="2997360"/>
            <a:ext cx="38592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B126-CAED-4FB0-9623-28EBAA7D9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ile FIN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d\w*g\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are found names starting with ‘d’ and ending with ‘g’ in the files managed by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re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replac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C23D-4512-418C-9D0A-8FA1DB26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A56-460D-412B-8B25-AF9AFB40E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7E5-FA27-43D9-9ED3-A7E1482D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89A0-57A0-41FA-A089-A1F17083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namespace or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calls myfile fn -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8A8B-4A9F-4902-AE3B-D67043E4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173E-33CE-4263-886D-53218984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A35-E768-4C53-A916-D9B5E6FE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A8ED-3C6F-4D48-96EB-5CBA7AE5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n a class or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366D-747C-4C89-9923-F78B478D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n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31A1-0F6F-460D-BB58-10EB17E0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commands to compare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fncompare    : compare 2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varcompare  : compare 2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wscompare  : compare 2 work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imilar swit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4600-E107-48A1-BB33-0EBB1B920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ws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mand allows you to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 text in the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. It can also perform replac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ll detail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??ws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38CF-A7C1-4753-964A-A43244BC9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ripted namespaces and 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1AD2-1255-4A5E-B55B-D09F5BB61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8:34Z</dcterms:modified>
  <cp:revision>185</cp:revision>
  <dc:subject/>
  <dc:title>SALT in Dyalog</dc:title>
</cp:coreProperties>
</file>