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3720-6472-476D-A048-1B66821D83D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07BF-98B6-46C4-A6B3-018B24A2C2D6}"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BD8D-956C-4DD3-9A48-B72D40114BA7}"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ake effect until you reload APL tho</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F075-FCFA-46F5-A235-EEC2E36ACAA8}"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20AA-F7D5-40F8-8218-2535E871AFC6}"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FD44-C34F-46FA-8D4A-DA9A52BB2BC3}"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B56D-E36E-40FD-ABE4-4A38B7E5C45D}"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1D371-4E38-4D9C-933C-C7E1D13D6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58872-A1ED-480D-ACD5-351F12E7B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8210CBD-BF75-4B1E-9BDD-6992C0FD03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A8F798B-87F5-4F1F-B41C-5D2DDCDEC5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710038F-80F2-4D62-BE8A-F5A814D39E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90E073A-5530-403B-8ECA-22AAEF5D9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53B890E-59A6-48B8-85AC-19A20C5180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6C277A3-DB93-4E35-9190-E66B4AE57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02CC122-1C6E-4D2B-9EE6-2F8443D053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A0D0375-3FC4-499F-B329-056E2227EE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F325087-E5CD-4A93-AB61-5840093BD8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A9ADE6-8DD2-4540-A51F-66ADE14097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D3780-D413-429E-AB43-D9A4CEB44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63E708-648D-4F1B-8D0A-623D0F7148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BA5780-39C5-4395-AC5A-B566837127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149FFA-78A0-4BF6-B61D-711DFD2AE0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A767B3-77CC-4C95-8CA8-07FB4A992A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1BB200-A691-4D18-AD56-1243CF5D1B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A3D047-15FE-45C6-876B-01967F6702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5C1F02-7658-4B78-B754-E73420B7CA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90D3F6-AA1D-4459-B904-44D31CB10E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88F3FD-8292-485E-8CC1-13FD468099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85CD4C-D5FF-4142-B331-B66CACEF13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78F1D-08C8-4115-9C76-F3EBBB346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81619F-405B-48A8-8948-6E615F5448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81E1A2-42DC-47C5-8E2C-FAC5452B25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55D889-519A-4F83-8F46-2902422CC6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8E6BA0-32F8-44A7-A3B3-6D367786E4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65628B-230A-482B-B8CF-D8CD76C663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E0D3C7-2F03-4E01-B946-098EEC080E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1CAA0C-CBC8-4FC7-A90F-8C3763BF67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A9D96D-65E8-4241-9D42-8BC5974DC7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1E1525-DDFA-4F2A-B588-EE2EE26F70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6D0BBE-DA6A-4FA0-9415-C9C45D93E7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3420D-73EA-43A5-95AF-04F69C31F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9574C8-D2A2-4623-983D-013E15E08D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A23073-94C2-4231-9128-B0C4A3E6BB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D699B0-CEA8-4E4C-BF4A-5EF77CF038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8C1288-F9D6-45C4-A4E7-57A3DA34BF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B1431D-F4ED-490A-8C19-C4895FD9E2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8F204A-BAA0-421D-B6CA-993775589C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FF8FC3-1B4C-450D-A773-DF5DB859C7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CDCB2C-4322-4140-8A61-D6E1B88924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F41FAB-3CC0-44BF-A527-040F78352D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F61BF7-700B-404D-B2A7-3E01E4FDCC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6016B-2627-448C-9066-69A99CDD8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3BA14C-74CA-4726-AD3C-A70E316EC9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0D55D8-8626-4AA3-AF11-57C55A45FD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09D924-869E-4861-9FD8-A79DE68531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F74613E-50AD-4519-8DAA-9E2C7FB2D6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AA0CFC-F3DE-4DE7-B32A-7AE8507BEE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6734FF-9953-404D-B211-5AC7A6A935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587155-F862-4F89-92AC-8206E9FAE4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50D263-C33B-4D74-BED9-A1014DA781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C5DE1C-8A99-4B23-B2C9-0F993D8138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C9CDB6-E86C-4AA7-945C-0F045B441B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5E3E3-ECCD-4C32-BB7A-C4406809B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14654F-0EEB-4C2E-AAC2-9BC1AF0B48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8C278B-20B8-47B4-AB89-8E9BF64567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D2ADAE-AA61-4FDC-9244-7CB9DC9891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AA8EE1-D961-4FD7-8EF2-55782D0AA8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179AEE-EB22-4C68-B174-2A4C89A2EA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3A79BF-D5CB-42B7-A4FB-9D8D3919756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44EA03-B3C5-4601-8BE2-6AEF991BFFD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D0B79AE-8700-42C6-A607-4C6E25FDD19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EB9A36-B71A-44FE-86B9-84F53EAD184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C335EE-060D-4493-A081-029A3A5C89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A756A-C1B1-4E03-9D4A-18D28D4F1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F09816-4745-4006-B01E-40E1F8C8AB2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7C5994-D417-43A1-9DBB-CF97D6F79C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A7EAC4-A772-4754-9003-3A0484F74C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459D15-AB53-4753-94F7-D4E641674C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85C6C2-F63F-4900-A8CA-AE895653FC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45F30A-5C98-4AC1-B27F-194E85BFDA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7DE9E4-43C0-40FB-AB58-06C804960A6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C4C8262-924C-4C64-BD08-EE75704046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180818-B441-46F0-BEAF-8A6739073E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249CE-2160-4811-ADBC-B5DEA0F93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90725-5CAE-4B1C-A130-20C3DD425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151E4-DFCF-472E-999E-C12DC640B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0E130-F687-4175-9552-95FE4ADC5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06E8D-2EA1-4A0E-A27B-669EB37F0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D640-02A4-4555-9397-440DA87AF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D15D8-C222-42CB-B7B9-FF9BC3722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60085-F3FE-450A-AACA-D3E1FB0A5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5FC42-4328-4E3B-9D98-8289DCD8C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7AB24E-90F6-4F4D-B7E3-D382384563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BE895-2CC1-4F06-9B72-C9619AE26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F78F6-A41B-4776-864C-F77969D2A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BF2CE-519D-4051-88AB-E730A6E61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E28B3-938E-436D-92D9-CD9340F36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ECD9F-227B-4572-A6E2-64E4C61F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B0546-6D36-4AEB-9BF3-0467168BA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2306A-B821-4624-9FE6-5B48A3457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24189-C007-44BE-90BF-9A1252044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98AC5-A52E-47E5-B625-A7808952F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92809-ADA9-44BE-BD74-A64F7CDAD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FBD4EC-FAA6-4EB9-9D4F-56F47A20CC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EA1ED8-1B76-4DED-9E09-7DCF4680D7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8440C8-5F1E-419B-B184-7E93F64690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CA0A89-A103-4454-BBEF-EAC34EC89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D0FD9-5444-4068-A417-DE7E73FB08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058D6-E590-4D51-B4F6-99C6C5283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8ED3C-C649-4A2B-8193-EF81D4C68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FB847-68E7-4F2B-84B5-B5837956F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AB5B8-2E8A-41DB-8E45-7458EEA2E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31D10-079A-43E9-B6D6-8D43CD091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3CAFB-08E4-4F10-9C1F-A5E255B0A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2FAED-7C97-4120-B6CA-D67755EC5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F02BA-3B87-4509-B390-9A5435006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41AC34-5B1C-4426-8F2F-3E59B9EF14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7FDE3A-900F-4D73-AD94-2F398729FF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658990-5FA3-4FBA-B755-FE16F46FB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4E7B-E7C9-4B79-8FC7-D53511DE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1CBEB7-52D5-45AB-8628-5BE0103FB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63575-56CD-4070-ABBE-372FF786D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95A002-53CB-4C21-8A00-240BA72C0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395DB4-6DBE-4CFE-B57F-C0254A228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6601BE-F931-4388-9B5A-7F565591D4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1028D-A80A-4172-9484-54DF8451B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71596-87E9-414A-AEA9-EDE9A502B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83FD1-2669-4CEC-AFB2-B45332C91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B861BF-4999-4CCC-9297-09765C4ED1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618770-D636-4BE7-AA49-CB34859252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1E9C5-0147-4A68-85C6-0F596D742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71F4FE-6FE5-4AC4-9C3E-FDF80377C1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FCB08-F465-4624-A175-DD769838C9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E70473-5424-48D1-A0E9-C02F6476B8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644E3-1236-4AAC-B5F0-7A01CDE5A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2C894-E5C7-4D7B-80B5-69863957D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4519B-FC9C-43EA-9DDB-D3FE3A0CF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351F5B-2B94-4F70-A5A7-D9320432F4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57624-B2A2-4AC9-BADB-3EEED9DFF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72EC2F-BEF8-428F-9F8E-B95370EF1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181A3-3435-46D0-AC09-3E47659A1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227D-9F4F-4F12-9C0C-2E0734346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D03FBF-EB51-4815-B79B-F4963D30F0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D6A614-F97E-4981-AF0D-7A05E9FA2B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53243A-62B4-46BE-A864-4DFC015AF5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ED2244-BBBE-4A7D-9F50-5B7CCBA38A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803051-2A64-49AD-BDE7-FD090370CD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A4FC4B-1D72-4895-951F-ADAD4B8D3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99C012-1955-4AE2-BB7A-37B09C962E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1A7A92-E6E7-41F2-829B-93914D228E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489B3E-6E7B-4CFB-9A23-711FE9758E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293ED-8C3B-4EEB-96A6-6462DC49F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5AC8-A9AA-4636-9DEF-2592C658B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56D26-57E7-4DE7-A978-83FB2A96C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F8C10-29F3-4D5C-801C-AF6FF409BB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B7C9A6-9707-44EA-9E4B-CC3C9FD391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A3C80D-F997-4DD3-9839-A3E11B355C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5F984E-EC2A-4DE7-90A5-3A938E753E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C44012-FE8B-4908-AF23-5CE592D840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2D77A-43A2-4F23-85F0-DC73A72A45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6935E-D76B-4FC4-A3DB-FB774FBBF8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B0A393-66CA-406A-99D9-9CA95B0F62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34DDB-065E-4F08-8911-F6BAD5809A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06BF-9053-4E95-9BDF-1A6D32DF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2DA79E-750A-4262-A756-7FCABD4E3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B5C39B-14AB-495B-980D-99410FB5C3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3ED8C-C6A6-4DED-88E8-DFAB27D0A5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050F6-5961-4BF5-B807-F42B12B9E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C433DC-A1E2-4ABE-9B30-45BEBAAE5E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C11C44-5E9E-4374-9EFD-5E6A2E96BB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004A4D-CB54-4917-9EC2-AE125EB56D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3159CD5-D55D-47A5-8BC5-6797BF5F63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48CB745-094F-464E-BD5A-F7B3BB3F66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DF049F7-0D4E-4292-B199-8DD93AB6CC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B792-F44F-40F3-B996-B968F5448808}"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AECD-C393-4F81-919A-AFEC16E0B915}"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07B1-50DB-41B4-981A-EBFFD971F21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781D-1A88-48DF-83A6-3FD47E41612C}"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87E7-2B18-4990-905E-082DCD939670}"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F25A-1606-4614-B0B7-B2312C74EAC2}"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0975-7C61-4309-A65C-69EF82458F2C}"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C486-5401-47D2-92F8-4C3B54E99C9A}"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73FB-284C-4B06-9EF7-A9027982CDF8}"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E6F8-4D2A-48F9-9719-801DFB50068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468D-DE79-4753-9202-BC40067FDB6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2C49-4396-43FB-BE7A-8C6A323ADC72}"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FE87-4A24-48AB-AA40-64C2FB9ADB57}"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D4A4-8C35-422D-BCBC-506C2D913447}"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br>
              <a:rPr sz="4400"/>
            </a:br>
            <a:r>
              <a:rPr b="1" lang="en-GB" sz="4400" spc="-1" strike="noStrike">
                <a:solidFill>
                  <a:srgbClr val="333333"/>
                </a:solidFill>
                <a:latin typeface="Geneva"/>
              </a:rPr>
              <a:t>in Dyalog APL</a:t>
            </a:r>
            <a:br>
              <a:rPr sz="4400"/>
            </a:br>
            <a:r>
              <a:rPr b="1" lang="en-GB" sz="2400" spc="-1" strike="noStrike">
                <a:solidFill>
                  <a:srgbClr val="333333"/>
                </a:solidFill>
                <a:latin typeface="Geneva"/>
              </a:rPr>
              <a:t>By Dan Baronet</a:t>
            </a:r>
            <a:endParaRPr b="1" lang="en-US" sz="2400" spc="-1" strike="noStrike">
              <a:solidFill>
                <a:srgbClr val="333333"/>
              </a:solidFill>
              <a:latin typeface="Geneva"/>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 - V1.03</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5" name=""/>
          <p:cNvSpPr txBox="1"/>
          <p:nvPr/>
        </p:nvSpPr>
        <p:spPr>
          <a:xfrm>
            <a:off x="324000" y="1700280"/>
            <a:ext cx="8496000" cy="4681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command ]SAVE , which saves an OBJECT (not a workspace), takes up to 2 arguments, saving the object named in the 1</a:t>
            </a:r>
            <a:r>
              <a:rPr b="0" lang="en-GB" sz="3200" spc="-1" strike="noStrike" baseline="30000">
                <a:solidFill>
                  <a:srgbClr val="333333"/>
                </a:solidFill>
                <a:latin typeface="Geneva"/>
              </a:rPr>
              <a:t>st</a:t>
            </a:r>
            <a:r>
              <a:rPr b="0" lang="en-GB" sz="3200" spc="-1" strike="noStrike">
                <a:solidFill>
                  <a:srgbClr val="333333"/>
                </a:solidFill>
                <a:latin typeface="Geneva"/>
              </a:rPr>
              <a:t> argument to, if present, the location named in the 2</a:t>
            </a:r>
            <a:r>
              <a:rPr b="0" lang="en-GB" sz="3200" spc="-1" strike="noStrike" baseline="30000">
                <a:solidFill>
                  <a:srgbClr val="333333"/>
                </a:solidFill>
                <a:latin typeface="Geneva"/>
              </a:rPr>
              <a:t>nd</a:t>
            </a:r>
            <a:r>
              <a:rPr b="0" lang="en-GB" sz="3200" spc="-1" strike="noStrike">
                <a:solidFill>
                  <a:srgbClr val="333333"/>
                </a:solidFill>
                <a:latin typeface="Geneva"/>
              </a:rPr>
              <a:t> argument. Ex:</a:t>
            </a:r>
            <a:endParaRPr b="0" lang="en-US" sz="32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save</a:t>
            </a:r>
            <a:r>
              <a:rPr b="0" lang="en-GB" sz="2400" spc="-1" strike="noStrike">
                <a:solidFill>
                  <a:srgbClr val="333333"/>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LOAD:</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load</a:t>
            </a:r>
            <a:r>
              <a:rPr b="0" lang="en-GB" sz="2400" spc="-1" strike="noStrike">
                <a:solidFill>
                  <a:srgbClr val="333333"/>
                </a:solidFill>
                <a:latin typeface="Geneva"/>
              </a:rPr>
              <a:t>  my\location\myfn</a:t>
            </a:r>
            <a:endParaRPr b="0" lang="en-US" sz="24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17"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 And ]?+</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path\to\file\containing\a\user\cmd</a:t>
            </a:r>
            <a:endParaRPr b="0" lang="en-US" sz="2700" spc="-1" strike="noStrike">
              <a:solidFill>
                <a:srgbClr val="333333"/>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19" name=""/>
          <p:cNvSpPr txBox="1"/>
          <p:nvPr/>
        </p:nvSpPr>
        <p:spPr>
          <a:xfrm>
            <a:off x="395280" y="1699920"/>
            <a:ext cx="8229600" cy="47530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Dyalog comes pre-packaged with some already defined UCMD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y are divided into some 7 group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LT</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pice (UCMD)</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v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mo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o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ransfer</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wsuti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21" name=""/>
          <p:cNvSpPr txBox="1"/>
          <p:nvPr/>
        </p:nvSpPr>
        <p:spPr>
          <a:xfrm>
            <a:off x="468360" y="1699920"/>
            <a:ext cx="8229600" cy="47530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se are the same as their SALT functions:</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v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object</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oad</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Compare</a:t>
            </a:r>
            <a:r>
              <a:rPr b="0" lang="en-GB" sz="3000" spc="-1" strike="noStrike">
                <a:solidFill>
                  <a:srgbClr val="333333"/>
                </a:solidFill>
                <a:latin typeface="Geneva"/>
              </a:rPr>
              <a:t>	</a:t>
            </a:r>
            <a:r>
              <a:rPr b="0" lang="en-GB" sz="3000" spc="-1" strike="noStrike">
                <a:solidFill>
                  <a:srgbClr val="333333"/>
                </a:solidFill>
                <a:latin typeface="Geneva"/>
              </a:rPr>
              <a:t>file1</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ile2]</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ettings</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yp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valu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Explor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fil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ist</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nap</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Removeversions</a:t>
            </a:r>
            <a:r>
              <a:rPr b="0" lang="en-GB" sz="3000" spc="-1" strike="noStrike">
                <a:solidFill>
                  <a:srgbClr val="333333"/>
                </a:solidFill>
                <a:latin typeface="Geneva"/>
              </a:rPr>
              <a:t>	</a:t>
            </a:r>
            <a:r>
              <a:rPr b="0" lang="en-GB" sz="3000" spc="-1" strike="noStrike">
                <a:solidFill>
                  <a:srgbClr val="333333"/>
                </a:solidFill>
                <a:latin typeface="Geneva"/>
              </a:rPr>
              <a:t>file</a:t>
            </a:r>
            <a:endParaRPr b="0" lang="en-US" sz="3000" spc="-1" strike="noStrike">
              <a:solidFill>
                <a:srgbClr val="333333"/>
              </a:solidFill>
              <a:latin typeface="Genev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23" name=""/>
          <p:cNvSpPr txBox="1"/>
          <p:nvPr/>
        </p:nvSpPr>
        <p:spPr>
          <a:xfrm>
            <a:off x="68436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ON|OFF</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clean</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new</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rese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version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monitor</a:t>
            </a:r>
            <a:endParaRPr b="0" lang="en-US" sz="28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25"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i: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o: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add/delete: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diff: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update: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27" name=""/>
          <p:cNvSpPr txBox="1"/>
          <p:nvPr/>
        </p:nvSpPr>
        <p:spPr>
          <a:xfrm>
            <a:off x="457200" y="1934640"/>
            <a:ext cx="86868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is group is used to monitor the system:</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APLMON: used to monitor expressions by primitive,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aplmon  {+/1=⍵∨⍳⍵}¨⍳1000   –file=\tmp\dat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LOAD APLMON</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InitMon  '\tmp\data.csv'</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PUtime: used to find CPU used for expressions,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cputime  {+/1=⍵∨⍳⍵}¨⍳1000</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Monitor: used to find lines consuming the most CPU</a:t>
            </a:r>
            <a:endParaRPr b="0" lang="en-US" sz="25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2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31" name=""/>
          <p:cNvSpPr txBox="1"/>
          <p:nvPr/>
        </p:nvSpPr>
        <p:spPr>
          <a:xfrm>
            <a:off x="468000" y="1268280"/>
            <a:ext cx="828036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333333"/>
                </a:solidFill>
                <a:latin typeface="Geneva"/>
              </a:rPr>
              <a:t>]fnslike   GUI*  -date=&gt;20090307</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fncalls   MainProgram   -details    -treeview</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wsloc    \babc[∧\w]←     -pattern   -recursive</a:t>
            </a:r>
            <a:endParaRPr b="0" lang="en-US" sz="30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ode to run a UCMD is contained in a class or namespace in a SALT (text, Unicode)fil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at file may be host to several UCMD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ommand names are case insensitive, e.g. ‘find’ and ‘FIND’ call the same cod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witches names </a:t>
            </a:r>
            <a:r>
              <a:rPr b="0" lang="en-GB" sz="2500" spc="-1" strike="noStrike" u="sng">
                <a:solidFill>
                  <a:srgbClr val="333333"/>
                </a:solidFill>
                <a:uFillTx/>
                <a:latin typeface="Geneva"/>
              </a:rPr>
              <a:t>are</a:t>
            </a:r>
            <a:r>
              <a:rPr b="0" lang="en-GB" sz="2500" spc="-1" strike="noStrike">
                <a:solidFill>
                  <a:srgbClr val="333333"/>
                </a:solidFill>
                <a:latin typeface="Geneva"/>
              </a:rPr>
              <a:t> case sensitiv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UCMDs are grouped together, e.g. utilities can be grouped under the group ‘wsutil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lass or namespace must contain at least 3 public functions: ‘List’, ‘Run’ and ‘Help’</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rocedure</a:t>
            </a:r>
            <a:endParaRPr b="1" lang="en-US" sz="4400" spc="-1" strike="noStrike">
              <a:solidFill>
                <a:srgbClr val="333333"/>
              </a:solidFill>
              <a:latin typeface="Geneva"/>
            </a:endParaRPr>
          </a:p>
        </p:txBody>
      </p:sp>
      <p:sp>
        <p:nvSpPr>
          <p:cNvPr id="5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tutorial is divided into 4 area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y UCMDs and introdu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s UCM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the UCMD framework</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r UCMDs: how to write them</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ist’ function is used to gather basic info displayed when using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 is used to display more complete info when using ]?cmdx or ]??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 is the one doing the work.</a:t>
            </a:r>
            <a:endParaRPr b="0" lang="en-US" sz="32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7"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7">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3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et’s assume we have a simple function we wish to call once in a while without having to copy/call/erase it each time:</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1"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18960" indent="-31896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Class  dat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t>
            </a:r>
            <a:r>
              <a:rPr b="0" lang="en-GB" sz="1800" spc="-1" strike="noStrike">
                <a:solidFill>
                  <a:srgbClr val="333333"/>
                </a:solidFill>
                <a:latin typeface="APL385 Unicode"/>
              </a:rPr>
              <a:t>IO←1 ⋄ ⎕ML←1</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List</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ccess Shared Public</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Name, group, short description and parsing rul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ame← 'cal'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Group←'date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Desc← 'returns the calendar for a given month'</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Parse←''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Help dummy</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Access Shared Public</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Enter a month as argumen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5" name=""/>
          <p:cNvSpPr txBox="1"/>
          <p:nvPr/>
        </p:nvSpPr>
        <p:spPr>
          <a:xfrm>
            <a:off x="684360" y="1557360"/>
            <a:ext cx="7772400" cy="4114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a:t>
            </a:r>
            <a:endParaRPr b="0" lang="en-US" sz="3000" spc="-1" strike="noStrike">
              <a:solidFill>
                <a:srgbClr val="333333"/>
              </a:solidFill>
              <a:latin typeface="Geneva"/>
            </a:endParaRPr>
          </a:p>
          <a:p>
            <a:pPr marL="339480" indent="-3394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Run(a1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Access Shared Public</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calendar' ⎕CY 'myutils'</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calendar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endclass</a:t>
            </a:r>
            <a:endParaRPr b="0" lang="en-US" sz="30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HELP and RUN functions should really account for that.</a:t>
            </a:r>
            <a:endParaRPr b="0" lang="en-US" sz="3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HELP function for more than one comman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r>
              <a:rPr b="0" lang="en-GB" sz="2500" spc="-1" strike="noStrike">
                <a:solidFill>
                  <a:srgbClr val="333333"/>
                </a:solidFill>
                <a:latin typeface="APL385 Unicode"/>
              </a:rPr>
              <a:t>r←Help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Access Shared Public</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Select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cal'</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r← 'Enter a month as argumen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other'</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EndSelec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1" name=""/>
          <p:cNvSpPr txBox="1"/>
          <p:nvPr/>
        </p:nvSpPr>
        <p:spPr>
          <a:xfrm>
            <a:off x="468360" y="1628280"/>
            <a:ext cx="8229600" cy="4923000"/>
          </a:xfrm>
          <a:prstGeom prst="rect">
            <a:avLst/>
          </a:prstGeom>
          <a:noFill/>
          <a:ln w="0">
            <a:noFill/>
          </a:ln>
        </p:spPr>
        <p:txBody>
          <a:bodyPr anchor="t">
            <a:normAutofit/>
          </a:bodyPr>
          <a:p>
            <a:pPr marL="343080" indent="-34308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RUN function for more than one comman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r←Run(Cmd Arg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ccess Shared Public</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Select Cm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cal'</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 ⎕CY 'myutil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r←calendar ⍎Argument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othe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EndSelec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endParaRPr b="0" lang="en-US" sz="27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rguments'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Run&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Parse' (in function &lt;Lis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Parse' empty.</a:t>
            </a:r>
            <a:endParaRPr b="0" lang="en-US" sz="28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idea is to provide a mechanism for accessing tools anywhere b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utilities from the common workspa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ake them available at any time</a:t>
            </a:r>
            <a:endParaRPr b="0" lang="en-US" sz="32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If we wish the system to check the number of arguments (here  1) for us we tell it in &lt;List&gt;:</a:t>
            </a:r>
            <a:endParaRPr b="0" lang="en-US" sz="1800" spc="-1" strike="noStrike">
              <a:solidFill>
                <a:srgbClr val="333333"/>
              </a:solidFill>
              <a:latin typeface="Geneva"/>
            </a:endParaRPr>
          </a:p>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r.Parse← '1'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In that case the 2</a:t>
            </a:r>
            <a:r>
              <a:rPr b="0" lang="en-GB" sz="1800" spc="-1" strike="noStrike" baseline="30000">
                <a:solidFill>
                  <a:srgbClr val="333333"/>
                </a:solidFill>
                <a:latin typeface="APL385 Unicode"/>
              </a:rPr>
              <a:t>nd</a:t>
            </a:r>
            <a:r>
              <a:rPr b="0" lang="en-GB" sz="1800" spc="-1" strike="noStrike">
                <a:solidFill>
                  <a:srgbClr val="333333"/>
                </a:solidFill>
                <a:latin typeface="APL385 Unicode"/>
              </a:rPr>
              <a:t> argument in &lt;Run&gt; will contain a namespace:</a:t>
            </a:r>
            <a:endParaRPr b="0" lang="en-US" sz="18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7" name=""/>
          <p:cNvSpPr txBox="1"/>
          <p:nvPr/>
        </p:nvSpPr>
        <p:spPr>
          <a:xfrm>
            <a:off x="684360" y="1341360"/>
            <a:ext cx="7772400" cy="4114800"/>
          </a:xfrm>
          <a:prstGeom prst="rect">
            <a:avLst/>
          </a:prstGeom>
          <a:noFill/>
          <a:ln w="0">
            <a:noFill/>
          </a:ln>
        </p:spPr>
        <p:txBody>
          <a:bodyPr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 </a:t>
            </a:r>
            <a:r>
              <a:rPr b="0" lang="en-GB" sz="2800" spc="-1" strike="noStrike">
                <a:solidFill>
                  <a:srgbClr val="333333"/>
                </a:solidFill>
                <a:latin typeface="APL385 Unicode"/>
              </a:rPr>
              <a:t>r←Run(Cmd a2)</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ccess Shared Public</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Select Cmd</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se 'cal'</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lendar' ⎕CY 'myutil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r←calendar ⍎1⊃a2.Argument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EndSelect</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t>
            </a:r>
            <a:endParaRPr b="0" lang="en-US" sz="2800" spc="-1" strike="noStrike">
              <a:solidFill>
                <a:srgbClr val="333333"/>
              </a:solidFill>
              <a:latin typeface="Genev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a:t>
            </a:r>
            <a:endParaRPr b="0" lang="en-US" sz="28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9">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59">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59">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5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59">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9">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333333"/>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7"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You can reset it too.</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It follows the same rule as SALT's workdir setting, i.e. it is a series of paths separated by semicolons, e.g.</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7f7f7f"/>
                </a:solidFill>
                <a:latin typeface="Geneva"/>
              </a:rPr>
              <a:t>\my\own\path</a:t>
            </a:r>
            <a:r>
              <a:rPr b="1" lang="en-GB" sz="3100" spc="-1" strike="noStrike">
                <a:solidFill>
                  <a:srgbClr val="333333"/>
                </a:solidFill>
                <a:latin typeface="Geneva"/>
              </a:rPr>
              <a:t>;</a:t>
            </a:r>
            <a:r>
              <a:rPr b="0" lang="en-GB" sz="2500" spc="-1" strike="noStrike">
                <a:solidFill>
                  <a:srgbClr val="7f7f7f"/>
                </a:solidFill>
                <a:latin typeface="Geneva"/>
              </a:rPr>
              <a:t>C:\program files\Dyalog\V121\SALT\Spice</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o add "\my\own\path" to the existing path:</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note the comm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	</a:t>
            </a:r>
            <a:r>
              <a:rPr b="0" lang="en-GB" sz="2500" spc="-1" strike="noStrike">
                <a:solidFill>
                  <a:srgbClr val="333333"/>
                </a:solidFill>
                <a:latin typeface="Geneva"/>
              </a:rPr>
              <a:t>]settings cmddir  ,\my\own\path</a:t>
            </a:r>
            <a:endParaRPr b="0" lang="en-US" sz="25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9"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71" name="Picture 2" descr=""/>
          <p:cNvPicPr/>
          <p:nvPr/>
        </p:nvPicPr>
        <p:blipFill>
          <a:blip r:embed="rId1"/>
          <a:stretch/>
        </p:blipFill>
        <p:spPr>
          <a:xfrm>
            <a:off x="1428840" y="1928880"/>
            <a:ext cx="6357960" cy="4629240"/>
          </a:xfrm>
          <a:prstGeom prst="rect">
            <a:avLst/>
          </a:prstGeom>
          <a:ln w="0">
            <a:noFill/>
          </a:ln>
        </p:spPr>
      </p:pic>
      <p:sp>
        <p:nvSpPr>
          <p:cNvPr id="672"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74"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NO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PL/PC had them in the 90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IPSharp users had them (through S-Task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6" name=""/>
          <p:cNvSpPr txBox="1"/>
          <p:nvPr/>
        </p:nvSpPr>
        <p:spPr>
          <a:xfrm>
            <a:off x="685800" y="1981080"/>
            <a:ext cx="7772400" cy="411480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Debugging code</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udebug ON|OFF</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8" name=""/>
          <p:cNvSpPr txBox="1"/>
          <p:nvPr/>
        </p:nvSpPr>
        <p:spPr>
          <a:xfrm>
            <a:off x="684360" y="14842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ybe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witch delimiter (here /)</a:t>
            </a:r>
            <a:endParaRPr b="0" lang="en-US" sz="2800" spc="-1" strike="noStrike">
              <a:solidFill>
                <a:srgbClr val="333333"/>
              </a:solidFill>
              <a:latin typeface="Genev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0" name=""/>
          <p:cNvSpPr txBox="1"/>
          <p:nvPr/>
        </p:nvSpPr>
        <p:spPr>
          <a:xfrm>
            <a:off x="684360" y="1628640"/>
            <a:ext cx="7772400" cy="4114800"/>
          </a:xfrm>
          <a:prstGeom prst="rect">
            <a:avLst/>
          </a:prstGeom>
          <a:noFill/>
          <a:ln w="0">
            <a:noFill/>
          </a:ln>
        </p:spPr>
        <p:txBody>
          <a:bodyPr anchor="t">
            <a:normAutofit fontScale="92000"/>
          </a:bodyPr>
          <a:p>
            <a:pPr marL="315360" indent="-315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2"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 Example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 </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 ←'2  -offset='</a:t>
            </a: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6" name=""/>
          <p:cNvSpPr txBox="1"/>
          <p:nvPr/>
        </p:nvSpPr>
        <p:spPr>
          <a:xfrm>
            <a:off x="685800" y="1981080"/>
            <a:ext cx="7772400" cy="411480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mycmd   'arg 1'   '2001/4/5'   OK   "I'm"  /lights=on</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8" name=""/>
          <p:cNvSpPr txBox="1"/>
          <p:nvPr/>
        </p:nvSpPr>
        <p:spPr>
          <a:xfrm>
            <a:off x="394920" y="1341360"/>
            <a:ext cx="8497800" cy="4114800"/>
          </a:xfrm>
          <a:prstGeom prst="rect">
            <a:avLst/>
          </a:prstGeom>
          <a:noFill/>
          <a:ln w="0">
            <a:noFill/>
          </a:ln>
        </p:spPr>
        <p:txBody>
          <a:bodyPr anchor="t">
            <a:normAutofit fontScale="93000"/>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ong Arguments</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addrec  Joe Blow 42 main st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Parse ←'3L'</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0"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hort Argument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692"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A user command (UCMD) is similar to a system command like )LOAD or )WSID.</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t is a call to an independent routine written by a user, not a routine provided by the system.</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tem commands start with a ), e.g. )SAVE</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User commands start with a ], e.g. ]WSLOC</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7"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WSID [</a:t>
            </a:r>
            <a:r>
              <a:rPr b="1" i="1" lang="en-GB" sz="3200" spc="-1" strike="noStrike">
                <a:solidFill>
                  <a:srgbClr val="333333"/>
                </a:solidFill>
                <a:latin typeface="Geneva"/>
              </a:rPr>
              <a:t>newname</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a:t>
            </a:r>
            <a:r>
              <a:rPr b="1" i="1" lang="en-GB" sz="3200" spc="-1" strike="noStrike">
                <a:solidFill>
                  <a:srgbClr val="333333"/>
                </a:solidFill>
                <a:latin typeface="Geneva"/>
              </a:rPr>
              <a:t>pattern</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system commands they are no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Pattern] </a:t>
            </a:r>
            <a:r>
              <a:rPr b="1" lang="en-GB" sz="3200" spc="-1" strike="noStrike">
                <a:solidFill>
                  <a:srgbClr val="333333"/>
                </a:solidFill>
                <a:latin typeface="Geneva"/>
              </a:rPr>
              <a:t>–</a:t>
            </a:r>
            <a:r>
              <a:rPr b="1" i="1" lang="en-GB" sz="3200" spc="-1" strike="noStrike">
                <a:solidFill>
                  <a:srgbClr val="333333"/>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fact, 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 SAL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cp:lastModifiedBy>
  <dcterms:modified xsi:type="dcterms:W3CDTF">2011-09-30T20:03:01Z</dcterms:modified>
  <cp:revision>51</cp:revision>
  <dc:subject/>
  <dc:title>User Commands  in Dyalog APL</dc:title>
</cp:coreProperties>
</file>