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D0B9-CDE6-4FC9-B84A-F93D7D44B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AB99-8D93-4E5B-B08B-F49958D69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2FFF-A707-41F1-95A0-CD79BBF84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 of the class is un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E8C8-CD1F-4E6F-BE8B-D9D1F9D7F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9DB9-C58B-40CA-805E-A7BBFD9F3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generate general help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EE91-3F87-44EE-911A-11A287576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5B99-39BA-4302-BD26-A2B2C3CAB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02EA-0BE5-49E3-A0B5-B09872981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2582-F8D6-4A36-A67A-8F80F137D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DB98-0784-4CAC-9E4D-8A6300DC9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F201-4275-4757-B4CC-B2247BA85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8CC5-793E-4320-AA98-5CFC97D5B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ny ways it is like Users Commands in APL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8A34-4BD1-46CC-9BD8-4E51934D1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5F68-A7B2-47FB-A6A4-2DEC4B096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97C7-0279-4D0B-AD9E-95A9027B9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D9ED-D496-4A3A-8E82-D5918EBC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DEF-BA68-4881-A99A-0D1D3374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3E4-0F41-4401-8A01-BD3DBA44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97B-DD9D-483A-912C-C8FBFAA3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910C-A660-4B6C-B60C-90F22AC8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2D2-1FD8-49CC-AB94-E98D46E7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77F6-4189-4C84-AF0C-6E4A6A4E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223-DC5C-4712-94C6-3943ED4D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1C7-A4C8-4D9F-9B27-896EDDAB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B02-663B-48B9-84D7-7AE9A734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50C-4618-49B6-9973-62C4934E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7752-D095-4707-9DF6-31F14D14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24000" y="6381360"/>
            <a:ext cx="22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F8B9-2C9A-4675-8E9C-C4A573CE8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99">
                    <a:alpha val="41000"/>
                  </a:srgbClr>
                </a:solidFill>
                <a:latin typeface="Arial Black"/>
              </a:rPr>
              <a:t>SPICE</a:t>
            </a:r>
            <a:endParaRPr b="0" lang="en-US" sz="1800" spc="1" strike="noStrike">
              <a:ln w="0">
                <a:noFill/>
              </a:ln>
              <a:solidFill>
                <a:srgbClr val="ffff99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Book Antiqua"/>
              </a:rPr>
              <a:t>Spice</a:t>
            </a: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Book Antiqua"/>
              </a:rPr>
              <a:t>in Dyalo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878080"/>
            <a:ext cx="640080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cument V1.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ce commands are kept in script files, like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ce files have a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</a:rPr>
              <a:t>dyalog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pice script files are kept by default in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[Dyalog]\SALT\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cript file contains a class or a namespace with a number of (presumably) related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 a script/class could co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and to search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and to replac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ript file MUST contain at least 3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public shar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for the Spice hand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contain other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is nila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turns a list of as many namespaces as there are commands in the script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if there are 2 commands in the script file it returns 2 namespa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0012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amespace returned by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tains 4 variables; each one is a st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name of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group the command belong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Des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hort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Pa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ingle word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lo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ingle word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Des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entence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Find string i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Pa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tring describing the command syntax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2   –exclude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∇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⎕NS¨2⍴⊂'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Name←'Locate' 'Replac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Group←⊂'Files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Parse←'1' '2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[1].Desc←'Find a string in files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[2].Desc←'Replace a string by anothe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is ambival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arguments are a string naming the cmd to return detailed help for, 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right and the help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turns a string describing help for that com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∇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level Help C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⊂'Shows where the string is found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,←⊂'Replace a string by anothe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r⊃⍨'Locate' 'Replace'⍳⊂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lev↓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r,←⎕av[4],'More help here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is mona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2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ing naming the command to deal with, 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a string or a namespace which is the argument to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user command hand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 V11 &amp; V12 it uses an input area at the bottom of the screen to issue user defined commands using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initialized directly from SA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8"/>
          <p:cNvGrpSpPr/>
          <p:nvPr/>
        </p:nvGrpSpPr>
        <p:grpSpPr>
          <a:xfrm>
            <a:off x="2286000" y="4334040"/>
            <a:ext cx="4800600" cy="2038320"/>
            <a:chOff x="2286000" y="4334040"/>
            <a:chExt cx="4800600" cy="2038320"/>
          </a:xfrm>
        </p:grpSpPr>
        <p:pic>
          <p:nvPicPr>
            <p:cNvPr id="58" name="Picture 5" descr=""/>
            <p:cNvPicPr/>
            <p:nvPr/>
          </p:nvPicPr>
          <p:blipFill>
            <a:blip r:embed="rId2"/>
            <a:stretch/>
          </p:blipFill>
          <p:spPr>
            <a:xfrm>
              <a:off x="2514600" y="4334040"/>
              <a:ext cx="428616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Oval 6"/>
            <p:cNvSpPr/>
            <p:nvPr/>
          </p:nvSpPr>
          <p:spPr>
            <a:xfrm>
              <a:off x="2286000" y="5410080"/>
              <a:ext cx="480060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2819520" y="4991040"/>
              <a:ext cx="220968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∇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r←Run(Cmd ca);ct;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r←0 0⍴'' ⋄ ct←⎕SE.SALT.Load'Utils\fileUtils -noname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w←##.textUtils.splitOn⍨⎕SE.SALT.Settings'workdir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Select C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Case ‘Locate’  ⋄ w ct.showExpr¨⊂ca.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Case ‘Replace’ </a:t>
            </a: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⋄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w ct.replExpr¨⊂ca.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End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e script Spice\aSample.dy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ontains 2 examples of Spice comma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specific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45680" y="1625760"/>
            <a:ext cx="65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ntax is described in the hel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8"/>
          <p:cNvGrpSpPr/>
          <p:nvPr/>
        </p:nvGrpSpPr>
        <p:grpSpPr>
          <a:xfrm>
            <a:off x="1689120" y="2263680"/>
            <a:ext cx="6240240" cy="4093920"/>
            <a:chOff x="1689120" y="2263680"/>
            <a:chExt cx="6240240" cy="4093920"/>
          </a:xfrm>
        </p:grpSpPr>
        <p:pic>
          <p:nvPicPr>
            <p:cNvPr id="162" name="Picture 4" descr=""/>
            <p:cNvPicPr/>
            <p:nvPr/>
          </p:nvPicPr>
          <p:blipFill>
            <a:blip r:embed="rId1"/>
            <a:stretch/>
          </p:blipFill>
          <p:spPr>
            <a:xfrm>
              <a:off x="1689120" y="2263680"/>
              <a:ext cx="6240240" cy="40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Oval 7"/>
            <p:cNvSpPr/>
            <p:nvPr/>
          </p:nvSpPr>
          <p:spPr>
            <a:xfrm>
              <a:off x="3515760" y="4373640"/>
              <a:ext cx="3422160" cy="426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276960" cy="35434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46400" y="1625760"/>
            <a:ext cx="76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syntax is wrong Spice will com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1116000" y="4508640"/>
            <a:ext cx="2665440" cy="43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492360" y="3429000"/>
            <a:ext cx="324036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989000" y="5138640"/>
            <a:ext cx="12970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3654000" y="507204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 argumen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12"/>
          <p:cNvCxnSpPr>
            <a:stCxn id="171" idx="1"/>
            <a:endCxn id="170" idx="6"/>
          </p:cNvCxnSpPr>
          <p:nvPr/>
        </p:nvCxnSpPr>
        <p:spPr>
          <a:xfrm flipH="1">
            <a:off x="3285720" y="5255280"/>
            <a:ext cx="357840" cy="100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129440" cy="3743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47480" y="1625760"/>
            <a:ext cx="64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syntax is right Spice will do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1763640" y="5138640"/>
            <a:ext cx="12970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48000" y="3429000"/>
            <a:ext cx="360036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6199200" y="3889440"/>
            <a:ext cx="72072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command 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APL is installed the Spice commands' location is [Dyalog]\SALT\spice but you can chang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ALT settings contain Spice’s commands location in 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cmd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]setting  </a:t>
            </a:r>
            <a:r>
              <a:rPr b="1" lang="en-GB" sz="3200" spc="-1" strike="noStrike">
                <a:solidFill>
                  <a:srgbClr val="ffc000"/>
                </a:solidFill>
                <a:latin typeface="Arial"/>
              </a:rPr>
              <a:t>cmd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\my\own\user\cm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hange the Spice/user commands folder to \my\own\user\cm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ecial Spice com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985080" cy="34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development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used to store frequently used (and even less frequently used) use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 flipV="1">
            <a:off x="8244000" y="476280"/>
            <a:ext cx="287280" cy="503280"/>
          </a:xfrm>
          <a:custGeom>
            <a:avLst/>
            <a:gdLst>
              <a:gd name="textAreaLeft" fmla="*/ 59760 w 287280"/>
              <a:gd name="textAreaRight" fmla="*/ 227520 w 287280"/>
              <a:gd name="textAreaTop" fmla="*/ 104760 h 503280"/>
              <a:gd name="textAreaBottom" fmla="*/ 3985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ort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information can be found in the Spice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 flipV="1">
            <a:off x="7956720" y="548280"/>
            <a:ext cx="863280" cy="431640"/>
          </a:xfrm>
          <a:custGeom>
            <a:avLst/>
            <a:gdLst>
              <a:gd name="textAreaLeft" fmla="*/ 179640 w 863280"/>
              <a:gd name="textAreaRight" fmla="*/ 683640 w 863280"/>
              <a:gd name="textAreaTop" fmla="*/ 89640 h 431640"/>
              <a:gd name="textAreaBottom" fmla="*/ 34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be started automatically when starting APL by setting the SALT registry key AddSPICE to ‘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8"/>
          <p:cNvGrpSpPr/>
          <p:nvPr/>
        </p:nvGrpSpPr>
        <p:grpSpPr>
          <a:xfrm>
            <a:off x="1546200" y="3206880"/>
            <a:ext cx="6121440" cy="3041640"/>
            <a:chOff x="1546200" y="3206880"/>
            <a:chExt cx="6121440" cy="3041640"/>
          </a:xfrm>
        </p:grpSpPr>
        <p:pic>
          <p:nvPicPr>
            <p:cNvPr id="65" name="Picture 6" descr=""/>
            <p:cNvPicPr/>
            <p:nvPr/>
          </p:nvPicPr>
          <p:blipFill>
            <a:blip r:embed="rId1"/>
            <a:stretch/>
          </p:blipFill>
          <p:spPr>
            <a:xfrm>
              <a:off x="1546200" y="3206880"/>
              <a:ext cx="612144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Oval 7"/>
            <p:cNvSpPr/>
            <p:nvPr/>
          </p:nvSpPr>
          <p:spPr>
            <a:xfrm>
              <a:off x="5689440" y="4476600"/>
              <a:ext cx="274680" cy="309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7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pice input area can also be started automatically by using the &lt;enableSpice&gt; function in the SALT work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LOAD  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MCj03113240000[1]"/>
          <p:cNvPicPr/>
          <p:nvPr/>
        </p:nvPicPr>
        <p:blipFill>
          <a:blip r:embed="rId1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71640" y="713880"/>
            <a:ext cx="7800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the Spice area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2006640" y="2185920"/>
            <a:ext cx="5641920" cy="4145040"/>
          </a:xfrm>
          <a:prstGeom prst="rect">
            <a:avLst/>
          </a:prstGeom>
          <a:ln w="0">
            <a:noFill/>
          </a:ln>
        </p:spPr>
      </p:pic>
      <p:sp>
        <p:nvSpPr>
          <p:cNvPr id="76" name="Oval 6"/>
          <p:cNvSpPr/>
          <p:nvPr/>
        </p:nvSpPr>
        <p:spPr>
          <a:xfrm>
            <a:off x="1967040" y="307188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 in V12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no need to initialize the Spice input area in 12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pice user command handler is always available directly through the ] with 12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y use ] where you would use the input area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]myc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MCj03113240000[1]"/>
          <p:cNvPicPr/>
          <p:nvPr/>
        </p:nvPicPr>
        <p:blipFill>
          <a:blip r:embed="rId1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3640" y="142416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a detailed list of all available commands enter 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]?+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‘?+’ in the input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2124000" y="2536920"/>
            <a:ext cx="5256360" cy="3987720"/>
            <a:chOff x="2124000" y="2536920"/>
            <a:chExt cx="5256360" cy="3987720"/>
          </a:xfrm>
        </p:grpSpPr>
        <p:pic>
          <p:nvPicPr>
            <p:cNvPr id="86" name="Picture 7" descr=""/>
            <p:cNvPicPr/>
            <p:nvPr/>
          </p:nvPicPr>
          <p:blipFill>
            <a:blip r:embed="rId1"/>
            <a:stretch/>
          </p:blipFill>
          <p:spPr>
            <a:xfrm>
              <a:off x="2124000" y="2536920"/>
              <a:ext cx="5256360" cy="39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Oval 8"/>
            <p:cNvSpPr/>
            <p:nvPr/>
          </p:nvSpPr>
          <p:spPr>
            <a:xfrm>
              <a:off x="2152440" y="5877720"/>
              <a:ext cx="330840" cy="309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9"/>
          <p:cNvSpPr/>
          <p:nvPr/>
        </p:nvSpPr>
        <p:spPr>
          <a:xfrm>
            <a:off x="7986600" y="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cc33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2226600" y="587700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2428200" y="299736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1196640"/>
            <a:ext cx="7704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 of a custom Spice command: 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ff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7848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“ffin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ring”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ind a regular expression string in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ders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find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\b</a:t>
            </a:r>
            <a:r>
              <a:rPr b="1" lang="en-GB" sz="3200" spc="-1" strike="noStrike">
                <a:solidFill>
                  <a:srgbClr val="ff9900"/>
                </a:solidFill>
                <a:latin typeface="Courier New"/>
              </a:rPr>
              <a:t>abc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&gt;0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find in SALT files where syntactic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 greater than 0 at the end of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512640" y="3832200"/>
            <a:ext cx="7515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ing SALT commands in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ALT commands bu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ssued here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av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yclass file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compar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1 -ver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ist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oad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y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removeversions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x -v=&lt;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j0208400"/>
          <p:cNvPicPr/>
          <p:nvPr/>
        </p:nvPicPr>
        <p:blipFill>
          <a:blip r:embed="rId1"/>
          <a:stretch/>
        </p:blipFill>
        <p:spPr>
          <a:xfrm rot="232800">
            <a:off x="7924680" y="75960"/>
            <a:ext cx="1060560" cy="190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21:21Z</dcterms:created>
  <dc:creator>DanB</dc:creator>
  <dc:description/>
  <dc:language>en-US</dc:language>
  <cp:lastModifiedBy>danb</cp:lastModifiedBy>
  <dcterms:modified xsi:type="dcterms:W3CDTF">2011-09-23T21:24:17Z</dcterms:modified>
  <cp:revision>94</cp:revision>
  <dc:subject/>
  <dc:title>SALT in Dyalog</dc:title>
</cp:coreProperties>
</file>