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1.xml.rels" ContentType="application/vnd.openxmlformats-package.relationships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1.png" ContentType="image/png"/>
  <Override PartName="/ppt/media/image52.png" ContentType="image/png"/>
  <Override PartName="/ppt/media/image50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7.wmf" ContentType="image/x-wmf"/>
  <Override PartName="/ppt/media/image49.png" ContentType="image/png"/>
  <Override PartName="/ppt/media/image100.png" ContentType="image/png"/>
  <Override PartName="/ppt/media/image12.png" ContentType="image/png"/>
  <Override PartName="/ppt/media/image6.wmf" ContentType="image/x-wmf"/>
  <Override PartName="/ppt/media/image18.wmf" ContentType="image/x-wmf"/>
  <Override PartName="/ppt/media/image48.png" ContentType="image/png"/>
  <Override PartName="/ppt/media/image11.png" ContentType="image/png"/>
  <Override PartName="/ppt/media/image5.wmf" ContentType="image/x-wmf"/>
  <Override PartName="/ppt/media/image47.png" ContentType="image/png"/>
  <Override PartName="/ppt/media/image10.png" ContentType="image/png"/>
  <Override PartName="/ppt/media/image4.wmf" ContentType="image/x-wmf"/>
  <Override PartName="/ppt/media/image59.png" ContentType="image/png"/>
  <Override PartName="/ppt/media/image3.wmf" ContentType="image/x-wmf"/>
  <Override PartName="/ppt/media/image58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65.png" ContentType="image/png"/>
  <Override PartName="/ppt/media/image85.wmf" ContentType="image/x-wmf"/>
  <Override PartName="/ppt/media/image97.png" ContentType="image/png"/>
  <Override PartName="/ppt/media/image60.png" ContentType="image/png"/>
  <Override PartName="/ppt/media/image96.png" ContentType="image/png"/>
  <Override PartName="/ppt/media/image95.png" ContentType="image/png"/>
  <Override PartName="/ppt/media/image83.png" ContentType="image/png"/>
  <Override PartName="/ppt/media/image89.png" ContentType="image/png"/>
  <Override PartName="/ppt/media/image88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79.png" ContentType="image/png"/>
  <Override PartName="/ppt/media/image78.png" ContentType="image/png"/>
  <Override PartName="/ppt/media/image28.png" ContentType="image/png"/>
  <Override PartName="/ppt/media/image93.png" ContentType="image/png"/>
  <Override PartName="/ppt/media/image92.png" ContentType="image/png"/>
  <Override PartName="/ppt/media/image27.png" ContentType="image/png"/>
  <Override PartName="/ppt/media/image91.png" ContentType="image/png"/>
  <Override PartName="/ppt/media/image26.png" ContentType="image/png"/>
  <Override PartName="/ppt/media/image90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84.png" ContentType="image/png"/>
  <Override PartName="/ppt/media/image17.png" ContentType="image/png"/>
  <Override PartName="/ppt/media/image82.png" ContentType="image/png"/>
  <Override PartName="/ppt/media/image16.png" ContentType="image/png"/>
  <Override PartName="/ppt/media/image81.png" ContentType="image/png"/>
  <Override PartName="/ppt/media/image15.png" ContentType="image/png"/>
  <Override PartName="/ppt/media/image80.png" ContentType="image/png"/>
  <Override PartName="/ppt/media/image2.wmf" ContentType="image/x-wmf"/>
  <Override PartName="/ppt/media/image57.png" ContentType="image/png"/>
  <Override PartName="/ppt/media/image14.wmf" ContentType="image/x-wmf"/>
  <Override PartName="/ppt/media/image5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88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3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47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1E0C-311C-414E-A1AB-08009D363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ou need to WRITE a code managemen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DD37-5316-4EF5-91E5-679E2F2BA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DE17-0BA1-41E6-AB5A-18308A7C4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2DE2-B1C8-49CE-A226-76006237E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37C7-FE1B-4657-A9DA-153940CDB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B61-0CB5-4DF7-ADD3-832790A43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A39E-3AFB-4253-82B3-D0B839844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code is the keyword here, ordinary text files just won’t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A3D8-EB6B-4900-ADFF-8F865EC49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12BF-B68F-442B-90B5-E0BF2DEA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2801-81AD-4339-BEDF-5FA286010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169D-8A7A-40B7-9EF3-A68F477B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D418-9B23-4EEF-84A2-83DAC55F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73DD-6186-4C90-A7E9-F04111EE9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C8B0-CA8A-4FD2-A66A-DB4A202F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81F2-8FBF-41C0-B9CC-9FF48A18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TortoiseSV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8DFD-2046-4C2D-827D-A56A55261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even SOME vari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459-4060-4A1B-A1E1-056632CDF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3333-FDB0-4E44-BACA-9BA70CE5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difiers are preceded by a dash a la Un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319A-CA14-4937-917E-1B553658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3D6A-9AF1-431A-A964-F5543E490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lines have been added and 1 mod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D9C8-EA38-43C1-A714-8A6CA8989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3549-9410-4FAB-A1A7-5874D53E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’ or emp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38AD-B91B-4D1D-98BB-A9CEC4D1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ABDD-C333-4839-B5A2-980CAAA16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backed up 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E084-AFF4-41B8-BC5E-83C4BD9CB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7EC5-4EA8-44EC-9A7A-9D5E3C4E5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C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78B6-2865-45D7-AC36-CFEA58228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 start the cycle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DAC7-CCBD-4BEF-8124-ACD1D24FE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mall apps can use a single workspace, others need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AECF-ECA5-4AF4-B3CC-902262C57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874-66A1-4C34-BE46-24FC2056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0295-B8D6-40AF-81F7-20B516715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5E04-894A-47F4-B3FA-B3CA23B9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 storage sometimes itself written in A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D981-42F6-4B83-89A3-260B21CF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kedir is to ensure the folder exists. ]SNAP works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F079-FD04-47AA-B541-4F803FC9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45E0-927C-4999-9F31-59627966E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real life there would a lot more fil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 this point we could let APL and SALT take care of the code and forget SVN but not if this is a big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45A5-34D6-41B1-AD17-78A057154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45C-5702-4DDE-8248-541AF48D5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created an "empty" directory – notice how / is used instead of \ , svn understands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40C1-AFD6-4CDA-B46B-A24289CEE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3DEF-2D1D-4E87-B186-ABF0F0FFD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L2 apps often use workspaces to store code + )COPY - Either way, you need code to manage th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9901-4FAB-452A-9FD9-4117341FA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this case it makes sens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C24D-E4F3-4CD7-994F-66096830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is by default so we shouldn’t have to do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0370-6A1C-4733-B0C3-66F7AA4BA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AB0C-AC20-4ED4-A601-C7A7FEA8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need to use specific utilities we can include them separated by a semi-colon. The –permanent switch is to make it …permanent!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9DE9-13C5-4CCE-96A5-0C37110C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n't save we'll need to reload the files from disk each time we )LOAD the work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59F1-C2D8-4FD5-987A-99522C76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1996-E536-489D-9D46-EA4B2C0C5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)SAVE the workspace it will remember we won't have to do it ag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F3F6-52B0-4903-ABCC-84EF5364F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the differences using the ]compare command with switch –version=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F72D-CF6E-4CB9-8F2D-12A91052B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we do them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747-81DC-430F-B9D2-3E9F76D5F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body interfering with anybody else (unless they work on the same scrip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 will create a script that can recreate a workspace with switch -LOADF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ADE6-B8FE-47FA-BBEB-101D5A2C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0DF8-8719-40B6-850E-A497BE43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'ci' is synonym for 'check in' or 'commit'. Refer to subversion documentation for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5B77-B1E1-4D72-8FA1-7842D05CE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14A7-FEEE-44FD-AAEF-8F0C4C355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723F-FB26-417D-B309-9075529C8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924E-3EA1-4FCC-A5AA-98F201D23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663B-55B1-45D4-8437-B2E0CCD6D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s must be resolved if commit is ref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1416-2212-4102-B083-6E56D352E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requires subversion to be inst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2691-8AC1-4E9D-896B-BD63EE940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the files we had are now in the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is another way to do this: start with an empty repository, checkout (nothing) into an existing folder of files to SVN and commit the ‘new’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6B2E-6D2E-4C60-8C94-0862AEAD0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0F8-AFF8-4DCD-BEFA-90A313AC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6C4D-A533-4450-8660-14521A10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4E4-FC46-405D-A4CB-046B8C11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06A-6E59-4A9C-8255-F02FF036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62A7-2B7D-4449-9192-14C3CD93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8753-E4E2-4C29-BB8A-1D7FB1B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8F07-0F1A-48DA-A058-4ADF9B7E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E396-174C-46C6-97C1-4D39CB96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1082-E073-417C-BFFB-0B6A851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E8C2-3D3E-4004-8F77-250556E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CB11-600F-4AE0-A7B5-4F054811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802D-E333-4168-81F4-BBA130D8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CB9C-79AF-465F-AEBD-9189F4E2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38D3-71E0-4CEF-B9B1-8ECB63B8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9C75-A627-4113-93E9-5600C16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2956-8D78-465C-AAEE-6A734710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F30-F268-424F-B701-6343028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E0F2-A928-4A17-B6DB-71246F43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EF8-BCC8-4C82-B63F-4021D3E6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31C6-912E-4A0D-99A5-04484DCD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3049-342A-4A01-8E87-27C9A267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782-443E-4C71-8E69-169FF715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85B4-C1EA-421C-A398-FBB553D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995C-AB8B-4C47-AC2A-11D99926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13F9-F28D-4F53-BE72-E18104DBAE0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_x0018_dyalogpower-768x1024.gif                                       00020D4A_x0006_extern                         BC21CDDC:"/>
          <p:cNvPicPr/>
          <p:nvPr/>
        </p:nvPicPr>
        <p:blipFill>
          <a:blip r:embed="rId2"/>
          <a:stretch/>
        </p:blipFill>
        <p:spPr>
          <a:xfrm>
            <a:off x="-23760" y="-14400"/>
            <a:ext cx="9191520" cy="688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Geneva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1" marL="735480" indent="-28296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3" marL="1584000" indent="-226080">
              <a:spcBef>
                <a:spcPts val="799"/>
              </a:spcBef>
              <a:buClr>
                <a:srgbClr val="ff8000"/>
              </a:buClr>
              <a:buFont typeface="Gene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4" marL="2036520" indent="-226080">
              <a:spcBef>
                <a:spcPts val="799"/>
              </a:spcBef>
              <a:buClr>
                <a:srgbClr val="ff8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ene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9999ff"/>
                </a:solidFill>
                <a:latin typeface="Gene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E0DA-044C-4BE9-A76E-DF135B07BA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6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85.wmf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01.png"/><Relationship Id="rId2" Type="http://schemas.openxmlformats.org/officeDocument/2006/relationships/image" Target="../media/image9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hyperlink" Target="http://salt.svn.beanstalkapp.com/" TargetMode="External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rep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and Version Contro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ow to handle projects using version controlled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3333"/>
                </a:solidFill>
                <a:latin typeface="Geneva"/>
              </a:rPr>
              <a:t>V1.09</a:t>
            </a:r>
            <a:endParaRPr b="0" lang="en-US" sz="10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o maintain the code management system (CMS) itself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need time to learn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“useless” skills when they le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ptm sees APL as a problem, an outcas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1BE4-6AF8-4D66-B00F-D7E921FD756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2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64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67" name="Rectangle 9"/>
          <p:cNvSpPr/>
          <p:nvPr/>
        </p:nvSpPr>
        <p:spPr>
          <a:xfrm>
            <a:off x="1474920" y="3000240"/>
            <a:ext cx="5786280" cy="1071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33EA-1E8F-4D47-AABE-38B2117736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Picture 7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71" name="Rectangle 18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7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D400-F5DF-4122-9A1C-A272E5A7BF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84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F806-8F11-47B7-87D2-BA96AC60682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91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794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95B-D395-41F0-8E03-D1CD1DC013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" name="Picture 13" descr=""/>
          <p:cNvPicPr/>
          <p:nvPr/>
        </p:nvPicPr>
        <p:blipFill>
          <a:blip r:embed="rId1"/>
          <a:stretch/>
        </p:blipFill>
        <p:spPr>
          <a:xfrm>
            <a:off x="1619280" y="2411280"/>
            <a:ext cx="6121440" cy="3394080"/>
          </a:xfrm>
          <a:prstGeom prst="rect">
            <a:avLst/>
          </a:prstGeom>
          <a:ln w="0">
            <a:noFill/>
          </a:ln>
        </p:spPr>
      </p:pic>
      <p:pic>
        <p:nvPicPr>
          <p:cNvPr id="797" name="Picture 12" descr=""/>
          <p:cNvPicPr/>
          <p:nvPr/>
        </p:nvPicPr>
        <p:blipFill>
          <a:blip r:embed="rId2"/>
          <a:stretch/>
        </p:blipFill>
        <p:spPr>
          <a:xfrm>
            <a:off x="1619280" y="2421000"/>
            <a:ext cx="6121440" cy="3392280"/>
          </a:xfrm>
          <a:prstGeom prst="rect">
            <a:avLst/>
          </a:prstGeom>
          <a:ln w="0">
            <a:noFill/>
          </a:ln>
        </p:spPr>
      </p:pic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00" name="Picture 11" descr=""/>
          <p:cNvPicPr/>
          <p:nvPr/>
        </p:nvPicPr>
        <p:blipFill>
          <a:blip r:embed="rId3"/>
          <a:stretch/>
        </p:blipFill>
        <p:spPr>
          <a:xfrm>
            <a:off x="1619280" y="2411280"/>
            <a:ext cx="6121440" cy="3392640"/>
          </a:xfrm>
          <a:prstGeom prst="rect">
            <a:avLst/>
          </a:prstGeom>
          <a:ln w="0">
            <a:noFill/>
          </a:ln>
        </p:spPr>
      </p:pic>
      <p:grpSp>
        <p:nvGrpSpPr>
          <p:cNvPr id="801" name="Group 12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802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3" name="Picture 12" descr=""/>
            <p:cNvPicPr/>
            <p:nvPr/>
          </p:nvPicPr>
          <p:blipFill>
            <a:blip r:embed="rId4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2F9D-94F5-4811-822E-303B9343A02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files modified are marked using a special ic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1" name="Picture 6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392720" cy="2614680"/>
          </a:xfrm>
          <a:prstGeom prst="rect">
            <a:avLst/>
          </a:prstGeom>
          <a:ln w="0">
            <a:noFill/>
          </a:ln>
        </p:spPr>
      </p:pic>
      <p:sp>
        <p:nvSpPr>
          <p:cNvPr id="81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E39F-9A73-48C3-92EC-1853EE2AE38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e can also ask to see the differenc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16" name="Picture 5" descr=""/>
          <p:cNvPicPr/>
          <p:nvPr/>
        </p:nvPicPr>
        <p:blipFill>
          <a:blip r:embed="rId1"/>
          <a:stretch/>
        </p:blipFill>
        <p:spPr>
          <a:xfrm>
            <a:off x="3059280" y="1628640"/>
            <a:ext cx="4324320" cy="238140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6" descr=""/>
          <p:cNvPicPr/>
          <p:nvPr/>
        </p:nvPicPr>
        <p:blipFill>
          <a:blip r:embed="rId2"/>
          <a:stretch/>
        </p:blipFill>
        <p:spPr>
          <a:xfrm>
            <a:off x="3056040" y="1619280"/>
            <a:ext cx="4352760" cy="333360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F70-5EBF-49B1-9ACA-5A245FE7D7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42472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Here we are using the </a:t>
            </a:r>
            <a:r>
              <a:rPr b="0" i="1" lang="en-GB" sz="3200" spc="-1" strike="noStrike">
                <a:solidFill>
                  <a:srgbClr val="000000"/>
                </a:solidFill>
                <a:latin typeface="Geneva"/>
              </a:rPr>
              <a:t>diff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progra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2" name="Picture 7" descr=""/>
          <p:cNvPicPr/>
          <p:nvPr/>
        </p:nvPicPr>
        <p:blipFill>
          <a:blip r:embed="rId1"/>
          <a:stretch/>
        </p:blipFill>
        <p:spPr>
          <a:xfrm>
            <a:off x="214200" y="2357280"/>
            <a:ext cx="8772480" cy="3934080"/>
          </a:xfrm>
          <a:prstGeom prst="rect">
            <a:avLst/>
          </a:prstGeom>
          <a:ln w="0">
            <a:noFill/>
          </a:ln>
        </p:spPr>
      </p:pic>
      <p:sp>
        <p:nvSpPr>
          <p:cNvPr id="8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BBFC-F001-4421-A1DE-7C48E9897A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324000" y="1619280"/>
            <a:ext cx="27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When happy we commit th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27" name="Picture 5" descr=""/>
          <p:cNvPicPr/>
          <p:nvPr/>
        </p:nvPicPr>
        <p:blipFill>
          <a:blip r:embed="rId1"/>
          <a:stretch/>
        </p:blipFill>
        <p:spPr>
          <a:xfrm>
            <a:off x="3203640" y="1700280"/>
            <a:ext cx="4324320" cy="238104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6" descr=""/>
          <p:cNvPicPr/>
          <p:nvPr/>
        </p:nvPicPr>
        <p:blipFill>
          <a:blip r:embed="rId2"/>
          <a:stretch/>
        </p:blipFill>
        <p:spPr>
          <a:xfrm>
            <a:off x="3233880" y="1679400"/>
            <a:ext cx="4362480" cy="445788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7" descr=""/>
          <p:cNvPicPr/>
          <p:nvPr/>
        </p:nvPicPr>
        <p:blipFill>
          <a:blip r:embed="rId3"/>
          <a:stretch/>
        </p:blipFill>
        <p:spPr>
          <a:xfrm>
            <a:off x="3203640" y="1508040"/>
            <a:ext cx="4362480" cy="465768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8" descr=""/>
          <p:cNvPicPr/>
          <p:nvPr/>
        </p:nvPicPr>
        <p:blipFill>
          <a:blip r:embed="rId4"/>
          <a:stretch/>
        </p:blipFill>
        <p:spPr>
          <a:xfrm>
            <a:off x="3200400" y="1508040"/>
            <a:ext cx="4362480" cy="465768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1"/>
          <p:cNvGrpSpPr/>
          <p:nvPr/>
        </p:nvGrpSpPr>
        <p:grpSpPr>
          <a:xfrm>
            <a:off x="3286080" y="2714760"/>
            <a:ext cx="5276880" cy="2876400"/>
            <a:chOff x="3286080" y="2714760"/>
            <a:chExt cx="5276880" cy="2876400"/>
          </a:xfrm>
        </p:grpSpPr>
        <p:pic>
          <p:nvPicPr>
            <p:cNvPr id="832" name="Picture 9" descr=""/>
            <p:cNvPicPr/>
            <p:nvPr/>
          </p:nvPicPr>
          <p:blipFill>
            <a:blip r:embed="rId5"/>
            <a:stretch/>
          </p:blipFill>
          <p:spPr>
            <a:xfrm>
              <a:off x="3286080" y="2714760"/>
              <a:ext cx="5276880" cy="28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Oval 9"/>
            <p:cNvSpPr/>
            <p:nvPr/>
          </p:nvSpPr>
          <p:spPr>
            <a:xfrm>
              <a:off x="4762800" y="3472560"/>
              <a:ext cx="344160" cy="35532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687F-CC24-4269-B66D-419AA0D0A52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1547640" y="2658960"/>
            <a:ext cx="5904000" cy="3218040"/>
          </a:xfrm>
          <a:prstGeom prst="rect">
            <a:avLst/>
          </a:prstGeom>
          <a:ln w="0">
            <a:noFill/>
          </a:ln>
        </p:spPr>
      </p:pic>
      <p:sp>
        <p:nvSpPr>
          <p:cNvPr id="839" name="Oval 10"/>
          <p:cNvSpPr/>
          <p:nvPr/>
        </p:nvSpPr>
        <p:spPr>
          <a:xfrm>
            <a:off x="3179880" y="3527280"/>
            <a:ext cx="428400" cy="3574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C768-A6F2-440F-8E35-58681B4F93B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is another way: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Unicod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transport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any interpreter to VIEW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integrate with any text file based control system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0ABE-A843-4D52-9B60-F2502DFE726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8" descr=""/>
          <p:cNvPicPr/>
          <p:nvPr/>
        </p:nvPicPr>
        <p:blipFill>
          <a:blip r:embed="rId1"/>
          <a:stretch/>
        </p:blipFill>
        <p:spPr>
          <a:xfrm>
            <a:off x="4284720" y="1374840"/>
            <a:ext cx="4552920" cy="3029040"/>
          </a:xfrm>
          <a:prstGeom prst="rect">
            <a:avLst/>
          </a:prstGeom>
          <a:ln w="0">
            <a:noFill/>
          </a:ln>
        </p:spPr>
      </p:pic>
      <p:sp>
        <p:nvSpPr>
          <p:cNvPr id="843" name="PlaceHolder 1"/>
          <p:cNvSpPr>
            <a:spLocks noGrp="1"/>
          </p:cNvSpPr>
          <p:nvPr>
            <p:ph/>
          </p:nvPr>
        </p:nvSpPr>
        <p:spPr>
          <a:xfrm>
            <a:off x="394920" y="1474920"/>
            <a:ext cx="352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45" name="Picture 6" descr=""/>
          <p:cNvPicPr/>
          <p:nvPr/>
        </p:nvPicPr>
        <p:blipFill>
          <a:blip r:embed="rId2"/>
          <a:stretch/>
        </p:blipFill>
        <p:spPr>
          <a:xfrm>
            <a:off x="4284720" y="1363680"/>
            <a:ext cx="4724280" cy="5305320"/>
          </a:xfrm>
          <a:prstGeom prst="rect">
            <a:avLst/>
          </a:prstGeom>
          <a:ln w="0">
            <a:noFill/>
          </a:ln>
        </p:spPr>
      </p:pic>
      <p:pic>
        <p:nvPicPr>
          <p:cNvPr id="846" name="Picture 10" descr=""/>
          <p:cNvPicPr/>
          <p:nvPr/>
        </p:nvPicPr>
        <p:blipFill>
          <a:blip r:embed="rId3"/>
          <a:stretch/>
        </p:blipFill>
        <p:spPr>
          <a:xfrm>
            <a:off x="4405320" y="1905120"/>
            <a:ext cx="4343400" cy="304776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11" descr=""/>
          <p:cNvPicPr/>
          <p:nvPr/>
        </p:nvPicPr>
        <p:blipFill>
          <a:blip r:embed="rId4"/>
          <a:stretch/>
        </p:blipFill>
        <p:spPr>
          <a:xfrm>
            <a:off x="4859280" y="2349360"/>
            <a:ext cx="3168720" cy="1719360"/>
          </a:xfrm>
          <a:prstGeom prst="rect">
            <a:avLst/>
          </a:prstGeom>
          <a:ln w="0">
            <a:noFill/>
          </a:ln>
        </p:spPr>
      </p:pic>
      <p:pic>
        <p:nvPicPr>
          <p:cNvPr id="848" name="Picture 12" descr=""/>
          <p:cNvPicPr/>
          <p:nvPr/>
        </p:nvPicPr>
        <p:blipFill>
          <a:blip r:embed="rId5"/>
          <a:stretch/>
        </p:blipFill>
        <p:spPr>
          <a:xfrm>
            <a:off x="3759120" y="227664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849" name="Rectangle 11"/>
          <p:cNvSpPr/>
          <p:nvPr/>
        </p:nvSpPr>
        <p:spPr>
          <a:xfrm>
            <a:off x="5072040" y="3946680"/>
            <a:ext cx="14292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0"/>
          <p:cNvSpPr/>
          <p:nvPr/>
        </p:nvSpPr>
        <p:spPr>
          <a:xfrm>
            <a:off x="5032800" y="389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48BA-AC9F-4335-8688-F2B6A0F45B6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394920" y="1546200"/>
            <a:ext cx="8497800" cy="13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Army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1620720" y="2492280"/>
            <a:ext cx="5688000" cy="2906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"/>
          <p:cNvPicPr/>
          <p:nvPr/>
        </p:nvPicPr>
        <p:blipFill>
          <a:blip r:embed="rId2"/>
          <a:stretch/>
        </p:blipFill>
        <p:spPr>
          <a:xfrm>
            <a:off x="1619280" y="2492280"/>
            <a:ext cx="5689440" cy="2906640"/>
          </a:xfrm>
          <a:prstGeom prst="rect">
            <a:avLst/>
          </a:prstGeom>
          <a:ln w="0">
            <a:noFill/>
          </a:ln>
        </p:spPr>
      </p:pic>
      <p:grpSp>
        <p:nvGrpSpPr>
          <p:cNvPr id="857" name="Group 12"/>
          <p:cNvGrpSpPr/>
          <p:nvPr/>
        </p:nvGrpSpPr>
        <p:grpSpPr>
          <a:xfrm>
            <a:off x="1785960" y="2357280"/>
            <a:ext cx="5429160" cy="3652920"/>
            <a:chOff x="1785960" y="2357280"/>
            <a:chExt cx="5429160" cy="3652920"/>
          </a:xfrm>
        </p:grpSpPr>
        <p:pic>
          <p:nvPicPr>
            <p:cNvPr id="858" name="Picture 12" descr=""/>
            <p:cNvPicPr/>
            <p:nvPr/>
          </p:nvPicPr>
          <p:blipFill>
            <a:blip r:embed="rId3"/>
            <a:stretch/>
          </p:blipFill>
          <p:spPr>
            <a:xfrm>
              <a:off x="1785960" y="2357280"/>
              <a:ext cx="542916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Oval 10"/>
            <p:cNvSpPr/>
            <p:nvPr/>
          </p:nvSpPr>
          <p:spPr>
            <a:xfrm>
              <a:off x="3500280" y="2857320"/>
              <a:ext cx="32860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877D-F430-4139-8873-41F45B99B82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Control Version environment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ever environment suits best your needs there is another alterna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APL alternative: drive svn from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presume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installed of course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0DB0-873E-4BD0-90C0-5E23438C53E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3" descr="fd00662_"/>
          <p:cNvPicPr/>
          <p:nvPr/>
        </p:nvPicPr>
        <p:blipFill>
          <a:blip r:embed="rId1"/>
          <a:stretch/>
        </p:blipFill>
        <p:spPr>
          <a:xfrm>
            <a:off x="3492360" y="2924280"/>
            <a:ext cx="2089440" cy="1468440"/>
          </a:xfrm>
          <a:prstGeom prst="rect">
            <a:avLst/>
          </a:prstGeom>
          <a:ln w="0">
            <a:noFill/>
          </a:ln>
        </p:spPr>
      </p:pic>
      <p:sp>
        <p:nvSpPr>
          <p:cNvPr id="867" name="WordArt 2"/>
          <p:cNvSpPr txBox="1"/>
          <p:nvPr/>
        </p:nvSpPr>
        <p:spPr>
          <a:xfrm>
            <a:off x="2124000" y="2133720"/>
            <a:ext cx="4988160" cy="27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9933"/>
                    </a:gs>
                    <a:gs pos="100000">
                      <a:srgbClr val="ff0000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IC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9933"/>
                  </a:gs>
                  <a:gs pos="100000">
                    <a:srgbClr val="ff0000"/>
                  </a:gs>
                </a:gsLst>
                <a:lin ang="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E959-2659-417C-A411-4A9E1E74A0D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4" dur="2000" fill="hold"/>
                                        <p:tgtEl>
                                          <p:spTgt spid="866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is a separate too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uses a special syntax to issue command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use it start statements with ]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mycm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873" name="Rounded Rectangle 8"/>
          <p:cNvSpPr/>
          <p:nvPr/>
        </p:nvSpPr>
        <p:spPr>
          <a:xfrm>
            <a:off x="785880" y="4375080"/>
            <a:ext cx="1928880" cy="5716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6428-B591-4CAC-9A66-1C4D399FB9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reates an input area at the bottom of the screen to issue commands using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be initialized directly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78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7" descr=""/>
          <p:cNvPicPr/>
          <p:nvPr/>
        </p:nvPicPr>
        <p:blipFill>
          <a:blip r:embed="rId2"/>
          <a:stretch/>
        </p:blipFill>
        <p:spPr>
          <a:xfrm>
            <a:off x="1535040" y="3232080"/>
            <a:ext cx="6061320" cy="2933640"/>
          </a:xfrm>
          <a:prstGeom prst="rect">
            <a:avLst/>
          </a:prstGeom>
          <a:ln w="0">
            <a:noFill/>
          </a:ln>
        </p:spPr>
      </p:pic>
      <p:sp>
        <p:nvSpPr>
          <p:cNvPr id="880" name="Rounded Rectangle 8"/>
          <p:cNvSpPr/>
          <p:nvPr/>
        </p:nvSpPr>
        <p:spPr>
          <a:xfrm>
            <a:off x="1500120" y="5286240"/>
            <a:ext cx="6143760" cy="3574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5EF-D31C-4016-822D-ACD4F58C9F7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428400"/>
            <a:ext cx="172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41080" y="1413000"/>
            <a:ext cx="81342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n V12 use the options menu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85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2" descr=""/>
          <p:cNvPicPr/>
          <p:nvPr/>
        </p:nvPicPr>
        <p:blipFill>
          <a:blip r:embed="rId2"/>
          <a:stretch/>
        </p:blipFill>
        <p:spPr>
          <a:xfrm>
            <a:off x="1714680" y="2071800"/>
            <a:ext cx="5628960" cy="4106880"/>
          </a:xfrm>
          <a:prstGeom prst="rect">
            <a:avLst/>
          </a:prstGeom>
          <a:ln w="0">
            <a:noFill/>
          </a:ln>
        </p:spPr>
      </p:pic>
      <p:sp>
        <p:nvSpPr>
          <p:cNvPr id="887" name="Oval 9"/>
          <p:cNvSpPr/>
          <p:nvPr/>
        </p:nvSpPr>
        <p:spPr>
          <a:xfrm>
            <a:off x="1625760" y="2982960"/>
            <a:ext cx="1357200" cy="428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17D1-0781-4A41-A891-E93815438FB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e0904"/>
                </a:solidFill>
                <a:latin typeface="Geneva"/>
              </a:rPr>
              <a:t>Spic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pice can also be started automatically by setting SALT registry key AddSPICE to ‘1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892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5" descr=""/>
          <p:cNvPicPr/>
          <p:nvPr/>
        </p:nvPicPr>
        <p:blipFill>
          <a:blip r:embed="rId2"/>
          <a:stretch/>
        </p:blipFill>
        <p:spPr>
          <a:xfrm>
            <a:off x="1906560" y="3051000"/>
            <a:ext cx="6121440" cy="3042000"/>
          </a:xfrm>
          <a:prstGeom prst="rect">
            <a:avLst/>
          </a:prstGeom>
          <a:ln w="0">
            <a:noFill/>
          </a:ln>
        </p:spPr>
      </p:pic>
      <p:sp>
        <p:nvSpPr>
          <p:cNvPr id="894" name="Oval 6"/>
          <p:cNvSpPr/>
          <p:nvPr/>
        </p:nvSpPr>
        <p:spPr>
          <a:xfrm>
            <a:off x="5992920" y="4278240"/>
            <a:ext cx="395280" cy="403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1C0C-13D1-44F4-9382-D3BE5CEB5DE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9" descr=""/>
          <p:cNvPicPr/>
          <p:nvPr/>
        </p:nvPicPr>
        <p:blipFill>
          <a:blip r:embed="rId1"/>
          <a:stretch/>
        </p:blipFill>
        <p:spPr>
          <a:xfrm>
            <a:off x="3375000" y="1428840"/>
            <a:ext cx="5769000" cy="542916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9900"/>
                </a:solidFill>
                <a:latin typeface="Geneva"/>
              </a:rPr>
              <a:t>Spice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8000" y="1782360"/>
            <a:ext cx="3095640" cy="33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get a list of all available commands enter ‘]?’ in the sessio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0" name="Picture 4" descr="fd00662_"/>
          <p:cNvPicPr/>
          <p:nvPr/>
        </p:nvPicPr>
        <p:blipFill>
          <a:blip r:embed="rId2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sp>
        <p:nvSpPr>
          <p:cNvPr id="901" name="Oval 6"/>
          <p:cNvSpPr/>
          <p:nvPr/>
        </p:nvSpPr>
        <p:spPr>
          <a:xfrm>
            <a:off x="3714840" y="2243160"/>
            <a:ext cx="376200" cy="431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2A38-97CD-4992-BE99-06BA1F089F1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9280" y="1533240"/>
            <a:ext cx="799308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ome of those utilities relate to Version Control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y are grouped under </a:t>
            </a:r>
            <a:r>
              <a:rPr b="1" lang="en-GB" sz="2800" spc="-1" strike="noStrike">
                <a:solidFill>
                  <a:srgbClr val="333333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06" name="Picture 5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9" descr=""/>
          <p:cNvPicPr/>
          <p:nvPr/>
        </p:nvPicPr>
        <p:blipFill>
          <a:blip r:embed="rId2"/>
          <a:stretch/>
        </p:blipFill>
        <p:spPr>
          <a:xfrm>
            <a:off x="1785960" y="2486160"/>
            <a:ext cx="5657760" cy="4371840"/>
          </a:xfrm>
          <a:prstGeom prst="rect">
            <a:avLst/>
          </a:prstGeom>
          <a:ln w="0">
            <a:noFill/>
          </a:ln>
        </p:spPr>
      </p:pic>
      <p:sp>
        <p:nvSpPr>
          <p:cNvPr id="908" name="Oval 8"/>
          <p:cNvSpPr/>
          <p:nvPr/>
        </p:nvSpPr>
        <p:spPr>
          <a:xfrm>
            <a:off x="2214720" y="3624120"/>
            <a:ext cx="649080" cy="5050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218F-18EA-493C-AA6F-6B7CCBE95B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existing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ext base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don’t need to write your own C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mployees may already know abou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go away with useful skill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IT department doesn’t see APL as a non team play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6FF-7556-4CE6-BE3E-77890920A8C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bc01"/>
                </a:solidFill>
                <a:latin typeface="Geneva"/>
              </a:rPr>
              <a:t>Spice SVN Utiliti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yntax is similar to the command line version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Only the names have been changed (slightly)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13" name="Picture 4" descr="fd00662_"/>
          <p:cNvPicPr/>
          <p:nvPr/>
        </p:nvPicPr>
        <p:blipFill>
          <a:blip r:embed="rId1"/>
          <a:stretch/>
        </p:blipFill>
        <p:spPr>
          <a:xfrm>
            <a:off x="7596360" y="260280"/>
            <a:ext cx="1271520" cy="8938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0" descr=""/>
          <p:cNvPicPr/>
          <p:nvPr/>
        </p:nvPicPr>
        <p:blipFill>
          <a:blip r:embed="rId2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"/>
          <p:cNvPicPr/>
          <p:nvPr/>
        </p:nvPicPr>
        <p:blipFill>
          <a:blip r:embed="rId3"/>
          <a:stretch/>
        </p:blipFill>
        <p:spPr>
          <a:xfrm>
            <a:off x="1503360" y="254808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" descr=""/>
          <p:cNvPicPr/>
          <p:nvPr/>
        </p:nvPicPr>
        <p:blipFill>
          <a:blip r:embed="rId4"/>
          <a:stretch/>
        </p:blipFill>
        <p:spPr>
          <a:xfrm>
            <a:off x="1500120" y="2544840"/>
            <a:ext cx="6048360" cy="39528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3" descr=""/>
          <p:cNvPicPr/>
          <p:nvPr/>
        </p:nvPicPr>
        <p:blipFill>
          <a:blip r:embed="rId5"/>
          <a:stretch/>
        </p:blipFill>
        <p:spPr>
          <a:xfrm>
            <a:off x="1500120" y="2548080"/>
            <a:ext cx="6048360" cy="3952800"/>
          </a:xfrm>
          <a:prstGeom prst="rect">
            <a:avLst/>
          </a:prstGeom>
          <a:ln w="0">
            <a:noFill/>
          </a:ln>
        </p:spPr>
      </p:pic>
      <p:sp>
        <p:nvSpPr>
          <p:cNvPr id="918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EF88-51A4-4BE7-8735-D1E62480AE6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project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2" name="Picture 5" descr=""/>
          <p:cNvPicPr/>
          <p:nvPr/>
        </p:nvPicPr>
        <p:blipFill>
          <a:blip r:embed="rId1"/>
          <a:stretch/>
        </p:blipFill>
        <p:spPr>
          <a:xfrm>
            <a:off x="2114640" y="272880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92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E4EE-24DD-47D8-8057-D067FDB8D83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303516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suppose we have a repository he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27" name="Picture 7" descr=""/>
          <p:cNvPicPr/>
          <p:nvPr/>
        </p:nvPicPr>
        <p:blipFill>
          <a:blip r:embed="rId1"/>
          <a:stretch/>
        </p:blipFill>
        <p:spPr>
          <a:xfrm>
            <a:off x="3276720" y="1628640"/>
            <a:ext cx="5454360" cy="3473640"/>
          </a:xfrm>
          <a:prstGeom prst="rect">
            <a:avLst/>
          </a:prstGeom>
          <a:ln w="0">
            <a:noFill/>
          </a:ln>
        </p:spPr>
      </p:pic>
      <p:sp>
        <p:nvSpPr>
          <p:cNvPr id="928" name="Oval 8"/>
          <p:cNvSpPr/>
          <p:nvPr/>
        </p:nvSpPr>
        <p:spPr>
          <a:xfrm>
            <a:off x="3708360" y="2997360"/>
            <a:ext cx="1871640" cy="5047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67E-994D-4339-83E6-7B3E3BB444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/>
          </p:nvPr>
        </p:nvSpPr>
        <p:spPr>
          <a:xfrm>
            <a:off x="456840" y="1341360"/>
            <a:ext cx="6923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33" name="Picture 11" descr=""/>
          <p:cNvPicPr/>
          <p:nvPr/>
        </p:nvPicPr>
        <p:blipFill>
          <a:blip r:embed="rId1"/>
          <a:stretch/>
        </p:blipFill>
        <p:spPr>
          <a:xfrm>
            <a:off x="2557440" y="2060640"/>
            <a:ext cx="5399280" cy="3997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2" descr=""/>
          <p:cNvPicPr/>
          <p:nvPr/>
        </p:nvPicPr>
        <p:blipFill>
          <a:blip r:embed="rId2"/>
          <a:stretch/>
        </p:blipFill>
        <p:spPr>
          <a:xfrm>
            <a:off x="2556000" y="2060640"/>
            <a:ext cx="3456000" cy="325440"/>
          </a:xfrm>
          <a:prstGeom prst="rect">
            <a:avLst/>
          </a:prstGeom>
          <a:ln w="0">
            <a:noFill/>
          </a:ln>
        </p:spPr>
      </p:pic>
      <p:sp>
        <p:nvSpPr>
          <p:cNvPr id="93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9BCF-EAC2-4519-AC6D-BE391842724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4213080" y="3500280"/>
            <a:ext cx="1079640" cy="120024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6"/>
          <p:cNvSpPr/>
          <p:nvPr/>
        </p:nvSpPr>
        <p:spPr>
          <a:xfrm flipH="1" rot="19881000">
            <a:off x="2770560" y="4714920"/>
            <a:ext cx="1424160" cy="4428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11"/>
          <p:cNvSpPr/>
          <p:nvPr/>
        </p:nvSpPr>
        <p:spPr>
          <a:xfrm>
            <a:off x="1692360" y="357336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15"/>
          <p:cNvSpPr/>
          <p:nvPr/>
        </p:nvSpPr>
        <p:spPr>
          <a:xfrm rot="2494800">
            <a:off x="5246280" y="4797000"/>
            <a:ext cx="141300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16"/>
          <p:cNvSpPr/>
          <p:nvPr/>
        </p:nvSpPr>
        <p:spPr>
          <a:xfrm>
            <a:off x="1835280" y="522936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17"/>
          <p:cNvSpPr/>
          <p:nvPr/>
        </p:nvSpPr>
        <p:spPr>
          <a:xfrm>
            <a:off x="7093080" y="3068640"/>
            <a:ext cx="934920" cy="79200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8"/>
          <p:cNvSpPr/>
          <p:nvPr/>
        </p:nvSpPr>
        <p:spPr>
          <a:xfrm>
            <a:off x="6516720" y="5445000"/>
            <a:ext cx="934920" cy="79236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9"/>
          <p:cNvSpPr/>
          <p:nvPr/>
        </p:nvSpPr>
        <p:spPr>
          <a:xfrm rot="20552400">
            <a:off x="5535360" y="3573360"/>
            <a:ext cx="1412640" cy="441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20"/>
          <p:cNvSpPr/>
          <p:nvPr/>
        </p:nvSpPr>
        <p:spPr>
          <a:xfrm flipH="1" rot="163800">
            <a:off x="2699280" y="3716280"/>
            <a:ext cx="1423800" cy="442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74F2-D1F2-4EEF-AA28-17275AD93BF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16" descr=""/>
          <p:cNvPicPr/>
          <p:nvPr/>
        </p:nvPicPr>
        <p:blipFill>
          <a:blip r:embed="rId1"/>
          <a:stretch/>
        </p:blipFill>
        <p:spPr>
          <a:xfrm>
            <a:off x="3979800" y="1515960"/>
            <a:ext cx="4824360" cy="3633840"/>
          </a:xfrm>
          <a:prstGeom prst="rect">
            <a:avLst/>
          </a:prstGeom>
          <a:ln w="0">
            <a:noFill/>
          </a:ln>
        </p:spPr>
      </p:pic>
      <p:sp>
        <p:nvSpPr>
          <p:cNvPr id="951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31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53" name="Picture 17" descr=""/>
          <p:cNvPicPr/>
          <p:nvPr/>
        </p:nvPicPr>
        <p:blipFill>
          <a:blip r:embed="rId2"/>
          <a:stretch/>
        </p:blipFill>
        <p:spPr>
          <a:xfrm>
            <a:off x="3995640" y="1515960"/>
            <a:ext cx="3240360" cy="304920"/>
          </a:xfrm>
          <a:prstGeom prst="rect">
            <a:avLst/>
          </a:prstGeom>
          <a:ln w="0">
            <a:noFill/>
          </a:ln>
        </p:spPr>
      </p:pic>
      <p:sp>
        <p:nvSpPr>
          <p:cNvPr id="954" name="Oval 7"/>
          <p:cNvSpPr/>
          <p:nvPr/>
        </p:nvSpPr>
        <p:spPr>
          <a:xfrm>
            <a:off x="3786120" y="2571840"/>
            <a:ext cx="285768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E8D-657E-4B50-A9D4-25C58BAA709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/>
          </p:nvPr>
        </p:nvSpPr>
        <p:spPr>
          <a:xfrm>
            <a:off x="746280" y="1424160"/>
            <a:ext cx="296208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vn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lready sets up our working directory for u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9" name="Text Box 7"/>
          <p:cNvSpPr/>
          <p:nvPr/>
        </p:nvSpPr>
        <p:spPr>
          <a:xfrm>
            <a:off x="663480" y="4313160"/>
            <a:ext cx="326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rmed by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c4a46"/>
                </a:solidFill>
                <a:latin typeface="Arial"/>
              </a:rPr>
              <a:t>setting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10" descr=""/>
          <p:cNvPicPr/>
          <p:nvPr/>
        </p:nvPicPr>
        <p:blipFill>
          <a:blip r:embed="rId1"/>
          <a:stretch/>
        </p:blipFill>
        <p:spPr>
          <a:xfrm>
            <a:off x="3922560" y="1577880"/>
            <a:ext cx="4753080" cy="3579840"/>
          </a:xfrm>
          <a:prstGeom prst="rect">
            <a:avLst/>
          </a:prstGeom>
          <a:ln w="0">
            <a:noFill/>
          </a:ln>
        </p:spPr>
      </p:pic>
      <p:sp>
        <p:nvSpPr>
          <p:cNvPr id="961" name="Oval 11"/>
          <p:cNvSpPr/>
          <p:nvPr/>
        </p:nvSpPr>
        <p:spPr>
          <a:xfrm>
            <a:off x="3755880" y="3716280"/>
            <a:ext cx="1368720" cy="504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2" descr=""/>
          <p:cNvPicPr/>
          <p:nvPr/>
        </p:nvPicPr>
        <p:blipFill>
          <a:blip r:embed="rId2"/>
          <a:stretch/>
        </p:blipFill>
        <p:spPr>
          <a:xfrm>
            <a:off x="3924360" y="1573200"/>
            <a:ext cx="3168720" cy="298440"/>
          </a:xfrm>
          <a:prstGeom prst="rect">
            <a:avLst/>
          </a:prstGeom>
          <a:ln w="0">
            <a:noFill/>
          </a:ln>
        </p:spPr>
      </p:pic>
      <p:sp>
        <p:nvSpPr>
          <p:cNvPr id="963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DC25-E966-4AC6-BA6A-1A061FBCD0F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23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68" name="Oval 5"/>
          <p:cNvSpPr/>
          <p:nvPr/>
        </p:nvSpPr>
        <p:spPr>
          <a:xfrm>
            <a:off x="3546360" y="4316400"/>
            <a:ext cx="122580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Picture 7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70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178B-33FD-4BEE-9CE2-82CF891DB5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Picture 6" descr=""/>
          <p:cNvPicPr/>
          <p:nvPr/>
        </p:nvPicPr>
        <p:blipFill>
          <a:blip r:embed="rId1"/>
          <a:stretch/>
        </p:blipFill>
        <p:spPr>
          <a:xfrm>
            <a:off x="2195640" y="2206800"/>
            <a:ext cx="4968720" cy="374328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76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3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54EC-F591-4967-BA5D-DB6209967C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ooter Placeholder 1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2071800" y="2214720"/>
            <a:ext cx="5143320" cy="344772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115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4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3"/>
          <a:stretch/>
        </p:blipFill>
        <p:spPr>
          <a:xfrm>
            <a:off x="3000240" y="3143160"/>
            <a:ext cx="3527640" cy="1938600"/>
          </a:xfrm>
          <a:prstGeom prst="rect">
            <a:avLst/>
          </a:prstGeom>
          <a:ln w="0">
            <a:noFill/>
          </a:ln>
        </p:spPr>
      </p:pic>
      <p:sp>
        <p:nvSpPr>
          <p:cNvPr id="987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8F63-5E42-4DC5-9FB2-C902ED1FD9A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Oval 4"/>
          <p:cNvSpPr/>
          <p:nvPr/>
        </p:nvSpPr>
        <p:spPr>
          <a:xfrm>
            <a:off x="2428920" y="1357200"/>
            <a:ext cx="6572160" cy="657252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doesn’t have to stand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2143080" y="3357720"/>
            <a:ext cx="1643040" cy="1643040"/>
          </a:xfrm>
          <a:prstGeom prst="ellipse">
            <a:avLst/>
          </a:prstGeom>
          <a:solidFill>
            <a:srgbClr val="797979">
              <a:alpha val="32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E19-DB2B-4A44-B281-9854BC038EB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316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pice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991" name="Picture 11" descr=""/>
          <p:cNvPicPr/>
          <p:nvPr/>
        </p:nvPicPr>
        <p:blipFill>
          <a:blip r:embed="rId1"/>
          <a:stretch/>
        </p:blipFill>
        <p:spPr>
          <a:xfrm>
            <a:off x="3492360" y="1557360"/>
            <a:ext cx="4967280" cy="356724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2" descr=""/>
          <p:cNvPicPr/>
          <p:nvPr/>
        </p:nvPicPr>
        <p:blipFill>
          <a:blip r:embed="rId2"/>
          <a:stretch/>
        </p:blipFill>
        <p:spPr>
          <a:xfrm>
            <a:off x="3502080" y="1557360"/>
            <a:ext cx="3384360" cy="318960"/>
          </a:xfrm>
          <a:prstGeom prst="rect">
            <a:avLst/>
          </a:prstGeom>
          <a:ln w="0">
            <a:noFill/>
          </a:ln>
        </p:spPr>
      </p:pic>
      <p:sp>
        <p:nvSpPr>
          <p:cNvPr id="99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1C8A-BC36-4A5D-A4A4-8773D5B227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l life exampl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a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 international APL code reposi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he Projec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ntire SALT project is in a public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available a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http://salt.svn.beanstalkapp.com/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Another project for sharing code is under wa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1441-A597-4A97-96C4-897A42AD91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 of svn under Spice is just another possibilit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hoice to use the shell commands, TortoiseSVN or Spice is a personal matter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at is important is to ensure proper synchronisation between team members and subversion provides just tha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nclu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8BD2-09E1-4124-81BC-D56ACE27676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Wait, how do I use this?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ubversion and TortoiseSVN are available from the Net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/Spice come with Dyalog ready for us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will find on your memory stick a presentation on how to port an APL application into SA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9F9D-F0E2-4338-B6E1-14F2AA35363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nicod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480" y="164304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th the wider acceptance of Unicode it has become easier to share code in text fil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can be reorganized e.g. Disk Explor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code can now be cut &amp; pasted and viewed in Notepad or other Unicode compliant editor/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08520" indent="-30852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They can be exchanged easil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4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ABB3-99A9-48D3-8B44-734D0DB6F7D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version introduced the scripted form of classes/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ir definitions, including functions in them, can be edi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0BCE-CB2E-41F9-8B97-99F2362890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Dyalog V11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definition of objects like classes can be retrieved and manipulated like the definition of function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, like the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 of a function, it can be stored outside the workspace, e.g. in a text (Unicode)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7C48-B817-4D78-A50A-D73EB81C02D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that is needed to store and retrieve text to any Operating System is a pair of functions t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 code to a text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ead a text file into the workspace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y enough to do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9291-A9A8-4B30-A777-B2E32C1A3E2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f course, once you’ve done that you may want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ave multiple versions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Retrieve any of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List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Compare them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* Basically manage them *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7876-C5BF-49E3-9B0C-4349B2B5572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ALT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39FC-17E4-4E11-BDBA-44521650A6B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 since large IT projects have been going on there has been a need to keep code out of the workspace and manage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ther the code is 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small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r </a:t>
            </a: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bi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B12C-1712-442F-B70B-428ED9B3BF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123640" y="3222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OK, so, what is SALT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6BF3-839C-4DA2-B535-1D5CB0AD0C7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oter Placeholder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3880" y="1714680"/>
            <a:ext cx="76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exactly tha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 pair of functions to store/retrieve 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other functions to list/compare/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+ utility functions (e.g. ease migration of namespaces to text forma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0C2F-4AC0-4C3A-83D3-4C650F0B16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d00252_"/>
          <p:cNvPicPr/>
          <p:nvPr/>
        </p:nvPicPr>
        <p:blipFill>
          <a:blip r:embed="rId1"/>
          <a:stretch/>
        </p:blipFill>
        <p:spPr>
          <a:xfrm>
            <a:off x="7786800" y="642960"/>
            <a:ext cx="1207800" cy="2374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14240" y="1856880"/>
            <a:ext cx="75009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AL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 stands for 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S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mple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A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PL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L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ibrary </a:t>
            </a:r>
            <a:r>
              <a:rPr b="0" lang="en-GB" sz="4000" spc="-1" strike="noStrike">
                <a:solidFill>
                  <a:srgbClr val="ff9900"/>
                </a:solidFill>
                <a:latin typeface="Geneva"/>
              </a:rPr>
              <a:t>T</a:t>
            </a:r>
            <a:r>
              <a:rPr b="0" lang="en-GB" sz="4000" spc="-1" strike="noStrike">
                <a:solidFill>
                  <a:srgbClr val="333333"/>
                </a:solidFill>
                <a:latin typeface="Geneva"/>
              </a:rPr>
              <a:t>oolkit</a:t>
            </a:r>
            <a:endParaRPr b="0" lang="en-US" sz="40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t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is a </a:t>
            </a:r>
            <a:r>
              <a:rPr b="0" i="1" lang="en-US" sz="3200" spc="-1" strike="noStrike">
                <a:solidFill>
                  <a:srgbClr val="333333"/>
                </a:solidFill>
                <a:latin typeface="Geneva"/>
              </a:rPr>
              <a:t>source code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 management system for functions, Classes and script-based Namespaces in Dyalog APL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8906-374D-4DC3-8A7C-160F7915CA9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j0088414"/>
          <p:cNvPicPr/>
          <p:nvPr/>
        </p:nvPicPr>
        <p:blipFill>
          <a:blip r:embed="rId1"/>
          <a:stretch/>
        </p:blipFill>
        <p:spPr>
          <a:xfrm>
            <a:off x="2411280" y="115920"/>
            <a:ext cx="4262400" cy="59054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ac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5560" y="1557360"/>
            <a:ext cx="850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onsists in a series of functions stored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to manipulate the source (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RC &amp;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) of object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The source code for each APL object is stored in a single Unicode text file with a file extension of “</a:t>
            </a:r>
            <a:r>
              <a:rPr b="1" lang="en-US" sz="3200" spc="-1" strike="noStrike">
                <a:solidFill>
                  <a:srgbClr val="333333"/>
                </a:solidFill>
                <a:latin typeface="Geneva"/>
              </a:rPr>
              <a:t>.</a:t>
            </a:r>
            <a:r>
              <a:rPr b="1" i="1" lang="en-US" sz="3200" spc="-1" strike="noStrike">
                <a:solidFill>
                  <a:srgbClr val="333333"/>
                </a:solidFill>
                <a:latin typeface="Geneva"/>
              </a:rPr>
              <a:t>dyalog</a:t>
            </a:r>
            <a:r>
              <a:rPr b="0" lang="en-US" sz="3200" spc="-1" strike="noStrike">
                <a:solidFill>
                  <a:srgbClr val="333333"/>
                </a:solidFill>
                <a:latin typeface="Geneva"/>
              </a:rPr>
              <a:t>”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ll functions take a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do their 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tring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describes completely th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rgumen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r the func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C70E-7B9E-44F8-A176-6580D2A0280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Command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functions are monadic. The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classes in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is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il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Explor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he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mo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0" name="Picture 4" descr="j0208400"/>
          <p:cNvPicPr/>
          <p:nvPr/>
        </p:nvPicPr>
        <p:blipFill>
          <a:blip r:embed="rId1"/>
          <a:stretch/>
        </p:blipFill>
        <p:spPr>
          <a:xfrm rot="232800">
            <a:off x="6587640" y="1483920"/>
            <a:ext cx="2376720" cy="4262400"/>
          </a:xfrm>
          <a:prstGeom prst="rect">
            <a:avLst/>
          </a:prstGeom>
          <a:ln w="0">
            <a:noFill/>
          </a:ln>
        </p:spPr>
      </p:pic>
      <p:sp>
        <p:nvSpPr>
          <p:cNvPr id="19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31BC-C8B9-449E-BD82-BC7E39D7383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MCj03970500000[1]"/>
          <p:cNvPicPr/>
          <p:nvPr/>
        </p:nvPicPr>
        <p:blipFill>
          <a:blip r:embed="rId1"/>
          <a:stretch/>
        </p:blipFill>
        <p:spPr>
          <a:xfrm>
            <a:off x="7085160" y="44280"/>
            <a:ext cx="1973160" cy="2016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stores source in Unicode files whose extension i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defau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.dyalog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les are configured to be opened automatically with Notepad under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 Windows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pon V11 installatio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der Unix the naming of the files is case sensitiv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9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0CA0-FA87-4C51-BE87-3F596080BF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quirement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199" name="Picture 4" descr="MCj03914580000[1]"/>
          <p:cNvPicPr/>
          <p:nvPr/>
        </p:nvPicPr>
        <p:blipFill>
          <a:blip r:embed="rId1"/>
          <a:stretch/>
        </p:blipFill>
        <p:spPr>
          <a:xfrm>
            <a:off x="3995640" y="4365720"/>
            <a:ext cx="1824120" cy="1633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5080" y="14842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NO </a:t>
            </a:r>
            <a:r>
              <a:rPr b="0" lang="en-GB" sz="3200" spc="-1" strike="noStrike" u="sng">
                <a:solidFill>
                  <a:srgbClr val="333333"/>
                </a:solidFill>
                <a:uFillTx/>
                <a:latin typeface="Geneva"/>
              </a:rPr>
              <a:t>special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requirements (not even .Net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11 is the minimum version SALT will run unde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packaged and comes in already available with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1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42D8-234C-47F2-8CE7-3F6756364EE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basic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is tucked away in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 - you can )LOAD and run any workspace anytim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save a namespace use Save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myns   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bring in a namespace use Load:</a:t>
            </a:r>
            <a:br>
              <a:rPr sz="3200"/>
            </a:b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Loa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\path\myfile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3E33-D165-4402-8EC5-83CEF2E5FE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1880" y="1945800"/>
            <a:ext cx="822960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editor can be rigged to react on edition of SALTed objec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-31536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user commands include all the SALT functions, e.g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ffc000"/>
                </a:solidFill>
                <a:latin typeface="Geneva"/>
              </a:rPr>
              <a:t>]save   myns   \path\my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209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10" name="Picture 11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7D7EF-8555-4C20-81A6-D24B7DC9079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"/>
          <p:cNvPicPr/>
          <p:nvPr/>
        </p:nvPicPr>
        <p:blipFill>
          <a:blip r:embed="rId1"/>
          <a:stretch/>
        </p:blipFill>
        <p:spPr>
          <a:xfrm>
            <a:off x="4788000" y="2997360"/>
            <a:ext cx="2933640" cy="249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4716360" y="443700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ave back a script on file right after it has been modifi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3"/>
          <a:stretch/>
        </p:blipFill>
        <p:spPr>
          <a:xfrm>
            <a:off x="900000" y="2637000"/>
            <a:ext cx="2914920" cy="19904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371520" y="4648320"/>
            <a:ext cx="42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confirm saving over the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ipt f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5436360" y="26370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ify &lt;tes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0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2" name="Picture 11" descr="MCj02909400000[1]"/>
            <p:cNvPicPr/>
            <p:nvPr/>
          </p:nvPicPr>
          <p:blipFill>
            <a:blip r:embed="rId4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12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DBE0-3BF1-49CA-936F-19B5ADAF026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Programs evolve and distributed copies should be kept separately, even if sm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E886-F2C7-4CEF-B5FF-2985DE88BB6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13"/>
          <p:cNvGrpSpPr/>
          <p:nvPr/>
        </p:nvGrpSpPr>
        <p:grpSpPr>
          <a:xfrm>
            <a:off x="6910560" y="44280"/>
            <a:ext cx="2125440" cy="1731960"/>
            <a:chOff x="6910560" y="44280"/>
            <a:chExt cx="2125440" cy="1731960"/>
          </a:xfrm>
        </p:grpSpPr>
        <p:pic>
          <p:nvPicPr>
            <p:cNvPr id="227" name="Picture 14" descr="MCj02909400000[1]"/>
            <p:cNvPicPr/>
            <p:nvPr/>
          </p:nvPicPr>
          <p:blipFill>
            <a:blip r:embed="rId1"/>
            <a:stretch/>
          </p:blipFill>
          <p:spPr>
            <a:xfrm>
              <a:off x="7702560" y="44280"/>
              <a:ext cx="133344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AutoShape 15"/>
            <p:cNvSpPr/>
            <p:nvPr/>
          </p:nvSpPr>
          <p:spPr>
            <a:xfrm>
              <a:off x="6910560" y="582480"/>
              <a:ext cx="1008000" cy="576360"/>
            </a:xfrm>
            <a:prstGeom prst="rightArrow">
              <a:avLst>
                <a:gd name="adj1" fmla="val 50000"/>
                <a:gd name="adj2" fmla="val 437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71600" y="54936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a script with a stack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happen if you modify a function of a class on the stac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4797360"/>
            <a:ext cx="529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fter modification you are prompted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rm saving over the present script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ce saved both the script and the cla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modified and you can resume exec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"/>
          <p:cNvPicPr/>
          <p:nvPr/>
        </p:nvPicPr>
        <p:blipFill>
          <a:blip r:embed="rId2"/>
          <a:stretch/>
        </p:blipFill>
        <p:spPr>
          <a:xfrm>
            <a:off x="611280" y="2637000"/>
            <a:ext cx="2895480" cy="2104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2905200" cy="1457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3257640" cy="1666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5"/>
          <a:stretch/>
        </p:blipFill>
        <p:spPr>
          <a:xfrm>
            <a:off x="5292720" y="4797360"/>
            <a:ext cx="3219480" cy="12668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10"/>
          <p:cNvSpPr/>
          <p:nvPr/>
        </p:nvSpPr>
        <p:spPr>
          <a:xfrm>
            <a:off x="1190520" y="494172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rror happ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4861800" y="422100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ck show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5006160" y="450864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dit th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B0B1-4FD5-4443-97F3-4FF6EBAD629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6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560" y="530280"/>
            <a:ext cx="87138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77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 store and KEEP several versions of a scrip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y using the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–</a:t>
            </a:r>
            <a:r>
              <a:rPr b="1" i="1" lang="en-GB" sz="3200" spc="-1" strike="noStrike">
                <a:solidFill>
                  <a:srgbClr val="333333"/>
                </a:solidFill>
                <a:latin typeface="Geneva"/>
              </a:rPr>
              <a:t>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modifier you tell SALT to start using version number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44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EA56-E3A6-4A60-9F22-737261E5889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"/>
          <p:cNvPicPr/>
          <p:nvPr/>
        </p:nvPicPr>
        <p:blipFill>
          <a:blip r:embed="rId2"/>
          <a:stretch/>
        </p:blipFill>
        <p:spPr>
          <a:xfrm>
            <a:off x="1143000" y="3714840"/>
            <a:ext cx="6572160" cy="260676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22"/>
          <p:cNvSpPr/>
          <p:nvPr/>
        </p:nvSpPr>
        <p:spPr>
          <a:xfrm>
            <a:off x="3143160" y="4794120"/>
            <a:ext cx="962280" cy="2160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4983120" y="5000760"/>
            <a:ext cx="1357200" cy="21420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MCj02875200000[1]"/>
          <p:cNvPicPr/>
          <p:nvPr/>
        </p:nvPicPr>
        <p:blipFill>
          <a:blip r:embed="rId1"/>
          <a:stretch/>
        </p:blipFill>
        <p:spPr>
          <a:xfrm>
            <a:off x="7308720" y="-27000"/>
            <a:ext cx="1835280" cy="16556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860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toring multiple version of a script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time you modify a script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ores the definition in a new f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4859280" y="3357720"/>
            <a:ext cx="32576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3"/>
          <a:stretch/>
        </p:blipFill>
        <p:spPr>
          <a:xfrm>
            <a:off x="1042920" y="3395520"/>
            <a:ext cx="3387960" cy="27878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262908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6302520" y="299088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5651640" y="4429080"/>
            <a:ext cx="1439640" cy="36828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5796000" y="5046840"/>
            <a:ext cx="287280" cy="225360"/>
          </a:xfrm>
          <a:prstGeom prst="rect">
            <a:avLst/>
          </a:prstGeom>
          <a:solidFill>
            <a:srgbClr val="ff9900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4A1A-F67B-46BD-97A1-C20C8AE0B81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1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55280" y="2216160"/>
            <a:ext cx="777708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can show the difference between 2 versions of a script, either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tively, using APL, or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a 3</a:t>
            </a:r>
            <a:r>
              <a:rPr b="0" lang="en-GB" sz="3200" spc="-1" strike="noStrike" baseline="30000">
                <a:solidFill>
                  <a:srgbClr val="333333"/>
                </a:solidFill>
                <a:latin typeface="Geneva"/>
              </a:rPr>
              <a:t>r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party Unicode comparison progra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66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4177-8A67-42CE-8FE7-073CE242658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2"/>
          <p:cNvGrpSpPr/>
          <p:nvPr/>
        </p:nvGrpSpPr>
        <p:grpSpPr>
          <a:xfrm>
            <a:off x="7482960" y="-1440"/>
            <a:ext cx="1660320" cy="1169640"/>
            <a:chOff x="7482960" y="-1440"/>
            <a:chExt cx="1660320" cy="1169640"/>
          </a:xfrm>
        </p:grpSpPr>
        <p:sp>
          <p:nvSpPr>
            <p:cNvPr id="269" name="Rectangle 3"/>
            <p:cNvSpPr/>
            <p:nvPr/>
          </p:nvSpPr>
          <p:spPr>
            <a:xfrm rot="19807800">
              <a:off x="7667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"/>
            <p:cNvSpPr/>
            <p:nvPr/>
          </p:nvSpPr>
          <p:spPr>
            <a:xfrm rot="1701000">
              <a:off x="8243640" y="115560"/>
              <a:ext cx="720720" cy="93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5"/>
            <p:cNvSpPr/>
            <p:nvPr/>
          </p:nvSpPr>
          <p:spPr>
            <a:xfrm>
              <a:off x="8030520" y="315720"/>
              <a:ext cx="60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=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81864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Showing differences between versions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22400" y="2000160"/>
            <a:ext cx="751032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If ‘APL’ is the method chosen to compare,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the output will appear in the session like this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274" name="Picture 8" descr=""/>
          <p:cNvPicPr/>
          <p:nvPr/>
        </p:nvPicPr>
        <p:blipFill>
          <a:blip r:embed="rId1"/>
          <a:stretch/>
        </p:blipFill>
        <p:spPr>
          <a:xfrm>
            <a:off x="4510080" y="3367080"/>
            <a:ext cx="123840" cy="123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"/>
          <p:cNvPicPr/>
          <p:nvPr/>
        </p:nvPicPr>
        <p:blipFill>
          <a:blip r:embed="rId2"/>
          <a:stretch/>
        </p:blipFill>
        <p:spPr>
          <a:xfrm>
            <a:off x="4726080" y="3583080"/>
            <a:ext cx="123840" cy="123840"/>
          </a:xfrm>
          <a:prstGeom prst="rect">
            <a:avLst/>
          </a:prstGeom>
          <a:ln w="0">
            <a:noFill/>
          </a:ln>
        </p:spPr>
      </p:pic>
      <p:grpSp>
        <p:nvGrpSpPr>
          <p:cNvPr id="276" name="Group 10"/>
          <p:cNvGrpSpPr/>
          <p:nvPr/>
        </p:nvGrpSpPr>
        <p:grpSpPr>
          <a:xfrm>
            <a:off x="470880" y="2922480"/>
            <a:ext cx="8009640" cy="3314880"/>
            <a:chOff x="470880" y="2922480"/>
            <a:chExt cx="8009640" cy="3314880"/>
          </a:xfrm>
        </p:grpSpPr>
        <p:grpSp>
          <p:nvGrpSpPr>
            <p:cNvPr id="277" name="Group 11"/>
            <p:cNvGrpSpPr/>
            <p:nvPr/>
          </p:nvGrpSpPr>
          <p:grpSpPr>
            <a:xfrm>
              <a:off x="3203640" y="2922480"/>
              <a:ext cx="5276880" cy="3314880"/>
              <a:chOff x="3203640" y="2922480"/>
              <a:chExt cx="5276880" cy="3314880"/>
            </a:xfrm>
          </p:grpSpPr>
          <p:pic>
            <p:nvPicPr>
              <p:cNvPr id="278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3203640" y="2922480"/>
                <a:ext cx="5276880" cy="331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Rectangle 13"/>
              <p:cNvSpPr/>
              <p:nvPr/>
            </p:nvSpPr>
            <p:spPr>
              <a:xfrm>
                <a:off x="3203640" y="436248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4"/>
              <p:cNvSpPr/>
              <p:nvPr/>
            </p:nvSpPr>
            <p:spPr>
              <a:xfrm>
                <a:off x="3203640" y="4973760"/>
                <a:ext cx="2881440" cy="360360"/>
              </a:xfrm>
              <a:prstGeom prst="rect">
                <a:avLst/>
              </a:prstGeom>
              <a:solidFill>
                <a:srgbClr val="33cc33">
                  <a:alpha val="34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 Box 15"/>
              <p:cNvSpPr/>
              <p:nvPr/>
            </p:nvSpPr>
            <p:spPr>
              <a:xfrm>
                <a:off x="6375600" y="4362480"/>
                <a:ext cx="15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insert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16"/>
              <p:cNvSpPr/>
              <p:nvPr/>
            </p:nvSpPr>
            <p:spPr>
              <a:xfrm>
                <a:off x="6356880" y="4960800"/>
                <a:ext cx="15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lines modifie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17"/>
              <p:cNvSpPr/>
              <p:nvPr/>
            </p:nvSpPr>
            <p:spPr>
              <a:xfrm flipH="1">
                <a:off x="5940360" y="515448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18"/>
              <p:cNvSpPr/>
              <p:nvPr/>
            </p:nvSpPr>
            <p:spPr>
              <a:xfrm flipH="1">
                <a:off x="5940360" y="4559400"/>
                <a:ext cx="4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Text Box 19"/>
            <p:cNvSpPr/>
            <p:nvPr/>
          </p:nvSpPr>
          <p:spPr>
            <a:xfrm>
              <a:off x="470880" y="4217760"/>
              <a:ext cx="2210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nser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←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used to deno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eleted 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0"/>
            <p:cNvSpPr/>
            <p:nvPr/>
          </p:nvSpPr>
          <p:spPr>
            <a:xfrm>
              <a:off x="2700360" y="44337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1"/>
            <p:cNvSpPr/>
            <p:nvPr/>
          </p:nvSpPr>
          <p:spPr>
            <a:xfrm>
              <a:off x="2700360" y="4433760"/>
              <a:ext cx="4316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>
              <a:off x="2700360" y="4433760"/>
              <a:ext cx="50328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>
              <a:off x="2700360" y="522612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2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D480-33E1-4282-9AED-126A7B5AE78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2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feature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0324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ALT has many more featur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UNIX read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omes with tools of its ow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be extended easily by adding your own utiliti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91C1-2DEE-4861-8F11-6424B3176E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ALT limit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small applications it may be sufficient to keep all code on file managed by SAL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larger apps this is clearly inadequate, you need Version Control on a grander sca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E7CA-E821-4163-997E-9D5D528BE68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What is Version Control (VC)?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394920" y="1916280"/>
            <a:ext cx="827244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VC is a good way to ensure team members of a project don't step over each others' toe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n a large project it is imperative to use V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wise, time (and money) will be lost trying to recover from coordination problem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usually start by importing an existing system (a set of files) into a version control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04" name="Group 7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305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5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6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1FE6-2A12-4884-AA5A-D313AD22A7D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files can then be forgotten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12" name="AutoShape 5"/>
          <p:cNvSpPr/>
          <p:nvPr/>
        </p:nvSpPr>
        <p:spPr>
          <a:xfrm>
            <a:off x="5724360" y="3429000"/>
            <a:ext cx="151164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6"/>
          <p:cNvSpPr/>
          <p:nvPr/>
        </p:nvSpPr>
        <p:spPr>
          <a:xfrm>
            <a:off x="1476360" y="3429000"/>
            <a:ext cx="1800360" cy="129528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11"/>
          <p:cNvGrpSpPr/>
          <p:nvPr/>
        </p:nvGrpSpPr>
        <p:grpSpPr>
          <a:xfrm>
            <a:off x="1403280" y="2997360"/>
            <a:ext cx="1944720" cy="1944360"/>
            <a:chOff x="1403280" y="2997360"/>
            <a:chExt cx="1944720" cy="1944360"/>
          </a:xfrm>
        </p:grpSpPr>
        <p:sp>
          <p:nvSpPr>
            <p:cNvPr id="315" name="Oval 8"/>
            <p:cNvSpPr/>
            <p:nvPr/>
          </p:nvSpPr>
          <p:spPr>
            <a:xfrm>
              <a:off x="1403280" y="2997360"/>
              <a:ext cx="1944720" cy="194436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1676160" y="3305520"/>
              <a:ext cx="1388880" cy="138852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0"/>
            <p:cNvSpPr/>
            <p:nvPr/>
          </p:nvSpPr>
          <p:spPr>
            <a:xfrm flipH="1">
              <a:off x="1737000" y="3256920"/>
              <a:ext cx="1333800" cy="14432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4F24-4BF7-45F0-9933-239360B521E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1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Reasons for external storag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785960"/>
            <a:ext cx="8286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re room needed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ackup copies (securit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Modulariz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de contro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race histo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ind culpri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-3394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8AE3-056D-4025-999E-FCBD7678F065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checkout a subset to work with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22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323" name="AutoShape 4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5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ub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6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8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0"/>
          <p:cNvGrpSpPr/>
          <p:nvPr/>
        </p:nvGrpSpPr>
        <p:grpSpPr>
          <a:xfrm>
            <a:off x="1731960" y="2781360"/>
            <a:ext cx="1728720" cy="1728720"/>
            <a:chOff x="1731960" y="2781360"/>
            <a:chExt cx="1728720" cy="1728720"/>
          </a:xfrm>
        </p:grpSpPr>
        <p:sp>
          <p:nvSpPr>
            <p:cNvPr id="328" name="Oval 11"/>
            <p:cNvSpPr/>
            <p:nvPr/>
          </p:nvSpPr>
          <p:spPr>
            <a:xfrm>
              <a:off x="1731960" y="2781360"/>
              <a:ext cx="1728720" cy="1728720"/>
            </a:xfrm>
            <a:prstGeom prst="ellipse">
              <a:avLst/>
            </a:prstGeom>
            <a:noFill/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2"/>
            <p:cNvSpPr/>
            <p:nvPr/>
          </p:nvSpPr>
          <p:spPr>
            <a:xfrm>
              <a:off x="1974600" y="3055320"/>
              <a:ext cx="1234440" cy="123444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3"/>
            <p:cNvSpPr/>
            <p:nvPr/>
          </p:nvSpPr>
          <p:spPr>
            <a:xfrm flipH="1">
              <a:off x="2028960" y="3012120"/>
              <a:ext cx="1185840" cy="1283400"/>
            </a:xfrm>
            <a:prstGeom prst="line">
              <a:avLst/>
            </a:prstGeom>
            <a:ln w="7632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05F1-C17B-4FF8-9FDF-4C3FC7EF31A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work on the subset for a whi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9"/>
          <p:cNvSpPr/>
          <p:nvPr/>
        </p:nvSpPr>
        <p:spPr>
          <a:xfrm>
            <a:off x="2556000" y="4508640"/>
            <a:ext cx="1698480" cy="1672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1F09-9AFF-460F-884D-62887904E3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you are using SALT you maintain the files from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2843280" y="493884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8"/>
          <p:cNvSpPr/>
          <p:nvPr/>
        </p:nvSpPr>
        <p:spPr>
          <a:xfrm>
            <a:off x="5075280" y="2708280"/>
            <a:ext cx="2376360" cy="1368360"/>
          </a:xfrm>
          <a:prstGeom prst="flowChartPredefinedProcess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yalog A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9"/>
          <p:cNvSpPr/>
          <p:nvPr/>
        </p:nvSpPr>
        <p:spPr>
          <a:xfrm rot="19261800">
            <a:off x="4032000" y="4317480"/>
            <a:ext cx="1079280" cy="432000"/>
          </a:xfrm>
          <a:prstGeom prst="leftRightArrow">
            <a:avLst>
              <a:gd name="adj1" fmla="val 50000"/>
              <a:gd name="adj2" fmla="val 4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C6CE-B743-4079-B0A2-38888BB941F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very once in a while you update the 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5940360" y="3068640"/>
            <a:ext cx="1511280" cy="13683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2843280" y="4940280"/>
            <a:ext cx="1224000" cy="863640"/>
          </a:xfrm>
          <a:prstGeom prst="flowChartMultidocument">
            <a:avLst/>
          </a:prstGeom>
          <a:solidFill>
            <a:srgbClr val="fc4a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8"/>
          <p:cNvSpPr/>
          <p:nvPr/>
        </p:nvSpPr>
        <p:spPr>
          <a:xfrm flipH="1" rot="9466200">
            <a:off x="4104720" y="4365360"/>
            <a:ext cx="1800000" cy="576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2BED-1201-435D-A147-5D3383D4FC6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ersion Control overvie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the repository is in a stable state you may produce a new releas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56" name="Group 7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357" name="AutoShape 4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new relea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6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4F70-7AA1-450A-948E-65ABC6F11B7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several VC systems out ther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mention a few: PerForce, ClearCase, Visual SourceSafe, CVS and SubVersi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re are pros &amp; cons for eac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7883-6585-4E87-8000-A24945745AF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VC system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n the following slides we'll use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s an exampl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popular open source program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well documented, has a large user base and it's free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0449-582F-4007-961B-A9FEA888201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4"/>
          <p:cNvSpPr txBox="1"/>
          <p:nvPr/>
        </p:nvSpPr>
        <p:spPr>
          <a:xfrm>
            <a:off x="1042920" y="2205000"/>
            <a:ext cx="6553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bversio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167840" y="136044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7583-188A-4177-8A93-02A1E0A08C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s a version control system for Unix and Window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independent of any file system or file types to man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is easy to instal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2466-052B-4581-BB2C-FB79321441F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98984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omes in command line (shell) mode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Most commands involve a single program: </a:t>
            </a:r>
            <a:r>
              <a:rPr b="1" i="1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or ex: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im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ou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checkin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Geneva"/>
              </a:rPr>
              <a:t>svn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export ...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8447-043F-4F4F-878E-14988C9BC3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9680" y="17622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arger applications have to be maintained whether they are written in APL or no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have to keep track of changes to know who's done what and when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must be able to undo changes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Generally cope with (large) system related problem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D035-2BFA-497A-9636-2B9B0463F34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are many more commands in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 subversion.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y handle updates, conflicts, allow to see differences between version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complete list is extensive but well documen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AE39-0F7D-45EB-BE25-3CB32A271C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re is also a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is front-end is completely separate but closely integrated to the GUI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t's name i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99cc00"/>
                </a:solidFill>
                <a:latin typeface="Geneva"/>
              </a:rPr>
              <a:t>TortoiseSVN. 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 </a:t>
            </a: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is integrat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FD5-5651-4F43-B3B2-874F06CA94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Different people prefer different thing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indows users may choose the GUI front-end for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nix users may prefer the shell environmen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users might prefer to stay in APL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ither way the results will be the same: better coordination!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58E5-D1AE-4824-AB6B-3B91A572842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ssuming we have the following workspace named 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written in Dyalo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top level namespaces in which there are 5 (nested)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Master: 2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amespace Troopers: 3 namespac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F60F-A77E-4928-B7CA-591D306BC49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399" name="Group 17"/>
          <p:cNvGrpSpPr/>
          <p:nvPr/>
        </p:nvGrpSpPr>
        <p:grpSpPr>
          <a:xfrm>
            <a:off x="1187280" y="2565360"/>
            <a:ext cx="6913800" cy="3240000"/>
            <a:chOff x="1187280" y="2565360"/>
            <a:chExt cx="6913800" cy="3240000"/>
          </a:xfrm>
        </p:grpSpPr>
        <p:sp>
          <p:nvSpPr>
            <p:cNvPr id="400" name="AutoShape 4"/>
            <p:cNvSpPr/>
            <p:nvPr/>
          </p:nvSpPr>
          <p:spPr>
            <a:xfrm>
              <a:off x="1187280" y="2565360"/>
              <a:ext cx="6913800" cy="324000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"/>
            <p:cNvSpPr/>
            <p:nvPr/>
          </p:nvSpPr>
          <p:spPr>
            <a:xfrm>
              <a:off x="3966480" y="287712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6"/>
            <p:cNvSpPr/>
            <p:nvPr/>
          </p:nvSpPr>
          <p:spPr>
            <a:xfrm>
              <a:off x="3966480" y="4309560"/>
              <a:ext cx="2575800" cy="11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"/>
            <p:cNvSpPr/>
            <p:nvPr/>
          </p:nvSpPr>
          <p:spPr>
            <a:xfrm>
              <a:off x="4169520" y="3562200"/>
              <a:ext cx="10173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8"/>
            <p:cNvSpPr/>
            <p:nvPr/>
          </p:nvSpPr>
          <p:spPr>
            <a:xfrm>
              <a:off x="5390640" y="3562200"/>
              <a:ext cx="947160" cy="435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9"/>
            <p:cNvSpPr/>
            <p:nvPr/>
          </p:nvSpPr>
          <p:spPr>
            <a:xfrm>
              <a:off x="4048560" y="4995000"/>
              <a:ext cx="74556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1"/>
            <p:cNvSpPr/>
            <p:nvPr/>
          </p:nvSpPr>
          <p:spPr>
            <a:xfrm>
              <a:off x="571032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4879440" y="4995000"/>
              <a:ext cx="745200" cy="3733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Du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"/>
            <p:cNvSpPr/>
            <p:nvPr/>
          </p:nvSpPr>
          <p:spPr>
            <a:xfrm>
              <a:off x="4782240" y="430956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roo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6"/>
            <p:cNvSpPr/>
            <p:nvPr/>
          </p:nvSpPr>
          <p:spPr>
            <a:xfrm>
              <a:off x="4858920" y="284004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s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613800" y="152388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7 namespaces, 5 of which are n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1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69D2-4FFA-499B-9FEF-BE6AB5031D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’ve seen the benefits of using text files for the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visualize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maintai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asier to shar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o need to have the interpreter to see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3939-CFDE-43C2-B486-0D1E10DC9FA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create the following folder named </a:t>
            </a:r>
            <a:r>
              <a:rPr b="1" lang="en-GB" sz="3200" spc="-1" strike="noStrike">
                <a:solidFill>
                  <a:srgbClr val="ff6600"/>
                </a:solidFill>
                <a:latin typeface="Geneva"/>
              </a:rPr>
              <a:t>\</a:t>
            </a:r>
            <a:r>
              <a:rPr b="1" lang="en-GB" sz="3200" spc="-1" strike="noStrike">
                <a:solidFill>
                  <a:srgbClr val="e93b37"/>
                </a:solidFill>
                <a:latin typeface="Geneva"/>
              </a:rPr>
              <a:t>ROBO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involving Dyalog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has 2 folders and 5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Master: 2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lder Troopers: 3 scrip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CCFF6-727D-4A5A-AC79-842F7948494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 we only need t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e SALT's &lt;Save&gt; function to store the scripted namespaces to the \ROBOTS subfolders (or use the 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]save 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CMD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3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7993-38C0-4069-A6A3-DEF7A79DFF4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17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For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 create \ROBOTS\Troopers\Pound.dyalog all we need to do i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Pound \ROBOTS\Troopers\Pound  -make –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make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s the folder if necessary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-convert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onverts the namespace to []SRC form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1735-A714-489A-8559-9CF078ADF8D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then do the other namespac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SDuck  \ROBOTS\Troopers\SDuck  -convert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bc01"/>
                </a:solidFill>
                <a:latin typeface="APL385 Unicode"/>
              </a:rPr>
              <a:t>]</a:t>
            </a:r>
            <a:r>
              <a:rPr b="1" lang="en-GB" sz="3200" spc="-1" strike="noStrike">
                <a:solidFill>
                  <a:srgbClr val="ffbc01"/>
                </a:solidFill>
                <a:latin typeface="Geneva"/>
              </a:rPr>
              <a:t>Save</a:t>
            </a:r>
            <a:r>
              <a:rPr b="0" lang="en-GB" sz="3200" spc="-1" strike="noStrike">
                <a:solidFill>
                  <a:srgbClr val="ffbc01"/>
                </a:solidFill>
                <a:latin typeface="Geneva"/>
              </a:rPr>
              <a:t>  </a:t>
            </a:r>
            <a:r>
              <a:rPr b="0" i="1" lang="en-GB" sz="3200" spc="-1" strike="noStrike">
                <a:solidFill>
                  <a:srgbClr val="ffbc01"/>
                </a:solidFill>
                <a:latin typeface="Geneva"/>
              </a:rPr>
              <a:t>Troopers.Robot1  \ROBOTS\Troopers\Robot1 -conver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2C1-59CB-47ED-8AC1-BC93D4ADC01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ps have been maintained using a combination of workspace and external storag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1835280" y="3857760"/>
            <a:ext cx="5471640" cy="1585440"/>
            <a:chOff x="1835280" y="3857760"/>
            <a:chExt cx="5471640" cy="1585440"/>
          </a:xfrm>
        </p:grpSpPr>
        <p:sp>
          <p:nvSpPr>
            <p:cNvPr id="112" name="AutoShape 6"/>
            <p:cNvSpPr/>
            <p:nvPr/>
          </p:nvSpPr>
          <p:spPr>
            <a:xfrm>
              <a:off x="1835280" y="3899880"/>
              <a:ext cx="1293840" cy="14727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7"/>
            <p:cNvSpPr/>
            <p:nvPr/>
          </p:nvSpPr>
          <p:spPr>
            <a:xfrm>
              <a:off x="5118120" y="3857760"/>
              <a:ext cx="2188800" cy="1585440"/>
            </a:xfrm>
            <a:prstGeom prst="flowChartPredefinedProcess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worksp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8"/>
            <p:cNvSpPr/>
            <p:nvPr/>
          </p:nvSpPr>
          <p:spPr>
            <a:xfrm>
              <a:off x="3129120" y="4694040"/>
              <a:ext cx="198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BEAD-469E-4730-9572-8E7F9577096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34520" y="1484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everything in a namespace has to be SALTed you can do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S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Troopers’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PL385 Unicode"/>
              </a:rPr>
              <a:t>⎕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E.SALT.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Snap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'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\ROBOTS\Troopers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i="1" lang="en-GB" sz="3200" spc="-1" strike="noStrike">
                <a:solidFill>
                  <a:srgbClr val="ff0000"/>
                </a:solidFill>
                <a:latin typeface="Geneva"/>
              </a:rPr>
              <a:t>-convert -makedir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'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36DC-3E41-4A34-8C9A-A542FD275E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is the final result in Explorer view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39" name="Picture 5" descr=""/>
          <p:cNvPicPr/>
          <p:nvPr/>
        </p:nvPicPr>
        <p:blipFill>
          <a:blip r:embed="rId1"/>
          <a:stretch/>
        </p:blipFill>
        <p:spPr>
          <a:xfrm>
            <a:off x="211464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440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FB42-04FA-4564-860D-995E7CC178C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here is what 'Pound' looks lik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44" name="Picture 7" descr=""/>
          <p:cNvPicPr/>
          <p:nvPr/>
        </p:nvPicPr>
        <p:blipFill>
          <a:blip r:embed="rId1"/>
          <a:stretch/>
        </p:blipFill>
        <p:spPr>
          <a:xfrm>
            <a:off x="1836720" y="2286000"/>
            <a:ext cx="5521320" cy="3714840"/>
          </a:xfrm>
          <a:prstGeom prst="rect">
            <a:avLst/>
          </a:prstGeom>
          <a:ln w="0">
            <a:noFill/>
          </a:ln>
        </p:spPr>
      </p:pic>
      <p:sp>
        <p:nvSpPr>
          <p:cNvPr id="44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8A0B-03D3-4768-B3B1-8E5A3F8EDF2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4296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t this point we have 2 copie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in the workspac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copy on fil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are link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48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76BA-1301-4335-9282-E88FECFAA11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lowchart: Predefined Process 8"/>
          <p:cNvSpPr/>
          <p:nvPr/>
        </p:nvSpPr>
        <p:spPr>
          <a:xfrm>
            <a:off x="1357200" y="378612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lowchart: Multidocument 9"/>
          <p:cNvSpPr/>
          <p:nvPr/>
        </p:nvSpPr>
        <p:spPr>
          <a:xfrm>
            <a:off x="5500800" y="371484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eft-Right Arrow 10"/>
          <p:cNvSpPr/>
          <p:nvPr/>
        </p:nvSpPr>
        <p:spPr>
          <a:xfrm>
            <a:off x="3857760" y="421488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ere to stop here (not use subversion) we could )SAVE the workspace and it would remember where everything (all the namespaces)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But we need to move them first to a repository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Let’s carry on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2F4F-319F-4B4A-9ED9-1098EA6F517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60" name="Picture 6" descr=""/>
          <p:cNvPicPr/>
          <p:nvPr/>
        </p:nvPicPr>
        <p:blipFill>
          <a:blip r:embed="rId1"/>
          <a:stretch/>
        </p:blipFill>
        <p:spPr>
          <a:xfrm>
            <a:off x="1908000" y="2637000"/>
            <a:ext cx="5256360" cy="3709800"/>
          </a:xfrm>
          <a:prstGeom prst="rect">
            <a:avLst/>
          </a:prstGeom>
          <a:ln w="0">
            <a:noFill/>
          </a:ln>
        </p:spPr>
      </p:pic>
      <p:sp>
        <p:nvSpPr>
          <p:cNvPr id="461" name="Oval 7"/>
          <p:cNvSpPr/>
          <p:nvPr/>
        </p:nvSpPr>
        <p:spPr>
          <a:xfrm>
            <a:off x="1692360" y="2959200"/>
            <a:ext cx="374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131-ECA8-4C47-AB6C-22340CDB0D5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then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system (ROBOTS)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684360" y="2432160"/>
            <a:ext cx="7632720" cy="3012840"/>
            <a:chOff x="684360" y="2432160"/>
            <a:chExt cx="7632720" cy="3012840"/>
          </a:xfrm>
        </p:grpSpPr>
        <p:pic>
          <p:nvPicPr>
            <p:cNvPr id="467" name="Picture 7" descr=""/>
            <p:cNvPicPr/>
            <p:nvPr/>
          </p:nvPicPr>
          <p:blipFill>
            <a:blip r:embed="rId1"/>
            <a:stretch/>
          </p:blipFill>
          <p:spPr>
            <a:xfrm>
              <a:off x="684360" y="2432160"/>
              <a:ext cx="7632720" cy="30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Oval 6"/>
            <p:cNvSpPr/>
            <p:nvPr/>
          </p:nvSpPr>
          <p:spPr>
            <a:xfrm>
              <a:off x="826920" y="2884320"/>
              <a:ext cx="496728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8"/>
          <p:cNvGrpSpPr/>
          <p:nvPr/>
        </p:nvGrpSpPr>
        <p:grpSpPr>
          <a:xfrm>
            <a:off x="1476360" y="3429000"/>
            <a:ext cx="5759640" cy="1368360"/>
            <a:chOff x="1476360" y="3429000"/>
            <a:chExt cx="5759640" cy="1368360"/>
          </a:xfrm>
        </p:grpSpPr>
        <p:sp>
          <p:nvSpPr>
            <p:cNvPr id="470" name="AutoShape 9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1476360" y="3429000"/>
              <a:ext cx="1800360" cy="12952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1"/>
            <p:cNvSpPr/>
            <p:nvPr/>
          </p:nvSpPr>
          <p:spPr>
            <a:xfrm>
              <a:off x="3635280" y="378936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m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26F5-ACA2-4EB7-80B0-BD60AE66CC06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77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29E-E550-44A0-BD90-220AD698C05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 original source is no longer required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get rid of it (or back it up </a:t>
            </a:r>
            <a:r>
              <a:rPr b="0" lang="en-GB" sz="32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481" name="Picture 4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465800" cy="3139920"/>
          </a:xfrm>
          <a:prstGeom prst="rect">
            <a:avLst/>
          </a:prstGeom>
          <a:ln w="0">
            <a:noFill/>
          </a:ln>
        </p:spPr>
      </p:pic>
      <p:sp>
        <p:nvSpPr>
          <p:cNvPr id="482" name="WordArt 6"/>
          <p:cNvSpPr txBox="1"/>
          <p:nvPr/>
        </p:nvSpPr>
        <p:spPr>
          <a:xfrm rot="5400000">
            <a:off x="3598560" y="3536640"/>
            <a:ext cx="1729080" cy="237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e0904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e0904"/>
              </a:solidFill>
              <a:latin typeface="Arial Black"/>
              <a:ea typeface="Arial Black"/>
            </a:endParaRPr>
          </a:p>
        </p:txBody>
      </p:sp>
      <p:sp>
        <p:nvSpPr>
          <p:cNvPr id="483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7251-BF71-41A7-951B-0CD9DAC20F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362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487" name="Group 8"/>
          <p:cNvGrpSpPr/>
          <p:nvPr/>
        </p:nvGrpSpPr>
        <p:grpSpPr>
          <a:xfrm>
            <a:off x="826920" y="2692440"/>
            <a:ext cx="6840720" cy="3017880"/>
            <a:chOff x="826920" y="2692440"/>
            <a:chExt cx="6840720" cy="3017880"/>
          </a:xfrm>
        </p:grpSpPr>
        <p:pic>
          <p:nvPicPr>
            <p:cNvPr id="488" name="Picture 7" descr=""/>
            <p:cNvPicPr/>
            <p:nvPr/>
          </p:nvPicPr>
          <p:blipFill>
            <a:blip r:embed="rId1"/>
            <a:stretch/>
          </p:blipFill>
          <p:spPr>
            <a:xfrm>
              <a:off x="1187280" y="2692440"/>
              <a:ext cx="6480360" cy="301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Oval 5"/>
            <p:cNvSpPr/>
            <p:nvPr/>
          </p:nvSpPr>
          <p:spPr>
            <a:xfrm>
              <a:off x="826920" y="3189240"/>
              <a:ext cx="6553440" cy="43200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Group 9"/>
          <p:cNvGrpSpPr/>
          <p:nvPr/>
        </p:nvGrpSpPr>
        <p:grpSpPr>
          <a:xfrm>
            <a:off x="1692360" y="3068640"/>
            <a:ext cx="5759280" cy="2735280"/>
            <a:chOff x="1692360" y="3068640"/>
            <a:chExt cx="5759280" cy="2735280"/>
          </a:xfrm>
        </p:grpSpPr>
        <p:sp>
          <p:nvSpPr>
            <p:cNvPr id="491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2"/>
            <p:cNvSpPr/>
            <p:nvPr/>
          </p:nvSpPr>
          <p:spPr>
            <a:xfrm flipH="1" rot="19881000">
              <a:off x="4066560" y="4220640"/>
              <a:ext cx="180000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3"/>
            <p:cNvSpPr/>
            <p:nvPr/>
          </p:nvSpPr>
          <p:spPr>
            <a:xfrm>
              <a:off x="1692360" y="3068640"/>
              <a:ext cx="1800000" cy="1295280"/>
            </a:xfrm>
            <a:prstGeom prst="flowChartMultidocumen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</a:t>
              </a:r>
              <a:r>
                <a:rPr b="0" lang="en-GB" sz="6000" spc="-1" strike="noStrike">
                  <a:solidFill>
                    <a:srgbClr val="de0904"/>
                  </a:solidFill>
                  <a:latin typeface="Arial"/>
                </a:rPr>
                <a:t>X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Text Box 14"/>
          <p:cNvSpPr/>
          <p:nvPr/>
        </p:nvSpPr>
        <p:spPr>
          <a:xfrm>
            <a:off x="446040" y="2008080"/>
            <a:ext cx="858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14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5FBF-0DD6-4347-B548-C655598CA0D1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How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42640" y="1643040"/>
            <a:ext cx="735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AP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PL files (most common wa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ther workspaces ([]CY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xternal DBs (e.g. Oracle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Etc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In other (e.g. compiled) langua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ext files (distributed, e.g. file system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-32580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2D69-672F-4EB9-AE55-542DA227273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3628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we want to preserve the original location we can check out the empty repository into it after which we add the new material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admi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\repo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c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</a:t>
            </a:r>
            <a:r>
              <a:rPr b="0" lang="en-GB" sz="3200" spc="-1" strike="noStrike" u="sng">
                <a:solidFill>
                  <a:srgbClr val="009999"/>
                </a:solidFill>
                <a:uFillTx/>
                <a:latin typeface="Geneva"/>
                <a:hlinkClick r:id="rId1"/>
              </a:rPr>
              <a:t>file:///repo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buClr>
                <a:srgbClr val="ff8000"/>
              </a:buClr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vn </a:t>
            </a:r>
            <a:r>
              <a:rPr b="0" i="1" lang="en-GB" sz="3200" spc="-1" strike="noStrike">
                <a:solidFill>
                  <a:srgbClr val="333333"/>
                </a:solidFill>
                <a:latin typeface="Geneva"/>
              </a:rPr>
              <a:t>add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 C:\robots\troopers\*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6F27-7866-48E9-B727-9E960FF07C9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have to make sure SALT is enabled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04" name="Picture 7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05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740E-96E8-4423-A51F-918B4C2AFDB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start working in APL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also state where the working folder i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ere we specify to use our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09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9A88-3E6C-4349-A1BB-35D92100A58D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68025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wards, when we 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4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515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F98D-1CE9-49B0-A628-6BC0DEEA434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19" name="Picture 8" descr=""/>
          <p:cNvPicPr/>
          <p:nvPr/>
        </p:nvPicPr>
        <p:blipFill>
          <a:blip r:embed="rId1"/>
          <a:stretch/>
        </p:blipFill>
        <p:spPr>
          <a:xfrm>
            <a:off x="1293840" y="2928960"/>
            <a:ext cx="6456240" cy="2928960"/>
          </a:xfrm>
          <a:prstGeom prst="rect">
            <a:avLst/>
          </a:prstGeom>
          <a:ln w="0">
            <a:noFill/>
          </a:ln>
        </p:spPr>
      </p:pic>
      <p:sp>
        <p:nvSpPr>
          <p:cNvPr id="520" name="Oval 5"/>
          <p:cNvSpPr/>
          <p:nvPr/>
        </p:nvSpPr>
        <p:spPr>
          <a:xfrm>
            <a:off x="1214280" y="436392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775-F846-497B-8257-06A05D40A19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1382760" y="2133720"/>
            <a:ext cx="6284880" cy="396396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now bring in script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26" name="Oval 5"/>
          <p:cNvSpPr/>
          <p:nvPr/>
        </p:nvSpPr>
        <p:spPr>
          <a:xfrm>
            <a:off x="4067280" y="4581360"/>
            <a:ext cx="86364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8" descr=""/>
          <p:cNvPicPr/>
          <p:nvPr/>
        </p:nvPicPr>
        <p:blipFill>
          <a:blip r:embed="rId2"/>
          <a:stretch/>
        </p:blipFill>
        <p:spPr>
          <a:xfrm>
            <a:off x="1403280" y="2124000"/>
            <a:ext cx="6264360" cy="3969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9" descr=""/>
          <p:cNvPicPr/>
          <p:nvPr/>
        </p:nvPicPr>
        <p:blipFill>
          <a:blip r:embed="rId3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D22B-34CB-47DF-B0C7-A23F64C94D7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1471680" y="300996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8F61-9641-49E8-9A1C-4EC15E6190A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edit one of them (3 changes)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0" name="Picture 9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17"/>
          <p:cNvSpPr/>
          <p:nvPr/>
        </p:nvSpPr>
        <p:spPr>
          <a:xfrm>
            <a:off x="1482840" y="3000240"/>
            <a:ext cx="5857920" cy="1000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2"/>
          <a:stretch/>
        </p:blipFill>
        <p:spPr>
          <a:xfrm>
            <a:off x="1785960" y="2286000"/>
            <a:ext cx="5286240" cy="3630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8" descr=""/>
          <p:cNvPicPr/>
          <p:nvPr/>
        </p:nvPicPr>
        <p:blipFill>
          <a:blip r:embed="rId3"/>
          <a:stretch/>
        </p:blipFill>
        <p:spPr>
          <a:xfrm>
            <a:off x="1785960" y="2286000"/>
            <a:ext cx="5305320" cy="3643200"/>
          </a:xfrm>
          <a:prstGeom prst="rect">
            <a:avLst/>
          </a:prstGeom>
          <a:ln w="0">
            <a:noFill/>
          </a:ln>
        </p:spPr>
      </p:pic>
      <p:sp>
        <p:nvSpPr>
          <p:cNvPr id="545" name="Oval 7"/>
          <p:cNvSpPr/>
          <p:nvPr/>
        </p:nvSpPr>
        <p:spPr>
          <a:xfrm>
            <a:off x="3106800" y="3116160"/>
            <a:ext cx="5032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4214880" y="4143240"/>
            <a:ext cx="357120" cy="28908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7"/>
          <p:cNvSpPr/>
          <p:nvPr/>
        </p:nvSpPr>
        <p:spPr>
          <a:xfrm>
            <a:off x="4187880" y="4348080"/>
            <a:ext cx="276120" cy="2682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11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ACDCE-9A9D-4514-9A5F-2D7337C3F73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1403280" y="2133720"/>
            <a:ext cx="6264360" cy="395100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fter editing we are prompted to replac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3"/>
          <a:stretch/>
        </p:blipFill>
        <p:spPr>
          <a:xfrm>
            <a:off x="1979640" y="2349360"/>
            <a:ext cx="4824360" cy="30909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8" descr=""/>
          <p:cNvPicPr/>
          <p:nvPr/>
        </p:nvPicPr>
        <p:blipFill>
          <a:blip r:embed="rId4"/>
          <a:stretch/>
        </p:blipFill>
        <p:spPr>
          <a:xfrm>
            <a:off x="2700360" y="2781360"/>
            <a:ext cx="3527280" cy="1938240"/>
          </a:xfrm>
          <a:prstGeom prst="rect">
            <a:avLst/>
          </a:prstGeom>
          <a:ln w="0">
            <a:noFill/>
          </a:ln>
        </p:spPr>
      </p:pic>
      <p:sp>
        <p:nvSpPr>
          <p:cNvPr id="55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E1386-1BD3-4EC6-A43C-A6833BFB0A7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verify the changes have been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0" name="Picture 9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292800" cy="35002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0" descr=""/>
          <p:cNvPicPr/>
          <p:nvPr/>
        </p:nvPicPr>
        <p:blipFill>
          <a:blip r:embed="rId2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"/>
          <p:cNvPicPr/>
          <p:nvPr/>
        </p:nvPicPr>
        <p:blipFill>
          <a:blip r:embed="rId3"/>
          <a:stretch/>
        </p:blipFill>
        <p:spPr>
          <a:xfrm>
            <a:off x="1428840" y="2286000"/>
            <a:ext cx="6286320" cy="3497400"/>
          </a:xfrm>
          <a:prstGeom prst="rect">
            <a:avLst/>
          </a:prstGeom>
          <a:ln w="0">
            <a:noFill/>
          </a:ln>
        </p:spPr>
      </p:pic>
      <p:sp>
        <p:nvSpPr>
          <p:cNvPr id="563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F7D1-5695-4902-9664-256C86F65B4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Oval 4"/>
          <p:cNvSpPr/>
          <p:nvPr/>
        </p:nvSpPr>
        <p:spPr>
          <a:xfrm>
            <a:off x="3643200" y="1285920"/>
            <a:ext cx="6572520" cy="6572160"/>
          </a:xfrm>
          <a:prstGeom prst="ellipse">
            <a:avLst/>
          </a:prstGeom>
          <a:solidFill>
            <a:srgbClr val="000000">
              <a:alpha val="28000"/>
            </a:srgbClr>
          </a:solidFill>
          <a:ln w="572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neva"/>
              </a:rPr>
              <a:t>The rest of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APL stands out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1214280" y="3429000"/>
            <a:ext cx="1643400" cy="1643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eneva"/>
              </a:rPr>
              <a:t>AP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1080F-A69E-4E7B-8C30-C9EB285A625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at all is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567" name="Picture 20" descr=""/>
          <p:cNvPicPr/>
          <p:nvPr/>
        </p:nvPicPr>
        <p:blipFill>
          <a:blip r:embed="rId1"/>
          <a:stretch/>
        </p:blipFill>
        <p:spPr>
          <a:xfrm>
            <a:off x="1547640" y="2349360"/>
            <a:ext cx="6048720" cy="318312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5"/>
          <p:cNvGrpSpPr/>
          <p:nvPr/>
        </p:nvGrpSpPr>
        <p:grpSpPr>
          <a:xfrm>
            <a:off x="1785960" y="2214720"/>
            <a:ext cx="5521320" cy="3714480"/>
            <a:chOff x="1785960" y="2214720"/>
            <a:chExt cx="5521320" cy="3714480"/>
          </a:xfrm>
        </p:grpSpPr>
        <p:sp>
          <p:nvSpPr>
            <p:cNvPr id="569" name="Rectangle 26"/>
            <p:cNvSpPr/>
            <p:nvPr/>
          </p:nvSpPr>
          <p:spPr>
            <a:xfrm>
              <a:off x="3932280" y="4192560"/>
              <a:ext cx="1000080" cy="21564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54117"/>
                  </a:srgbClr>
                </a:gs>
                <a:gs pos="100000">
                  <a:srgbClr val="3333cc">
                    <a:alpha val="54117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12" descr=""/>
            <p:cNvPicPr/>
            <p:nvPr/>
          </p:nvPicPr>
          <p:blipFill>
            <a:blip r:embed="rId2"/>
            <a:stretch/>
          </p:blipFill>
          <p:spPr>
            <a:xfrm>
              <a:off x="1785960" y="2214720"/>
              <a:ext cx="5521320" cy="37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Oval 7"/>
            <p:cNvSpPr/>
            <p:nvPr/>
          </p:nvSpPr>
          <p:spPr>
            <a:xfrm>
              <a:off x="2643120" y="3143160"/>
              <a:ext cx="5032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7"/>
            <p:cNvSpPr/>
            <p:nvPr/>
          </p:nvSpPr>
          <p:spPr>
            <a:xfrm>
              <a:off x="3786480" y="428616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7"/>
            <p:cNvSpPr/>
            <p:nvPr/>
          </p:nvSpPr>
          <p:spPr>
            <a:xfrm>
              <a:off x="3714840" y="4497480"/>
              <a:ext cx="428400" cy="2174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42D7-65DE-451C-8ED3-E75709B7F5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nly used by one person at a time it can be saved with the link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 (when finished editing)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77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3B12-4F80-464C-9D50-092FB1AA30A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ROB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eft-Right Arrow 10"/>
          <p:cNvSpPr/>
          <p:nvPr/>
        </p:nvSpPr>
        <p:spPr>
          <a:xfrm>
            <a:off x="3857760" y="4303800"/>
            <a:ext cx="1428480" cy="42840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out of sync and needs refreshing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And bring back the out of sync code, e.g.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CS  Trooper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]load  Troopers/Poun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sav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5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C114-718D-401B-AD1C-6C33F859311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33"/>
                </a:solidFill>
                <a:latin typeface="Geneva"/>
              </a:rPr>
              <a:t>Restoring the original workspace </a:t>
            </a:r>
            <a:endParaRPr b="1" lang="en-US" sz="40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1424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an attempt is made to use an out of sync object SALT will warn you of the fact and confirm your intentions before saving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338C-E2F8-43C4-B4EE-27B421503DB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7" descr=""/>
          <p:cNvPicPr/>
          <p:nvPr/>
        </p:nvPicPr>
        <p:blipFill>
          <a:blip r:embed="rId1"/>
          <a:stretch/>
        </p:blipFill>
        <p:spPr>
          <a:xfrm>
            <a:off x="2714760" y="3573360"/>
            <a:ext cx="4643280" cy="26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User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594" name="AutoShape 5"/>
          <p:cNvSpPr/>
          <p:nvPr/>
        </p:nvSpPr>
        <p:spPr>
          <a:xfrm>
            <a:off x="611280" y="2492280"/>
            <a:ext cx="4824360" cy="316872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2627280" y="3933720"/>
            <a:ext cx="2057400" cy="14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0"/>
          <p:cNvSpPr/>
          <p:nvPr/>
        </p:nvSpPr>
        <p:spPr>
          <a:xfrm>
            <a:off x="3892680" y="4005360"/>
            <a:ext cx="679320" cy="36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1"/>
          <p:cNvSpPr/>
          <p:nvPr/>
        </p:nvSpPr>
        <p:spPr>
          <a:xfrm>
            <a:off x="3892680" y="4941720"/>
            <a:ext cx="671400" cy="370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2"/>
          <p:cNvSpPr/>
          <p:nvPr/>
        </p:nvSpPr>
        <p:spPr>
          <a:xfrm>
            <a:off x="3892680" y="4456080"/>
            <a:ext cx="671400" cy="371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3"/>
          <p:cNvSpPr/>
          <p:nvPr/>
        </p:nvSpPr>
        <p:spPr>
          <a:xfrm>
            <a:off x="2743920" y="44370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2627280" y="2709720"/>
            <a:ext cx="2067120" cy="94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3782880" y="2819520"/>
            <a:ext cx="72072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70280" y="3259080"/>
            <a:ext cx="730440" cy="349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2776680" y="29638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5"/>
          <p:cNvSpPr/>
          <p:nvPr/>
        </p:nvSpPr>
        <p:spPr>
          <a:xfrm>
            <a:off x="6372360" y="1989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6"/>
          <p:cNvSpPr/>
          <p:nvPr/>
        </p:nvSpPr>
        <p:spPr>
          <a:xfrm>
            <a:off x="7451640" y="2637000"/>
            <a:ext cx="1008000" cy="86328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7"/>
          <p:cNvSpPr/>
          <p:nvPr/>
        </p:nvSpPr>
        <p:spPr>
          <a:xfrm>
            <a:off x="6372360" y="3645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8"/>
          <p:cNvSpPr/>
          <p:nvPr/>
        </p:nvSpPr>
        <p:spPr>
          <a:xfrm>
            <a:off x="7451640" y="443700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9"/>
          <p:cNvSpPr/>
          <p:nvPr/>
        </p:nvSpPr>
        <p:spPr>
          <a:xfrm>
            <a:off x="6372360" y="5157720"/>
            <a:ext cx="1008000" cy="86364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9" name="AutoShape 26"/>
          <p:cNvCxnSpPr>
            <a:stCxn id="601" idx="3"/>
            <a:endCxn id="604" idx="1"/>
          </p:cNvCxnSpPr>
          <p:nvPr/>
        </p:nvCxnSpPr>
        <p:spPr>
          <a:xfrm flipV="1">
            <a:off x="4503240" y="2420640"/>
            <a:ext cx="1869480" cy="5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0" name="AutoShape 27"/>
          <p:cNvCxnSpPr>
            <a:stCxn id="602" idx="3"/>
            <a:endCxn id="605" idx="1"/>
          </p:cNvCxnSpPr>
          <p:nvPr/>
        </p:nvCxnSpPr>
        <p:spPr>
          <a:xfrm flipV="1">
            <a:off x="4500360" y="3068280"/>
            <a:ext cx="295164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1" name="AutoShape 28"/>
          <p:cNvCxnSpPr>
            <a:stCxn id="597" idx="3"/>
            <a:endCxn id="608" idx="1"/>
          </p:cNvCxnSpPr>
          <p:nvPr/>
        </p:nvCxnSpPr>
        <p:spPr>
          <a:xfrm>
            <a:off x="4563720" y="5127480"/>
            <a:ext cx="1809000" cy="46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2" name="AutoShape 30"/>
          <p:cNvCxnSpPr>
            <a:stCxn id="598" idx="3"/>
            <a:endCxn id="607" idx="1"/>
          </p:cNvCxnSpPr>
          <p:nvPr/>
        </p:nvCxnSpPr>
        <p:spPr>
          <a:xfrm>
            <a:off x="4563720" y="4641480"/>
            <a:ext cx="288828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3" name="AutoShape 31"/>
          <p:cNvCxnSpPr>
            <a:stCxn id="596" idx="3"/>
            <a:endCxn id="606" idx="1"/>
          </p:cNvCxnSpPr>
          <p:nvPr/>
        </p:nvCxnSpPr>
        <p:spPr>
          <a:xfrm flipV="1">
            <a:off x="4571640" y="4076280"/>
            <a:ext cx="1801080" cy="1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4" name="Text Box 32"/>
          <p:cNvSpPr/>
          <p:nvPr/>
        </p:nvSpPr>
        <p:spPr>
          <a:xfrm>
            <a:off x="6546240" y="128736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\apl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3"/>
          <p:cNvSpPr/>
          <p:nvPr/>
        </p:nvSpPr>
        <p:spPr>
          <a:xfrm>
            <a:off x="6084720" y="1268280"/>
            <a:ext cx="2590920" cy="489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2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E854-140B-4651-8A06-D8FCD43B1D08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2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8"/>
          <p:cNvSpPr/>
          <p:nvPr/>
        </p:nvSpPr>
        <p:spPr>
          <a:xfrm>
            <a:off x="3708360" y="2708280"/>
            <a:ext cx="1727280" cy="3457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y users Interactions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912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y now look like this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21" name="Text Box 76"/>
          <p:cNvSpPr/>
          <p:nvPr/>
        </p:nvSpPr>
        <p:spPr>
          <a:xfrm>
            <a:off x="903960" y="278136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Us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2c7cc"/>
                </a:solidFill>
                <a:latin typeface="Arial"/>
              </a:rPr>
              <a:t>working on 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77"/>
          <p:cNvSpPr/>
          <p:nvPr/>
        </p:nvSpPr>
        <p:spPr>
          <a:xfrm>
            <a:off x="6160320" y="278136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Us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bc01"/>
                </a:solidFill>
                <a:latin typeface="Arial"/>
              </a:rPr>
              <a:t>working on Robo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79"/>
          <p:cNvSpPr/>
          <p:nvPr/>
        </p:nvSpPr>
        <p:spPr>
          <a:xfrm>
            <a:off x="395280" y="3583080"/>
            <a:ext cx="3098880" cy="226224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80"/>
          <p:cNvSpPr/>
          <p:nvPr/>
        </p:nvSpPr>
        <p:spPr>
          <a:xfrm>
            <a:off x="1690560" y="461160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81"/>
          <p:cNvSpPr/>
          <p:nvPr/>
        </p:nvSpPr>
        <p:spPr>
          <a:xfrm>
            <a:off x="2502000" y="4662360"/>
            <a:ext cx="436320" cy="257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2"/>
          <p:cNvSpPr/>
          <p:nvPr/>
        </p:nvSpPr>
        <p:spPr>
          <a:xfrm>
            <a:off x="2502000" y="533088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83"/>
          <p:cNvSpPr/>
          <p:nvPr/>
        </p:nvSpPr>
        <p:spPr>
          <a:xfrm>
            <a:off x="2502000" y="498492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84"/>
          <p:cNvSpPr/>
          <p:nvPr/>
        </p:nvSpPr>
        <p:spPr>
          <a:xfrm>
            <a:off x="1405800" y="490680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85"/>
          <p:cNvSpPr/>
          <p:nvPr/>
        </p:nvSpPr>
        <p:spPr>
          <a:xfrm>
            <a:off x="1690560" y="3736800"/>
            <a:ext cx="132732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6"/>
          <p:cNvSpPr/>
          <p:nvPr/>
        </p:nvSpPr>
        <p:spPr>
          <a:xfrm>
            <a:off x="2432160" y="381636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87"/>
          <p:cNvSpPr/>
          <p:nvPr/>
        </p:nvSpPr>
        <p:spPr>
          <a:xfrm>
            <a:off x="2424240" y="4129200"/>
            <a:ext cx="468360" cy="25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8"/>
          <p:cNvSpPr/>
          <p:nvPr/>
        </p:nvSpPr>
        <p:spPr>
          <a:xfrm>
            <a:off x="1549440" y="39196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9"/>
          <p:cNvSpPr/>
          <p:nvPr/>
        </p:nvSpPr>
        <p:spPr>
          <a:xfrm>
            <a:off x="3924360" y="3068640"/>
            <a:ext cx="6462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90"/>
          <p:cNvSpPr/>
          <p:nvPr/>
        </p:nvSpPr>
        <p:spPr>
          <a:xfrm>
            <a:off x="4616280" y="3530520"/>
            <a:ext cx="648000" cy="61776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1"/>
          <p:cNvSpPr/>
          <p:nvPr/>
        </p:nvSpPr>
        <p:spPr>
          <a:xfrm>
            <a:off x="3924360" y="4251240"/>
            <a:ext cx="646200" cy="615960"/>
          </a:xfrm>
          <a:prstGeom prst="flowChartDocument">
            <a:avLst/>
          </a:prstGeom>
          <a:solidFill>
            <a:srgbClr val="82c7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92"/>
          <p:cNvSpPr/>
          <p:nvPr/>
        </p:nvSpPr>
        <p:spPr>
          <a:xfrm>
            <a:off x="4616280" y="4816440"/>
            <a:ext cx="648000" cy="617400"/>
          </a:xfrm>
          <a:prstGeom prst="flowChartDocumen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93"/>
          <p:cNvSpPr/>
          <p:nvPr/>
        </p:nvSpPr>
        <p:spPr>
          <a:xfrm>
            <a:off x="3924360" y="5330880"/>
            <a:ext cx="646200" cy="617400"/>
          </a:xfrm>
          <a:prstGeom prst="flowChartDocument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8" name="AutoShape 94"/>
          <p:cNvCxnSpPr>
            <a:stCxn id="630" idx="3"/>
            <a:endCxn id="633" idx="1"/>
          </p:cNvCxnSpPr>
          <p:nvPr/>
        </p:nvCxnSpPr>
        <p:spPr>
          <a:xfrm flipV="1">
            <a:off x="2895480" y="3377520"/>
            <a:ext cx="1029600" cy="564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39" name="AutoShape 95"/>
          <p:cNvCxnSpPr>
            <a:stCxn id="631" idx="3"/>
            <a:endCxn id="634" idx="1"/>
          </p:cNvCxnSpPr>
          <p:nvPr/>
        </p:nvCxnSpPr>
        <p:spPr>
          <a:xfrm flipV="1">
            <a:off x="2892600" y="3839400"/>
            <a:ext cx="1724400" cy="415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0" name="AutoShape 96"/>
          <p:cNvCxnSpPr>
            <a:stCxn id="626" idx="3"/>
            <a:endCxn id="637" idx="1"/>
          </p:cNvCxnSpPr>
          <p:nvPr/>
        </p:nvCxnSpPr>
        <p:spPr>
          <a:xfrm>
            <a:off x="2933640" y="5464080"/>
            <a:ext cx="991440" cy="1771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1" name="AutoShape 97"/>
          <p:cNvCxnSpPr>
            <a:stCxn id="627" idx="3"/>
            <a:endCxn id="636" idx="1"/>
          </p:cNvCxnSpPr>
          <p:nvPr/>
        </p:nvCxnSpPr>
        <p:spPr>
          <a:xfrm>
            <a:off x="2933640" y="5118120"/>
            <a:ext cx="1683360" cy="8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42" name="AutoShape 98"/>
          <p:cNvCxnSpPr>
            <a:stCxn id="625" idx="3"/>
            <a:endCxn id="635" idx="1"/>
          </p:cNvCxnSpPr>
          <p:nvPr/>
        </p:nvCxnSpPr>
        <p:spPr>
          <a:xfrm flipV="1">
            <a:off x="2937960" y="4559040"/>
            <a:ext cx="9867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3" name="AutoShape 100"/>
          <p:cNvSpPr/>
          <p:nvPr/>
        </p:nvSpPr>
        <p:spPr>
          <a:xfrm>
            <a:off x="5651640" y="3573360"/>
            <a:ext cx="3098520" cy="2262240"/>
          </a:xfrm>
          <a:prstGeom prst="flowChartPredefinedProcess">
            <a:avLst/>
          </a:prstGeom>
          <a:solidFill>
            <a:srgbClr val="ffcb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01"/>
          <p:cNvSpPr/>
          <p:nvPr/>
        </p:nvSpPr>
        <p:spPr>
          <a:xfrm>
            <a:off x="6948360" y="4581360"/>
            <a:ext cx="1320840" cy="102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02"/>
          <p:cNvSpPr/>
          <p:nvPr/>
        </p:nvSpPr>
        <p:spPr>
          <a:xfrm>
            <a:off x="7097760" y="4653000"/>
            <a:ext cx="436680" cy="257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03"/>
          <p:cNvSpPr/>
          <p:nvPr/>
        </p:nvSpPr>
        <p:spPr>
          <a:xfrm>
            <a:off x="7097760" y="5321160"/>
            <a:ext cx="431640" cy="265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o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4"/>
          <p:cNvSpPr/>
          <p:nvPr/>
        </p:nvSpPr>
        <p:spPr>
          <a:xfrm>
            <a:off x="7097760" y="4975200"/>
            <a:ext cx="431640" cy="2649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Du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05"/>
          <p:cNvSpPr/>
          <p:nvPr/>
        </p:nvSpPr>
        <p:spPr>
          <a:xfrm>
            <a:off x="7579440" y="48625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o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06"/>
          <p:cNvSpPr/>
          <p:nvPr/>
        </p:nvSpPr>
        <p:spPr>
          <a:xfrm>
            <a:off x="6946920" y="3727440"/>
            <a:ext cx="1326960" cy="677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07"/>
          <p:cNvSpPr/>
          <p:nvPr/>
        </p:nvSpPr>
        <p:spPr>
          <a:xfrm>
            <a:off x="7027920" y="3807000"/>
            <a:ext cx="463320" cy="249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8"/>
          <p:cNvSpPr/>
          <p:nvPr/>
        </p:nvSpPr>
        <p:spPr>
          <a:xfrm>
            <a:off x="7020000" y="4119480"/>
            <a:ext cx="468360" cy="25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09"/>
          <p:cNvSpPr/>
          <p:nvPr/>
        </p:nvSpPr>
        <p:spPr>
          <a:xfrm>
            <a:off x="7453440" y="38606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AutoShape 110"/>
          <p:cNvCxnSpPr>
            <a:stCxn id="637" idx="3"/>
            <a:endCxn id="646" idx="1"/>
          </p:cNvCxnSpPr>
          <p:nvPr/>
        </p:nvCxnSpPr>
        <p:spPr>
          <a:xfrm flipV="1">
            <a:off x="4570560" y="5454360"/>
            <a:ext cx="2527920" cy="18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4" name="AutoShape 112"/>
          <p:cNvCxnSpPr>
            <a:stCxn id="636" idx="3"/>
            <a:endCxn id="647" idx="1"/>
          </p:cNvCxnSpPr>
          <p:nvPr/>
        </p:nvCxnSpPr>
        <p:spPr>
          <a:xfrm flipV="1">
            <a:off x="5263920" y="5107680"/>
            <a:ext cx="1834200" cy="1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5" name="AutoShape 113"/>
          <p:cNvCxnSpPr>
            <a:stCxn id="635" idx="3"/>
            <a:endCxn id="645" idx="1"/>
          </p:cNvCxnSpPr>
          <p:nvPr/>
        </p:nvCxnSpPr>
        <p:spPr>
          <a:xfrm>
            <a:off x="4570560" y="4559040"/>
            <a:ext cx="2527920" cy="22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6" name="AutoShape 114"/>
          <p:cNvCxnSpPr>
            <a:stCxn id="634" idx="3"/>
            <a:endCxn id="651" idx="1"/>
          </p:cNvCxnSpPr>
          <p:nvPr/>
        </p:nvCxnSpPr>
        <p:spPr>
          <a:xfrm>
            <a:off x="5263920" y="3839760"/>
            <a:ext cx="1756440" cy="405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657" name="AutoShape 115"/>
          <p:cNvCxnSpPr>
            <a:stCxn id="633" idx="3"/>
            <a:endCxn id="650" idx="1"/>
          </p:cNvCxnSpPr>
          <p:nvPr/>
        </p:nvCxnSpPr>
        <p:spPr>
          <a:xfrm>
            <a:off x="4570560" y="3377880"/>
            <a:ext cx="2458080" cy="5547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658" name="Slide Number Placeholder 4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E51B-02FD-4759-A513-4F322B828F37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ooter Placeholder 4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 txBox="1"/>
          <p:nvPr/>
        </p:nvSpPr>
        <p:spPr>
          <a:xfrm>
            <a:off x="64296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f the workspace is used by more than one person at a time it should reconstruct the links at load tim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	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)load ROBOT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1" name="Rectangle 2"/>
          <p:cNvSpPr/>
          <p:nvPr/>
        </p:nvSpPr>
        <p:spPr>
          <a:xfrm>
            <a:off x="685800" y="404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9746-C442-4569-86AA-B2E497A422C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lowchart: Predefined Process 8"/>
          <p:cNvSpPr/>
          <p:nvPr/>
        </p:nvSpPr>
        <p:spPr>
          <a:xfrm>
            <a:off x="1357200" y="3875040"/>
            <a:ext cx="2286000" cy="1285920"/>
          </a:xfrm>
          <a:prstGeom prst="flowChartPredefinedProcess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Work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lowchart: Multidocument 9"/>
          <p:cNvSpPr/>
          <p:nvPr/>
        </p:nvSpPr>
        <p:spPr>
          <a:xfrm>
            <a:off x="5500800" y="3803760"/>
            <a:ext cx="2357280" cy="1571400"/>
          </a:xfrm>
          <a:prstGeom prst="flowChartMultidocumen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.dya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Geneva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Down Arrow 11"/>
          <p:cNvSpPr/>
          <p:nvPr/>
        </p:nvSpPr>
        <p:spPr>
          <a:xfrm rot="5400000">
            <a:off x="4357800" y="4071960"/>
            <a:ext cx="357120" cy="1071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hen we are happy with all the changes we can tell </a:t>
            </a:r>
            <a:r>
              <a:rPr b="0" i="1" lang="en-GB" sz="3200" spc="-1" strike="noStrike">
                <a:solidFill>
                  <a:srgbClr val="009999"/>
                </a:solidFill>
                <a:latin typeface="Geneva"/>
              </a:rPr>
              <a:t>subversion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to commit the changes we've mad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900000" y="3068640"/>
            <a:ext cx="7201080" cy="2487600"/>
            <a:chOff x="900000" y="3068640"/>
            <a:chExt cx="7201080" cy="2487600"/>
          </a:xfrm>
        </p:grpSpPr>
        <p:pic>
          <p:nvPicPr>
            <p:cNvPr id="670" name="Picture 8" descr=""/>
            <p:cNvPicPr/>
            <p:nvPr/>
          </p:nvPicPr>
          <p:blipFill>
            <a:blip r:embed="rId1"/>
            <a:stretch/>
          </p:blipFill>
          <p:spPr>
            <a:xfrm>
              <a:off x="900000" y="3068640"/>
              <a:ext cx="7201080" cy="24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Oval 5"/>
            <p:cNvSpPr/>
            <p:nvPr/>
          </p:nvSpPr>
          <p:spPr>
            <a:xfrm>
              <a:off x="1403280" y="3673440"/>
              <a:ext cx="2664000" cy="43200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7"/>
            <p:cNvSpPr/>
            <p:nvPr/>
          </p:nvSpPr>
          <p:spPr>
            <a:xfrm>
              <a:off x="3295800" y="4273560"/>
              <a:ext cx="50292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Group 9"/>
          <p:cNvGrpSpPr/>
          <p:nvPr/>
        </p:nvGrpSpPr>
        <p:grpSpPr>
          <a:xfrm>
            <a:off x="2843280" y="3068640"/>
            <a:ext cx="4608360" cy="2735280"/>
            <a:chOff x="2843280" y="3068640"/>
            <a:chExt cx="4608360" cy="2735280"/>
          </a:xfrm>
        </p:grpSpPr>
        <p:sp>
          <p:nvSpPr>
            <p:cNvPr id="674" name="AutoShape 10"/>
            <p:cNvSpPr/>
            <p:nvPr/>
          </p:nvSpPr>
          <p:spPr>
            <a:xfrm>
              <a:off x="5940360" y="3068640"/>
              <a:ext cx="1511280" cy="1368360"/>
            </a:xfrm>
            <a:prstGeom prst="flowChartMagneticDisk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AutoShape 11"/>
            <p:cNvSpPr/>
            <p:nvPr/>
          </p:nvSpPr>
          <p:spPr>
            <a:xfrm>
              <a:off x="2843280" y="4940280"/>
              <a:ext cx="1224000" cy="863640"/>
            </a:xfrm>
            <a:prstGeom prst="flowChartMultidocument">
              <a:avLst/>
            </a:prstGeom>
            <a:solidFill>
              <a:srgbClr val="fc4a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plscrip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AutoShape 12"/>
            <p:cNvSpPr/>
            <p:nvPr/>
          </p:nvSpPr>
          <p:spPr>
            <a:xfrm flipH="1" rot="9466200">
              <a:off x="4104720" y="4365360"/>
              <a:ext cx="1800000" cy="57600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eck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Slide Number Placeholder 13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ED88-A824-4861-AEF6-8DBEB01EE9E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14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/>
          </p:nvPr>
        </p:nvSpPr>
        <p:spPr>
          <a:xfrm>
            <a:off x="611280" y="1412640"/>
            <a:ext cx="7772400" cy="8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keep making changes in APL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81" name="Group 12"/>
          <p:cNvGrpSpPr/>
          <p:nvPr/>
        </p:nvGrpSpPr>
        <p:grpSpPr>
          <a:xfrm>
            <a:off x="1714680" y="2214720"/>
            <a:ext cx="5500440" cy="3382920"/>
            <a:chOff x="1714680" y="2214720"/>
            <a:chExt cx="5500440" cy="3382920"/>
          </a:xfrm>
        </p:grpSpPr>
        <p:pic>
          <p:nvPicPr>
            <p:cNvPr id="682" name="Picture 10" descr=""/>
            <p:cNvPicPr/>
            <p:nvPr/>
          </p:nvPicPr>
          <p:blipFill>
            <a:blip r:embed="rId1"/>
            <a:stretch/>
          </p:blipFill>
          <p:spPr>
            <a:xfrm>
              <a:off x="1714680" y="2214720"/>
              <a:ext cx="55004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Oval 5"/>
            <p:cNvSpPr/>
            <p:nvPr/>
          </p:nvSpPr>
          <p:spPr>
            <a:xfrm>
              <a:off x="2214720" y="2643120"/>
              <a:ext cx="113184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>
              <a:off x="2286000" y="4858560"/>
              <a:ext cx="1428480" cy="43164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5"/>
            <p:cNvSpPr/>
            <p:nvPr/>
          </p:nvSpPr>
          <p:spPr>
            <a:xfrm>
              <a:off x="3232440" y="3420360"/>
              <a:ext cx="357120" cy="360360"/>
            </a:xfrm>
            <a:prstGeom prst="ellipse">
              <a:avLst/>
            </a:prstGeom>
            <a:noFill/>
            <a:ln w="3816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8DE6-31B0-44EE-98BF-364035C9A35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"/>
          <p:cNvPicPr/>
          <p:nvPr/>
        </p:nvPicPr>
        <p:blipFill>
          <a:blip r:embed="rId1"/>
          <a:stretch/>
        </p:blipFill>
        <p:spPr>
          <a:xfrm>
            <a:off x="898560" y="2820960"/>
            <a:ext cx="7273800" cy="2664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... and committing until happ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1" name="Oval 7"/>
          <p:cNvSpPr/>
          <p:nvPr/>
        </p:nvSpPr>
        <p:spPr>
          <a:xfrm>
            <a:off x="3276720" y="4024440"/>
            <a:ext cx="503280" cy="43164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7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0F6-6689-4B4F-A8B9-6DAD7271E80C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8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60912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Managing applications in APL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makes porting code or even sharing snippets of it difficul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cannot transport it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Hard to compare changes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You need the (proper) interpreter just to VIEW the code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142-9D19-42B2-B5EF-374ABF1E388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Finally, to produce a finished version we </a:t>
            </a:r>
            <a:r>
              <a:rPr b="0" lang="en-GB" sz="2800" spc="-1" strike="noStrike">
                <a:solidFill>
                  <a:srgbClr val="fc4a46"/>
                </a:solidFill>
                <a:latin typeface="Geneva"/>
              </a:rPr>
              <a:t>export</a:t>
            </a:r>
            <a:r>
              <a:rPr b="0" lang="en-GB" sz="2800" spc="-1" strike="noStrike">
                <a:solidFill>
                  <a:srgbClr val="333333"/>
                </a:solidFill>
                <a:latin typeface="Geneva"/>
              </a:rPr>
              <a:t> to a folder we'll use to hold the entire project</a:t>
            </a:r>
            <a:endParaRPr b="0" lang="en-US" sz="28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grpSp>
        <p:nvGrpSpPr>
          <p:cNvPr id="696" name="Group 8"/>
          <p:cNvGrpSpPr/>
          <p:nvPr/>
        </p:nvGrpSpPr>
        <p:grpSpPr>
          <a:xfrm>
            <a:off x="1116000" y="2637000"/>
            <a:ext cx="6905520" cy="3216240"/>
            <a:chOff x="1116000" y="2637000"/>
            <a:chExt cx="6905520" cy="3216240"/>
          </a:xfrm>
        </p:grpSpPr>
        <p:pic>
          <p:nvPicPr>
            <p:cNvPr id="697" name="Picture 7" descr=""/>
            <p:cNvPicPr/>
            <p:nvPr/>
          </p:nvPicPr>
          <p:blipFill>
            <a:blip r:embed="rId1"/>
            <a:stretch/>
          </p:blipFill>
          <p:spPr>
            <a:xfrm>
              <a:off x="1116000" y="2637000"/>
              <a:ext cx="6905520" cy="32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Oval 5"/>
            <p:cNvSpPr/>
            <p:nvPr/>
          </p:nvSpPr>
          <p:spPr>
            <a:xfrm>
              <a:off x="1187280" y="3179880"/>
              <a:ext cx="6337440" cy="431640"/>
            </a:xfrm>
            <a:prstGeom prst="ellipse">
              <a:avLst/>
            </a:prstGeom>
            <a:noFill/>
            <a:ln w="57240">
              <a:solidFill>
                <a:srgbClr val="fc4a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Group 9"/>
          <p:cNvGrpSpPr/>
          <p:nvPr/>
        </p:nvGrpSpPr>
        <p:grpSpPr>
          <a:xfrm>
            <a:off x="1476360" y="3429000"/>
            <a:ext cx="5759640" cy="1440000"/>
            <a:chOff x="1476360" y="3429000"/>
            <a:chExt cx="5759640" cy="1440000"/>
          </a:xfrm>
        </p:grpSpPr>
        <p:sp>
          <p:nvSpPr>
            <p:cNvPr id="700" name="AutoShape 10"/>
            <p:cNvSpPr/>
            <p:nvPr/>
          </p:nvSpPr>
          <p:spPr>
            <a:xfrm>
              <a:off x="5724360" y="3429000"/>
              <a:ext cx="1511640" cy="1368360"/>
            </a:xfrm>
            <a:prstGeom prst="flowChartMagneticDisk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yReposit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1"/>
            <p:cNvSpPr/>
            <p:nvPr/>
          </p:nvSpPr>
          <p:spPr>
            <a:xfrm>
              <a:off x="1476360" y="3573360"/>
              <a:ext cx="1800360" cy="1295640"/>
            </a:xfrm>
            <a:prstGeom prst="flowChartMultidocument">
              <a:avLst/>
            </a:prstGeom>
            <a:gradFill rotWithShape="0">
              <a:gsLst>
                <a:gs pos="0">
                  <a:srgbClr val="bbe0e3"/>
                </a:gs>
                <a:gs pos="50000">
                  <a:srgbClr val="9ab8bb"/>
                </a:gs>
                <a:gs pos="100000">
                  <a:srgbClr val="bbe0e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obotG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2"/>
            <p:cNvSpPr/>
            <p:nvPr/>
          </p:nvSpPr>
          <p:spPr>
            <a:xfrm rot="10800000">
              <a:off x="3634920" y="3860280"/>
              <a:ext cx="1513080" cy="576360"/>
            </a:xfrm>
            <a:prstGeom prst="pi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Slide Number Placeholder 12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A5D5-FE81-4F3F-A9D4-A184F797A71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ooter Placeholder 13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395280" y="1474560"/>
            <a:ext cx="8137440" cy="13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can see in Explorer the new \RobotGame folder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subversio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07" name="Picture 6" descr=""/>
          <p:cNvPicPr/>
          <p:nvPr/>
        </p:nvPicPr>
        <p:blipFill>
          <a:blip r:embed="rId1"/>
          <a:stretch/>
        </p:blipFill>
        <p:spPr>
          <a:xfrm>
            <a:off x="1836720" y="2708280"/>
            <a:ext cx="5183280" cy="3387600"/>
          </a:xfrm>
          <a:prstGeom prst="rect">
            <a:avLst/>
          </a:prstGeom>
          <a:ln w="0">
            <a:noFill/>
          </a:ln>
        </p:spPr>
      </p:pic>
      <p:sp>
        <p:nvSpPr>
          <p:cNvPr id="70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2ED4-3D85-428F-961B-88EFDF079032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26920" y="3860280"/>
            <a:ext cx="76298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An integrated disk Explorer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  <a:p>
            <a:pPr marL="3222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33"/>
                </a:solidFill>
                <a:latin typeface="Geneva"/>
              </a:rPr>
              <a:t>GUI front-end for subversion</a:t>
            </a:r>
            <a:endParaRPr b="0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2" name="Picture 4" descr="tortoisesvn"/>
          <p:cNvPicPr/>
          <p:nvPr/>
        </p:nvPicPr>
        <p:blipFill>
          <a:blip r:embed="rId1"/>
          <a:stretch/>
        </p:blipFill>
        <p:spPr>
          <a:xfrm>
            <a:off x="3132000" y="1989000"/>
            <a:ext cx="2908440" cy="1273320"/>
          </a:xfrm>
          <a:prstGeom prst="rect">
            <a:avLst/>
          </a:prstGeom>
          <a:ln w="0">
            <a:noFill/>
          </a:ln>
        </p:spPr>
      </p:pic>
      <p:sp>
        <p:nvSpPr>
          <p:cNvPr id="713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CA8B-4B05-47B0-8155-822F07A622C4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10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Using the same ROBOTS exampl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17" name="Picture 5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4681440" cy="3292560"/>
          </a:xfrm>
          <a:prstGeom prst="rect">
            <a:avLst/>
          </a:prstGeom>
          <a:ln w="0">
            <a:noFill/>
          </a:ln>
        </p:spPr>
      </p:pic>
      <p:sp>
        <p:nvSpPr>
          <p:cNvPr id="718" name="Slide Number Placeholder 6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141-E6FB-4BFC-AD87-8947C07C3DF3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ooter Placeholder 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38988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first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reate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n empty repository, here in \MyRepository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right click on the folder wanted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ortoiseSVN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8000"/>
              </a:buClr>
              <a:buFont typeface="Gene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Create repository here..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22" name="Picture 8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3124080" cy="246708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2"/>
          <a:stretch/>
        </p:blipFill>
        <p:spPr>
          <a:xfrm>
            <a:off x="4284720" y="1341360"/>
            <a:ext cx="4862520" cy="489600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7" descr=""/>
          <p:cNvPicPr/>
          <p:nvPr/>
        </p:nvPicPr>
        <p:blipFill>
          <a:blip r:embed="rId3"/>
          <a:stretch/>
        </p:blipFill>
        <p:spPr>
          <a:xfrm>
            <a:off x="5076720" y="2421000"/>
            <a:ext cx="3529080" cy="220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0" descr=""/>
          <p:cNvPicPr/>
          <p:nvPr/>
        </p:nvPicPr>
        <p:blipFill>
          <a:blip r:embed="rId4"/>
          <a:stretch/>
        </p:blipFill>
        <p:spPr>
          <a:xfrm>
            <a:off x="4643280" y="2637000"/>
            <a:ext cx="3600720" cy="1374480"/>
          </a:xfrm>
          <a:prstGeom prst="rect">
            <a:avLst/>
          </a:prstGeom>
          <a:ln w="0">
            <a:noFill/>
          </a:ln>
        </p:spPr>
      </p:pic>
      <p:sp>
        <p:nvSpPr>
          <p:cNvPr id="726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93EBA-07B9-4AD0-9FA0-82C5E72D1CF0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19" descr=""/>
          <p:cNvPicPr/>
          <p:nvPr/>
        </p:nvPicPr>
        <p:blipFill>
          <a:blip r:embed="rId1"/>
          <a:stretch/>
        </p:blipFill>
        <p:spPr>
          <a:xfrm>
            <a:off x="4067280" y="2060640"/>
            <a:ext cx="4176720" cy="25797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0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4562280" cy="429588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7" descr=""/>
          <p:cNvPicPr/>
          <p:nvPr/>
        </p:nvPicPr>
        <p:blipFill>
          <a:blip r:embed="rId3"/>
          <a:stretch/>
        </p:blipFill>
        <p:spPr>
          <a:xfrm>
            <a:off x="4427640" y="2637000"/>
            <a:ext cx="4362480" cy="32670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18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33228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en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impor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our current system into i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4" name="Slide Number Placeholder 9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4398-C550-48DD-8B36-707F8C67062F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ooter Placeholder 10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system is now in the repository and can be checked out by anyone able to access it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This can be on the same machine or on the same network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It can also be across the internet with proper credentials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38" name="Slide Number Placeholder 5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11FA-0960-4E60-866E-8DC28ECD104E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ooter Placeholder 6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29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Next we </a:t>
            </a:r>
            <a:r>
              <a:rPr b="0" lang="en-GB" sz="3200" spc="-1" strike="noStrike">
                <a:solidFill>
                  <a:srgbClr val="fc4a46"/>
                </a:solidFill>
                <a:latin typeface="Geneva"/>
              </a:rPr>
              <a:t>checkout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 a copy to work with.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We will put our working copy in </a:t>
            </a:r>
            <a:r>
              <a:rPr b="1" lang="en-GB" sz="3200" spc="-1" strike="noStrike">
                <a:solidFill>
                  <a:srgbClr val="333333"/>
                </a:solidFill>
                <a:latin typeface="Geneva"/>
              </a:rPr>
              <a:t>\aplscripts</a:t>
            </a: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42" name="Picture 6" descr=""/>
          <p:cNvPicPr/>
          <p:nvPr/>
        </p:nvPicPr>
        <p:blipFill>
          <a:blip r:embed="rId1"/>
          <a:stretch/>
        </p:blipFill>
        <p:spPr>
          <a:xfrm>
            <a:off x="3924360" y="1268280"/>
            <a:ext cx="3171600" cy="2448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"/>
          <p:cNvPicPr/>
          <p:nvPr/>
        </p:nvPicPr>
        <p:blipFill>
          <a:blip r:embed="rId2"/>
          <a:stretch/>
        </p:blipFill>
        <p:spPr>
          <a:xfrm>
            <a:off x="3892680" y="1249200"/>
            <a:ext cx="3219480" cy="524700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8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4343400" cy="30481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9" descr=""/>
          <p:cNvPicPr/>
          <p:nvPr/>
        </p:nvPicPr>
        <p:blipFill>
          <a:blip r:embed="rId4"/>
          <a:stretch/>
        </p:blipFill>
        <p:spPr>
          <a:xfrm>
            <a:off x="4572000" y="2205000"/>
            <a:ext cx="2808360" cy="15224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11" descr=""/>
          <p:cNvPicPr/>
          <p:nvPr/>
        </p:nvPicPr>
        <p:blipFill>
          <a:blip r:embed="rId5"/>
          <a:stretch/>
        </p:blipFill>
        <p:spPr>
          <a:xfrm>
            <a:off x="3635280" y="2708280"/>
            <a:ext cx="5276880" cy="2876400"/>
          </a:xfrm>
          <a:prstGeom prst="rect">
            <a:avLst/>
          </a:prstGeom>
          <a:ln w="0">
            <a:noFill/>
          </a:ln>
        </p:spPr>
      </p:pic>
      <p:sp>
        <p:nvSpPr>
          <p:cNvPr id="747" name="Slide Number Placeholder 10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2F9B-6885-4B1A-AC8A-1440F6DEEBAB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ooter Placeholder 1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Start Dyalog, SALT should be there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1" name="Picture 9" descr=""/>
          <p:cNvPicPr/>
          <p:nvPr/>
        </p:nvPicPr>
        <p:blipFill>
          <a:blip r:embed="rId1"/>
          <a:stretch/>
        </p:blipFill>
        <p:spPr>
          <a:xfrm>
            <a:off x="1285920" y="2928960"/>
            <a:ext cx="6454800" cy="2928960"/>
          </a:xfrm>
          <a:prstGeom prst="rect">
            <a:avLst/>
          </a:prstGeom>
          <a:ln w="0">
            <a:noFill/>
          </a:ln>
        </p:spPr>
      </p:pic>
      <p:sp>
        <p:nvSpPr>
          <p:cNvPr id="752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E3AB-B2F3-46B8-952B-D4F737AC20F9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61128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33"/>
                </a:solidFill>
                <a:latin typeface="Geneva"/>
              </a:rPr>
              <a:t>Our working directory should be set:</a:t>
            </a:r>
            <a:endParaRPr b="0" lang="en-US" sz="3200" spc="-1" strike="noStrike">
              <a:solidFill>
                <a:srgbClr val="333333"/>
              </a:solidFill>
              <a:latin typeface="Genev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Geneva"/>
              </a:rPr>
              <a:t>TortoiseSVN : an example</a:t>
            </a:r>
            <a:endParaRPr b="1" lang="en-US" sz="4400" spc="-1" strike="noStrike">
              <a:solidFill>
                <a:srgbClr val="333333"/>
              </a:solidFill>
              <a:latin typeface="Geneva"/>
            </a:endParaRPr>
          </a:p>
        </p:txBody>
      </p:sp>
      <p:pic>
        <p:nvPicPr>
          <p:cNvPr id="756" name="Picture 4" descr=""/>
          <p:cNvPicPr/>
          <p:nvPr/>
        </p:nvPicPr>
        <p:blipFill>
          <a:blip r:embed="rId1"/>
          <a:stretch/>
        </p:blipFill>
        <p:spPr>
          <a:xfrm>
            <a:off x="1382760" y="2082960"/>
            <a:ext cx="6357960" cy="4010040"/>
          </a:xfrm>
          <a:prstGeom prst="rect">
            <a:avLst/>
          </a:prstGeom>
          <a:ln w="0">
            <a:noFill/>
          </a:ln>
        </p:spPr>
      </p:pic>
      <p:sp>
        <p:nvSpPr>
          <p:cNvPr id="757" name="Oval 5"/>
          <p:cNvSpPr/>
          <p:nvPr/>
        </p:nvSpPr>
        <p:spPr>
          <a:xfrm>
            <a:off x="1330200" y="4157640"/>
            <a:ext cx="1297080" cy="432000"/>
          </a:xfrm>
          <a:prstGeom prst="ellipse">
            <a:avLst/>
          </a:prstGeom>
          <a:noFill/>
          <a:ln w="38160">
            <a:solidFill>
              <a:srgbClr val="fc4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1454040" y="2962440"/>
            <a:ext cx="5857920" cy="100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658B-695E-43BD-9EC0-B888C8747C6A}" type="slidenum">
              <a:rPr b="0" lang="da-DK" sz="1400" spc="-1" strike="noStrike">
                <a:solidFill>
                  <a:srgbClr val="9999ff"/>
                </a:solidFill>
                <a:latin typeface="Genev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ooter Placeholder 9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9999ff"/>
                </a:solidFill>
                <a:latin typeface="Geneva"/>
              </a:rPr>
              <a:t>Sep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16:46:11Z</dcterms:created>
  <dc:creator>DanB</dc:creator>
  <dc:description/>
  <dc:language>en-US</dc:language>
  <cp:lastModifiedBy>danb</cp:lastModifiedBy>
  <dcterms:modified xsi:type="dcterms:W3CDTF">2011-08-19T15:43:09Z</dcterms:modified>
  <cp:revision>332</cp:revision>
  <dc:subject/>
  <dc:title>SALT and subversion</dc:title>
</cp:coreProperties>
</file>