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D3E3-9F44-478E-9BF6-66CDA40D07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54C5-082C-4702-9BC5-DC6404B63E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. Unlocked code 2. e.g. compare versions + other external util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55EA-DF8B-48C9-B71B-787C446B70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eople take for granted []SE without realizing its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A2BB-F936-4BD7-A03B-F203881961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)COPY requires some management (like clean up afterwar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9133-4F4C-4CC9-B516-D3946A26CA3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following is probably known by many people (but not everyone) so we won’t spend much time on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356A-0D50-4AA2-8842-22A470E2A7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iin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3A88-F775-4952-9617-EA9275FAB1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tting []PATH before saving will includ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9EAF-B3D3-47BF-A652-A268EE1720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you want APL to load your DSE file at startup time you’ll need to tell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FB3B-D829-40A5-9633-0E89109E92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D052-B52F-4852-9F55-1A1271FC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474-3308-423F-9A0D-5250D53A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5AC54E-D1E8-4A9E-B26D-E52D9392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FAC932-1C41-4BDB-8502-124A5FAF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7E5B5-221E-4D93-8759-3765B08A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ED9032-517A-4B87-8EEC-86D20166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03E3B1-C021-42BC-BF38-F27D73FD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423906-660C-4E2A-9B4F-806BA8C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75AF2E-F12F-49B5-9055-354B0534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9EC6E-90EF-4F64-A411-2052C12F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6B884-7071-4DA5-B4F4-7F50177B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6274F-40FD-4EB9-BF19-19C9E1F3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178-0257-424E-AF9A-FC2C13BB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F5853-AC2F-4738-B2DA-E45BBB5A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CE47F-D445-4314-98D9-86810393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87386-CBF7-49DF-B2A4-AEDBA427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2B2B6-DD5E-48AB-9928-CE9BE945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70274-235D-4F46-A539-48D838F3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024E8-F8BD-41D6-8C66-CED8B46F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DCF2A-2D73-4909-9508-5FFD41FC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9306B-5A04-484D-9646-D03084F2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F9C59-4747-44DB-B169-6B37984C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DC710-C46A-4714-BDF4-B23F373D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C4F-798A-4A15-ADC1-B89126ED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5B1DD-1B96-4988-AF8A-9AC1AB58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63C43-3113-4024-BF7B-91DCA737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27172-749E-488F-8B99-8C9335A4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49D02-7CFE-4D48-938E-BA6C5D81C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D5666-AF1F-4CA3-B4CF-6DA10B30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6294F-EE8F-4C5D-8842-99A03945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F91F5-1440-4562-998D-F67B9DAA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C550E-70C6-47D4-B73D-285BD2BB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F30EF-AEFD-4EAC-9951-6CA75979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3027E-9C6C-4F50-8291-C22513E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4318-62D6-4EE7-B085-4602F750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667B2-5D1B-4D56-9DA1-4770C37E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61A99-6C91-4016-A0EC-8B1B8BB8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48784-1AB9-4C9F-9031-38978140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579D3-0D57-47A7-8EB1-8240569A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5D051-1671-4553-B858-BE3B3406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74BB0-E11B-4E2E-9D72-90FE00C1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D8F97-915E-43C4-BA54-EAC8E016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A93E96-AB30-4FBB-AF2D-D3A96025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A9B9D7-D152-4E6B-90C4-7F873C10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EC8C9-9333-483B-B0A6-C5774C37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7EF3-6FFE-449C-902A-51868DC9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72224-BAA1-4768-904E-398410B4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BC35A-8AA6-4CBE-88CD-22EE27CA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8267E-F7F4-4FB8-9AD7-0ABD1F00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478EC-4B5C-4DF9-A446-F25054EE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98132-B9DB-444E-A90D-206FCA691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AFD372-38CC-4FC5-A855-0111FE71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C7EAA-B406-4BC5-B0AF-CBCB26D6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A6906F-E198-4C20-AD7F-08E41812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E7EBC-F390-4396-9F73-777F4CC1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3844E-13DB-4FD4-A9A7-D4DC5B6B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FB2B-2143-4F3F-8E55-9FB65D81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6F952E-B602-4143-B5E7-D2231B18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ADFCB-6788-4202-8DAB-B104D36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E05544-34EE-4D89-90E5-107B4AE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AE624-5483-4482-9FD5-C195EADE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BF3B13-ACF4-4953-966C-DA3B6CE7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2874D3-2D75-4DB6-B813-AE370B89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2DCD5B-5EA4-4C53-A0F6-C7AAEDB7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9C6590-50FD-48D5-BE55-E2E40859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FA4CDC-5C29-44FE-85D3-E2FA0D9A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657C24-8F70-4BBA-AA9D-C0B4EAE9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9FC78-F7C1-4882-BA62-E5745078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11B93-76E0-4D19-812A-38EF1B0E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B4DE7-E7BF-4BBF-BD14-79641C53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961DC-2721-4AE1-AAC1-7035E961E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4573FF-62AC-4EAA-A879-B6809F50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4F1B4-73DB-475B-AB71-A692AFD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F13B6-979E-4276-AA9D-A691E5EB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4E72D-BF35-4688-8C1D-55C1A8BB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09B75A-1630-4180-8423-E552DBFE5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5B1E32-2001-4838-944F-25DF7BB3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FA38-95DD-4C3A-9360-2D6285BE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D239-5690-4DF8-8E32-6B368FCC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22D2-0DF1-4BF4-80C1-0C798B3B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4250-320C-4B61-A6C8-84E7B4CA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F53A-EDE1-493E-B7C9-15A98916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DFAD-0ADE-46B8-ABCC-11F269A7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EAFA-53A3-4257-B28D-01EA5EAF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A04-6BE1-408E-97EA-92F40B4E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5041-AB93-44D3-A0D7-0A079DA1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A0E21-2FAC-44E0-80E2-020985C1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E5494-553B-433F-BC41-86C420ED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4327F-21A7-4517-BAA8-3F9D359B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1AC57-CC3D-4131-8BA8-41516C98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BC8C5-0886-4A4B-923A-A94A1FAB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AFBD-5158-4650-8541-E87F596F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D300C-20DF-40A1-A00D-55FC9FFD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8A316-AE16-4F4B-873B-6977FD8F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BF2C-7142-4BEF-8767-F26AB57B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D9CC-8B53-4FC9-88D5-12AAF84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59613-AE62-4258-8DF8-656554B1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29530-7C82-49A5-9814-BABC479F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0ABAC-E388-4BC0-8862-49C64E75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363E1-A616-4E97-A58F-8F526290E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F17C-EEB8-4FD3-8E4F-D287DAC3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061F-E6DA-4CD7-86D5-857D82A7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9DC-4B6C-4F4E-8257-0347BF90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0A931-981F-454A-97CE-D8CA84C6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8C870-BAE6-4A10-B997-0E9EFD1B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5F8C9-EC90-4C56-95FD-595A66B1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F58E4-BD39-4E0B-A2B7-AE208B87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ECAE7-01D6-4B8B-89A7-D4D4FAD7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F7535-6A55-49E1-8FEE-BE12DCDC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5D0F-C898-49D4-9CCC-3B240B10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AF169-8BC6-44D3-8528-D690AEA8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2EBC-A839-4A65-B56D-6D31B03B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009B0-B00D-41EC-A643-B3557959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C8A-A692-4029-987A-EB716478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39EFC-20D6-4E4D-86DB-F0CAEB1C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477FA-D56A-411A-8589-748919BE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CBA4-4BB9-4F6E-8B0A-BF46F365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FC06E-013F-48BE-8E86-EA1575A3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2FB24-3B96-4977-BAC5-4711F20A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600E-EABD-4ACD-A9A9-A2E793F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4419-CA68-447C-95E9-42151B60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6EE7-3D5D-488D-9A97-C9EF528C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F475-FA21-4162-AA5E-E3C15FB9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85003-F81D-41F1-A469-5C20AE20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B5C5-5517-495B-869D-8A22BC76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60F8D-30A2-4EBD-9B07-6C09667B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77D94-E4BE-48AF-8B15-583B283D9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AAD1E-ABF3-40FC-9262-4A10643A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620A5-9B0D-4173-9545-4191DD35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345E1-755E-4492-87C3-DD397904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7C910-00F9-4CC8-ABCF-B582BECE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55042-8A04-4671-A290-2D692220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BED0B-A9B3-4D65-AFF5-974AEED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1583C-70C9-45BB-AFAD-30384806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6FE8C-8F91-4013-8E4B-DDAE133B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CC98-766B-4B71-AA40-DBE6D612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CA8EB-9E42-42C6-B419-B2F123AC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3E2F3-67A0-47ED-AA91-7464E9E7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4D2F0-F49A-4538-B70E-924324025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2EF7D-E150-40A0-BFC8-96D453D2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05EB8-BC45-4330-911C-76B64D9F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A2AC-B7B7-477C-A75D-B4CF3B00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91D3A-9C84-4CF3-A386-3F8A68FB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06756-4FED-49F9-A774-48EAA121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2C701-696F-4F5B-AD14-36F1498D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B8F6D-37C9-4DCF-93FF-A503B3F3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D9A-E2F9-4423-8673-4BEDBD73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E509E-D468-431F-8186-4D70778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4D60E-196D-474D-ACAE-9480BA6D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3763D-DF24-4DB9-B44A-40BB994C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BB658-47A8-4738-BFFA-7C76BF7A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81AAA-A897-45F6-AEC5-FF59B9B9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6F81B-3837-4412-B4FD-D2326E50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82D21-E804-44AA-BA0E-CE96E66A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46B3F-0EA4-4A06-A204-3F07C699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7D2EB-BDEE-4AF7-B601-F96A8DBF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0D0BA-6481-47A8-AA29-A5323126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BD41-2421-4B7B-AFC3-2DB5B79A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C0A31-B833-4631-97AD-36B76971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6CF8A-4E4C-4825-8C44-DFDDDC1C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FEDD3-2BCC-4261-BAA9-C70785FB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C39F3-3455-462D-92C5-FFA31C78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D705FA-358D-4D8E-B3A2-583B4594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4ED4F-5E94-4601-BBAF-F1C8DB834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2D73A-3B60-4B26-896F-2C38E9D3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94519E-68F8-4E6B-B098-9714939E4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D2B26E-40B5-4F09-8571-0C03A8B8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C09C19-BC51-4CC8-93B8-4C55EC99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CF23-0D20-4CD9-9E77-119E45E491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4084-4B94-4E26-9F9D-1BFFF638169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82F3-876F-4A6F-9684-A4723182DAF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10E9-90EE-4341-B3FD-6A71E02CCC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7"/>
          </p:nvPr>
        </p:nvSpPr>
        <p:spPr>
          <a:xfrm>
            <a:off x="685800" y="6324480"/>
            <a:ext cx="21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7F2E-C389-4DEB-9E2E-9CBE42E0FA4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4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4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4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4DE6-CA5B-4EC3-B83F-9EF05C5F9F8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E8C7-4029-4251-89B7-2EA9C20DDB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1ABD-EC81-4961-B2D2-23C58DC0353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ED06-650A-42B7-A18B-85FA477B5B5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235-AA23-41C5-A8F8-CA00BE266F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8245-2ADB-40B4-83A8-F01B77A335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103D-8CBA-4883-B525-650CADBD61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8A80-0C98-49C9-93A9-2748A9B393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a9aff"/>
                </a:solidFill>
                <a:latin typeface="Gene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2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877D-76BD-4991-964E-D4DCA64E6E3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2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10666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33"/>
                </a:solidFill>
                <a:latin typeface="Geneva"/>
              </a:rPr>
              <a:t>Utilities in </a:t>
            </a:r>
            <a:r>
              <a:rPr b="1" i="1" lang="en-GB" sz="5400" spc="-1" strike="noStrike">
                <a:solidFill>
                  <a:srgbClr val="333333"/>
                </a:solidFill>
                <a:latin typeface="Geneva"/>
              </a:rPr>
              <a:t>Dyalog APL</a:t>
            </a:r>
            <a:endParaRPr b="1" lang="en-US" sz="5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3352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Dan Baronet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Geneva"/>
              </a:rPr>
              <a:t>Boston 2011</a:t>
            </a: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0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AC4D-AEC6-470D-BD8A-97B808229F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ate Placeholder 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7" descr="newsnake.png"/>
          <p:cNvPicPr/>
          <p:nvPr/>
        </p:nvPicPr>
        <p:blipFill>
          <a:blip r:embed="rId1"/>
          <a:stretch/>
        </p:blipFill>
        <p:spPr>
          <a:xfrm>
            <a:off x="304920" y="4338720"/>
            <a:ext cx="160020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: using it as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685800" y="1523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may be convenient enough to store utilities in []SE and use them from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even add some GUI to use th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5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50D-DBB0-4F67-BA84-53369C1F9F2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381640" cy="30481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"/>
          <p:cNvPicPr/>
          <p:nvPr/>
        </p:nvPicPr>
        <p:blipFill>
          <a:blip r:embed="rId2"/>
          <a:stretch/>
        </p:blipFill>
        <p:spPr>
          <a:xfrm>
            <a:off x="1914480" y="3218040"/>
            <a:ext cx="5375160" cy="3041640"/>
          </a:xfrm>
          <a:prstGeom prst="rect">
            <a:avLst/>
          </a:prstGeom>
          <a:ln w="0">
            <a:noFill/>
          </a:ln>
        </p:spPr>
      </p:pic>
      <p:sp>
        <p:nvSpPr>
          <p:cNvPr id="663" name="Oval 8"/>
          <p:cNvSpPr/>
          <p:nvPr/>
        </p:nvSpPr>
        <p:spPr>
          <a:xfrm>
            <a:off x="6324480" y="3286080"/>
            <a:ext cx="914400" cy="555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1828800" y="3478320"/>
            <a:ext cx="914400" cy="555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storing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stores utilities in []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in namespa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  line Pars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&amp; Spice (UCMD framework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ha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 functio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3097-A094-4A13-B0E9-D09EA46C5F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basically a pair of  functions to read and write APL code outside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e feature of SALT is to hook into the editor to save objects automaticall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ore functionality and can be used as a version control syste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5320-9D1D-435F-A5B2-EADB384B061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uses Unicode text files as storage mediu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can be shared and integrate well with other VC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he base for Spi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6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46A5-D9B3-46C0-BB12-1800029670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interface between you and your code stored in SAL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allows you to execute your code under your own ru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is the framework of User Command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BB39-105D-4F68-AE63-B726422833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Commands 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S are SALT based functions called thru the ] syntax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e basic code resides in a SALTed text file with specific form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 “]CAL  12” is entered in the session its main &lt;Run&gt; function is called with arguments ‘CAL’ ‘12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EF8B-95B4-4207-9AD1-3D847A6BBB0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Keyboard Shortcu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380520" y="17521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Shift-End : highlight to  the end of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delet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move highlighted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Ctrl-Home/End  : go to the beginning/end of the text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hift-Esc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cancel ope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Space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(in session): mark current line for re-execution (several can be marked)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-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toggle line numbers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Keypad /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: reformat according to configuration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Up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    : localize  name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Geneva"/>
              </a:rPr>
              <a:t>Ctrl-Shift-BS/Enter</a:t>
            </a:r>
            <a:r>
              <a:rPr b="0" lang="en-GB" sz="2400" spc="-1" strike="noStrike">
                <a:solidFill>
                  <a:srgbClr val="333333"/>
                </a:solidFill>
                <a:latin typeface="Geneva"/>
              </a:rPr>
              <a:t>: undo/redo</a:t>
            </a:r>
            <a:endParaRPr b="0" lang="en-US" sz="2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DD14-4813-47DF-8085-41DCFD0330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calendar&gt; funct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&lt;time&gt; user comm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yalog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3808-95F9-41C2-9936-90CB6027FA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APL Wiki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2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6C55-521B-47B8-B182-F5BEF0841D4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97FF-B15A-4E87-946A-F3287BA192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3" descr=""/>
          <p:cNvPicPr/>
          <p:nvPr/>
        </p:nvPicPr>
        <p:blipFill>
          <a:blip r:embed="rId2"/>
          <a:stretch/>
        </p:blipFill>
        <p:spPr>
          <a:xfrm>
            <a:off x="-11160" y="762120"/>
            <a:ext cx="915516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vs 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2 “work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pace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” available at all times when using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[]S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ich holds session (static) data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#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hich is the workspace as such (dynamic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0545-47A6-45FA-B0DD-7DCC9EBCE43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Date Placeholder 5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713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D905-D1EF-440B-9E81-29901ACCF4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2" descr=""/>
          <p:cNvPicPr/>
          <p:nvPr/>
        </p:nvPicPr>
        <p:blipFill>
          <a:blip r:embed="rId2"/>
          <a:stretch/>
        </p:blipFill>
        <p:spPr>
          <a:xfrm>
            <a:off x="76320" y="723960"/>
            <a:ext cx="8991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AB99-A624-45AB-BD5E-00F4E808860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882828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emory lay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7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4F41-A7DF-4852-A2EF-DB9DBB34C8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1752480" y="2057400"/>
            <a:ext cx="586764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7"/>
          <p:cNvSpPr/>
          <p:nvPr/>
        </p:nvSpPr>
        <p:spPr>
          <a:xfrm>
            <a:off x="1905120" y="2209680"/>
            <a:ext cx="1600200" cy="327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]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lowchart: Direct Access Storage 8"/>
          <p:cNvSpPr/>
          <p:nvPr/>
        </p:nvSpPr>
        <p:spPr>
          <a:xfrm>
            <a:off x="380880" y="3124080"/>
            <a:ext cx="990720" cy="121932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lowchart: Direct Access Storage 9"/>
          <p:cNvSpPr/>
          <p:nvPr/>
        </p:nvSpPr>
        <p:spPr>
          <a:xfrm>
            <a:off x="7924680" y="3048120"/>
            <a:ext cx="990720" cy="12189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0"/>
          <p:cNvSpPr/>
          <p:nvPr/>
        </p:nvSpPr>
        <p:spPr>
          <a:xfrm>
            <a:off x="3657600" y="2209680"/>
            <a:ext cx="3809880" cy="327672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eft-Right Arrow 11"/>
          <p:cNvSpPr/>
          <p:nvPr/>
        </p:nvSpPr>
        <p:spPr>
          <a:xfrm>
            <a:off x="1295280" y="3352680"/>
            <a:ext cx="914400" cy="68580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eft-Right Arrow 12"/>
          <p:cNvSpPr/>
          <p:nvPr/>
        </p:nvSpPr>
        <p:spPr>
          <a:xfrm>
            <a:off x="7118280" y="3352680"/>
            <a:ext cx="990720" cy="76212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eviously  []SE was only used in GUI versions to hold session objects (menus, toolbars, statusbars, …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now used to also contain utilities like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2447-F905-4FE7-A8EE-234D90D6D0B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#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# is dynamic, this is where you )LOAD workspaces and )SAVE them from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write utilities, store them in a .DWS file and )COPY them when need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at’s one way to do it and it’s been done for ag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F37D-3B8A-45C1-AA20-445895298F6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static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utilities there and refer to them either using their full path (e.g. []SE.myUtil) or by setting []PATH to ‘[]SE’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other APL offers th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many this is new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28CB-DF6D-4626-A192-07B70B1D17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[]SE is loaded at start-up tim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modify it it can be saved using the Session/Save menu item: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E40A-B6E9-4C4B-99E6-73231E16EB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1"/>
          <a:stretch/>
        </p:blipFill>
        <p:spPr>
          <a:xfrm>
            <a:off x="2362320" y="3429000"/>
            <a:ext cx="5029200" cy="27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3" descr=""/>
          <p:cNvPicPr/>
          <p:nvPr/>
        </p:nvPicPr>
        <p:blipFill>
          <a:blip r:embed="rId1"/>
          <a:stretch/>
        </p:blipFill>
        <p:spPr>
          <a:xfrm>
            <a:off x="2362320" y="2971800"/>
            <a:ext cx="4410000" cy="243828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ish to use a different name for the session file you can use Save as…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1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9A26-0E46-4078-B261-1FD6516ABC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2" descr=""/>
          <p:cNvPicPr/>
          <p:nvPr/>
        </p:nvPicPr>
        <p:blipFill>
          <a:blip r:embed="rId2"/>
          <a:stretch/>
        </p:blipFill>
        <p:spPr>
          <a:xfrm>
            <a:off x="2052720" y="2757600"/>
            <a:ext cx="4881600" cy="3443040"/>
          </a:xfrm>
          <a:prstGeom prst="rect">
            <a:avLst/>
          </a:prstGeom>
          <a:ln w="0">
            <a:noFill/>
          </a:ln>
        </p:spPr>
      </p:pic>
      <p:sp>
        <p:nvSpPr>
          <p:cNvPr id="645" name="Oval 9"/>
          <p:cNvSpPr/>
          <p:nvPr/>
        </p:nvSpPr>
        <p:spPr>
          <a:xfrm>
            <a:off x="2819520" y="50022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[]SE – loading and saving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762120" y="1600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want APL to use it automatically you will then need to tell APL which session (.DSE) file to load at start-up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8" name="Date Placeholder 3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a9aff"/>
                </a:solidFill>
                <a:latin typeface="Geneva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ooter Placeholder 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ff"/>
                </a:solidFill>
                <a:latin typeface="Geneva"/>
              </a:rPr>
              <a:t>Dyalog’11 - Bos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D792-5770-452F-BA05-57E39E5AF2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"/>
          <p:cNvPicPr/>
          <p:nvPr/>
        </p:nvPicPr>
        <p:blipFill>
          <a:blip r:embed="rId1"/>
          <a:stretch/>
        </p:blipFill>
        <p:spPr>
          <a:xfrm>
            <a:off x="2057400" y="3505320"/>
            <a:ext cx="4960800" cy="27432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4" descr=""/>
          <p:cNvPicPr/>
          <p:nvPr/>
        </p:nvPicPr>
        <p:blipFill>
          <a:blip r:embed="rId3"/>
          <a:stretch/>
        </p:blipFill>
        <p:spPr>
          <a:xfrm>
            <a:off x="1676520" y="1905120"/>
            <a:ext cx="5962680" cy="4419360"/>
          </a:xfrm>
          <a:prstGeom prst="rect">
            <a:avLst/>
          </a:prstGeom>
          <a:ln w="0">
            <a:noFill/>
          </a:ln>
        </p:spPr>
      </p:pic>
      <p:sp>
        <p:nvSpPr>
          <p:cNvPr id="654" name="Oval 11"/>
          <p:cNvSpPr/>
          <p:nvPr/>
        </p:nvSpPr>
        <p:spPr>
          <a:xfrm>
            <a:off x="5943600" y="2057400"/>
            <a:ext cx="121932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0"/>
          <p:cNvSpPr/>
          <p:nvPr/>
        </p:nvSpPr>
        <p:spPr>
          <a:xfrm>
            <a:off x="4191120" y="5257800"/>
            <a:ext cx="121896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anb</dc:creator>
  <dc:description/>
  <dc:language>en-US</dc:language>
  <cp:lastModifiedBy>danb</cp:lastModifiedBy>
  <dcterms:modified xsi:type="dcterms:W3CDTF">2011-09-30T19:43:05Z</dcterms:modified>
  <cp:revision>1077</cp:revision>
  <dc:subject/>
  <dc:title>DirectX +-=assembler of graphics</dc:title>
</cp:coreProperties>
</file>