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12BF-9962-4EDD-B1FE-9891FB360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C479-37CB-47AB-9D70-4B83F4A4A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5557-2670-4353-9662-00DF6A359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e of the class is unimpor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E93D-13BE-4C11-8741-B0BAC69A5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67C8-E7A1-4194-A987-4B3CD634C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generate general help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5503-7C42-4B86-8993-0C585C50E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57B3-5160-406C-A694-2B9753C91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12C9-EF9C-4A15-A05F-3918C3543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8A46-DC6C-4CDB-89B6-EC89E9287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0B42-7763-4AF9-83A7-45F8A8DF4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605A-5E87-4AC2-9528-139F38DBA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DC9B-96A1-4177-8E9A-F16DAF98F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ny ways it is like Users Commands in APL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B233-2DFD-402D-A6E8-93677FA4F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9F44-440C-4C97-9187-DF58CBE41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DEF0-E590-471D-A6EF-BB5510869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6685-818A-4692-A876-8DA8573A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BF94-7447-4025-915B-F4DA8057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5B18-0923-4745-9C08-49A0117F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ED15-4410-41D8-91DA-199A29D1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459-7CBC-4622-B5FB-05CECD9D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C099-20CB-44DC-9917-2A95DFD7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B59D-E980-4F0A-88BE-C2EEC6E8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98C3-3369-433A-A983-A535613C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1738-F5C7-4F4F-933D-7C6F0C23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A340-6586-499F-8DEC-14F92B5C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E8FE-8C2B-440D-9FAA-029EE758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BC0A-8E3E-470C-B918-4E5E9768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24000" y="6381360"/>
            <a:ext cx="2248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84720" y="6337080"/>
            <a:ext cx="69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2753-43EE-4E87-A406-CC0A92841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WordArt 8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99">
                    <a:alpha val="41000"/>
                  </a:srgbClr>
                </a:solidFill>
                <a:latin typeface="Arial Black"/>
              </a:rPr>
              <a:t>SPICE</a:t>
            </a:r>
            <a:endParaRPr b="0" lang="en-US" sz="1800" spc="1" strike="noStrike">
              <a:ln w="0">
                <a:noFill/>
              </a:ln>
              <a:solidFill>
                <a:srgbClr val="ffff99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6" name="Picture 9" descr="dyalog_noapl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pdfgreyline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Book Antiqua"/>
              </a:rPr>
              <a:t>Spice</a:t>
            </a:r>
            <a:br>
              <a:rPr sz="6600"/>
            </a:br>
            <a:r>
              <a:rPr b="0" lang="en-GB" sz="6600" spc="-1" strike="noStrike">
                <a:solidFill>
                  <a:srgbClr val="000000"/>
                </a:solidFill>
                <a:latin typeface="Book Antiqua"/>
              </a:rPr>
              <a:t>in Dyalog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5878080"/>
            <a:ext cx="6400800" cy="5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cument V1.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ce commands are kept in script files, like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ce files have a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.</a:t>
            </a:r>
            <a:r>
              <a:rPr b="0" i="1" lang="en-US" sz="3200" spc="-1" strike="noStrike">
                <a:solidFill>
                  <a:srgbClr val="ffc000"/>
                </a:solidFill>
                <a:latin typeface="Arial"/>
              </a:rPr>
              <a:t>dyalog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pice script files are kept by default in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[Dyalog]\SALT\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cript file contains a class or a namespace with a number of (presumably) related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 a script/class could co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and to search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and to replac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cript file MUST contain at least 3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public share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for the Spice handl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&lt;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ay contain other fun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is nilad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turns a list of as many namespaces as there are commands in the script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: if there are 2 commands in the script file it returns 2 namespa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50012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namespace returned by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tains 4 variables; each one is a st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name of th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group the command belong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Des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hort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Pa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par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4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ingle word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lo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Grou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ingle word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Des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entence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Find string i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33cc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Pa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string describing the command syntax, e.g.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2   –exclude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(example with 2 cm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∇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:Access Shared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⎕NS¨2⍴⊂'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.Name←'Locate' 'Replace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.Group←⊂'Files'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.Parse←'1' '2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[1].Desc←'Find a string in files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[2].Desc←'Replace a string by another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is ambival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arguments are a string naming the cmd to return detailed help for, 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c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right and the help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turns a string describing help for that com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Hel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(example with 2 cm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∇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level Help Cm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:Access Shared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⊂'Shows where the string is found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,←⊂'Replace a string by another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r←r⊃⍨'Locate' 'Replace'⍳⊂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lev↓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PL385 Unicode"/>
              </a:rPr>
              <a:t>r,←⎕av[4],'More help here…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PL385 Unicode"/>
              </a:rPr>
              <a:t>    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is monad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akes 2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ing naming the command to deal with, 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a string or a namespace which is the argument to th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 user command handl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 V11 &amp; V12 it uses an input area at the bottom of the screen to issue user defined commands using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an be initialized directly from SAL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grpSp>
        <p:nvGrpSpPr>
          <p:cNvPr id="57" name="Group 8"/>
          <p:cNvGrpSpPr/>
          <p:nvPr/>
        </p:nvGrpSpPr>
        <p:grpSpPr>
          <a:xfrm>
            <a:off x="2286000" y="4334040"/>
            <a:ext cx="4800600" cy="2038320"/>
            <a:chOff x="2286000" y="4334040"/>
            <a:chExt cx="4800600" cy="2038320"/>
          </a:xfrm>
        </p:grpSpPr>
        <p:pic>
          <p:nvPicPr>
            <p:cNvPr id="58" name="Picture 5" descr=""/>
            <p:cNvPicPr/>
            <p:nvPr/>
          </p:nvPicPr>
          <p:blipFill>
            <a:blip r:embed="rId2"/>
            <a:stretch/>
          </p:blipFill>
          <p:spPr>
            <a:xfrm>
              <a:off x="2514600" y="4334040"/>
              <a:ext cx="4286160" cy="20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Oval 6"/>
            <p:cNvSpPr/>
            <p:nvPr/>
          </p:nvSpPr>
          <p:spPr>
            <a:xfrm>
              <a:off x="2286000" y="5410080"/>
              <a:ext cx="4800600" cy="6098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7"/>
            <p:cNvSpPr/>
            <p:nvPr/>
          </p:nvSpPr>
          <p:spPr>
            <a:xfrm>
              <a:off x="2819520" y="4991040"/>
              <a:ext cx="2209680" cy="2286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7467480" y="228600"/>
          <a:ext cx="151128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28600"/>
                    <a:ext cx="151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does Spice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&lt;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function (example with 2 cm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∇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r←Run(Cmd ca);ct;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Access Shared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r←0 0⍴'' ⋄ ct←⎕SE.SALT.Load'Utils\fileUtils -noname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w←##.textUtils.splitOn⍨⎕SE.SALT.Settings'workdir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Select Cm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Case ‘Locate’  ⋄ w ct.showExpr¨⊂ca.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Case ‘Replace’ </a:t>
            </a:r>
            <a:r>
              <a:rPr b="0" lang="en-GB" sz="1800" spc="-1" strike="noStrike">
                <a:solidFill>
                  <a:srgbClr val="000000"/>
                </a:solidFill>
                <a:latin typeface="APL385 Unicode"/>
              </a:rPr>
              <a:t>⋄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w ct.replExpr¨⊂ca.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:End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L385 Unicode"/>
              </a:rPr>
              <a:t>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e script Spice\aSample.dy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ontains 2 examples of Spice comma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par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specific par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45680" y="1625760"/>
            <a:ext cx="65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yntax is described in the hel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8"/>
          <p:cNvGrpSpPr/>
          <p:nvPr/>
        </p:nvGrpSpPr>
        <p:grpSpPr>
          <a:xfrm>
            <a:off x="1689120" y="2263680"/>
            <a:ext cx="6240240" cy="4093920"/>
            <a:chOff x="1689120" y="2263680"/>
            <a:chExt cx="6240240" cy="4093920"/>
          </a:xfrm>
        </p:grpSpPr>
        <p:pic>
          <p:nvPicPr>
            <p:cNvPr id="162" name="Picture 4" descr=""/>
            <p:cNvPicPr/>
            <p:nvPr/>
          </p:nvPicPr>
          <p:blipFill>
            <a:blip r:embed="rId1"/>
            <a:stretch/>
          </p:blipFill>
          <p:spPr>
            <a:xfrm>
              <a:off x="1689120" y="2263680"/>
              <a:ext cx="6240240" cy="40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Oval 7"/>
            <p:cNvSpPr/>
            <p:nvPr/>
          </p:nvSpPr>
          <p:spPr>
            <a:xfrm>
              <a:off x="3515760" y="4373640"/>
              <a:ext cx="3422160" cy="426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6276960" cy="35434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46400" y="1625760"/>
            <a:ext cx="76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 syntax is wrong Spice will compl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1116000" y="4508640"/>
            <a:ext cx="2665440" cy="433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492360" y="3429000"/>
            <a:ext cx="324036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1989000" y="5138640"/>
            <a:ext cx="129708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3654000" y="507204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No argument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Straight Arrow Connector 12"/>
          <p:cNvCxnSpPr>
            <a:stCxn id="171" idx="1"/>
            <a:endCxn id="170" idx="6"/>
          </p:cNvCxnSpPr>
          <p:nvPr/>
        </p:nvCxnSpPr>
        <p:spPr>
          <a:xfrm flipH="1">
            <a:off x="3285720" y="5255280"/>
            <a:ext cx="357840" cy="100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129440" cy="3743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47480" y="1625760"/>
            <a:ext cx="64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e syntax is right Spice will do 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1763640" y="5138640"/>
            <a:ext cx="129708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348000" y="3429000"/>
            <a:ext cx="360036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8"/>
          <p:cNvSpPr/>
          <p:nvPr/>
        </p:nvSpPr>
        <p:spPr>
          <a:xfrm>
            <a:off x="6199200" y="3889440"/>
            <a:ext cx="720720" cy="433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command 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APL is installed the Spice commands' location is [Dyalog]\SALT\spice but you can chang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ALT settings contain Spice’s commands location in 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cmdd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]setting  </a:t>
            </a:r>
            <a:r>
              <a:rPr b="1" lang="en-GB" sz="3200" spc="-1" strike="noStrike">
                <a:solidFill>
                  <a:srgbClr val="ffc000"/>
                </a:solidFill>
                <a:latin typeface="Arial"/>
              </a:rPr>
              <a:t>cmdd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\my\own\user\cm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hange the Spice/user commands folder to \my\own\user\cm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ecial Spice comm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985080" cy="34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 development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an be used to store frequently used (and even less frequently used) use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/>
          <p:cNvSpPr/>
          <p:nvPr/>
        </p:nvSpPr>
        <p:spPr>
          <a:xfrm flipV="1">
            <a:off x="8244000" y="476280"/>
            <a:ext cx="287280" cy="503280"/>
          </a:xfrm>
          <a:custGeom>
            <a:avLst/>
            <a:gdLst>
              <a:gd name="textAreaLeft" fmla="*/ 59760 w 287280"/>
              <a:gd name="textAreaRight" fmla="*/ 227520 w 287280"/>
              <a:gd name="textAreaTop" fmla="*/ 104760 h 503280"/>
              <a:gd name="textAreaBottom" fmla="*/ 3985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hort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information can be found in the Spice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alog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 flipV="1">
            <a:off x="7956720" y="548280"/>
            <a:ext cx="863280" cy="431640"/>
          </a:xfrm>
          <a:custGeom>
            <a:avLst/>
            <a:gdLst>
              <a:gd name="textAreaLeft" fmla="*/ 179640 w 863280"/>
              <a:gd name="textAreaRight" fmla="*/ 683640 w 863280"/>
              <a:gd name="textAreaTop" fmla="*/ 89640 h 431640"/>
              <a:gd name="textAreaBottom" fmla="*/ 34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Sp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be started automatically when starting APL by setting the SALT registry key AddSPICE to ‘1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8"/>
          <p:cNvGrpSpPr/>
          <p:nvPr/>
        </p:nvGrpSpPr>
        <p:grpSpPr>
          <a:xfrm>
            <a:off x="1546200" y="3206880"/>
            <a:ext cx="6121440" cy="3041640"/>
            <a:chOff x="1546200" y="3206880"/>
            <a:chExt cx="6121440" cy="3041640"/>
          </a:xfrm>
        </p:grpSpPr>
        <p:pic>
          <p:nvPicPr>
            <p:cNvPr id="65" name="Picture 6" descr=""/>
            <p:cNvPicPr/>
            <p:nvPr/>
          </p:nvPicPr>
          <p:blipFill>
            <a:blip r:embed="rId1"/>
            <a:stretch/>
          </p:blipFill>
          <p:spPr>
            <a:xfrm>
              <a:off x="1546200" y="3206880"/>
              <a:ext cx="6121440" cy="30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Oval 7"/>
            <p:cNvSpPr/>
            <p:nvPr/>
          </p:nvSpPr>
          <p:spPr>
            <a:xfrm>
              <a:off x="5689440" y="4476600"/>
              <a:ext cx="274680" cy="3096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7" descr="MCj03113240000[1]"/>
          <p:cNvPicPr/>
          <p:nvPr/>
        </p:nvPicPr>
        <p:blipFill>
          <a:blip r:embed="rId2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Sp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pice input area can also be started automatically by using the &lt;enableSpice&gt; function in the SALT worksp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LOAD  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MCj03113240000[1]"/>
          <p:cNvPicPr/>
          <p:nvPr/>
        </p:nvPicPr>
        <p:blipFill>
          <a:blip r:embed="rId1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71640" y="713880"/>
            <a:ext cx="7800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the Spice area in V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nfiguration men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2006640" y="2185920"/>
            <a:ext cx="5641920" cy="4145040"/>
          </a:xfrm>
          <a:prstGeom prst="rect">
            <a:avLst/>
          </a:prstGeom>
          <a:ln w="0">
            <a:noFill/>
          </a:ln>
        </p:spPr>
      </p:pic>
      <p:sp>
        <p:nvSpPr>
          <p:cNvPr id="76" name="Oval 6"/>
          <p:cNvSpPr/>
          <p:nvPr/>
        </p:nvSpPr>
        <p:spPr>
          <a:xfrm>
            <a:off x="1967040" y="307188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MCj03113240000[1]"/>
          <p:cNvPicPr/>
          <p:nvPr/>
        </p:nvPicPr>
        <p:blipFill>
          <a:blip r:embed="rId2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itializing Spice in V12.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no need to initialize the Spice input area in 12.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pice user command handler is always available directly through the ] with 12.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y use ] where you would use the input area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]myc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MCj03113240000[1]"/>
          <p:cNvPicPr/>
          <p:nvPr/>
        </p:nvPicPr>
        <p:blipFill>
          <a:blip r:embed="rId1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3640" y="1424160"/>
            <a:ext cx="837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a detailed list of all available commands enter </a:t>
            </a:r>
            <a:r>
              <a:rPr b="0" lang="en-GB" sz="3200" spc="-1" strike="noStrike">
                <a:solidFill>
                  <a:srgbClr val="ffc000"/>
                </a:solidFill>
                <a:latin typeface="Arial"/>
              </a:rPr>
              <a:t>]?+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 ‘?+’ in the input ar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2124000" y="2536920"/>
            <a:ext cx="5256360" cy="3987720"/>
            <a:chOff x="2124000" y="2536920"/>
            <a:chExt cx="5256360" cy="3987720"/>
          </a:xfrm>
        </p:grpSpPr>
        <p:pic>
          <p:nvPicPr>
            <p:cNvPr id="86" name="Picture 7" descr=""/>
            <p:cNvPicPr/>
            <p:nvPr/>
          </p:nvPicPr>
          <p:blipFill>
            <a:blip r:embed="rId1"/>
            <a:stretch/>
          </p:blipFill>
          <p:spPr>
            <a:xfrm>
              <a:off x="2124000" y="2536920"/>
              <a:ext cx="5256360" cy="39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Oval 8"/>
            <p:cNvSpPr/>
            <p:nvPr/>
          </p:nvSpPr>
          <p:spPr>
            <a:xfrm>
              <a:off x="2152440" y="5877720"/>
              <a:ext cx="330840" cy="3092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 Box 9"/>
          <p:cNvSpPr/>
          <p:nvPr/>
        </p:nvSpPr>
        <p:spPr>
          <a:xfrm>
            <a:off x="7986600" y="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cc33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2226600" y="587700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2428200" y="2997360"/>
            <a:ext cx="26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1196640"/>
            <a:ext cx="7704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 of a custom Spice command: </a:t>
            </a:r>
            <a:r>
              <a:rPr b="1" i="1" lang="en-GB" sz="4000" spc="-1" strike="noStrike">
                <a:solidFill>
                  <a:srgbClr val="000000"/>
                </a:solidFill>
                <a:latin typeface="Arial"/>
              </a:rPr>
              <a:t>ff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784872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“ffin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ring”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find a regular expression string in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ders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find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\b</a:t>
            </a:r>
            <a:r>
              <a:rPr b="1" lang="en-GB" sz="3200" spc="-1" strike="noStrike">
                <a:solidFill>
                  <a:srgbClr val="ff9900"/>
                </a:solidFill>
                <a:latin typeface="Courier New"/>
              </a:rPr>
              <a:t>abc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&gt;0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find in SALT files where syntactic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 greater than 0 at the end of a 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512640" y="3832200"/>
            <a:ext cx="75153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ing SALT commands in Sp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ALT commands bu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be issued here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save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yclass file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compare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file1 -ver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list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load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y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removeversions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filex -v=&lt;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j0208400"/>
          <p:cNvPicPr/>
          <p:nvPr/>
        </p:nvPicPr>
        <p:blipFill>
          <a:blip r:embed="rId1"/>
          <a:stretch/>
        </p:blipFill>
        <p:spPr>
          <a:xfrm rot="232800">
            <a:off x="7924680" y="75960"/>
            <a:ext cx="1060560" cy="190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21:21Z</dcterms:created>
  <dc:creator>DanB</dc:creator>
  <dc:description/>
  <dc:language>en-US</dc:language>
  <cp:lastModifiedBy>danb</cp:lastModifiedBy>
  <dcterms:modified xsi:type="dcterms:W3CDTF">2011-09-23T21:24:17Z</dcterms:modified>
  <cp:revision>94</cp:revision>
  <dc:subject/>
  <dc:title>SALT in Dyalog</dc:title>
</cp:coreProperties>
</file>