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C5D-92AC-4A6C-A250-84A6BDB4B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F801-A575-43BE-8EAF-57C7540D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1AE5-879C-41EE-B7CE-CB2CF5F8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7A97-9C1E-4D8D-A7B5-10C40C97C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1B46-B1B7-4A0D-ABBD-1E944BAB7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 Ex: large file: (3{take}components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-1 2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718-6336-4680-995B-B338D720B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9549-815B-4140-86C7-1C3B2C42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27B9-346A-4AB1-B3F6-303D2797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lso works in the workspace, outsid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E17B-01FB-47A4-9638-CFC38267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E05-1FDE-41F8-B2CE-925D83B0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ECA7-3E02-463B-9DEC-B7877886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963-2C3A-4ACB-9005-BE3E35C5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BA4-55A0-4F6E-BA57-5831E450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9AF7-FF43-4604-92ED-2AAA4362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F5BA-8D3F-480D-A4B4-795FCD07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666D-E916-4EBB-83A1-B0F5554CB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9A6B-75A0-4C52-BEDE-419503989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already takes several type editor character: ∇∊-→, now + ○⍟∘; ns can conta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94E-2372-48C4-BF4B-3CFEB062F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AB7-5717-4232-BF77-536D8739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. Events are class 8, externals ones -8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532C-B6CF-4820-B473-C5EA9C79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[]NL-2.1 will NEVER report anything as vars (≠ fields) are NOT publ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3636-9FD1-40A7-9E4E-0825CFEE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B7F6-5232-4A72-B5BC-7B22C3CFE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C07-3D03-4EFE-BB5D-519753A00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05F4-1B99-4EBC-A085-CF55359C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A7BA-D23B-47B0-BBB0-2D468C539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[]NEW there is no need to perform all that sequence of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C4C-613B-4E05-909B-3FE3D4FB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A877-71E5-4240-89E2-1A8E32D20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A97-455F-497F-A80D-10A3285BD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F4C-ADA0-47D7-9FA8-69A293A7C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C46-A70D-4348-82BB-E3C622C0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AD9C-523B-4A57-92A9-23694CB2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9FCA-E814-4C93-B1A3-014494F6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AD76-7516-4D8F-A2A0-6E9B8EA9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7F83-AFB1-447C-8AB5-629A99C6B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D416-09B0-412A-B9D8-1C543EA2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B2F-A008-4692-BF42-88B0D1E3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4DAF-2F53-425D-8F1C-6A5276E7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5FFC-B9FA-48F0-9050-2EBD3F64A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64FC-78D3-4C2A-8C67-65F064DD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9AE5-E548-4D3F-97E1-7BC7651C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A33A-FEB6-4779-9714-05382C09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B13-3034-465F-8FEE-E94335A9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3F96-B1A7-4A61-876A-79B3A4B0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7D8-FA60-47CE-94A7-44805263C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describes the syntax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CB5F-FE95-4D3D-BD27-53BDCD0F4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0B6C-2167-4691-800F-25264135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3BD-91FC-45EA-A3C5-0533B99D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2642-3490-4781-960F-CD617BD3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19C7-4DC3-45B9-9773-7C74B7B87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classes that include nss are not refixed when the included ns is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8F5-BBD9-4468-A15A-DCFEDD8D6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0D6C-AF68-45C8-B588-5E028E99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B67E-80A2-4F37-8929-E4268C49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 with this class is that it is not performing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9678-20DE-4024-864C-09CC8A5EB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: see VW thru the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453B-A781-491C-B699-5E5A0EB8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A94A-4D4F-452D-BD99-2EBA3975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D427-2409-4FCD-8986-97C4A069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8D30-1418-40CE-900A-5C7B1971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D144-6506-41F3-9F5B-1EFE88CD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would offer to use your "engine" through that interface. User would be free to implement your interface any way they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99C0-A855-4D6D-AA49-24503CA5A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000E-9F38-4E46-BDC3-A439CB1A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48F5-34FD-4B8D-A37B-C96C7953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F5CC-3067-485D-9836-7CF5FDEF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BBF-C880-4AA6-8707-CD083FD9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9177-A11B-4AB7-BC94-52CE9FCD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443-AD96-4707-AA92-D22EA89CC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5043-6347-4079-BEAD-CC52BE95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3493-1886-4122-B7D1-26B30AFF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5816-94B6-4F7A-9631-CBA4C548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CAC1-8D1E-42C0-8D58-B8BC0BB3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10E2-53CC-4825-9B2E-28FBBE79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 and using SALT you can now use a control version system to stor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FDD-4F10-4919-AD38-7A6C03E0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DCA-39A5-467F-9374-298B6C670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9C1-312D-4036-A90A-754166B2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D7E-8497-4FEA-A157-BA4995CB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9FF-25CE-4294-A2E0-8A91FC5B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F70-59B0-4AC8-AEB2-61D9D44F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FCF7-5968-4880-BDD1-C1B7649D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DF58-0EF0-49FA-B4FA-048BF13A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8708-0507-42FB-BEFB-147C30C1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9BF3-7E5D-42D4-94B2-88EA893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30D7-7EA8-466D-AE9B-299609E1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0795-1C48-4C06-A071-060DECEC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637C-D208-46F6-B8D4-7AD869CC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3B4-F1E8-44A2-8022-EE67A27F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B3E-FABA-4B32-8710-8429DE64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F41D-FD05-49AA-B4E3-B3408E2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547F-26E5-4255-AD5F-DF6CBBC3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552C-AB45-4F4E-844F-AC7D238D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26F0-D853-4DDB-9B2B-E35E43D1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D39-52B3-4625-BBFD-2755BD1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56D6-E194-4775-AF8E-F7A7F5A0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7D3E-032F-43D2-B5E6-1A9B34AE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A36-1E31-4E1F-96CB-13B597E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5E7-08BA-4283-BADC-FBF2E85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4D8-F054-42C6-94AA-A99312B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990D-2965-4958-B0AD-42E58460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033-BE39-44D6-9715-B867FC37E253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2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3D9C-992F-4F93-B212-A384A281B1B1}" type="slidenum">
              <a:rPr b="0" lang="da-DK" sz="2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br>
              <a:rPr sz="4400"/>
            </a:b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 Dyalog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V1.0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16000" y="151596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C# they are implemented as a pair of functions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PL the 'name←' case is handled naturally. It is called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 and is the defa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second case where indexing is made using any object (as opposed to numbers) is also handled easily. This is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array nature of APL introduced a notion of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roperty. This is the third cas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5724360" y="1844640"/>
            <a:ext cx="3384360" cy="4392720"/>
            <a:chOff x="5724360" y="1844640"/>
            <a:chExt cx="3384360" cy="439272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5724360" y="1844640"/>
              <a:ext cx="3384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5"/>
            <p:cNvSpPr/>
            <p:nvPr/>
          </p:nvSpPr>
          <p:spPr>
            <a:xfrm>
              <a:off x="7237080" y="3787560"/>
              <a:ext cx="35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7472160" y="4230720"/>
              <a:ext cx="2682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6227640" y="3284640"/>
            <a:ext cx="2665440" cy="2232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6000" y="1515960"/>
            <a:ext cx="6300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SIMPLE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a property is set,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retrieved, its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G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 is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rgument is a name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taining the name of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perty (Name) and its valu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NewValue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600" spc="-1" strike="noStrike">
                <a:solidFill>
                  <a:srgbClr val="99cc00"/>
                </a:solidFill>
                <a:latin typeface="Geneva"/>
              </a:rPr>
              <a:t>KEYED</a:t>
            </a: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’ also contains the indices of the property (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property MUST be used with [brackets] and their contents cannot be eli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594400" y="1484280"/>
            <a:ext cx="3495600" cy="4608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084720" y="2813040"/>
            <a:ext cx="2808360" cy="256068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NUMBERED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c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set/get function call is made,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ONC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per index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pa’ also contains the index to deal with (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Index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may be used with indices. The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SHAP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unction is used to check and generate indice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ir shape must conform to APL rules for assignment and result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084720" y="1413000"/>
            <a:ext cx="2810160" cy="4680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6443640" y="3141720"/>
            <a:ext cx="2305080" cy="2448000"/>
          </a:xfrm>
          <a:prstGeom prst="rect">
            <a:avLst/>
          </a:prstGeom>
          <a:solidFill>
            <a:srgbClr val="009999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fault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re can be only 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[index]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s the same as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</a:t>
            </a:r>
            <a:r>
              <a:rPr b="1" lang="en-GB" sz="2800" spc="-1" strike="noStrike">
                <a:solidFill>
                  <a:srgbClr val="ff0000"/>
                </a:solidFill>
                <a:latin typeface="Geneva"/>
              </a:rPr>
              <a:t>.defProp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[index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4000" y="1341360"/>
            <a:ext cx="81356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ltiple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several properties are similar the definition statement may include several names separated by commas,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Property P1,P2,P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Get/Set functions’ argument will contain the name in ‘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Nam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’ (as in arg.N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21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←⎕NEW trigger1 ('Dan' 'Baronet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    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.FirstName←'Danie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Full name is Daniel Barone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Inheritance: new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used to call base class constructo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BASE used to call base class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override/abl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Destructors are called when the instance is destroy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C/⎕NL have been extend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is the same as (⎕NS'').##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mplements, :acce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an be GUI based (ex: :Class F: ‘form’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2400" spc="-1" strike="noStrike">
                <a:solidFill>
                  <a:srgbClr val="99cc00"/>
                </a:solidFill>
                <a:latin typeface="Geneva"/>
              </a:rPr>
              <a:t>:includ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AutoShape 16"/>
          <p:cNvCxnSpPr>
            <a:stCxn id="175" idx="7"/>
            <a:endCxn id="17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17"/>
          <p:cNvCxnSpPr>
            <a:stCxn id="170" idx="1"/>
            <a:endCxn id="17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18"/>
          <p:cNvCxnSpPr>
            <a:stCxn id="172" idx="3"/>
            <a:endCxn id="173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: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←⎕new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1.surface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56664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Ba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6093000" y="1413000"/>
            <a:ext cx="194436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2"/>
          <a:stretch/>
        </p:blipFill>
        <p:spPr>
          <a:xfrm>
            <a:off x="5732640" y="3500280"/>
            <a:ext cx="316044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implemented Object Orientation (OO)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territory was uncovered when venturing into O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any were answe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lowing slides will explain this in more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on-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154120" y="5157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6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5154120" y="5157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7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AutoShape 2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den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587240"/>
            <a:ext cx="4680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estructo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y are used to clean-up after an instance is destroy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k←⎕new life ‘Kong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ing  Kong  is born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)erase k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Kong  is dead, long live the king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ll Interfaces, Classes &amp; some Namespaces (ICN) come in scrip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RC: Just like ⎕NR returns the representation of a function in nested form, ⎕SRC returns the representation of an ICN in nested form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X: Just like ⎕FX creates a function, ⎕FIX creates an ICN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Aft>
                <a:spcPts val="1749"/>
              </a:spcAft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ED ∘Interf /○Cl/ ⍟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Since classes and instances are a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typ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of namespace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basi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classification is 9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o find their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sub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-class they need to be enclosed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NC 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09999"/>
                </a:solidFill>
                <a:latin typeface="Geneva"/>
              </a:rPr>
              <a:t>‘myClass’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⍴⍴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L -9.4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⎕NC are symmetric such tha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n∊⎕NC ⎕NL 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vn∊⎕NL ⎕NC¨vn  ⍝ vn is a list of nam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577440" y="158904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L and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⎕NC also apply to variables and function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 complete list is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3/4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1  Variable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Traditional fn/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S created by ⎕NS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2  Fiel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-fns or –op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stance (could be form)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3  Property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Derived/Primitive            -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4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Class    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5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Interface     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6  External/shared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         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Class    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n.7  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-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External Interface              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611280" y="493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⎕NC/⎕NL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44360" y="1805040"/>
            <a:ext cx="7056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To see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	</a:t>
            </a:r>
            <a:r>
              <a:rPr b="1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vars or fiel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va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fns or method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fns/metho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terfac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vent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ev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roperties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prop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4920" y="566640"/>
            <a:ext cx="907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stem commands</a:t>
            </a:r>
            <a:endParaRPr b="1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637920"/>
            <a:ext cx="8208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: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⎕NC/⎕NL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1800" y="170172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C/⎕NL exten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NL also includes instance members when used with a negative argu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nstance.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⎕NL -2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.2</a:t>
            </a: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report all field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of Namespaces and their ⎕N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wo already existed in V1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gular 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2 (NOT 9.3!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terf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11280" y="70956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37920"/>
            <a:ext cx="8278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496360" cy="43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ault display form of a namespace is its pa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't1.s1' ⎕NS 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#.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.⎕df  '(S1: son of t1)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t1.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91760" y="1915920"/>
            <a:ext cx="8327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   ⍝ even if assigned a new nam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what does this look like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   ⍝ it “remembers” its refere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⍬≡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 is still just a ref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⍝ its display has a length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1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0136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v11←’var’ ⍝ If we change th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t1.s1.⎕fx ‘f1’ ‘...’ ⍝ contents of s1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t1.s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2 3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abc will “see” i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’abc’  ‘t1’  ‘t1.s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1  9.1  9.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539640" y="4869000"/>
            <a:ext cx="3745080" cy="865080"/>
            <a:chOff x="539640" y="4869000"/>
            <a:chExt cx="3745080" cy="865080"/>
          </a:xfrm>
        </p:grpSpPr>
        <p:sp>
          <p:nvSpPr>
            <p:cNvPr id="294" name="Rectangle 4"/>
            <p:cNvSpPr/>
            <p:nvPr/>
          </p:nvSpPr>
          <p:spPr>
            <a:xfrm>
              <a:off x="3276720" y="4869000"/>
              <a:ext cx="100800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5"/>
            <p:cNvSpPr/>
            <p:nvPr/>
          </p:nvSpPr>
          <p:spPr>
            <a:xfrm>
              <a:off x="1908000" y="5373720"/>
              <a:ext cx="503280" cy="36036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539640" y="5373720"/>
              <a:ext cx="50328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1692360" y="4869000"/>
              <a:ext cx="792000" cy="360360"/>
            </a:xfrm>
            <a:prstGeom prst="rect">
              <a:avLst/>
            </a:prstGeom>
            <a:solidFill>
              <a:srgbClr val="ddfc2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1235160" y="537372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7280" y="4869000"/>
              <a:ext cx="503280" cy="360360"/>
            </a:xfrm>
            <a:prstGeom prst="rect">
              <a:avLst/>
            </a:prstGeom>
            <a:solidFill>
              <a:srgbClr val="6bfd87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42560" y="1731960"/>
            <a:ext cx="88218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nadic ⎕CLASS returns the tree of refere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dic ⎕CLASS    casts an instance into another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CLASS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lists classes in the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Implement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identifies what it imple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F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change the display form of a 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INTERFACES     lists all interfaces in the current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  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get a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distinc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py of t1.s1 we need to d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←⎕NS ⎕OR 't1.s1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,abc.⎕NL  2  3    ⍝ everything is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copi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 v1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even its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(S1: son of t1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≡t1.s1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⍝ but they’re differ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bc.⎕df ‘I am ABC’    ⋄  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I am AB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03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25800" y="154152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6086520" y="139716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316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325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bc←⎕ns 'tx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efault display form of a Form is its path, just like a regular namesp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'F1' ⎕WC 'form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can change this using ⎕DF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df '&lt;F1 is in great form&gt;'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can add items to i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b1’ ⎕wc ‘butt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’ F1.⎕wc ‘edit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’  ‘F1.b1’  ‘F1.e2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.2  9.2  9.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⍝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we have 3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instances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of built-in APL for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e2   F1  ⍝ each with its own 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.e2   &lt;F1 is in great form&gt;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47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485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contains 2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2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‘Caption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form is pretty much like a namespac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can contain variables and function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v1←’some va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fx ‘f1’ ‘whatever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   ⍝ these are POSITIVE number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are the items WE have added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360" name="Rectangle 3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now contains 4 object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 2 3 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4 2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nc ‘F1.b1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9" descr=""/>
          <p:cNvPicPr/>
          <p:nvPr/>
        </p:nvPicPr>
        <p:blipFill>
          <a:blip r:embed="rId2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0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2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3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4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UT a form also has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wx←1          ⍝ to be able to se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-2 3  ⍝ include internal item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erator  ... Caption ...  YRang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c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Caption’   ⍝ Caption is extern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¯2.6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ew 65 items are the only visibl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he form. They do NOT appear in ⎕nl +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000" y="180504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las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8640" y="1483920"/>
            <a:ext cx="440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4 external objec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6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77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78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385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388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19"/>
          <p:cNvSpPr/>
          <p:nvPr/>
        </p:nvSpPr>
        <p:spPr>
          <a:xfrm>
            <a:off x="6190200" y="160344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8"/>
          <p:cNvSpPr/>
          <p:nvPr/>
        </p:nvSpPr>
        <p:spPr>
          <a:xfrm>
            <a:off x="460440" y="1482840"/>
            <a:ext cx="4400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orm contains 69 total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⍴⎕←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F1.⎕nl -2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Accelerator ... Caption ...  Y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1"/>
          <p:cNvSpPr/>
          <p:nvPr/>
        </p:nvSpPr>
        <p:spPr>
          <a:xfrm>
            <a:off x="6185520" y="15955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]WX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5" name="Group 17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396" name="Group 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sp>
            <p:nvSpPr>
              <p:cNvPr id="397" name="Rectangle 3"/>
              <p:cNvSpPr/>
              <p:nvPr/>
            </p:nvSpPr>
            <p:spPr>
              <a:xfrm>
                <a:off x="5148360" y="2276640"/>
                <a:ext cx="3527280" cy="3671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4"/>
              <p:cNvSpPr/>
              <p:nvPr/>
            </p:nvSpPr>
            <p:spPr>
              <a:xfrm>
                <a:off x="5148360" y="2923920"/>
                <a:ext cx="352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7"/>
            <p:cNvSpPr/>
            <p:nvPr/>
          </p:nvSpPr>
          <p:spPr>
            <a:xfrm>
              <a:off x="5763960" y="2421000"/>
              <a:ext cx="2289960" cy="368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&lt;F1 is in great form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"/>
            <p:cNvSpPr/>
            <p:nvPr/>
          </p:nvSpPr>
          <p:spPr>
            <a:xfrm>
              <a:off x="5293800" y="3573360"/>
              <a:ext cx="729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PL385 Unicode"/>
                </a:rPr>
                <a:t>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6659640" y="29970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2"/>
            <p:cNvSpPr/>
            <p:nvPr/>
          </p:nvSpPr>
          <p:spPr>
            <a:xfrm>
              <a:off x="7814160" y="3429000"/>
              <a:ext cx="502200" cy="459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Group 15"/>
            <p:cNvGrpSpPr/>
            <p:nvPr/>
          </p:nvGrpSpPr>
          <p:grpSpPr>
            <a:xfrm>
              <a:off x="5291280" y="2997000"/>
              <a:ext cx="720720" cy="502920"/>
              <a:chOff x="5291280" y="2997000"/>
              <a:chExt cx="720720" cy="5029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64360" y="3058560"/>
                <a:ext cx="57132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13"/>
              <p:cNvSpPr/>
              <p:nvPr/>
            </p:nvSpPr>
            <p:spPr>
              <a:xfrm>
                <a:off x="5291280" y="2997000"/>
                <a:ext cx="720720" cy="50292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6"/>
            <p:cNvGrpSpPr/>
            <p:nvPr/>
          </p:nvGrpSpPr>
          <p:grpSpPr>
            <a:xfrm>
              <a:off x="6875640" y="4653000"/>
              <a:ext cx="1439640" cy="360000"/>
              <a:chOff x="6875640" y="4653000"/>
              <a:chExt cx="1439640" cy="360000"/>
            </a:xfrm>
          </p:grpSpPr>
          <p:pic>
            <p:nvPicPr>
              <p:cNvPr id="407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6946920" y="4700520"/>
                <a:ext cx="1285200" cy="26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4"/>
              <p:cNvSpPr/>
              <p:nvPr/>
            </p:nvSpPr>
            <p:spPr>
              <a:xfrm>
                <a:off x="6875640" y="4653000"/>
                <a:ext cx="1439640" cy="360000"/>
              </a:xfrm>
              <a:prstGeom prst="rect">
                <a:avLst/>
              </a:prstGeom>
              <a:solidFill>
                <a:srgbClr val="ff0000">
                  <a:alpha val="4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 Box 38"/>
          <p:cNvSpPr/>
          <p:nvPr/>
        </p:nvSpPr>
        <p:spPr>
          <a:xfrm>
            <a:off x="5992920" y="3449520"/>
            <a:ext cx="18396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5148360" y="2276640"/>
            <a:ext cx="3527280" cy="3671640"/>
            <a:chOff x="5148360" y="2276640"/>
            <a:chExt cx="3527280" cy="3671640"/>
          </a:xfrm>
        </p:grpSpPr>
        <p:grpSp>
          <p:nvGrpSpPr>
            <p:cNvPr id="411" name="Group 22"/>
            <p:cNvGrpSpPr/>
            <p:nvPr/>
          </p:nvGrpSpPr>
          <p:grpSpPr>
            <a:xfrm>
              <a:off x="5148360" y="2276640"/>
              <a:ext cx="3527280" cy="3671640"/>
              <a:chOff x="5148360" y="2276640"/>
              <a:chExt cx="3527280" cy="3671640"/>
            </a:xfrm>
          </p:grpSpPr>
          <p:grpSp>
            <p:nvGrpSpPr>
              <p:cNvPr id="412" name="Group 23"/>
              <p:cNvGrpSpPr/>
              <p:nvPr/>
            </p:nvGrpSpPr>
            <p:grpSpPr>
              <a:xfrm>
                <a:off x="5148360" y="2276640"/>
                <a:ext cx="3527280" cy="3671640"/>
                <a:chOff x="5148360" y="2276640"/>
                <a:chExt cx="3527280" cy="3671640"/>
              </a:xfrm>
            </p:grpSpPr>
            <p:sp>
              <p:nvSpPr>
                <p:cNvPr id="413" name="Rectangle 24"/>
                <p:cNvSpPr/>
                <p:nvPr/>
              </p:nvSpPr>
              <p:spPr>
                <a:xfrm>
                  <a:off x="5148360" y="2276640"/>
                  <a:ext cx="3527280" cy="3671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5"/>
                <p:cNvSpPr/>
                <p:nvPr/>
              </p:nvSpPr>
              <p:spPr>
                <a:xfrm>
                  <a:off x="5148360" y="2923920"/>
                  <a:ext cx="352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Text Box 26"/>
              <p:cNvSpPr/>
              <p:nvPr/>
            </p:nvSpPr>
            <p:spPr>
              <a:xfrm>
                <a:off x="5763960" y="2421000"/>
                <a:ext cx="2289960" cy="3682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&lt;F1 is in great form&gt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27"/>
              <p:cNvSpPr/>
              <p:nvPr/>
            </p:nvSpPr>
            <p:spPr>
              <a:xfrm>
                <a:off x="5293800" y="3573360"/>
                <a:ext cx="729360" cy="825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f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PL385 Unicode"/>
                  </a:rPr>
                  <a:t>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28"/>
              <p:cNvSpPr/>
              <p:nvPr/>
            </p:nvSpPr>
            <p:spPr>
              <a:xfrm>
                <a:off x="6659640" y="299700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29"/>
              <p:cNvSpPr/>
              <p:nvPr/>
            </p:nvSpPr>
            <p:spPr>
              <a:xfrm>
                <a:off x="7814160" y="3429000"/>
                <a:ext cx="502200" cy="45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"/>
                  </a:rPr>
                  <a:t>v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30"/>
              <p:cNvGrpSpPr/>
              <p:nvPr/>
            </p:nvGrpSpPr>
            <p:grpSpPr>
              <a:xfrm>
                <a:off x="5291280" y="2997000"/>
                <a:ext cx="720720" cy="502920"/>
                <a:chOff x="5291280" y="2997000"/>
                <a:chExt cx="720720" cy="502920"/>
              </a:xfrm>
            </p:grpSpPr>
            <p:pic>
              <p:nvPicPr>
                <p:cNvPr id="420" name="Picture 3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64360" y="3058560"/>
                  <a:ext cx="571320" cy="39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Rectangle 32"/>
                <p:cNvSpPr/>
                <p:nvPr/>
              </p:nvSpPr>
              <p:spPr>
                <a:xfrm>
                  <a:off x="5291280" y="2997000"/>
                  <a:ext cx="720720" cy="50292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3"/>
              <p:cNvGrpSpPr/>
              <p:nvPr/>
            </p:nvGrpSpPr>
            <p:grpSpPr>
              <a:xfrm>
                <a:off x="6875640" y="4653000"/>
                <a:ext cx="1439640" cy="360000"/>
                <a:chOff x="6875640" y="4653000"/>
                <a:chExt cx="1439640" cy="360000"/>
              </a:xfrm>
            </p:grpSpPr>
            <p:pic>
              <p:nvPicPr>
                <p:cNvPr id="423" name="Picture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946920" y="4700520"/>
                  <a:ext cx="1285200" cy="266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Rectangle 35"/>
                <p:cNvSpPr/>
                <p:nvPr/>
              </p:nvSpPr>
              <p:spPr>
                <a:xfrm>
                  <a:off x="6875640" y="4653000"/>
                  <a:ext cx="1439640" cy="360000"/>
                </a:xfrm>
                <a:prstGeom prst="rect">
                  <a:avLst/>
                </a:prstGeom>
                <a:solidFill>
                  <a:srgbClr val="ff0000">
                    <a:alpha val="4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e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5" name="Text Box 36"/>
            <p:cNvSpPr/>
            <p:nvPr/>
          </p:nvSpPr>
          <p:spPr>
            <a:xfrm>
              <a:off x="6110280" y="2995560"/>
              <a:ext cx="108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Acceler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Ca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7"/>
            <p:cNvSpPr/>
            <p:nvPr/>
          </p:nvSpPr>
          <p:spPr>
            <a:xfrm>
              <a:off x="7949880" y="2924280"/>
              <a:ext cx="53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H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41"/>
            <p:cNvSpPr/>
            <p:nvPr/>
          </p:nvSpPr>
          <p:spPr>
            <a:xfrm>
              <a:off x="6345000" y="3571920"/>
              <a:ext cx="106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HelpBut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42"/>
            <p:cNvSpPr/>
            <p:nvPr/>
          </p:nvSpPr>
          <p:spPr>
            <a:xfrm>
              <a:off x="5318280" y="4940280"/>
              <a:ext cx="117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iz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Step X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43"/>
            <p:cNvSpPr/>
            <p:nvPr/>
          </p:nvSpPr>
          <p:spPr>
            <a:xfrm>
              <a:off x="5302440" y="430200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Picture  Posn  PropList  Range  Redr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44"/>
            <p:cNvSpPr/>
            <p:nvPr/>
          </p:nvSpPr>
          <p:spPr>
            <a:xfrm>
              <a:off x="6447600" y="4002120"/>
              <a:ext cx="1201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Border  BC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45"/>
            <p:cNvSpPr/>
            <p:nvPr/>
          </p:nvSpPr>
          <p:spPr>
            <a:xfrm>
              <a:off x="5215680" y="4608360"/>
              <a:ext cx="16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AcceptFiles  A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46"/>
            <p:cNvSpPr/>
            <p:nvPr/>
          </p:nvSpPr>
          <p:spPr>
            <a:xfrm>
              <a:off x="7663680" y="3787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YR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5725080" y="40593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VScro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8"/>
            <p:cNvSpPr/>
            <p:nvPr/>
          </p:nvSpPr>
          <p:spPr>
            <a:xfrm>
              <a:off x="7115040" y="32097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i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9"/>
            <p:cNvSpPr/>
            <p:nvPr/>
          </p:nvSpPr>
          <p:spPr>
            <a:xfrm>
              <a:off x="5234760" y="5370480"/>
              <a:ext cx="5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808080"/>
                  </a:solidFill>
                  <a:latin typeface="Arial"/>
                </a:rPr>
                <a:t>Po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50"/>
            <p:cNvSpPr/>
            <p:nvPr/>
          </p:nvSpPr>
          <p:spPr>
            <a:xfrm>
              <a:off x="5705280" y="5586480"/>
              <a:ext cx="283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MethodList  MinButton  Move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1"/>
            <p:cNvSpPr/>
            <p:nvPr/>
          </p:nvSpPr>
          <p:spPr>
            <a:xfrm>
              <a:off x="6467040" y="5084640"/>
              <a:ext cx="213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Arial"/>
                </a:rPr>
                <a:t>CursorObj  Data  Det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422360"/>
            <a:ext cx="8147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rm has 2 types of functions and variabl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174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in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specific to its typ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, those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w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d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NEGATIVE ⎕NL argument ONL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s can be listed with a POSITIVE ⎕NL argument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- includes both types of element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we redefine the form all </a:t>
            </a: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bjects disappear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+‘F1’⎕wc’form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F1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 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0 0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F1.⎕nl-2 3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65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446" name="Rectangle 5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7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55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1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2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4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69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480" name="Rectangle 3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4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9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2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491" name="Rectangle 3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4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s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4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4000" y="151740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ha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∘maneuv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4681440" y="2509920"/>
            <a:ext cx="4066920" cy="3727440"/>
            <a:chOff x="4681440" y="2509920"/>
            <a:chExt cx="4066920" cy="3727440"/>
          </a:xfrm>
        </p:grpSpPr>
        <p:pic>
          <p:nvPicPr>
            <p:cNvPr id="103" name="Picture 4" descr=""/>
            <p:cNvPicPr/>
            <p:nvPr/>
          </p:nvPicPr>
          <p:blipFill>
            <a:blip r:embed="rId1"/>
            <a:stretch/>
          </p:blipFill>
          <p:spPr>
            <a:xfrm>
              <a:off x="4681440" y="2509920"/>
              <a:ext cx="4066920" cy="37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5"/>
            <p:cNvSpPr/>
            <p:nvPr/>
          </p:nvSpPr>
          <p:spPr>
            <a:xfrm>
              <a:off x="7634160" y="3448080"/>
              <a:ext cx="50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767200" y="5086080"/>
              <a:ext cx="863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6338520" y="4356000"/>
              <a:ext cx="107964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n interfa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25800" y="139716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0800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80720" y="1268280"/>
            <a:ext cx="8850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uming we have all types of namespaces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ns←⎕ns 'v1' 'f1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o←⎕new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'form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in1←⎕new 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ll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←ns,fo,cl1,in1,in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¨all.⎕nl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2   65  1  2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tents of all namespa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180720" y="1268280"/>
            <a:ext cx="843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oncept of internal/external names i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ing 1 external item to each name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PL385 Unicode"/>
              </a:rPr>
              <a:t>  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  ⍝ will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2 65 1 2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all.X←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⍴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¨all.⎕nl⊂-2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3 66 2 3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1"/>
          <a:stretch/>
        </p:blipFill>
        <p:spPr>
          <a:xfrm>
            <a:off x="6084720" y="3060720"/>
            <a:ext cx="2467080" cy="1495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2"/>
          <a:stretch/>
        </p:blipFill>
        <p:spPr>
          <a:xfrm>
            <a:off x="6659640" y="4645080"/>
            <a:ext cx="145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Inclu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y be because the code to include is comm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5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 details summar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ny new system commands &amp; f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terfaces show how it is don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umbered Properties are implemented in a special manner in AP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riggers offer lightweight proper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L/⎕NC have been extend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notion of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external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names is importa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clusion of common code is possibl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4000" y="49356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2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is used to create complex numbers.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can perform most simple math operations on them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ublic instanc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1 public shared fiel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ield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instanc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5 shared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ese perform the basic operations: + - × ÷ *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5364000" y="765000"/>
            <a:ext cx="36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5060880" y="213660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5565600" y="350208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565600" y="4581360"/>
            <a:ext cx="3240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565600" y="5345280"/>
            <a:ext cx="3240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7923240" y="350208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923240" y="4581360"/>
            <a:ext cx="88272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923240" y="5345280"/>
            <a:ext cx="88272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6720" y="1515960"/>
            <a:ext cx="82076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826920" y="3349800"/>
            <a:ext cx="280836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826920" y="3957480"/>
            <a:ext cx="2808360" cy="21600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plex Clas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class also has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constructors a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2 private fun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one of which is a trigger for when one of the fields is modifie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rt o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.Read ‘key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"/>
          <p:cNvPicPr/>
          <p:nvPr/>
        </p:nvPicPr>
        <p:blipFill>
          <a:blip r:embed="rId1"/>
          <a:stretch/>
        </p:blipFill>
        <p:spPr>
          <a:xfrm>
            <a:off x="5065560" y="0"/>
            <a:ext cx="425952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Geneva"/>
              </a:rPr>
              <a:t>Keyed component file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ke this →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2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icrosoft.Net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14596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orms and more via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It is possible to create forms using ⎕new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Note that the class </a:t>
            </a:r>
            <a:r>
              <a:rPr b="0" i="1" lang="en-GB" sz="2400" spc="-1" strike="noStrike">
                <a:solidFill>
                  <a:srgbClr val="333333"/>
                </a:solidFill>
                <a:latin typeface="Geneva"/>
              </a:rPr>
              <a:t>name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You can create OLE controls with ⎕new too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is system function eXposes Window’s interfac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0= do NOT expose anyth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+2= use new V11 syntax (e.g. Sheet[3]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xl←⎕NEW 'OleClient‘ (</a:t>
            </a:r>
            <a:r>
              <a:rPr b="0" lang="en-GB" sz="24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'ClassName‘ 'Excel.Application'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x allows to use V10 syntax or the new V11 synta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1 ⍝ use V10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 ActiveWorkbook.Sheets.(Item 1).Nam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⎕wx←3 ⍝ use V11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xl.ActiveWorkbook.Sheets[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’Sheet2'].Index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X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ndardize dialog box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1←⎕NEW Dialog ('Hello World' (50 250) ⍬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For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(a name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You can do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fm←⎕NEW ‘form’ ..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1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6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2"/>
          <p:cNvGrpSpPr/>
          <p:nvPr/>
        </p:nvGrpSpPr>
        <p:grpSpPr>
          <a:xfrm>
            <a:off x="4832280" y="1865160"/>
            <a:ext cx="4276800" cy="4371840"/>
            <a:chOff x="4832280" y="1865160"/>
            <a:chExt cx="4276800" cy="437184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4832280" y="1865160"/>
              <a:ext cx="427680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3"/>
            <p:cNvSpPr/>
            <p:nvPr/>
          </p:nvSpPr>
          <p:spPr>
            <a:xfrm>
              <a:off x="5337000" y="338580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7692840" y="338580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5337000" y="4457520"/>
              <a:ext cx="324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5337000" y="5373360"/>
              <a:ext cx="32403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7692840" y="4457520"/>
              <a:ext cx="884520" cy="21564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92840" y="5373360"/>
              <a:ext cx="884520" cy="21600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47640" y="13712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587520" y="436572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587520" y="4973760"/>
            <a:ext cx="297648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Net utiliti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re is a lot of utilities out there that can be used in APL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hey are found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To be able to use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DateTi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333333"/>
                </a:solidFill>
                <a:latin typeface="Geneva"/>
              </a:rPr>
              <a:t>System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namespace with ⎕USING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USING←’System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←⎕new DateTime ⎕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ow ⍝ let’s see its display form: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2007/10/01 21:47:08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nc ‘now’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10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2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14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5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9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o allow other languages to use your code you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nu it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5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Signature statemen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t is made up of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Geneva"/>
              </a:rPr>
              <a:t>:Signatur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Geneva"/>
              </a:rPr>
              <a:t>...] ] ]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rt←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return type. If present it MUST be followed by ←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Geneva"/>
              </a:rPr>
              <a:t>fnname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at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type, if prese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am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name of the 1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Geneva"/>
              </a:rPr>
              <a:t>ng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9cc00"/>
                </a:solidFill>
                <a:latin typeface="Geneva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Geneva"/>
              </a:rPr>
              <a:t>...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ame for the other argument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 C#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System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 APLClasses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 // the namespace in which our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is foun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ublic static void Main() {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Primitives apl = new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Primitives();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APL clas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int[] rslt = apl.GenIndices(10);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// THE cal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for (int i=0;i&lt;rslt.Length;i++) Console.WriteLine(rslt[i]);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Geneva"/>
              </a:rPr>
              <a:t>} }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for oth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re’s how another APL program would use this program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using←'APLclasses,c:\...\apl.dll'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←⎕NEW Primitiv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r.GenIndices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1 2 3 4 5 6 7 8 9 1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Web services can be writt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SMX files and ASPX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workspaces “behin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009999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ample of Web services written in APLScrip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3" name="Picture 4" descr=""/>
          <p:cNvPicPr/>
          <p:nvPr/>
        </p:nvPicPr>
        <p:blipFill>
          <a:blip r:embed="rId1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ther good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000000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9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612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Rectangle 11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2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615" name="Picture 13" descr=""/>
            <p:cNvPicPr/>
            <p:nvPr/>
          </p:nvPicPr>
          <p:blipFill>
            <a:blip r:embed="rId2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14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000000">
                <a:alpha val="4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6000" y="1517400"/>
            <a:ext cx="882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embers' system functions/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mbers ar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variables)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functions)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othe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es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lists the instances of a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creat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ecial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rig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detai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:Us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sing vs ⎕US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Using X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kin to ⎕USING,←'X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0⍴⊂⍬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Namespaces in script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09999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4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5"/>
          <p:cNvSpPr/>
          <p:nvPr/>
        </p:nvSpPr>
        <p:spPr>
          <a:xfrm>
            <a:off x="322920" y="1341360"/>
            <a:ext cx="629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load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using←'System'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←⎕new DateTime ⎕ts ⍝ assume it is 2007/10/10 19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2←⎕new DateTime (2007 10 16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t1←⎕new TimeSpan (7 2 0 0) ⍝ 7 days, 2 hour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+d3←d1-t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2007/10/03 17:12:0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d1&lt;d2,d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Geneva"/>
              </a:rPr>
              <a:t>1 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95280" y="17334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95280" y="166032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250560" y="170172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5"/>
          <p:cNvSpPr/>
          <p:nvPr/>
        </p:nvSpPr>
        <p:spPr>
          <a:xfrm>
            <a:off x="468360" y="105264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This doesn't mean you have to rewrite everything! But y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ou are now competitive with the other guys.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someone tells you "you can't do OO or .Net" you can now say "We can!"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3T14:44:56Z</dcterms:created>
  <dc:creator>DanB</dc:creator>
  <dc:description/>
  <dc:language>en-US</dc:language>
  <cp:lastModifiedBy>Danb</cp:lastModifiedBy>
  <dcterms:modified xsi:type="dcterms:W3CDTF">2008-10-03T01:49:20Z</dcterms:modified>
  <cp:revision>43</cp:revision>
  <dc:subject/>
  <dc:title>Slide 1</dc:title>
</cp:coreProperties>
</file>