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CD5-B768-4F38-9DD3-D10A396335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CF70-A3B1-443E-8998-733C6F0FF0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F8E9-6D07-4302-9AD7-F871BB3703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5906-5231-49C0-AEB8-7CF8A09D9C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4C7A-B1F7-4D02-940C-5D2F37D780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45ED-74C4-471F-B7AB-6C693F0084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0129-3022-4128-92B5-0F3F8330FF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6689-8E14-43FC-B12D-7533704A83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5AD1-D8D2-48F9-B713-B9AC2BDD3C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67D7-6335-4F24-A636-8E004CA866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687E-B961-4C08-A76E-D3EB331E5C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62E6-7294-431C-B3ED-755F598C51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F018-CC7F-4A1C-8531-66F778383C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93FA-1F32-4C77-A952-EEC7F7FB9C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0939-0C6D-47F6-9539-DE6087A0A1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6A03-7885-4737-8878-B55ED638CB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954-4605-4D7B-B17D-4456508CC8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595-B939-4299-80E3-2BF440C4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BAD-B71C-4E0F-85FC-5B6EDC17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26E1EB-2071-45F2-AECD-D39A9D1E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A86130-01E8-41D9-871D-E3923A11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B3EB13-507E-4DA0-8F92-D68E5DCC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0D6CC9-F510-42CA-B7E9-B2FC7BF4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C6E426-E34F-49A7-B1A3-CD7B62A0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70B23-8262-456F-B957-FACB3A2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BE613-C738-4B05-A8E2-C013DFA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50AB2-A93A-4424-9C93-062185CE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993AE5-C196-40F2-9F66-3A173275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AEE4F-6FC1-4F41-93C9-8FC39B1F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7D1-90E8-42E5-A6C5-5CA82712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29FD3-4E2A-4E23-BB6F-D5440B4D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392B4-FA09-4004-8D2C-8A08B6D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259D0-495F-4906-96BE-12B14E07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79703-D680-40F6-AA23-804BF975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54E1F-21D5-45C3-848D-8D01F048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DEF1B-2085-40F8-AF68-39F066B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5DFEA-6B6F-4381-9DB7-211119C9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5F11C-8C58-47B0-8612-D66B0A6D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13813-31FC-4A8A-BBB7-F78B664F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5C4CF-E081-4C08-A60C-41C6BF94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AAB-4004-4366-968F-797C4F10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9E855-A886-4A25-9C2C-5B55F925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DF48B-5626-44AE-94FA-CE59FBA6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80B86-4CA0-41D1-851F-55A3C719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2446E-FF5B-448A-8CB9-2248586A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FFD16-26E0-469F-AA02-2A0974DD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D0081-F297-4981-9F03-AA2911C9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CCAE-28AD-4E02-A410-B0B80B56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01563-9653-4864-A2C6-7F7AC78E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E351-2161-4ED4-843C-59A0E8E0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DA2EE-E852-46FF-86FC-3A4FDCC5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555C-A7CE-4C6E-A3D7-FF0B32BA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0F89E-AE69-4FAC-9385-696F68ED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20172-A030-4991-BA60-5B04E44D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40DA5-017D-4520-873D-55CD20F6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9B91C-35BA-45C4-865B-72A221C2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60AF7-104C-4FF1-B46E-10947903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00CD5-B8C5-4E4B-9C88-999F3869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FB041-602A-40C5-A292-C884E219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E5159-FC8A-4393-8990-5E192CEE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8E912-7423-44B1-9683-1CE1E90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44ABA-00F9-4218-B2EA-2A5AB4D7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2B22-6960-42B2-A440-3596353B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455A3-89C5-4EBB-A171-2D626ED5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ABD83-8A3A-42B3-B097-891005C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EFC22-7614-45E7-ADB1-5B06449C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802AEA-FD86-4C60-B648-9BC39B71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FE5AF-0F3D-40E4-B4A0-DBB5B41B9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846BB-0050-46F7-8C5C-CBCCC4B4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23D61-E04E-46BF-9ECF-70AA363E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CFDFB-D014-49C4-BB81-562A309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2BDC4-2D4B-4704-B170-982FB7F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7EC6E-A343-4DDE-8B80-51CDFA83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B952-62CC-4D00-9F8B-25BC3401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B8403-37A5-4F1B-B876-C501CD7F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64C3A-4B9D-409A-9A6F-1F3224D1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C8414-DFC5-4839-A55C-2C059B7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9D345-36F6-435E-985E-57AB1CC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6B417B-9A8D-4EBD-8EEF-49DA8BE5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14D98-FBDE-4541-9B9D-2E70DB21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AA309-4381-4D3E-A2A8-FC7C9DB5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F8A4D-9BBA-4292-8D80-18E816B2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5EFD9-839A-4F00-B70B-670A915B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BAEA9-E246-42C2-8AA0-A11B3A02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C27-4BD7-4DF7-8AFA-9AA9E77B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4F8CB-FE92-4A8E-8477-7AF308CD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C6943-98E0-4C76-B690-873EBB3E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18899-86C7-4BCC-86D2-E22435A0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EB9297-593E-421F-B859-E09EF6F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49B55-6893-4158-AE97-8744E79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84A72-9880-46F3-BFC5-E57874EA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54EBA-92A8-48D9-8EEE-EF059C47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D5055B-5278-451B-82D8-19C1A966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7DBCC-9700-4B28-B299-58FD0B2C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053A-DD10-4114-AB85-645F92A4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5E49-80D2-4C5C-B9FC-8D697DDE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3F0E-E0DA-4925-BB38-41B9E031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0D5-6113-4A5C-9F0F-890BC046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96D-2379-44F6-B173-6EA3D341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D099-D26A-49E7-8992-D20D4AE0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42D8-D9D0-4D14-B31F-36F06875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CCC0-F3C4-478A-A264-42F0A52D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0966-EAB0-44B6-8F56-5B8F244C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A6EDF-04BB-4421-9062-F6D1556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46719-0601-42E9-B130-5798F250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78FBA-028E-4556-9F31-36C45F09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EB4B-85B2-46D9-9903-7A00D620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8BC6-2E81-41A2-9D1D-67993676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587-ADC0-4366-BE73-C69018EA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85DA-003C-4188-99B3-49376FB0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1613-1CA9-48C0-B6B0-545320F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B51A3-885A-402F-81FA-41F71C5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8C42-06E7-470C-89E9-33873235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65CA-EFE2-45E9-9497-0C6A0C69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4E7A-BD7C-4D9C-BACA-050B3846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B42F-F0C1-48FA-9EFD-5B00BE16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BD33-1CD4-4F92-BC37-770FB66F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7A556-CC0E-4CA6-821E-79DB6ABB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69678-0F1C-4282-81E1-8EECEDCE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748-E547-4740-8201-2661905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84EF-A565-4877-959D-A23D232E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C8406-CD1B-4C91-B251-577AB6D9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2254-3DC4-44E8-9BD8-0D13B757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4E58-6431-4997-A112-1C51F3A5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FE10-8E63-4816-8D52-A4990EE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03B2D-6EF2-43C6-A4A2-6B466E12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FE48F-78FD-4020-99A3-1B726387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B838-110B-4090-AF66-5BB54A95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2BCDB-4C38-4B51-B929-A1A26746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B020E-6444-45F1-91C9-E2A47C48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DC7-0270-4546-A73D-22FBF26F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A45DA-5316-4480-B59D-118AF377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311E2-C7AE-434E-B246-9F7A766D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F5E7-8D6C-49B3-AF91-9AAFC1E7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8CC5C-5171-429A-921E-81DCC3AE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0D42E-C620-43E7-880E-6DDDF9D0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9954-4AEE-4CBB-AE7E-67AD19D9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92A1E-66AE-492C-88E7-90E99149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98077-7573-4315-B7DB-8FD19DA3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A8C2-62E8-4292-99DA-769F0459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F8B2-A47D-4F44-A6BA-2F3B46F7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4DA-6AFB-42CB-B2C8-88D0E2B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DF29-BF04-4B5C-B167-CFAEFE14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671EA-9E09-4924-A4F3-099D6B1E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A3D27-85B9-48D6-B5CD-3DD33BCD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04A35-7B7C-4F06-A7D9-46A4E5F7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53200-A12F-4BC6-B31C-73B4602B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B6FC1-E1C3-423D-903A-3F33BD4E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6490-97C3-48A2-B6CA-4BB74552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85834-6EE4-4D3E-96C5-D3BA4D3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8CEE2-0937-43C8-8FC0-14B7E449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DE03-DA8C-45F3-A20C-0724A75F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F28-D664-4C81-BE27-4D8A039F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E4DC-74E7-4D8A-AEC2-861FD875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307FC-D14B-49D7-B3A6-A29487B4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3AB8A-7FD0-422A-8857-D4CF3A41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51009-DBA1-4494-93A5-D9AB5428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3ED62-38B8-4E21-A6AA-29134C65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1D44F-AB49-4E45-ACC4-93D32131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4AFAA-5770-4E7A-A89C-81A9C516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161A6-3AFE-41C8-B371-27D92641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7157E-9A76-4D19-9DA2-BEB92C5C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08268-AF8F-4CD6-89AA-EA11811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459-CFAB-4A26-8D9F-7379C0D9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7E881-7B89-483A-AC04-3C047AB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119E0-48A1-4B02-89B6-45F0AA8F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6D2BA-CDBF-4550-AE39-46E746F0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50A6-3BC9-41CC-BEC2-E26E1669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E645C-35F3-43BE-8F1F-16656F77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13485-37DD-49BA-9731-4EA6B311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F556A-F54C-454E-909D-0B718B3D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8A4CF-31E5-4A0F-9C0B-4B893D37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3AA5E-CAA3-4BE2-BEE0-9027D3DA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F687B-2D55-434D-AF23-63FD969E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CFF-4D4D-456A-B0B6-B217462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56DC7-C42B-4E36-8326-C97E5C2B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1AB54-4AFF-43E2-BCBC-70AC897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846FE-5B3D-4341-A95C-49C6ED0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1775D-F024-4E08-89B4-F63B3E1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84D66-A959-43D1-B590-CBCA9D8E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952F8-A1D3-47C5-87A2-7DA7A84B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B54E-8F46-4F27-89CC-130728C8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CCBD0F-343F-4A2F-A044-3AB82B36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C0D97-AAB6-4B4C-A25B-EEFFC030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61764-492A-40DC-932F-CA76F422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F2E5-3274-4C7B-885E-9BE6EDD2C8F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DE71-F887-4554-A66B-9551D3E4C5D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E1C3-8B3D-4E5D-A26E-2CF43D080E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D29-06DC-40C2-AE55-2E39A7CB31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689F-86A9-4F38-8ACC-6607640943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0B4C-7F1C-4B4F-A493-510A9CC48D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91E-DD6E-4FEA-929D-DDBE84BECFB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8FD1-9D7B-4055-BDB1-205AFE7288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739-F604-4EBD-A993-99627A243DE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2339-8B17-467E-AEDA-EFE3A5D9FD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CFD-1C5F-4FA3-88E8-E3AC7BFBEF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FB6C-A531-4358-9CD0-4B036041C0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8 - Elsin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5BAF-AD5D-4908-AF2B-C25C303803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grating to Uni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1322-0F75-4329-B8DD-79D498A17C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54291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’09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6" name="Picture 4" descr="tegning09"/>
          <p:cNvPicPr/>
          <p:nvPr/>
        </p:nvPicPr>
        <p:blipFill>
          <a:blip r:embed="rId1"/>
          <a:stretch/>
        </p:blipFill>
        <p:spPr>
          <a:xfrm>
            <a:off x="1785960" y="1143000"/>
            <a:ext cx="52768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Page Data – Example 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B1FA-3D07-498A-BC76-48BA955214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7819920" cy="689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1743120" y="3429000"/>
            <a:ext cx="7400880" cy="3429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3"/>
          <a:stretch/>
        </p:blipFill>
        <p:spPr>
          <a:xfrm>
            <a:off x="1743120" y="3429000"/>
            <a:ext cx="740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ource Code Management 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ldServer is also a demonstration of the ”new way” of developing Dyalog applicat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LL the code is in UTF-8 text files, managed by SALT (the Simple APL Library Toolki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ubVersion (a free source code management system) is used to manage the source cod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available as a download from the APL Wiki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is does not compromise the way that you develop APL applications at all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F2E0-736A-45A7-B14E-0765BF9EA5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ildServer Compon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MildServer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TCP/IP server which accepts connections, incoming data, and returns outp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HTTPRequest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class which decodes an HTTP Request into APL dat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impleAuth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basic security provider which uses the HTTP Challenge protocol based on XML inp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impleSession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a simple cookie-based session manager which preserves application data for the duration of a sess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976B-30AB-48BC-8273-09D9215765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ildServer Configur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A598-47A9-47FD-AA92-7C41FEDAD4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5019840" cy="32576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3" descr=""/>
          <p:cNvPicPr/>
          <p:nvPr/>
        </p:nvPicPr>
        <p:blipFill>
          <a:blip r:embed="rId2"/>
          <a:stretch/>
        </p:blipFill>
        <p:spPr>
          <a:xfrm>
            <a:off x="1928880" y="2214720"/>
            <a:ext cx="4981680" cy="37051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3"/>
          <a:stretch/>
        </p:blipFill>
        <p:spPr>
          <a:xfrm>
            <a:off x="3857760" y="2143080"/>
            <a:ext cx="5286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pen, Modular Desig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ote that the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Session Handl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Authentication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components are configurabl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one is defined in a script file; you can enhance them or replac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ver time, more and more of the MildServer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should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become configura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idea is that the community will build a more sophisticated shared web framework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5197-5689-4409-9FF1-D3E18E2292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My Own ”To Do” Lis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ke HTMLInput Class Exten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dd optional Authentication Handl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ombine SSL and certificates with passwor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 a more elegant security plugin using an HTML subform rather than the HTTP Challenge protoco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rror Logging and Reporting module prototyp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un MildServer as a Windows Service (autostart when Windows star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0AD3-A17B-4420-9834-50292B047C7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oposition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ildServer is sufficient for many ”simple” applic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one who can write an APL function can implement a web site using Mild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cripted code does not compromise the ”APL Way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O additional components needed (IIS/Apach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is an experiment (but already in ”production” use in simple applications)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27920" indent="-28008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lease take a look and comment, and contribute!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7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64B3-4272-4925-BBB2-1395EE1166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3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Overview of MildServe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785600" y="3571560"/>
            <a:ext cx="5257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orten Kromber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yalog’09 – Princeton, NJ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Picture 4" descr="tegning09"/>
          <p:cNvPicPr/>
          <p:nvPr/>
        </p:nvPicPr>
        <p:blipFill>
          <a:blip r:embed="rId1"/>
          <a:stretch/>
        </p:blipFill>
        <p:spPr>
          <a:xfrm>
            <a:off x="214200" y="585792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Goals and Philosoph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42600" y="17859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goal is to make it possible for ”ordinary” APL developers to develop web p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e ”MildServer” is an experimental platform for this work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hat’s the problem, anyway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969C-A44C-43FB-8BD5-38031DD3E37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4" descr="tegning09"/>
          <p:cNvPicPr/>
          <p:nvPr/>
        </p:nvPicPr>
        <p:blipFill>
          <a:blip r:embed="rId1"/>
          <a:stretch/>
        </p:blipFill>
        <p:spPr>
          <a:xfrm>
            <a:off x="7380360" y="5877000"/>
            <a:ext cx="1000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What’s the Problem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POST /linreg.dyalog HTTP/1.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Accept: image/gif, image/x-xbitmap, image/jpeg, image/pjpeg, application/x-ms-application, application/vnd.ms-xpsdocument, application/xaml+xml, ... blah blah blah ...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Accept-Language: da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Type: multipart/form-data; boundary=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UA-CPU: x86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User-Agent: Mozilla/4.0 (compatible; MSIE 7.0; Windows NT 6.0; SLCC1; ... blah blah ...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Length: 219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nection: Keep-Alive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ache-Control: no-cache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okie: UserId=mkrom; Session=dOiEkOvDgxAVdTpXZMRhpwCxpalFAI5p2pvbbhTHHAA=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Degree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X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1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-----------------------------7d8300222063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Disposition: form-data; name="Y"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2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8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88E4-944A-4E42-96B3-3E5A912B93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The Desired Answer...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HTTP/1.0 200 OK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Length: 251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content-type: text/html; charset=utf-8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tml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ea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itle&gt;Demo Server&lt;/title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link href="/Styles/Style.css" rel="stylesheet" type="text/css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/hea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body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h2&gt;Linear Regression&lt;/h2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able 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r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d&gt;&lt;form action="/linreg.dyalog" method="post" enctype="multipart/form-data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able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r&gt;&lt;td &gt;&lt;b&gt;Degree...&lt;/b&gt;&lt;/td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td&gt;&lt;select " name="Degree" value="1"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 selected&gt;1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&gt;2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option&gt;3&lt;/option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                   </a:t>
            </a:r>
            <a:r>
              <a:rPr b="1" lang="da-DK" sz="1200" spc="-1" strike="noStrike">
                <a:solidFill>
                  <a:srgbClr val="333333"/>
                </a:solidFill>
                <a:latin typeface="Courier New"/>
                <a:ea typeface="Courier New"/>
              </a:rPr>
              <a:t>&lt;/select&gt;... of polynomial&lt;/td&gt;&lt;/tr&gt;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FB9B-5EB6-4393-82DF-FE95E3F9B4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285920" y="0"/>
            <a:ext cx="6772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What’s The Problem (again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ecode the HTTP Headers and Dat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Make data available to the application developer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(Detect and) Manage ”Sessions”: Persistence of data from one request to the n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”Cookie” is a bit of data stored on your PC, which is transmitted to the server with every reques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 session cookie tracks a user from one page to the nex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Provide Security: Identify the User and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   Restrict Access to parts of the Web Sit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Help the application developer generate HTM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And a bit later (perhaps), more complex contr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4F3-64A4-4857-80BD-7A1F96CFA5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BIG Thanks to ”WildHeart”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 have been allowed to steal code from the ”WildServer” and other servers Stefano Lanzavecchia has bui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98400" indent="-2685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(all the tricky bits about decoding HTTP!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333333"/>
                </a:solidFill>
                <a:latin typeface="Geneva"/>
              </a:rPr>
              <a:t>WildServ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s a more complete, ”more object-oriented” HTTP server developed by Stefan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333333"/>
                </a:solidFill>
                <a:latin typeface="Geneva"/>
              </a:rPr>
              <a:t>MildServ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is Mortens ”watered down” environment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nyone who is able to write an APL function should be able to turn it into a web page” ™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C51-836A-489E-8FF3-D854D0FAAF7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A MildServer Pag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ach page is a class which must derive from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MildPa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t must have a public function called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Render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which takes an instance of </a:t>
            </a:r>
            <a:r>
              <a:rPr b="1" lang="da-DK" sz="2800" spc="-1" strike="noStrike">
                <a:solidFill>
                  <a:srgbClr val="333333"/>
                </a:solidFill>
                <a:latin typeface="Geneva"/>
              </a:rPr>
              <a:t>HTTPRequest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as its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nder must end by calling one o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Return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HTML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ReturnFil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FileNam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quest.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Fail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(HTTPCode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18C4-C7B6-4765-868B-52BC44372E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378000" y="857160"/>
            <a:ext cx="8766000" cy="50720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3" descr=""/>
          <p:cNvPicPr/>
          <p:nvPr/>
        </p:nvPicPr>
        <p:blipFill>
          <a:blip r:embed="rId2"/>
          <a:stretch/>
        </p:blipFill>
        <p:spPr>
          <a:xfrm>
            <a:off x="2952720" y="2448000"/>
            <a:ext cx="61912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Page Data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172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or each user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ession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an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instance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f the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age clas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is made (object orientation is a good tool for this </a:t>
            </a:r>
            <a:r>
              <a:rPr b="0" lang="da-DK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f your page has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ublic Field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, MildServer will move data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from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the HTTP request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into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 your page if the HTTP element has the </a:t>
            </a:r>
            <a:r>
              <a:rPr b="1" lang="da-DK" sz="2400" spc="-1" strike="noStrike">
                <a:solidFill>
                  <a:srgbClr val="333333"/>
                </a:solidFill>
                <a:latin typeface="Geneva"/>
              </a:rPr>
              <a:t>same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ny data inside the instance will survive until the session ends (times out after inactivity or user LogOut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6" name="Date Placeholder 3"/>
          <p:cNvSpPr/>
          <p:nvPr/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MildServer Over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09 - Princ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4B59-8862-453F-8B9E-DEA76632C2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22:41:42Z</dcterms:created>
  <dc:creator>Gitte Christensen</dc:creator>
  <dc:description/>
  <dc:language>en-US</dc:language>
  <cp:lastModifiedBy>Windows User</cp:lastModifiedBy>
  <dcterms:modified xsi:type="dcterms:W3CDTF">2009-09-13T16:15:45Z</dcterms:modified>
  <cp:revision>351</cp:revision>
  <dc:subject/>
  <dc:title>Rolling the Process</dc:title>
</cp:coreProperties>
</file>