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A4D3-F3CB-4F41-820F-D02752633C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E069-42F3-4AEB-AA95-8CDC52B265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D605-8E1C-415C-85F4-5A29CF53F1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2DE9-DD9B-44F6-9BAC-6437A9BD40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3159-27B4-4BD7-B0C1-3E28164C59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9639-E722-4D6E-9834-EECFC97E3D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91FD-B2B8-4E14-8188-86444BBC14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8A5B-8C2A-40BE-ABB3-2C857B6728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8FA7-AA67-43EE-A2F7-B2EAA5DAC1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CB15-4A2D-4627-B07F-265B4601C4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3F1-41B2-4A17-A488-EE8EF1048B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F1A1-6755-4341-82AB-4986638BC0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10F-6A35-4915-8B8A-7D5CBA648F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230B-9551-47F9-90F8-973FF1073D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D26F-979E-47C6-B239-279FA54676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7B0A-F90B-48A0-8730-9232B24457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E54D-8598-40F3-B59F-3BEA659872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D821-73B7-4549-B591-E8C022F3E1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87AB-EE0A-4FBA-8CBC-11D6CF2021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39D3-D0BE-4B87-8BEC-4EC846B0ED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D22B-1142-42A1-8853-330415CC40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C775-15AB-409B-9F16-A7809F9A80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850-0C21-4642-8EE5-F1E1A36B5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A8FF-FDD9-499E-81EF-B670D932B6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4551-3D48-42F5-B7CD-033220539A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F0FA-96F7-4740-ACE2-A5C818F439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8514-FCFD-42CE-9977-53D315FBF9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EFC3-093B-49B4-8178-602B466997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D0E8-DF8D-43A9-BFCE-5F081FEE67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9E44-8668-4771-A4C4-5412BB72AD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1D33-0844-4FEE-B6F7-73FFD1A618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70AC-43CC-4F30-A4FC-1BDEF70159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EFFA-5575-402D-B6BC-F154264F3A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33FB-1905-405F-B9AE-5CE3E507D6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3DFA-3385-444A-8C26-DCC941FE87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22B-D91C-4421-A5E2-65BA3DE78E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A27C-94DB-490E-BAF1-C72AD8AA42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D329-B083-4ABA-9B75-8EC8A5D783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46E3-D2F3-4C4B-9B82-02FF480C70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B48F-93D9-497D-A81C-28FCFA30ED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91DB-2209-43AC-8F50-C7F8359285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2296-EDEE-406E-8B32-C878E7C358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195E-5DDD-43F1-A76C-ECB23D9947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CE4F-5B2A-4A0A-B590-CBCF4D124A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1486-AF0C-401E-BAD2-9EF1134CFB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8E5-181A-479B-B618-8C706B4E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2A3-978C-4361-AB3D-31C8DFBB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621D35-B2D7-4296-979E-90168E4C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20708-330A-4CFC-B539-EC73D7B5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6B1B3-498B-4458-8735-26814344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A62457-27EA-4C3B-8941-D3EABE4E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D396E3-FD84-4AA2-8504-87025BF9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346865-AAD2-4075-8209-41549C58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1B40C-A157-42DC-8421-4F82AB00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DDBD27-7AE1-4BD8-AA8B-26174EBB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7157C-34A0-4042-A1AB-A217F32A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57945-A7AF-4338-902A-4AD9F02E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AEB0-825F-4D7C-A347-E9979D65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5A179-999F-4539-85F6-45B921C7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96FDD-4F08-4E92-9BAC-57F0814A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54934-F02E-429C-AFFD-D3A16F16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58AD1-E093-4C09-8EDB-111BE62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1FA4A-D902-44C7-ABA8-D0A6A4DA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991F5-2FBA-467A-8A6A-8489F7FB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6CD0B-3BE4-4FEF-BE80-47C560A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88CCC-662D-4360-B818-824E4D43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8C73C-ECAA-463F-AE74-E80D511F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AB553-A2D2-4989-9BAE-9A011A12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CC6-5CD1-4AAB-B83A-4BB23C94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EF219-4FBC-4B7C-B530-9EF47342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965B3-C2E8-448B-9C4B-E4876EAF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CD9E-45EA-4ACD-BAD0-0BD7B9E7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2BC64-21DC-494F-AB5D-58EB610F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16B5B-FD77-44CB-8520-A3E8F8A4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60B3D-1893-46A9-82D8-11535967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95729-0A0D-4ABE-BC63-367F42FA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3568E-1E46-4568-8D78-E40D23DD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3FEC5-28A3-44C4-9DFA-07404CA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FA6FB-9DE4-4026-9447-D1E16814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FA6D-D478-41DD-BE95-91DCD346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1106C-E0B0-4CBC-BB58-78551AC1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A978-534A-4B31-B120-B5E863D9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56E24-2DFC-429C-9ABC-11CAEB47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26BF1-9F1E-4104-A8EF-52F1F9B7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4081E-39BA-4F71-8354-88B044BD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4B08C-D2C6-4D2B-94B2-B7F49E0A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D6B63-ED43-4EB1-9EE1-40574275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42EBF-AEF4-45AB-855E-CF8D2103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9F0EA-0308-40DD-8157-FA0D6A3C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CD5E5-A418-4A80-8777-7770D5BD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9214-DE13-4C19-A194-D0752DDA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F65C5-C034-45AD-AF72-51C1220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62B87-1744-44D8-A2E2-8B4DCD4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24506-32B4-4D09-B041-1FFD3D14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6C8B6-6554-42C7-AE8E-7949E60D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011A6-3BD1-4C80-9828-425C1C6E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6229D-23FF-482D-97F6-325039DD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B38E5-7BEC-470B-B173-AD9C2DBB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2DA9B-A001-40CB-858D-AA8E3E0D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6DFC2B-3A50-4C78-B370-F9FE201A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DD080-CEF5-439D-A8FD-A9223D6F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AA85-4F9E-48A4-A5A6-594BAF72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966B1-1E9D-4FA5-8FCF-F41CA97C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80D99-E4B9-492C-940C-866711DC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05BE5-9E30-406B-BE68-326A181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E4C4A-44F0-404B-B4B6-D9D5BC4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B2BE5-5F13-4DB6-A0D9-04C0836B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3A862-8DFA-481E-8909-BB638532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1B17A-4FBB-46F7-86E5-651C5902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A3BEB-ECE7-438B-AAD4-56C0A091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B3CE5-F12A-4D97-9AB1-068AD01B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17FF3-A7C0-4636-B7A7-9CAE4A97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A3AF-E572-405C-B94A-F8F85ED7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4009C9-2565-4AFD-AFAF-FE213DDB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7791E-87B2-4232-BA7C-27A437ED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FEE48-9249-40CA-A11D-EA1E2E19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23FB6-B03B-4710-8967-71833480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19AD5-334B-40EE-AA65-4FEDB61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22A60-2C7D-4BE1-B2CD-68E597B2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270A0-EE25-475E-9376-0627FE45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02349-D0E9-453A-9D47-297FFF09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1D1E1-46B0-4C99-AC2A-B3B3BDD2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A54B-088F-43F6-BA40-6063D21F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02A5-3991-48F2-A7A0-EF599E6E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05E3-9773-450D-BEC4-2258714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AEE-3EAA-431C-B3CB-DCFB5429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475E-D7EF-4EB2-ABB4-BB94E002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E5F7-3488-429B-9E20-F3AE8CA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C2D2-9D9C-42CD-A066-6F20AB97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0019-AB3F-4FCB-8721-7F7BB627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B538-30E7-45F0-8905-4008DC23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2860-5024-46AB-8228-D5E3BEBF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E33FD-1D36-45D7-81AF-2B5EEF4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3387-1B13-4553-87A6-8743B8D4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B07F-F167-4CC5-8DAC-0300CF3B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17B72-7508-4351-A405-3E645E40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36D-E406-40D4-95A9-F5A7B9E2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877A-F34C-400C-9272-5B9797EC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ED33-FCCC-4685-987C-D72BF0F1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E8AA-2B39-4641-8F99-D72D269E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6D2DE-0BEC-433E-99C8-1AADDBD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5163-F118-4568-91EB-444CEF9E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116A-DED1-4B07-8E57-0C53B751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D196-3798-4537-AF5C-1AE7B34B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54A2-4A41-402F-8677-4A8FEC05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5F8BD-10EC-45CF-BBD8-344BFBC8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CA65B-3768-4C32-BB1E-5E028462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796-DAAA-4E49-9CA1-A73492F2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D01B4-D163-4AE3-8CD5-EC5B3F10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F58F8-C64C-4FDF-ADF6-AC9CCE99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9332-025A-4428-9654-2D5E5CA2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EA58B-2821-4EA4-AD9E-A35B3E23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3064D-7EEE-400D-8F58-FD1ECB7C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5ABBE-779B-42E0-96A2-436499B6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00F90-12D4-462A-A28B-CF3D32D5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33BD-776A-4874-A9CE-674D8B0D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F118-8BDB-4CF5-B250-514BDD39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0F45-1750-4C95-9499-5E580B14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61B-D664-4821-BB7C-96AD0AE4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AE47-D132-41C9-8967-79BA3385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3089-2648-4DEC-B966-47429C4D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02105-C076-4E35-94A2-8F2FCD4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4E9A-5D70-4F11-A526-FE75AF5B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47E5B-1046-4CC0-8605-AA5115CB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2FD4-D294-4E46-AF75-21C3D9F5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91A3-31D7-4113-A6A0-C85FDBAB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0FF9D-E66F-4C9F-A593-D8044D04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D27DA-9DD0-4293-A22D-DF48AB69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DC49-30AA-4109-AA8E-6C210EAC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ABB-3A42-4330-B967-134BB241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9D3FF-1B46-472B-8648-B1310914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E19B4-808F-496D-B1A1-AE98097C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99885-85F8-44E6-AF22-C28D7902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ADA68-37EE-483D-B8AE-35880566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AA5D0-6F63-427B-9B21-377B781E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B5901-A966-4405-8D1E-43410AE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A75AE-7F69-4904-818D-1E12A9D0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BFA13-B1B4-470E-AE9C-204616A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A252C-A508-4188-A0C6-1D027B4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1553F-55EB-4370-8AD5-2EF23F8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B7A-263D-4599-BDC2-111AA112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3C724-ADD0-43CD-B2EF-132A0E75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15CE5-3458-459A-99C9-2621BD8D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C5824-A804-4DA0-BEE6-D78DE074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4C0B3-E21D-4004-B777-12D3E547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647B5-A9E5-4292-9548-C46385B0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2D7A-4F14-44C6-8A0E-49A5013D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AEB6F-7C2B-443A-A4A4-232D0FD5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DB9DC-53B0-4A73-9E26-6F64DEB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443A5-BE1C-44E7-B799-7CD8AF55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5FF8C-F485-4B1B-882F-6687D18E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E9F-9DFA-4139-AEF7-5AC33A90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7FF52-2778-4937-93A9-13A43CF7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4A7A5-6BC1-4FD7-9715-9FC49AD3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A0B07-4747-49AD-B14E-86E3A3E0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FDA00-9180-4D18-9257-58B0873E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37990-B874-4129-B57F-1B104469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C2F84-61A1-4BFA-8157-5F894F78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01BDE-1B3D-4C04-BD74-77619B4B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3BE31-4F5C-494E-853B-BB61BC3B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E9E76-8D48-4C74-865C-9C518C6E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698E4-ADE2-4F04-B391-D5DDCDFB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484-6A8A-42F8-8A1F-B591AD4B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5F6E1-EEDA-41D9-BF74-61377431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C8326-1855-4905-A3A5-D1088306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84F90-C43A-4C87-B4CE-E4A661BC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56D5B-97C2-4A10-903E-2E4DDDC3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A6FF1-915F-4EFF-A9DD-65555BB6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4C5C7-B4D7-43E5-B74F-0795BE9F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BF863-68BD-4E03-A8A2-E8755965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591970-B82E-4E42-B374-1254B7B2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DBD406-FBB5-4E54-8275-850DEF1F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55C42-F0F8-49C0-AFC9-4A541898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7A63-87F4-48C2-A575-A3071FB7D7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A00B-15A4-4280-A29C-711BA853B9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1375-6600-4B8E-B9C3-BE84478F45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A7F6-5198-4084-91C5-C49FC13E91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04F8-C4AD-44F9-BAE7-E5524615405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61D1-A59B-447F-938B-0AC73E32E9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B637-580A-4A10-B327-67357E0A62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81E1-D9AC-4213-8884-13D35F0FCD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C2E4-4018-4CA5-8727-25FBAEC02EC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59A-42C4-454A-AAA9-F1A4F23F57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92DF-0CC7-4555-BDDA-9768A00165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E55F-495C-47C5-9195-E961B17E36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3541-3FCD-4F79-84B2-221333E541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CCE4-0FD0-41B2-A5AB-242A3F0CC0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apps/oaserver60/ip/bin/sqsrv.dyalog" TargetMode="External"/><Relationship Id="rId2" Type="http://schemas.openxmlformats.org/officeDocument/2006/relationships/hyperlink" Target="file:///c:/apps/oaserver60/ip/bin/testdb_shares.dyalo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n ODBC* Driver</a:t>
            </a:r>
            <a:br>
              <a:rPr sz="4400"/>
            </a:b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or APL</a:t>
            </a:r>
            <a:br>
              <a:rPr sz="4400"/>
            </a:br>
            <a:br>
              <a:rPr sz="4400"/>
            </a:br>
            <a:r>
              <a:rPr b="1" lang="da-DK" sz="2000" spc="-1" strike="noStrike">
                <a:solidFill>
                  <a:srgbClr val="333333"/>
                </a:solidFill>
                <a:latin typeface="Geneva"/>
              </a:rPr>
              <a:t>* also ADO, ADO.NET and JDBC</a:t>
            </a:r>
            <a:endParaRPr b="1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785600" y="4143240"/>
            <a:ext cx="525780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Dyalog Lt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429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en? How Much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At ”Proof of Concept” Stag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Significant OEM Costs if we proce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Need one or two launch custom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9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333333"/>
                </a:solidFill>
                <a:latin typeface="Geneva"/>
              </a:rPr>
              <a:t>Could be available in 2010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et’s Look at The 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0748-F344-4386-8B61-3BFFC8D641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SQSRV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workspace contains the code for a server which listens on port 5000 and handles calls from the OA ”IP Server”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number of namespace and class scripts are loade by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⎕LX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, including 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RPCServer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namespa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RPCServer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is a standard Conga sample, in this case it serves up instances of the </a:t>
            </a:r>
            <a:r>
              <a:rPr b="0" lang="da-DK" sz="2000" spc="-1" strike="noStrike">
                <a:solidFill>
                  <a:srgbClr val="333333"/>
                </a:solidFill>
                <a:latin typeface="APL385 Unicode"/>
              </a:rPr>
              <a:t>SQSRV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 clas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An instance of the </a:t>
            </a:r>
            <a:r>
              <a:rPr b="0" lang="da-DK" sz="1800" spc="-1" strike="noStrike">
                <a:solidFill>
                  <a:srgbClr val="333333"/>
                </a:solidFill>
                <a:latin typeface="APL385 Unicode"/>
              </a:rPr>
              <a:t>SQSRV</a:t>
            </a: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 class is created for each connection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5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Calls from OA are passed to the corresponding SQSRV fns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33333"/>
                </a:solidFill>
                <a:latin typeface="Geneva"/>
              </a:rPr>
              <a:t>Each instance maintains state for a connection (like the user ID, once a user logs in)</a:t>
            </a:r>
            <a:r>
              <a:rPr b="0" lang="da-DK" sz="16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cripts Loaded by SQSRV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248E-37FB-440A-91DB-A1C9B7F277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685800" y="1981080"/>
          <a:ext cx="7772400" cy="3337200"/>
        </p:xfrm>
        <a:graphic>
          <a:graphicData uri="http://schemas.openxmlformats.org/drawingml/2006/table">
            <a:tbl>
              <a:tblPr/>
              <a:tblGrid>
                <a:gridCol w="2457360"/>
                <a:gridCol w="5315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Class or Name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ffff"/>
                          </a:solidFill>
                          <a:latin typeface="Genev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 u="sng">
                          <a:solidFill>
                            <a:srgbClr val="009999"/>
                          </a:solidFill>
                          <a:uFillTx/>
                          <a:latin typeface="Geneva"/>
                          <a:hlinkClick r:id="rId1"/>
                        </a:rPr>
                        <a:t>SQSRV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(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”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ample” containg 22 main interface 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ParseTree (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Maps OA data to APL Class repres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PassThrough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ools for handling ”PassThrough” se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 u="sng">
                          <a:solidFill>
                            <a:srgbClr val="009999"/>
                          </a:solidFill>
                          <a:uFillTx/>
                          <a:latin typeface="Geneva"/>
                          <a:hlinkClick r:id="rId2"/>
                        </a:rPr>
                        <a:t>DataBase</a:t>
                      </a: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The Active 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RPCServer (Cla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Conga Remote Procedure Call 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DBC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ODBC-related 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Utils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General 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ALT (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800" spc="-1" strike="noStrike">
                          <a:solidFill>
                            <a:srgbClr val="000000"/>
                          </a:solidFill>
                          <a:latin typeface="Geneva"/>
                        </a:rPr>
                        <a:t>SALT Configuration Name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22 SQSRV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158C-4ECE-439E-B62E-F355953D7C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Content Placeholder 2"/>
          <p:cNvSpPr/>
          <p:nvPr/>
        </p:nvSpPr>
        <p:spPr>
          <a:xfrm>
            <a:off x="635796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ssion &amp; Schema F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FBE0-A276-4748-8C51-B602B24A88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Content Placeholder 2"/>
          <p:cNvSpPr/>
          <p:nvPr/>
        </p:nvSpPr>
        <p:spPr>
          <a:xfrm>
            <a:off x="6286680" y="1928880"/>
            <a:ext cx="242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Logi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C061-C016-49D8-AD2B-DCACD93C9F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7"/>
          <p:cNvSpPr/>
          <p:nvPr/>
        </p:nvSpPr>
        <p:spPr>
          <a:xfrm>
            <a:off x="785880" y="1643040"/>
            <a:ext cx="7500960" cy="33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Validates logins to a connection – can also receive a database catalog nam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Initialize session based on properties specified for the Data Sour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LOGIN(DSN User Pwd Catalog IPProps IPCustProp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If User≡Pwd ⍝ // Might want a better check than this :-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0 'ok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UserID←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Log'Login accepted for user ',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1 'Invalid user/password combinatio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Log'Login failed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ransa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2A1B-6E01-4F2D-A228-68B54850B5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7"/>
          <p:cNvSpPr/>
          <p:nvPr/>
        </p:nvSpPr>
        <p:spPr>
          <a:xfrm>
            <a:off x="785880" y="1643040"/>
            <a:ext cx="75009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Starts, Commits or Rolls back a Transa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TRANSACT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action: 0=Start, 1=Commit, 2=Rollback, 3=Prepare to Com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Log'Transaction: ',(1+1⊃action)⊃'Start' 'Commit' 'Rollback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'Prepare to Commit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0   ⍝ No problemo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Geneva"/>
              </a:rPr>
              <a:t>(The rest is left as an exercise for the read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chemas and Catalog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66FF-3ED7-4EC0-8531-7E0F698575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Content Placeholder 8"/>
          <p:cNvSpPr/>
          <p:nvPr/>
        </p:nvSpPr>
        <p:spPr>
          <a:xfrm>
            <a:off x="3571920" y="1928880"/>
            <a:ext cx="49291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(return vars defined in DataBase script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  </a:t>
            </a: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catalogs←1 1⍴⊂'SCHEMA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  </a:t>
            </a: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schemas←2 1⍴'System' 'DYALOG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  </a:t>
            </a:r>
            <a:r>
              <a:rPr b="1" lang="da-DK" sz="1200" spc="-1" strike="noStrike">
                <a:solidFill>
                  <a:srgbClr val="333333"/>
                </a:solidFill>
                <a:latin typeface="APL385 Unicode"/>
              </a:rPr>
              <a:t>tabletypes←3 1⍴'SYSTEM TABLE' 'TABLE' 'VIEW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Content Placeholder 8"/>
          <p:cNvSpPr/>
          <p:nvPr/>
        </p:nvSpPr>
        <p:spPr>
          <a:xfrm>
            <a:off x="2857680" y="2000160"/>
            <a:ext cx="39574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9"/>
          <p:cNvSpPr/>
          <p:nvPr/>
        </p:nvSpPr>
        <p:spPr>
          <a:xfrm>
            <a:off x="857160" y="2071800"/>
            <a:ext cx="357192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List Catalogs, Schem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and Table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CATALOGS dum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DB.catalo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SCHEMAS dum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DB.sche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TABLETYPES dum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r←DB.table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ab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4BA9-D456-420C-85E1-BD6A1156F2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Box 7"/>
          <p:cNvSpPr/>
          <p:nvPr/>
        </p:nvSpPr>
        <p:spPr>
          <a:xfrm>
            <a:off x="428760" y="1643040"/>
            <a:ext cx="800100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List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TABLES 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g: Qualifier Owner Nam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0 (arg filter DB.tab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mat←arg filter mat;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Used by TABLES and COLUMNS to filter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If 0≠⍴i←(0≠⊃∘⍴¨arg)/⍳⍴arg←4↑arg,4⍴⊂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mat←(mat[;i]∧.≡arg[i])⌿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←0 8⍴⍬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atalog schema   name         type    path user fnsupport rema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⍪←'SCHEMA' 'DYALOG' 'CUSTOMERS'  'TABLE' ''   ''   '0X0E'    'Customers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⍪←'SCHEMA' 'DYALOG' 'SHARES'     'TABLE' ''   ''   '0X0E'    'Shares Traded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tables⍪←'SCHEMA' 'DYALOG' 'PRICES'     'TABLE' ''   ''   '0X0E'    'Annual Share Prices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nsupport: 2=INSERT, 4=UPDATE, 8=DELETE, 0x0E=2+4+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lum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E338-44E1-49D9-A572-2D9DD1C703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Box 6"/>
          <p:cNvSpPr/>
          <p:nvPr/>
        </p:nvSpPr>
        <p:spPr>
          <a:xfrm>
            <a:off x="285840" y="1714680"/>
            <a:ext cx="86439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List Colum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COLUMNS 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g: Qualifier Owner Nam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0 (arg filter DB.colum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 (&amp; see Engine Programmers’ Guide page 2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umns←0 17⍴⍬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atalog  Owner   TableName   ColumnName DataType TypeName  Length Prec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umns⍪←'SCHEMA' 'DYALOG' 'CUSTOMERS' 'CUSTID’   4        'INTEGER'   4 10 '' 0 0 ... 1 '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umns⍪←'SCHEMA' 'DYALOG' 'CUSTOMERS' 'CUSTNAME' 12       'VARCHAR'  32 32 '' 0 1 ... 0 '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USTOMERS←↑(1 'Jack')(2 'Jill'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... Radix Scale (Nullable Scope UserData Support) PseudoCol ColType Remark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Nullable: 0 = No nulls allowed, 1 = nulls allowed, 2 = unknow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ColType:  1 = RowID, 2 = Row Version, Null=Normal Colum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Agend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42960" y="185724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y Would You Want One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verview of SQAPL Server Architectur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 of the APL Server Samp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tailed Discussion of 22 Server Funct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Logi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ata Dictionary Call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ELECT statement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UPDATE, INSERT, DELE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ransa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3A56-34DE-4961-BA1E-B81553E702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atistics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2EE-2DC7-4CDA-B27C-93D33D2657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6"/>
          <p:cNvSpPr/>
          <p:nvPr/>
        </p:nvSpPr>
        <p:spPr>
          <a:xfrm>
            <a:off x="142920" y="1714680"/>
            <a:ext cx="900108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Return Database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STAT a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rg: Qualifier Owner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0 (arg filter DB.sta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 (&amp; see Engine Programmers’ Guide page 2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ats←0 13⍴⍬ ⍝ Stat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 Catalog  Owner   Name        NonUnique CatIx Name    Type Seq Colname 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ats⍪←'SCHEMA' 'DYALOG' 'SHARES'    0         ''    'CODE'     2 1   'CODE'   'A' 3 '' '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ats⍪←'SCHEMA' 'DYALOG' 'CUSTOMERS' 0         ''    'CUSTID'   2 1   'CUSTID' 'A' 2 '' '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               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... Cardinality Pages Filter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ype: 0="Table Statistic", 1=Cluster, 2=Hashed, 3=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ollation: A for Ascending, D for Descending, or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ardinality: For Stat # of rows else # of unique values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trictly, Cardinality SHOULD be updated to reflect number of rows in the 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Geneva"/>
              </a:rPr>
              <a:t>NB: Filters on keys defined in stats are used as ”Optimal Filters’, see SELECT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oreign Keys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688A-B254-40FC-90EF-CB95589E31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6"/>
          <p:cNvSpPr/>
          <p:nvPr/>
        </p:nvSpPr>
        <p:spPr>
          <a:xfrm>
            <a:off x="285840" y="1714680"/>
            <a:ext cx="885816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Return Foreig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r←FKEY a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arg: Primary Qualifier Owner Name, Foreign Qualifier Owner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:If 0∨.≠⊃∘⍴¨arg ⋄ ∘ ⋄ :EndIf ⍝ /// Stop on fil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r←0 DB.fke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n Database Script (&amp; see Engine Programmers’ Guide page 2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←0 13⍴⍬ ⍝ Foreign and Private Ke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PK Cat  Schema   TblName     ColName  FK Cat   Schema   TblName     Col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⍪←'SCHEMA' 'DYALOG' 'SHARES'    'CODE'   ''       ''       ''          ''       1 '' '' '' ''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⍪←'SCHEMA' 'DYALOG' 'CUSTOMERS' 'CUSTID' ''       ''       ''          '’       1 '' '' '' ''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fkeys⍪←'SCHEMA' 'DYALOG' 'TRADES'    'CUSTID' 'SCHEMA' 'DYALOG' 'CUSTOMERS' 'CUSTID' 1 '' '' '' '’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    ⍝                                                </a:t>
            </a:r>
            <a:r>
              <a:rPr b="0" lang="da-DK" sz="1100" spc="-1" strike="noStrike">
                <a:solidFill>
                  <a:srgbClr val="000000"/>
                </a:solidFill>
                <a:latin typeface="APL385 Unicode"/>
              </a:rPr>
              <a:t>... Sequence UpdateRule DeleteRule FK Name PK Na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Geneva"/>
              </a:rPr>
              <a:t>First two rows above duplicate primary key information in Statistics 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Geneva"/>
              </a:rPr>
              <a:t>Last row defines a foreign key relationship between TRADES and CUSTOMER on CUST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Geneva"/>
              </a:rPr>
              <a:t>When joining tables without PASSTHROUGH, one query is made per unique foreign key value (else one per row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ion Fun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3CC3-EFB9-47F3-A435-43FDD6EFEE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Content Placeholder 2"/>
          <p:cNvSpPr/>
          <p:nvPr/>
        </p:nvSpPr>
        <p:spPr>
          <a:xfrm>
            <a:off x="6286680" y="1928880"/>
            <a:ext cx="242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ree Selection Mod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551C-0AA1-4AB4-A84C-55815473E2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call is made for each table in the expression with simple filter express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ARTIAL PASSTHROUG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return all the joined columns required to produce the result, but not necessarily completely filtered, grouped or order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MPLETE PASSTHROUG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e return the EXACT record set to be returned to the clien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ASSTHROUGH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65EE-89DC-411A-A045-CF5CEE42C1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SQAPL Server allows ”Selective Passthrough”, which means that the function PASSTHROUGH is always call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is given a ”ParseTree” which describes the statement being execut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fter examining the tree, it can declare whether it wants to fall back to SELECT mo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LECT is very easy; PASSTHROUGH allows optimization, especially for JOI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QUERY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40AF-A535-4327-A5D5-9245A86919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Box 6"/>
          <p:cNvSpPr/>
          <p:nvPr/>
        </p:nvSpPr>
        <p:spPr>
          <a:xfrm>
            <a:off x="0" y="2000160"/>
            <a:ext cx="8858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</a:rPr>
              <a:t>SQL: select * from customers where custid &gt; 0 and custname like 'J%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[SelectQuery]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HighestRows: ¯1  HighestPctRows:   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s:  customers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ValueExpr   [ValExpList]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[ValExp]    [Value]  [Column] CUSTID (# 0 in Table# 0)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[ValExp]    [Value]  [Column] CUSTNAME (# 1 in Table# 0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SearchExpr     [LogExp]     [LogExp]     [Cond]      [ValExp]    [Value]  [Column] cust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(# 0 in Table# 0)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&gt;            [ValExp]    [Value]   LIT  4 0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And    [LogExp]     [Cond]             [ValExp]    [Value]  [Column] cust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(# 1 in Table# 0)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       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#.ParseTree.Like    [ValExp]    [Value]   LIT  12  J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Query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A3E7-2703-4333-BBDF-12D8BCF833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Box 6"/>
          <p:cNvSpPr/>
          <p:nvPr/>
        </p:nvSpPr>
        <p:spPr>
          <a:xfrm>
            <a:off x="214200" y="1785960"/>
            <a:ext cx="871560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Parse Trees arrive from the IP in the form of a deeply nested array. This array is converted i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an instance of the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Query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class by the function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ParseTree.New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Properties of a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Query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etQuantifie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Whether to remove duplicate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HighestRows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Number of rows in TOP cla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HighestPctRows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If TRUE, number in HighestRows was specified as (TOP n PERC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Value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n object describing the values extracted by the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Tables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TableList – tables involved in the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Search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LogExp object describing the filter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GroupVal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ValueExpList - Group By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Having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 LogExp – the “Having”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UnionType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If “true”, do not check for duplicate records in 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UnionQuery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nother SelectQuery object if there is a UNION exp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OrderExpr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PL385 Unicode"/>
              </a:rPr>
              <a:t>An OrderL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See the </a:t>
            </a:r>
            <a:r>
              <a:rPr b="0" lang="da-DK" sz="1800" spc="-1" strike="noStrike">
                <a:solidFill>
                  <a:srgbClr val="000000"/>
                </a:solidFill>
                <a:latin typeface="APL385 Unicode"/>
              </a:rPr>
              <a:t>ParseTree</a:t>
            </a: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 class for more information about other object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assThrough Deci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9B2E-5DC5-46EB-BC39-CF93B0CB55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6"/>
          <p:cNvSpPr/>
          <p:nvPr/>
        </p:nvSpPr>
        <p:spPr>
          <a:xfrm>
            <a:off x="142920" y="1643040"/>
            <a:ext cx="8858160" cy="44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PassThrough support is implemented in th PassThrough namesp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The function </a:t>
            </a:r>
            <a:r>
              <a:rPr b="0" lang="da-DK" sz="1800" spc="-1" strike="noStrike">
                <a:solidFill>
                  <a:srgbClr val="000000"/>
                </a:solidFill>
                <a:latin typeface="APL385 Unicode"/>
              </a:rPr>
              <a:t>PassThrough.Check</a:t>
            </a: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 contains the following log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If ok←#.ParseTree.SelectQuery=⊃⎕CLASS Query     ⍝ It’s a SELECT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1=⍴table←Query.Tables.Items.Name       ⍝ On a sing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←#.Utils.ucase⊃table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blecols←(DB.columns[;3]∊⊂table)⌿DB.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∧/(Query.ValueExpr.Items).Type∊⊂'Value'            ⍝ Only Value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∧/(cols←Query.ValueExpr.Items.Arg1).Type∊⊂'Column' ⍝ Which extract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AndIf ok←∧/(1↑⍴tablecols)≥colix←tablecols[;4]⍳#.Utils.ucase¨cols.Data.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lan←(Query.Tables.Items[1])cols.Data 0 ⍝ Tables, Columns, 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If Query.SearchExpr≢0                  ⍝ There is a Search 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ok←0≢(3⊃Plan)←JITSearch Query.SearchExpr </a:t>
            </a:r>
            <a:br>
              <a:rPr sz="1200"/>
            </a:b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    ⍝ Compile query and store in 3rd element of ”pl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In other wor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When handing SELECT statements, the sample code will execute the query in PassThrough mode if is is simply selecting columns from a single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IRSTBLOCK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(NEXTBLOCK)</a:t>
            </a:r>
            <a:endParaRPr b="1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D39B-AD4A-4FA1-8E27-1DC8265744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If PASSTHROUGH was selected, the next call from the IP will be FIRSTBLOCK.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he arguments are: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hStmt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Statement Handle (not really used in POC, possibly useful later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BlockSize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Block size (ignored in POC, ALL records are returned by FIRSTBLOCK)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ParseTree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he same type of object passed to PASSTHROUGH</a:t>
            </a:r>
            <a:br>
              <a:rPr sz="1400"/>
            </a:b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but with bind variable values inserted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wo types of result are possible: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Final</a:t>
            </a: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The result should be passed unchanged to the ODBC client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333333"/>
                </a:solidFill>
                <a:latin typeface="Geneva"/>
              </a:rPr>
              <a:t>BaseCols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All columns required to produce the result are included, containing joined data,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da-DK" sz="1400" spc="-1" strike="noStrike">
                <a:solidFill>
                  <a:srgbClr val="333333"/>
                </a:solidFill>
                <a:latin typeface="Geneva"/>
              </a:rPr>
              <a:t>but  OA framework will do final filtering, grouping and ordering if required.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E256-8EA4-4111-B540-D56E2CB30C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Box 6"/>
          <p:cNvSpPr/>
          <p:nvPr/>
        </p:nvSpPr>
        <p:spPr>
          <a:xfrm>
            <a:off x="357120" y="1785960"/>
            <a:ext cx="84297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FIRSTBLOCK(hStmt BlockSize ParseTree);ExecPlan;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alled following a PASSTHROUGH result of 1 (else call SEL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eturns (Mode Cols Data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ode=1: Final result, ready to 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ode=2: Base cols only, OA Server will filter, order,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Requires 2 extra output cols: FullColName, Table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s  : [;1] ColName, [;2] ColNum, [;3] XOType [;4] Col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and in mode 2 also [;5] FullColName, [;6] Table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  : One vector for each column of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at is i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42960" y="185724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QAPL Server allows an APL Application to appear to be a Relational Databas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0720" indent="-27720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clients supporting ODBC, JDBC, ADO[.NET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ilt on the OpenAccess Server from DataDir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raps the OA API in a form which is easy to use for APL Develop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minimal implementation only requires modifying a handful of simple APL sample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795B-9ABE-44C4-B030-1F09482A03B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FIRSTBLOCK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1CAE-9772-4240-A460-5899FC9D54D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Box 8"/>
          <p:cNvSpPr/>
          <p:nvPr/>
        </p:nvSpPr>
        <p:spPr>
          <a:xfrm>
            <a:off x="428760" y="2000160"/>
            <a:ext cx="83581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FIRSTBLOCK(hStmt BlockSize ParseTree);ExecPlan;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[continued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Query←#.ParseTree.New ParseT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 ExecPlan←#.PassThrough.Check DB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If r=0 ⋄ ∘ ⋄ :EndIf  ⍝ Parano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Hold 'DataBas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B.Prepare 1 Query.Tables.Items.Name Query.SearchExpr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⍝ Give DB a chance to prepa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#.PassThrough.Execute DB ExecPlan                  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⍝ Execute the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4D42-2D7D-483A-946A-6FB2904643D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Box 6"/>
          <p:cNvSpPr/>
          <p:nvPr/>
        </p:nvSpPr>
        <p:spPr>
          <a:xfrm>
            <a:off x="642960" y="1714680"/>
            <a:ext cx="8358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f PASSTHROUGH was REJECTED, the IP will call SELECT one or more tim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;tab;data;m;i;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alled if PASSTHROUGH is 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ar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umns - 5 column matri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lum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Colum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Column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Column Type (select w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5: Restriction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Optimal Index (Vector of Restriction L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Restrict List is a Vector of Restrictions to be 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    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Column Name, LeftFn, LeftVal, RightFn, Right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A4AA-D9ED-4384-A592-CCF422440B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Box 6"/>
          <p:cNvSpPr/>
          <p:nvPr/>
        </p:nvSpPr>
        <p:spPr>
          <a:xfrm>
            <a:off x="642960" y="1714680"/>
            <a:ext cx="8358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If PASSTHROUGH was REJECTED, the IP will call SELECT one or more tim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;tab;data;m;i;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alled if PASSTHROUGH is REJ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ar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umns - 5 column matri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lum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Colum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Column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Column Type (select w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5: Restriction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Optimal Index (Vector of Restriction Li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Restrict List is a Vector of Restrictions to be 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⍝      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Column Name, LeftFn, LeftVal, RightFn, Right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A71E-90F3-4A97-BB56-BD5D7638CFD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Box 6"/>
          <p:cNvSpPr/>
          <p:nvPr/>
        </p:nvSpPr>
        <p:spPr>
          <a:xfrm>
            <a:off x="642960" y="1714680"/>
            <a:ext cx="8358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 [continued...]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Retu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ndition Code   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nx4 Column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1: Column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2: Column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Column data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Column Type (select wh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3: Vector of column data (length=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Numbers as simple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hars as nested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ime, Date, DateTime as numeric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4: Vector of row indices for use by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            SELECTUPDATE &amp; SELECTDE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In POC, returns all rows at once. 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Later, "Fetch" will collect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return "success with pending result")  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[mor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 Example: Inp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C3AD-BC53-4AA0-94E1-B7BF490BA1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Box 6"/>
          <p:cNvSpPr/>
          <p:nvPr/>
        </p:nvSpPr>
        <p:spPr>
          <a:xfrm>
            <a:off x="642960" y="1714680"/>
            <a:ext cx="835812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</a:rPr>
              <a:t>select * from customers where custid &gt; 0 and custname like 'J%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OptIndex: ┌→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┌→─────────────────────┐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┌→─────────────────┐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│ ┌→─────┐    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id│ 4 0 0 0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│ └──────┘    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 └∊─────────────────┘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└∊─────────────────────┘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└∊─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olumns:  ┌→────────────────────────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↓ ┌→─────┐          ┌⊖┐                          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ID│   0 4  3 │0│                          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└──────┘          └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~┘                          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┌→───────┐        ┌→──────────────────────────┐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NAME│ 1 12 3 │ ┌→──────────────────────┐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└────────┘        │ │ ┌→───────┐   ┌→─┐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│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custname│ 8 │J%│ 0 0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│ │ └────────┘   └──┘     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│ └∊──────────────────────┘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│                   └∊──────────────────────────┘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   └∊────────────────────────────────────────────────┘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H="1">
            <a:off x="2642760" y="1927800"/>
            <a:ext cx="929520" cy="78660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2" name="Straight Arrow Connector 12"/>
          <p:cNvCxnSpPr/>
          <p:nvPr/>
        </p:nvCxnSpPr>
        <p:spPr>
          <a:xfrm flipH="1">
            <a:off x="3142800" y="1928880"/>
            <a:ext cx="1000800" cy="929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3" name="Straight Arrow Connector 16"/>
          <p:cNvCxnSpPr/>
          <p:nvPr/>
        </p:nvCxnSpPr>
        <p:spPr>
          <a:xfrm flipH="1">
            <a:off x="3357360" y="1928880"/>
            <a:ext cx="1000800" cy="929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4" name="Straight Arrow Connector 19"/>
          <p:cNvCxnSpPr/>
          <p:nvPr/>
        </p:nvCxnSpPr>
        <p:spPr>
          <a:xfrm flipH="1">
            <a:off x="5428800" y="2000160"/>
            <a:ext cx="929520" cy="31442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5" name="Straight Arrow Connector 22"/>
          <p:cNvCxnSpPr/>
          <p:nvPr/>
        </p:nvCxnSpPr>
        <p:spPr>
          <a:xfrm flipH="1">
            <a:off x="4928760" y="2000160"/>
            <a:ext cx="929520" cy="32155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6" name="Straight Arrow Connector 25"/>
          <p:cNvCxnSpPr/>
          <p:nvPr/>
        </p:nvCxnSpPr>
        <p:spPr>
          <a:xfrm flipH="1">
            <a:off x="4357080" y="2000160"/>
            <a:ext cx="857880" cy="31442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 Example: Outp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FAC5-B0F1-4212-8457-F8769246C2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Box 6"/>
          <p:cNvSpPr/>
          <p:nvPr/>
        </p:nvSpPr>
        <p:spPr>
          <a:xfrm>
            <a:off x="642960" y="1714680"/>
            <a:ext cx="8358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PL385 Unicode"/>
              </a:rPr>
              <a:t>select * from customers where custid&gt;0 and custname like ''J%'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Data:  ┌→──────────────────────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┌→──┐ ┌→──────────────┐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1 2│ │ ┌→───┐ ┌→───┐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└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~──┘ │ │Jack│ │Jill│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      │ └────┘ └────┘ │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       └∊──────────────┘ 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└∊────────────────────────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owIx: ┌→──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│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1 2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 └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~──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owIx</a:t>
            </a:r>
            <a:r>
              <a:rPr b="0" lang="da-DK" sz="1200" spc="-1" strike="noStrike">
                <a:solidFill>
                  <a:srgbClr val="000000"/>
                </a:solidFill>
                <a:latin typeface="Geneva"/>
              </a:rPr>
              <a:t> is used by UPDATE and DE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ELECT - Continue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0390-C370-420D-AC3E-D696F596AF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642960" y="1714680"/>
            <a:ext cx="8358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UBSELECT(hStmt Table Columns OptInde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[continued...]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←DB⍎ucas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tab[;1+Columns[;2]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(m←data ExecRestrictions OptIndex)⌿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m/m)←m2←data ExecRestrictions (0≠⊃∘⍴¨Columns[;5])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 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umns[;5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m2⌿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ix←m/⍳⍴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↓[1]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Columns[;3]∊9 10 11 ⍝ Time, Date, Dat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m/data)←↑¨m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4↑[2]Columns)data row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Executing Restri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4F8C-2058-48E8-8B0E-10FB3E7727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Box 6"/>
          <p:cNvSpPr/>
          <p:nvPr/>
        </p:nvSpPr>
        <p:spPr>
          <a:xfrm>
            <a:off x="642960" y="1714680"/>
            <a:ext cx="8358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ExecRestriction(Cols Data Restrictions)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cols lfns lvals rfns rvals)←↓[1]↑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i←Cols[;1]⍳⊂ucase⊃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For j :In ⍳⍴lf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fn←⍎#.ParseTree.CondFn j⊃lf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sk←Data[;i] fn lvals[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If 0≠j⊃rfns ⍝ If there is a ”right fn” (eg Betwe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fn←⍎#.ParseTree.CondFn j⊃rf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sk←Data[;i] fn rvals[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∨←m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#.ParseTree.CondFn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converts fn numbers into APL code fragments (eg 8 = Li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3F8D-1C53-4B30-80A0-756F7357C9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Box 6"/>
          <p:cNvSpPr/>
          <p:nvPr/>
        </p:nvSpPr>
        <p:spPr>
          <a:xfrm>
            <a:off x="642960" y="1714680"/>
            <a:ext cx="83581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ELECTUPDATE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edRows←4⊃r←SUBSELECT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3↑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UPDATEROWS(hStmt tablename cols rowix data nul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name←ucase tab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data←cols[;3]Cast¨data ⍝ Ensure correct APL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⍎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DB.',tablename,'[',(⍕SelectedRows[1+rowix]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           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;',(⍕1+cols[;2]),']←dat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⍴rowix) ⍝ Return number of rows aff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APL385 Unicode"/>
              </a:rPr>
              <a:t>ToDo: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SelectedRows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needs to be stored ”per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hStmt</a:t>
            </a:r>
            <a:r>
              <a:rPr b="0" lang="da-DK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Ix</a:t>
            </a: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 is also not thread safe: Need unique row ident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11D8-A8B9-4221-8560-1ACA5F699F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Box 6"/>
          <p:cNvSpPr/>
          <p:nvPr/>
        </p:nvSpPr>
        <p:spPr>
          <a:xfrm>
            <a:off x="642960" y="1714680"/>
            <a:ext cx="8358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SELECTDELETE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SelectedRows←4⊃r←SUBSELECT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3↑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DELETEROWS(hStmt tablename rowix);data;m;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name←ucase tab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~(⍳1↑⍴data←⍎t←'DB.',tablename)∊SelectedRows[1+rowix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⍎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DB.',tablename,'←m⌿data' ⍝ Compress rows out of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⍴rowi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APL385 Unicode"/>
              </a:rPr>
              <a:t>ToDo: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S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at Does it Do?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lows an APL application to appear to be an RDBMS, with a minimum of effor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vides 100% complete and standard SQL language support without re-implementing SQL in the applic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upports SELECT, INSERT, UPDATE, DELETE, DDL, Stored Procedures and Bulk Insert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erver-side comms uses TCP/IP sockets (Conga) for easy scalability and a robust architectur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INSER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E7F-27D1-4237-A383-E0786C9472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Box 6"/>
          <p:cNvSpPr/>
          <p:nvPr/>
        </p:nvSpPr>
        <p:spPr>
          <a:xfrm>
            <a:off x="642960" y="1714680"/>
            <a:ext cx="8358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INSERT(hStmt tablename cols data nulls);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tablename←ucase tab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Create Empty rows with right types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←((1↑⍴data),⍴row)⍴row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((DB.columns[;3]∊⊂tablename)⌿DB.columns[;5])Cast¨⊂'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      ⍝ </a:t>
            </a:r>
            <a:r>
              <a:rPr b="0" lang="en-US" sz="1600" spc="-1" strike="noStrike">
                <a:solidFill>
                  <a:srgbClr val="000000"/>
                </a:solidFill>
                <a:latin typeface="APL385 Unicode"/>
              </a:rPr>
              <a:t>Fill with data actually provi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ow[;1+cols[;2]]←((⍴data)⍴cols[;3])Cast¨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⍎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'DB.',tablename,'⍪←row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0(1↑⍴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APL385 Unicode"/>
              </a:rPr>
              <a:t>ToDo: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Nothing </a:t>
            </a:r>
            <a:r>
              <a:rPr b="0" lang="da-DK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ored Proced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FDB1-DF45-4BE0-AD30-65AC137A3D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Content Placeholder 2"/>
          <p:cNvSpPr/>
          <p:nvPr/>
        </p:nvSpPr>
        <p:spPr>
          <a:xfrm>
            <a:off x="6286680" y="1928880"/>
            <a:ext cx="242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ROC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f0"/>
                </a:solidFill>
                <a:latin typeface="Geneva"/>
              </a:rPr>
              <a:t>NEXT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Content Placeholder 2"/>
          <p:cNvSpPr/>
          <p:nvPr/>
        </p:nvSpPr>
        <p:spPr>
          <a:xfrm>
            <a:off x="342900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PASS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IRS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NEXT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INSE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SELECT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33"/>
                </a:solidFill>
                <a:latin typeface="Genev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Content Placeholder 2"/>
          <p:cNvSpPr/>
          <p:nvPr/>
        </p:nvSpPr>
        <p:spPr>
          <a:xfrm>
            <a:off x="714240" y="1928880"/>
            <a:ext cx="242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RANS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COLUM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Geneva"/>
              </a:rPr>
              <a:t>F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ored Procedure Setup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6762-92E9-4ECC-A1A5-E73A49F8D5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Box 6"/>
          <p:cNvSpPr/>
          <p:nvPr/>
        </p:nvSpPr>
        <p:spPr>
          <a:xfrm>
            <a:off x="642960" y="1714680"/>
            <a:ext cx="83581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PROC and PROCCOLS return schema inform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←0 9⍴⍬ ⍝ Store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⍪←'SCHEMA' 'DYALOG' 'SetTaxRate'        1 0 0 'Set Global Interest Rate' '1' 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←0 14⍴⍬ ⍝ Stored Procedure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Rate'    1  4 'INTEGER'  10   4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Message' 3 12 'VARCHAR' 255 255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SetTaxRate(Data Nu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,⊂,⊂'Tax Rate set to ',(⍕⊃Data),' - was ',⍕Tax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⊃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ocedure Execu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5A2A-D1B9-42DF-96D4-605A0FFB27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Box 6"/>
          <p:cNvSpPr/>
          <p:nvPr/>
        </p:nvSpPr>
        <p:spPr>
          <a:xfrm>
            <a:off x="642960" y="1714680"/>
            <a:ext cx="8358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PROCEDURE(hStmt Name Cols Data Nulls);i;fn;m;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Access 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⍝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ake a Stored Procedure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i←(ucase¨DB.procs[;3])⍳⊂ucase lastproc←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If (1↑⍴DB.procs)&lt;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OrIf 3≠DB.⎕NC fn←⊃DB.procs[i;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6 'Unknown stored procedure: ',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m←DB.proccols[;3]∊⊂f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s←m⌿DB.proc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cols←(cols[;5]=3)⌿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r←3 cols ((DB⍎fn) Data Nul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: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Geneva"/>
              </a:rPr>
              <a:t>Result Type 3 means a stored procedure result (vector or vec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tored Procedure Setup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9AEF-4B4B-4753-BE43-A31B836492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6"/>
          <p:cNvSpPr/>
          <p:nvPr/>
        </p:nvSpPr>
        <p:spPr>
          <a:xfrm>
            <a:off x="642960" y="1714680"/>
            <a:ext cx="83581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PROC and PROCCOLS return schema inform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000000"/>
                </a:solidFill>
                <a:latin typeface="APL385 Unico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←0 9⍴⍬ ⍝ Stored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s⍪←'SCHEMA' 'DYALOG' 'SetTaxRate'        1 0 0 'Set Global Interest Rate' '1' '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←0 14⍴⍬ ⍝ Stored Procedure 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Rate'    1  4 'INTEGER'  10   4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proccols⍪←'SCHEMA' 'DYALOG' 'SetTaxRate' 'Message' 3 12 'VARCHAR' 255 255 ¯1 ¯1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SetTaxRate(Data Nu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r←,⊂,⊂'Tax Rate set to ',(⍕⊃Data),' - was ',⍕Tax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TaxRate←⊃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hy Would You Want One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y APL application data which can be described as a table can quickly be exposed to almost any client application with minimal effort, enabling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porting Applications using e.g. Crystal Reports, Exc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Writing Custom Front-Ends easily in any Languag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You can serve up Live Data, an do not depend on exports having been (planned and) successfully ru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ata can be exposed to external applications while maintaining application integrity checks, locks et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ime for a Demo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emo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MS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MS Exc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un the Simple QA Suit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QAPL Server Archite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4" name="TextBox 8"/>
          <p:cNvSpPr/>
          <p:nvPr/>
        </p:nvSpPr>
        <p:spPr>
          <a:xfrm>
            <a:off x="1357200" y="4572000"/>
            <a:ext cx="192888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ODBC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Box 9"/>
          <p:cNvSpPr/>
          <p:nvPr/>
        </p:nvSpPr>
        <p:spPr>
          <a:xfrm>
            <a:off x="3500280" y="3571920"/>
            <a:ext cx="1928880" cy="398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Geneva"/>
              </a:rPr>
              <a:t>OA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3500280" y="3000240"/>
            <a:ext cx="1928880" cy="642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SQAPL SRV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”IP Provider”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11"/>
          <p:cNvSpPr/>
          <p:nvPr/>
        </p:nvSpPr>
        <p:spPr>
          <a:xfrm>
            <a:off x="428760" y="5214960"/>
            <a:ext cx="192852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MS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12"/>
          <p:cNvSpPr/>
          <p:nvPr/>
        </p:nvSpPr>
        <p:spPr>
          <a:xfrm>
            <a:off x="2571840" y="521496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MS Ex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214200" y="564372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Crystal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4"/>
          <p:cNvSpPr/>
          <p:nvPr/>
        </p:nvSpPr>
        <p:spPr>
          <a:xfrm>
            <a:off x="4714920" y="5214960"/>
            <a:ext cx="1928880" cy="45972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VB/C++/C#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6"/>
          <p:cNvSpPr/>
          <p:nvPr/>
        </p:nvSpPr>
        <p:spPr>
          <a:xfrm>
            <a:off x="5072040" y="5643720"/>
            <a:ext cx="1928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Dy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17"/>
          <p:cNvSpPr/>
          <p:nvPr/>
        </p:nvSpPr>
        <p:spPr>
          <a:xfrm>
            <a:off x="3500280" y="4572000"/>
            <a:ext cx="192888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ADO / ADO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18"/>
          <p:cNvSpPr/>
          <p:nvPr/>
        </p:nvSpPr>
        <p:spPr>
          <a:xfrm>
            <a:off x="6786720" y="4572000"/>
            <a:ext cx="192852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JDBC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19"/>
          <p:cNvSpPr/>
          <p:nvPr/>
        </p:nvSpPr>
        <p:spPr>
          <a:xfrm>
            <a:off x="7072200" y="521496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Java A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Straight Arrow Connector 21"/>
          <p:cNvCxnSpPr/>
          <p:nvPr/>
        </p:nvCxnSpPr>
        <p:spPr>
          <a:xfrm flipV="1">
            <a:off x="2571840" y="3929040"/>
            <a:ext cx="1286640" cy="6433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26" name="Straight Arrow Connector 24"/>
          <p:cNvCxnSpPr/>
          <p:nvPr/>
        </p:nvCxnSpPr>
        <p:spPr>
          <a:xfrm flipV="1">
            <a:off x="4284720" y="3928680"/>
            <a:ext cx="2160" cy="6451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27" name="Straight Arrow Connector 28"/>
          <p:cNvCxnSpPr/>
          <p:nvPr/>
        </p:nvCxnSpPr>
        <p:spPr>
          <a:xfrm flipH="1" flipV="1">
            <a:off x="4928400" y="3929040"/>
            <a:ext cx="2429640" cy="64332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28" name="Straight Arrow Connector 31"/>
          <p:cNvCxnSpPr/>
          <p:nvPr/>
        </p:nvCxnSpPr>
        <p:spPr>
          <a:xfrm flipV="1">
            <a:off x="2000160" y="4928760"/>
            <a:ext cx="21528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Straight Arrow Connector 35"/>
          <p:cNvCxnSpPr/>
          <p:nvPr/>
        </p:nvCxnSpPr>
        <p:spPr>
          <a:xfrm flipH="1" flipV="1">
            <a:off x="2785320" y="4928760"/>
            <a:ext cx="14364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0" name="TextBox 38"/>
          <p:cNvSpPr/>
          <p:nvPr/>
        </p:nvSpPr>
        <p:spPr>
          <a:xfrm>
            <a:off x="2357280" y="5643720"/>
            <a:ext cx="1928880" cy="368280"/>
          </a:xfrm>
          <a:prstGeom prst="rect">
            <a:avLst/>
          </a:prstGeom>
          <a:solidFill>
            <a:srgbClr val="8ac6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Geneva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1" name="Straight Arrow Connector 39"/>
          <p:cNvCxnSpPr/>
          <p:nvPr/>
        </p:nvCxnSpPr>
        <p:spPr>
          <a:xfrm flipH="1" flipV="1">
            <a:off x="4928400" y="4928760"/>
            <a:ext cx="14364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Straight Arrow Connector 40"/>
          <p:cNvCxnSpPr/>
          <p:nvPr/>
        </p:nvCxnSpPr>
        <p:spPr>
          <a:xfrm flipH="1" flipV="1">
            <a:off x="7643160" y="4928760"/>
            <a:ext cx="143640" cy="2865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3" name="TextBox 41"/>
          <p:cNvSpPr/>
          <p:nvPr/>
        </p:nvSpPr>
        <p:spPr>
          <a:xfrm>
            <a:off x="1357200" y="2143080"/>
            <a:ext cx="192888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45"/>
          <p:cNvSpPr/>
          <p:nvPr/>
        </p:nvSpPr>
        <p:spPr>
          <a:xfrm>
            <a:off x="2928960" y="1928880"/>
            <a:ext cx="192888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46"/>
          <p:cNvSpPr/>
          <p:nvPr/>
        </p:nvSpPr>
        <p:spPr>
          <a:xfrm>
            <a:off x="4357800" y="1785960"/>
            <a:ext cx="192888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47"/>
          <p:cNvSpPr/>
          <p:nvPr/>
        </p:nvSpPr>
        <p:spPr>
          <a:xfrm>
            <a:off x="5643720" y="1643040"/>
            <a:ext cx="1928520" cy="45972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Straight Arrow Connector 48"/>
          <p:cNvCxnSpPr/>
          <p:nvPr/>
        </p:nvCxnSpPr>
        <p:spPr>
          <a:xfrm flipH="1" flipV="1">
            <a:off x="2857320" y="2499480"/>
            <a:ext cx="1000800" cy="5007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638" name="Straight Arrow Connector 50"/>
          <p:cNvCxnSpPr>
            <a:endCxn id="634" idx="2"/>
          </p:cNvCxnSpPr>
          <p:nvPr/>
        </p:nvCxnSpPr>
        <p:spPr>
          <a:xfrm flipH="1" flipV="1">
            <a:off x="3893760" y="2390040"/>
            <a:ext cx="249840" cy="6102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639" name="Straight Arrow Connector 53"/>
          <p:cNvCxnSpPr>
            <a:stCxn id="616" idx="0"/>
          </p:cNvCxnSpPr>
          <p:nvPr/>
        </p:nvCxnSpPr>
        <p:spPr>
          <a:xfrm flipV="1">
            <a:off x="4464720" y="2071080"/>
            <a:ext cx="678600" cy="92916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640" name="Straight Arrow Connector 55"/>
          <p:cNvCxnSpPr/>
          <p:nvPr/>
        </p:nvCxnSpPr>
        <p:spPr>
          <a:xfrm flipV="1">
            <a:off x="5000760" y="1999800"/>
            <a:ext cx="1823040" cy="1000800"/>
          </a:xfrm>
          <a:prstGeom prst="straightConnector1">
            <a:avLst/>
          </a:prstGeom>
          <a:ln w="2844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641" name="TextBox 60"/>
          <p:cNvSpPr/>
          <p:nvPr/>
        </p:nvSpPr>
        <p:spPr>
          <a:xfrm>
            <a:off x="6143760" y="39290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b050"/>
                </a:solidFill>
                <a:latin typeface="Geneva"/>
              </a:rPr>
              <a:t>DataDirect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61"/>
          <p:cNvSpPr/>
          <p:nvPr/>
        </p:nvSpPr>
        <p:spPr>
          <a:xfrm>
            <a:off x="6215040" y="2357280"/>
            <a:ext cx="235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c000"/>
                </a:solidFill>
                <a:latin typeface="Geneva"/>
              </a:rPr>
              <a:t>Dyalog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2"/>
          <p:cNvSpPr/>
          <p:nvPr/>
        </p:nvSpPr>
        <p:spPr>
          <a:xfrm>
            <a:off x="1597680" y="271476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7030a0"/>
                </a:solidFill>
                <a:latin typeface="Geneva"/>
              </a:rPr>
              <a:t>TCP So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Compon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13880" y="1857240"/>
            <a:ext cx="821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lient Application (Crystal, Access, VBA...) makes ODBC cal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DBC(ADO/JDBC) driver transfers information to the “OA Service” or “Interface Provider” (IP)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yalog’s IP (oadamipdyalog) manages connections and data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ne Conga connection per ODBC Connec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ranslates SQL into “Parse Trees” or (on request) makes simple selections on each table involved in a quer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Buffers data so APL app only deals in array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SQSRV workspace contains code which listens on port 5000 and has fns which map 1:1 to operations requested by the IP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4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A Agent (oaagent) is used to start &amp; stop services via Command Line tool (oacla) but is not involved in sess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SQSRV In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 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D222-6B3F-4F4D-91A5-4D82009C1E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System 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lients and Server can run under Windows, Linux, AIX (any Dyalog platform except Windows Mobil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lients can support ODBC, ADO, ADO.NET or JDBC – almost any platfor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Windows User</cp:lastModifiedBy>
  <dcterms:modified xsi:type="dcterms:W3CDTF">2009-09-15T12:00:19Z</dcterms:modified>
  <cp:revision>883</cp:revision>
  <dc:subject/>
  <dc:title>Rolling the Process</dc:title>
</cp:coreProperties>
</file>