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89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9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84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90.wmf" ContentType="image/x-wmf"/>
  <Override PartName="/ppt/media/image6.wmf" ContentType="image/x-wmf"/>
  <Override PartName="/ppt/media/image66.wmf" ContentType="image/x-wmf"/>
  <Override PartName="/ppt/media/image67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75.png" ContentType="image/png"/>
  <Override PartName="/ppt/media/image76.png" ContentType="image/png"/>
  <Override PartName="/ppt/media/image77.wmf" ContentType="image/x-wmf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19.png" ContentType="image/png"/>
  <Override PartName="/ppt/media/image97.png" ContentType="image/png"/>
  <Override PartName="/ppt/media/image60.png" ContentType="image/png"/>
  <Override PartName="/ppt/media/image85.png" ContentType="image/png"/>
  <Override PartName="/ppt/media/image96.png" ContentType="image/png"/>
  <Override PartName="/ppt/media/image17.png" ContentType="image/png"/>
  <Override PartName="/ppt/media/image95.png" ContentType="image/png"/>
  <Override PartName="/ppt/media/image16.png" ContentType="image/png"/>
  <Override PartName="/ppt/media/image74.png" ContentType="image/png"/>
  <Override PartName="/ppt/media/image94.wmf" ContentType="image/x-wmf"/>
  <Override PartName="/ppt/media/image54.png" ContentType="image/png"/>
  <Override PartName="/ppt/media/image92.png" ContentType="image/png"/>
  <Override PartName="/ppt/media/image78.png" ContentType="image/png"/>
  <Override PartName="/ppt/media/image80.png" ContentType="image/png"/>
  <Override PartName="/ppt/media/image73.wmf" ContentType="image/x-wmf"/>
  <Override PartName="/ppt/media/image88.png" ContentType="image/png"/>
  <Override PartName="/ppt/media/image64.wmf" ContentType="image/x-wmf"/>
  <Override PartName="/ppt/media/image24.png" ContentType="image/png"/>
  <Override PartName="/ppt/media/image101.png" ContentType="image/png"/>
  <Override PartName="/ppt/media/image79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2.wmf" ContentType="image/x-wmf"/>
  <Override PartName="/ppt/media/image65.png" ContentType="image/png"/>
  <Override PartName="/ppt/media/image21.png" ContentType="image/png"/>
  <Override PartName="/ppt/media/image3.wmf" ContentType="image/x-wmf"/>
  <Override PartName="/ppt/media/image15.wmf" ContentType="image/x-wmf"/>
  <Override PartName="/ppt/media/image58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52.png" ContentType="image/png"/>
  <Override PartName="/ppt/media/image5.wmf" ContentType="image/x-wmf"/>
  <Override PartName="/ppt/media/image82.wmf" ContentType="image/x-wmf"/>
  <Override PartName="/ppt/media/image27.jpeg" ContentType="image/jpeg"/>
  <Override PartName="/ppt/media/image25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E5F-02D3-44F4-B392-74C3DF023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83D2-BDD3-4763-82AD-84378E972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8303-09FA-4F44-9336-EB06F7D15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2508-39FF-4F54-BB98-A4C0E8E7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55BF-7C9C-4B8F-8EAB-81DAF12C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8B13-C241-4BB4-9565-BDA8CD4C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D902-2CD3-4757-92FA-733A39CE4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832-B470-4D67-B263-9C225E67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50D6-301B-4D01-B2E2-4A25A5BE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FE6-F1BD-400B-91F1-E2DC3634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73A1-C44E-42FB-88BF-CC9A7946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8D75-BC24-4FDE-83B3-935DA682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8448-3FC4-443C-8B94-FBF71F1D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F9E6-231F-418D-8D88-3AA84083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8360-B768-458F-BBA8-245783C7D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49E-F7F5-4252-8D3B-D87594A69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7F8E-36EF-4075-AADF-EC681478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EAB8-FBC1-4091-838D-D46580F3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C02E-B0D9-4E6F-BE25-C0E0AAAD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81BC-D248-46BC-88D4-195F6E49A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15A0-3B63-4292-8E7B-155B57743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F548-1191-46D3-84DD-D7F714D0F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BAE4-27F3-4442-84CB-8F3B2D35F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6211-726F-478F-89E5-20A3E2BB1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C6AB-007D-4AA7-AEF7-03BC06C29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E100-9B12-4675-9F3F-D00F26249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F6BD-68EB-4DEA-9AF9-993E4F38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DE13-DB3F-41AC-BF97-E005500F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96C3-A0F4-4448-BDA9-6EA1DF7A9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8E39-9056-48DD-A6F4-F9A4937D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2C1C-E800-4A50-B456-B1C752D6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9F0-CA08-4D8E-9A5F-32752DA74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0D0A-7D2B-497E-9AEE-DBFA6C7B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343-46E1-43A9-AEF9-702BE8057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D55C-D535-43EC-9993-A978ECB39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7AEA-F7A5-4DBF-ACA2-10D3BA09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7384-57F2-4A0E-B41D-1B9A2B459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6C97-5EB4-4A7C-84A2-029F6D62C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C68-2E75-454E-8EEF-0539B96E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57F-FB30-44AF-BBC0-C7BC45C9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AC2-F9AC-4789-A7C1-E25509F2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9A6-AAAB-43CB-8994-32C055DC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476-8001-4D4D-B171-799D00ED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BEB-4619-464F-A62A-45A1C68C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B8A-7FDB-46FB-8666-2227A17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F2B-52CC-4281-BC12-1C810D49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EDA-A4BF-4216-841D-24380BF9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FB7-2E09-4E87-8FC2-662449A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9B3-6BF6-4A8F-BC5A-7B70929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F35-7A0D-4049-BD07-8B09EB56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9D95-D7FC-4BC2-AE17-E78AB356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6.wmf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3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2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wmf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9A2C-FC62-4570-A449-A1E5713F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4500360"/>
            <a:ext cx="6400800" cy="4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BD97-59B4-4ED0-90FF-9D2ABC2F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31ED-2ACE-4A9D-87BB-8DB15DE14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08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FA55-1B6C-4372-91C0-F940E697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FCBF-0AAF-46D4-9BFD-970D2A72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A36-F5DC-4E80-9DE2-E02240639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7201080" cy="329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0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>
            <a:off x="2157480" y="3898800"/>
            <a:ext cx="792000" cy="196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628640" y="3897360"/>
            <a:ext cx="457200" cy="20808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2814480" y="367344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7C3-59C0-4598-B196-FC8A2DC9D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44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FD1-3E34-43B0-B179-75AAB1538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53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C0E8-65E1-4564-85B5-5143F7C9C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65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CC8E-04B1-4E09-B54D-A0B2419AF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76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1FC-48E9-48ED-87B4-F8327D4A9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83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C28-FCB4-4BE8-8802-F787D8BBF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EA9C-F0EA-4094-BA44-B4693B59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6B5C-F069-49C8-9DD4-6C631DE94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BE75-FCC5-4F8D-9545-0A14ADD68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CA7A-D2ED-46E5-BC35-C51488E5E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1257-50A2-4718-829C-39041B533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8FB4-FA75-4AE2-AFEC-E9378509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9301-F1FD-4EED-9D19-BB644DD0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9996-3A36-44AA-B356-62E25C2AD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9897-118B-442B-986E-6E058416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889-C923-418B-B939-F12476D6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49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532-0EDA-496C-8DBE-CD8FE5AD3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814C-09B7-4604-BEDA-AA09BE244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5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263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E32F-4C37-4863-B23A-81BE1188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70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74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280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D04F-CDEB-419F-85D1-08ED7F54D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288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292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n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0E7-47DC-40EF-8C56-FAEDE2B55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05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3CE-CF11-4AD6-8D02-B051C6FA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DD6-A054-40A1-A9CC-611DF3D5D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4125960" y="2492280"/>
            <a:ext cx="49100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2949-571E-4AF4-AE57-FA3F183B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2"/>
          <a:stretch/>
        </p:blipFill>
        <p:spPr>
          <a:xfrm>
            <a:off x="2124000" y="3213000"/>
            <a:ext cx="5256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7AC7-3F26-44C1-87D0-637CD47A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9DF-9A6B-4E3F-9353-43F758FC9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D3D-32F4-47DA-80DB-7AB77F1E5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348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10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7275-CDE6-46FF-AA36-D484267C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93AD-BEBB-450D-A7EC-61A19609F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360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18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0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3442-D303-47DC-A8D8-CA292BACC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CB0D-14DE-46B7-B33C-0BA14CE68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3B23-F195-4DE7-BB78-7DBEBB6B4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F2F-D06B-40FF-879A-0C27AA44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B490-0D0B-4E55-BD71-4AA75BD3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Danb\Downloads\images.jpg"/>
          <p:cNvPicPr/>
          <p:nvPr/>
        </p:nvPicPr>
        <p:blipFill>
          <a:blip r:embed="rId1"/>
          <a:stretch/>
        </p:blipFill>
        <p:spPr>
          <a:xfrm>
            <a:off x="7753320" y="214200"/>
            <a:ext cx="1033560" cy="171612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changed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5590-3855-4EF1-9156-FCF074702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9233-BFF1-4790-93DE-CAF9B6CF5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A517-ACFA-44DA-BFFF-6E2C8CC75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466C-75C2-48E9-A199-4B509D5A6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E199-6D50-49A6-B42A-CB67F840F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B5C3-F447-4C67-B681-CA4402F5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7" descr=""/>
          <p:cNvPicPr/>
          <p:nvPr/>
        </p:nvPicPr>
        <p:blipFill>
          <a:blip r:embed="rId1"/>
          <a:stretch/>
        </p:blipFill>
        <p:spPr>
          <a:xfrm>
            <a:off x="611280" y="4086360"/>
            <a:ext cx="4333680" cy="2190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6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4" descr="MCj02875200000[1]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7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5516640" y="544500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umber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9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20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1"/>
          <p:cNvSpPr/>
          <p:nvPr/>
        </p:nvSpPr>
        <p:spPr>
          <a:xfrm>
            <a:off x="5512320" y="429264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2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3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5635-CB87-4B2A-B1C9-74EB1DAB3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57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664C-F454-428F-B546-FF469632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mparing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65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30CC-9494-4102-8E45-591A60CDD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7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3A22-58D6-4136-9B92-2CF4B63C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84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B96D-6C26-4FAF-8278-012116B01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49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F2F4-3742-4125-94A3-751A2BA44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00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506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372C-C752-4426-B4EB-951C9885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23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class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6521-C7E1-4BC2-8771-5CE7F2AED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FD70-0AA6-4458-BB72-CB1AE3CE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190D-5C59-48FF-A824-B395E7C44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95F4-4EFE-4972-999A-133BDDB0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546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8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6CD0-8CF7-4FA0-BA7E-6EB76AEF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EB72-35AB-40D7-B049-17FB71B36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E3A7-9F0E-4030-B16C-B3EAF12B2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5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B797-472D-4AA8-A2EE-4559B46F0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9FBF-473F-4C15-9736-65AEED22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6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A636-58C5-4D4A-9D5E-18A83E14E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B089-EE9A-4A5E-879B-7DB99DF97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4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56C1-2980-4F32-BC46-62B2DD757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1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1357-CEE5-4983-A425-1E958B524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0FC2-43D9-49AD-970A-C89538601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3223810000[1]"/>
          <p:cNvPicPr/>
          <p:nvPr/>
        </p:nvPicPr>
        <p:blipFill>
          <a:blip r:embed="rId1"/>
          <a:stretch/>
        </p:blipFill>
        <p:spPr>
          <a:xfrm>
            <a:off x="305928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C86F-CA7F-4AD3-B0AB-76FF96DBC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6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6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6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2DA7-BDEB-49BA-A035-FB8C5F20C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1598-C441-4CFB-9C42-F391C5F86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4F37-9AE9-49A1-8061-67DE7F22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2D8-B517-4014-B6F0-20254C139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E638-CC64-48B9-9DB5-785D3D0FD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8BA-B887-49D7-B62F-FD9A0ED43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7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7891-B1A4-42B0-B7E6-D48263E8F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2771-69D3-40DB-9031-3861FC85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FD09-1870-4DE3-84A3-553B4C094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E898-35EF-42F6-8A1E-BF79C74E7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90" name="Oval 6"/>
          <p:cNvSpPr/>
          <p:nvPr/>
        </p:nvSpPr>
        <p:spPr>
          <a:xfrm>
            <a:off x="1967040" y="278604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1483-549C-4517-BA22-E7FBA0D23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696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4BDC-F906-448B-BFEC-13B3C08D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02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FFD-F08F-4F9F-B626-5FFBCFC0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709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48BD-C919-4295-B1C8-8505E2572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]? o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7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716" name="Oval 8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9A76-2224-4336-9BA6-356F51600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the character ‘[‘ is catenated to the left (we must add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6100-0574-4D20-AC32-B64AA3E9E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DAD7-8227-45D3-88D3-5A19825F3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5AA6-0132-4EDC-B8ED-564D8DF5E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8A1-678B-452B-B16B-4301C863F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1222-6A8E-4DBE-9CEE-ADD46FDA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0C53-D763-4624-A2CD-E0C2CD04B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7BAD-A2AD-4FE1-8492-E45BB93A2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90F-2AAF-419D-ADAF-EDE7090F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BB6-FD28-4273-8AB0-AA4F3C3FF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D576-CFB8-439B-807D-0E474C027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9A8E-8475-4376-8EBE-567A8E3EE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9-09-08T19:45:46Z</dcterms:modified>
  <cp:revision>102</cp:revision>
  <dc:subject/>
  <dc:title>SALT in Dyalog</dc:title>
</cp:coreProperties>
</file>