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4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31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60B8-0156-4BEA-AF71-23495B364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needed anymore (SALT always includes itsel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216A-909F-4A6F-B01D-B79DDE3C9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&lt;Snap&gt; with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6D5C-D1E9-4D15-B8BC-2B42BD26C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&lt;Snap&gt; with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7F48-E340-4DC6-A17C-9B774C198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cons are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8334-FBD8-4F2A-BEAB-81E3B3E40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* to load all scripts starting with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5C2C-7EE9-444B-923E-48442FD0C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t not the variab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71B2-5615-480C-B8C1-468620721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ing a 3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arty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B678-30E5-4A65-8C8C-186CEB8D2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37E7-7006-41CC-B924-A6AD5F6CF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BF18-B01F-4700-BF27-10041550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48CF-DE38-4B98-812D-2BFEF0AB7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BF1E-5760-402A-B2B9-B6136567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C1A2-7201-423C-881F-CA3902AA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3289-0378-4708-9B05-2FB774C7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B9CA-37CA-4F45-B974-9A7C0AFC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2F97-30A3-4F2F-961B-DB5F0D63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698A-000B-449D-A753-B427E94E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E2EA-66D5-4AC6-8697-6CA3835B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404E-AEE5-4176-83CA-ABB7D557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D2BA-0766-46F0-B1E9-45847036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yalogpower-768x1024.gif                                       00020D4A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AD2C-47E0-4DAC-8ADB-2311C4A1CA1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66D5-D721-40BD-8884-9F0F993C766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082600"/>
            <a:ext cx="7772400" cy="23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Geneva"/>
              </a:rPr>
              <a:t>Converting workspaces  and using SALT &amp; </a:t>
            </a:r>
            <a:r>
              <a:rPr b="1" i="1" lang="en-US" sz="54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1" lang="en-US" sz="5400" spc="-1" strike="noStrike">
                <a:solidFill>
                  <a:srgbClr val="333333"/>
                </a:solidFill>
                <a:latin typeface="Geneva"/>
              </a:rPr>
              <a:t> to maintain them.</a:t>
            </a:r>
            <a:endParaRPr b="1" lang="en-US" sz="5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5229000"/>
            <a:ext cx="6400800" cy="40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Geneva"/>
              </a:rPr>
              <a:t>V1.02</a:t>
            </a:r>
            <a:endParaRPr b="0" lang="en-US" sz="1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0703-2E7B-4363-AE12-5C19D55B32A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BAAD's SD2 produ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Unit is made of 2 main componen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driving compon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weapons compon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3562200" y="4869000"/>
            <a:ext cx="1801800" cy="6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9"/>
          <p:cNvGrpSpPr/>
          <p:nvPr/>
        </p:nvGrpSpPr>
        <p:grpSpPr>
          <a:xfrm>
            <a:off x="4140360" y="4113360"/>
            <a:ext cx="1522440" cy="792000"/>
            <a:chOff x="4140360" y="4113360"/>
            <a:chExt cx="1522440" cy="792000"/>
          </a:xfrm>
        </p:grpSpPr>
        <p:sp>
          <p:nvSpPr>
            <p:cNvPr id="96" name="AutoShape 7"/>
            <p:cNvSpPr/>
            <p:nvPr/>
          </p:nvSpPr>
          <p:spPr>
            <a:xfrm>
              <a:off x="4140360" y="4113360"/>
              <a:ext cx="1041480" cy="792000"/>
            </a:xfrm>
            <a:prstGeom prst="can">
              <a:avLst>
                <a:gd name="adj" fmla="val 33481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AutoShape 8"/>
            <p:cNvSpPr/>
            <p:nvPr/>
          </p:nvSpPr>
          <p:spPr>
            <a:xfrm rot="4489200">
              <a:off x="5263560" y="4102560"/>
              <a:ext cx="169920" cy="60444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2676-1A0E-4645-9FB1-743690C3069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esting the produ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bviously, testing these devices in real life presents a probl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n its infinite wisdom the company has decided to use a simulator written in (what else?) Dyalog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single workspace holds all the syst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248C-FFBD-43B0-B551-CF510ACA941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1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mulator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1762200" y="1654200"/>
            <a:ext cx="5257800" cy="45385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1406160" y="474660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ttling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8"/>
          <p:cNvSpPr/>
          <p:nvPr/>
        </p:nvSpPr>
        <p:spPr>
          <a:xfrm flipV="1">
            <a:off x="1908000" y="3573360"/>
            <a:ext cx="395640" cy="12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9"/>
          <p:cNvSpPr/>
          <p:nvPr/>
        </p:nvSpPr>
        <p:spPr>
          <a:xfrm flipV="1">
            <a:off x="2843280" y="2707920"/>
            <a:ext cx="115236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0"/>
          <p:cNvSpPr/>
          <p:nvPr/>
        </p:nvSpPr>
        <p:spPr>
          <a:xfrm flipV="1">
            <a:off x="2951280" y="2815920"/>
            <a:ext cx="122544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1"/>
          <p:cNvSpPr/>
          <p:nvPr/>
        </p:nvSpPr>
        <p:spPr>
          <a:xfrm>
            <a:off x="3203640" y="5192640"/>
            <a:ext cx="973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7525800" y="332748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its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3"/>
          <p:cNvSpPr/>
          <p:nvPr/>
        </p:nvSpPr>
        <p:spPr>
          <a:xfrm flipH="1" flipV="1">
            <a:off x="6948360" y="2600280"/>
            <a:ext cx="611280" cy="10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4"/>
          <p:cNvSpPr/>
          <p:nvPr/>
        </p:nvSpPr>
        <p:spPr>
          <a:xfrm flipH="1" flipV="1">
            <a:off x="6948360" y="3105000"/>
            <a:ext cx="611280" cy="6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5"/>
          <p:cNvSpPr/>
          <p:nvPr/>
        </p:nvSpPr>
        <p:spPr>
          <a:xfrm flipH="1" flipV="1">
            <a:off x="6948360" y="3573000"/>
            <a:ext cx="61128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6"/>
          <p:cNvSpPr/>
          <p:nvPr/>
        </p:nvSpPr>
        <p:spPr>
          <a:xfrm flipH="1">
            <a:off x="6948360" y="3860640"/>
            <a:ext cx="61128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7"/>
          <p:cNvSpPr/>
          <p:nvPr/>
        </p:nvSpPr>
        <p:spPr>
          <a:xfrm flipH="1">
            <a:off x="6948360" y="3968640"/>
            <a:ext cx="611280" cy="9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3210840" y="184464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ttle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743E-7A60-403C-8A04-D01D7456A69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mulator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1" name="robotex2.wmv" descr=""/>
          <p:cNvPicPr/>
          <p:nvPr/>
        </p:nvPicPr>
        <p:blipFill>
          <a:blip r:embed="rId1"/>
          <a:stretch/>
        </p:blipFill>
        <p:spPr>
          <a:xfrm>
            <a:off x="1943280" y="1676520"/>
            <a:ext cx="5524200" cy="44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616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7539-D038-4EC1-871B-B00380C95F7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mulator's structur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 workspace is divided into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ne namespace contains all the units' logic, here its name is 'R' (for Robot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ch unit's logic is also contained in a namespace whose name is the name of the unit (like CARLA or AI2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F703-3911-4DBC-A779-EB5D3EC5A89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mulator's structur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008000" y="544680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e, namespac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where all the Units' logic resi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577880" y="1603440"/>
            <a:ext cx="5951520" cy="37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BF81-764E-46BC-9B54-263A3E63AE0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Updating the workspace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s involves modifying individual units' code in their respective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d resaving the entire workspace when finished with the chan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prevents other users from updating the workspace at the same ti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DDC2-06F5-4F1F-844F-CF3A78EEE07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Acceptable updating timelin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1079640" y="3537000"/>
            <a:ext cx="612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455600" y="327024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687960" y="192708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92640" y="459252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2195640" y="267336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3527280" y="267336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3959280" y="357336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5688000" y="357336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2195640" y="2673360"/>
            <a:ext cx="13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3"/>
          <p:cNvSpPr/>
          <p:nvPr/>
        </p:nvSpPr>
        <p:spPr>
          <a:xfrm>
            <a:off x="3959280" y="4400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4"/>
          <p:cNvSpPr/>
          <p:nvPr/>
        </p:nvSpPr>
        <p:spPr>
          <a:xfrm rot="16200000">
            <a:off x="1686240" y="2881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5"/>
          <p:cNvSpPr/>
          <p:nvPr/>
        </p:nvSpPr>
        <p:spPr>
          <a:xfrm rot="16200000">
            <a:off x="3451680" y="37083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6"/>
          <p:cNvSpPr/>
          <p:nvPr/>
        </p:nvSpPr>
        <p:spPr>
          <a:xfrm rot="5400000">
            <a:off x="3321720" y="28728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7"/>
          <p:cNvSpPr/>
          <p:nvPr/>
        </p:nvSpPr>
        <p:spPr>
          <a:xfrm rot="5400000">
            <a:off x="5482440" y="37000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374200" y="22874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9"/>
          <p:cNvSpPr/>
          <p:nvPr/>
        </p:nvSpPr>
        <p:spPr>
          <a:xfrm>
            <a:off x="4283640" y="43038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20"/>
          <p:cNvSpPr/>
          <p:nvPr/>
        </p:nvSpPr>
        <p:spPr>
          <a:xfrm>
            <a:off x="2830320" y="5437080"/>
            <a:ext cx="27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quential up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666E-DF94-45E8-B93A-CB2AC064287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09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Unacceptable updating timelin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8" name="Line 3"/>
          <p:cNvSpPr/>
          <p:nvPr/>
        </p:nvSpPr>
        <p:spPr>
          <a:xfrm>
            <a:off x="1079640" y="3537000"/>
            <a:ext cx="612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7455600" y="327024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685080" y="192708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692640" y="459252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2709720" y="267336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8"/>
          <p:cNvSpPr/>
          <p:nvPr/>
        </p:nvSpPr>
        <p:spPr>
          <a:xfrm>
            <a:off x="4041720" y="267336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3516480" y="357336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5245200" y="357336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2709720" y="2673360"/>
            <a:ext cx="13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12"/>
          <p:cNvSpPr/>
          <p:nvPr/>
        </p:nvSpPr>
        <p:spPr>
          <a:xfrm>
            <a:off x="3516480" y="4400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3"/>
          <p:cNvSpPr/>
          <p:nvPr/>
        </p:nvSpPr>
        <p:spPr>
          <a:xfrm rot="16200000">
            <a:off x="2200680" y="2881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4"/>
          <p:cNvSpPr/>
          <p:nvPr/>
        </p:nvSpPr>
        <p:spPr>
          <a:xfrm rot="16200000">
            <a:off x="3008520" y="37083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5"/>
          <p:cNvSpPr/>
          <p:nvPr/>
        </p:nvSpPr>
        <p:spPr>
          <a:xfrm rot="5400000">
            <a:off x="3836160" y="28728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6"/>
          <p:cNvSpPr/>
          <p:nvPr/>
        </p:nvSpPr>
        <p:spPr>
          <a:xfrm rot="5400000">
            <a:off x="5039280" y="37000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2888280" y="22874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3840840" y="43038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4049640" y="3537000"/>
            <a:ext cx="118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1272960" y="5154480"/>
            <a:ext cx="65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ster A's changes are overwritten by Tester B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n if the modified namespace is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94EC-6088-4B8A-AF9F-438DE9DBCE2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c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79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other problem with this model is that changes are irreversib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n tracking changes is difficu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nding differences in code is hard to documen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9A48-5128-4552-8F7B-0C3365549A2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roduc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312640"/>
            <a:ext cx="7486560" cy="29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Geneva"/>
              </a:rPr>
              <a:t>This is an example of converting an existing application to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SALT</a:t>
            </a:r>
            <a:r>
              <a:rPr b="0" lang="en-US" sz="4000" spc="-1" strike="noStrike">
                <a:solidFill>
                  <a:srgbClr val="333333"/>
                </a:solidFill>
                <a:latin typeface="Geneva"/>
              </a:rPr>
              <a:t> and using a version control system afterwards to maintain it.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A95C-2BB7-4D6E-8FA1-3E86C05BD2E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.0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4000" y="1639440"/>
            <a:ext cx="7772400" cy="12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version allows namespaces to exist in script forma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4" name="TextBox 6"/>
          <p:cNvSpPr/>
          <p:nvPr/>
        </p:nvSpPr>
        <p:spPr>
          <a:xfrm>
            <a:off x="372960" y="2751120"/>
            <a:ext cx="3286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stead of ha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series of namespaces  each with functions and variab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3878280" y="2330280"/>
            <a:ext cx="497052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7181-D459-4538-95D0-76F43DAC8C0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.0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3640" y="1736640"/>
            <a:ext cx="284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have everything in script form, including the definition of variab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3743280" y="1622520"/>
            <a:ext cx="506736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CE20-9D1A-4BD0-A41A-523527DAA15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cripts fi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Keeping namespaces in scripted form allows us to save them in (Unicode) text files outside the workspac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95" name="Group 14"/>
          <p:cNvGrpSpPr/>
          <p:nvPr/>
        </p:nvGrpSpPr>
        <p:grpSpPr>
          <a:xfrm>
            <a:off x="1511280" y="3933720"/>
            <a:ext cx="5832360" cy="1656000"/>
            <a:chOff x="1511280" y="3933720"/>
            <a:chExt cx="5832360" cy="1656000"/>
          </a:xfrm>
        </p:grpSpPr>
        <p:sp>
          <p:nvSpPr>
            <p:cNvPr id="196" name="AutoShape 4"/>
            <p:cNvSpPr/>
            <p:nvPr/>
          </p:nvSpPr>
          <p:spPr>
            <a:xfrm>
              <a:off x="1511280" y="4329000"/>
              <a:ext cx="2700360" cy="1152720"/>
            </a:xfrm>
            <a:prstGeom prst="flowChartPredefined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orksp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5"/>
            <p:cNvSpPr/>
            <p:nvPr/>
          </p:nvSpPr>
          <p:spPr>
            <a:xfrm>
              <a:off x="3419640" y="4437000"/>
              <a:ext cx="323640" cy="252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6"/>
            <p:cNvSpPr/>
            <p:nvPr/>
          </p:nvSpPr>
          <p:spPr>
            <a:xfrm>
              <a:off x="3419640" y="4780080"/>
              <a:ext cx="323640" cy="252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7"/>
            <p:cNvSpPr/>
            <p:nvPr/>
          </p:nvSpPr>
          <p:spPr>
            <a:xfrm>
              <a:off x="3419640" y="5121360"/>
              <a:ext cx="323640" cy="252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AutoShape 8"/>
            <p:cNvSpPr/>
            <p:nvPr/>
          </p:nvSpPr>
          <p:spPr>
            <a:xfrm>
              <a:off x="5003640" y="393372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AutoShape 9"/>
            <p:cNvSpPr/>
            <p:nvPr/>
          </p:nvSpPr>
          <p:spPr>
            <a:xfrm>
              <a:off x="5796000" y="451008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AutoShape 10"/>
            <p:cNvSpPr/>
            <p:nvPr/>
          </p:nvSpPr>
          <p:spPr>
            <a:xfrm>
              <a:off x="6588000" y="508644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11"/>
            <p:cNvSpPr/>
            <p:nvPr/>
          </p:nvSpPr>
          <p:spPr>
            <a:xfrm flipV="1">
              <a:off x="3743280" y="4149360"/>
              <a:ext cx="1260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12"/>
            <p:cNvSpPr/>
            <p:nvPr/>
          </p:nvSpPr>
          <p:spPr>
            <a:xfrm flipV="1">
              <a:off x="3743280" y="4723920"/>
              <a:ext cx="205272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13"/>
            <p:cNvSpPr/>
            <p:nvPr/>
          </p:nvSpPr>
          <p:spPr>
            <a:xfrm>
              <a:off x="3743280" y="5230800"/>
              <a:ext cx="284472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8648-BCD9-40C3-90A2-5077607DE02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09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Updating can now be done in parallel for different namespaces 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685080" y="221616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692640" y="432900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3"/>
          <p:cNvSpPr/>
          <p:nvPr/>
        </p:nvSpPr>
        <p:spPr>
          <a:xfrm>
            <a:off x="1332000" y="3130560"/>
            <a:ext cx="612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7"/>
          <p:cNvSpPr/>
          <p:nvPr/>
        </p:nvSpPr>
        <p:spPr>
          <a:xfrm>
            <a:off x="2962440" y="226692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4294080" y="226692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1"/>
          <p:cNvSpPr/>
          <p:nvPr/>
        </p:nvSpPr>
        <p:spPr>
          <a:xfrm>
            <a:off x="2962440" y="2266920"/>
            <a:ext cx="13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3"/>
          <p:cNvSpPr/>
          <p:nvPr/>
        </p:nvSpPr>
        <p:spPr>
          <a:xfrm rot="16200000">
            <a:off x="2453040" y="24750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5"/>
          <p:cNvSpPr/>
          <p:nvPr/>
        </p:nvSpPr>
        <p:spPr>
          <a:xfrm rot="5400000">
            <a:off x="4088520" y="246636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7"/>
          <p:cNvSpPr/>
          <p:nvPr/>
        </p:nvSpPr>
        <p:spPr>
          <a:xfrm>
            <a:off x="3140640" y="18813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907920" y="5546880"/>
            <a:ext cx="72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ster A's changes are NOT overwritten by Tes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2"/>
          <p:cNvSpPr/>
          <p:nvPr/>
        </p:nvSpPr>
        <p:spPr>
          <a:xfrm>
            <a:off x="1332000" y="3948120"/>
            <a:ext cx="612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3"/>
          <p:cNvSpPr/>
          <p:nvPr/>
        </p:nvSpPr>
        <p:spPr>
          <a:xfrm>
            <a:off x="6155640" y="328464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6"/>
          <p:cNvSpPr/>
          <p:nvPr/>
        </p:nvSpPr>
        <p:spPr>
          <a:xfrm>
            <a:off x="3768840" y="398448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7"/>
          <p:cNvSpPr/>
          <p:nvPr/>
        </p:nvSpPr>
        <p:spPr>
          <a:xfrm>
            <a:off x="5497560" y="398448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29"/>
          <p:cNvSpPr/>
          <p:nvPr/>
        </p:nvSpPr>
        <p:spPr>
          <a:xfrm>
            <a:off x="3768840" y="481176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1"/>
          <p:cNvSpPr/>
          <p:nvPr/>
        </p:nvSpPr>
        <p:spPr>
          <a:xfrm rot="16200000">
            <a:off x="3261240" y="4119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3"/>
          <p:cNvSpPr/>
          <p:nvPr/>
        </p:nvSpPr>
        <p:spPr>
          <a:xfrm rot="5400000">
            <a:off x="5291640" y="411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5"/>
          <p:cNvSpPr/>
          <p:nvPr/>
        </p:nvSpPr>
        <p:spPr>
          <a:xfrm>
            <a:off x="4093200" y="47149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7"/>
          <p:cNvSpPr/>
          <p:nvPr/>
        </p:nvSpPr>
        <p:spPr>
          <a:xfrm>
            <a:off x="5852520" y="240660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mespac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8"/>
          <p:cNvSpPr/>
          <p:nvPr/>
        </p:nvSpPr>
        <p:spPr>
          <a:xfrm>
            <a:off x="5896440" y="4159080"/>
            <a:ext cx="17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mespac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BEFF-17CE-4EBB-BE21-19BD6A3C5C2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c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easier to track changes now that files are in human readable forma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y saving multiple copies we can see the difference between each modifica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33" name="Group 22"/>
          <p:cNvGrpSpPr/>
          <p:nvPr/>
        </p:nvGrpSpPr>
        <p:grpSpPr>
          <a:xfrm>
            <a:off x="1625760" y="4268880"/>
            <a:ext cx="6049800" cy="1817640"/>
            <a:chOff x="1625760" y="4268880"/>
            <a:chExt cx="6049800" cy="1817640"/>
          </a:xfrm>
        </p:grpSpPr>
        <p:sp>
          <p:nvSpPr>
            <p:cNvPr id="234" name="AutoShape 4"/>
            <p:cNvSpPr/>
            <p:nvPr/>
          </p:nvSpPr>
          <p:spPr>
            <a:xfrm>
              <a:off x="1625760" y="4737240"/>
              <a:ext cx="2700360" cy="1152360"/>
            </a:xfrm>
            <a:prstGeom prst="flowChartPredefined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orksp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5"/>
            <p:cNvSpPr/>
            <p:nvPr/>
          </p:nvSpPr>
          <p:spPr>
            <a:xfrm>
              <a:off x="3533760" y="4844880"/>
              <a:ext cx="323640" cy="252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6"/>
            <p:cNvSpPr/>
            <p:nvPr/>
          </p:nvSpPr>
          <p:spPr>
            <a:xfrm>
              <a:off x="3533760" y="5187960"/>
              <a:ext cx="323640" cy="252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7"/>
            <p:cNvSpPr/>
            <p:nvPr/>
          </p:nvSpPr>
          <p:spPr>
            <a:xfrm>
              <a:off x="3533760" y="5529240"/>
              <a:ext cx="323640" cy="252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AutoShape 8"/>
            <p:cNvSpPr/>
            <p:nvPr/>
          </p:nvSpPr>
          <p:spPr>
            <a:xfrm>
              <a:off x="5118120" y="434160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AutoShape 9"/>
            <p:cNvSpPr/>
            <p:nvPr/>
          </p:nvSpPr>
          <p:spPr>
            <a:xfrm>
              <a:off x="5910480" y="491796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AutoShape 10"/>
            <p:cNvSpPr/>
            <p:nvPr/>
          </p:nvSpPr>
          <p:spPr>
            <a:xfrm>
              <a:off x="6702480" y="549432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11"/>
            <p:cNvSpPr/>
            <p:nvPr/>
          </p:nvSpPr>
          <p:spPr>
            <a:xfrm flipV="1">
              <a:off x="3857760" y="4557240"/>
              <a:ext cx="1260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12"/>
            <p:cNvSpPr/>
            <p:nvPr/>
          </p:nvSpPr>
          <p:spPr>
            <a:xfrm flipV="1">
              <a:off x="3857760" y="5132520"/>
              <a:ext cx="205236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13"/>
            <p:cNvSpPr/>
            <p:nvPr/>
          </p:nvSpPr>
          <p:spPr>
            <a:xfrm>
              <a:off x="3857760" y="5639040"/>
              <a:ext cx="284472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AutoShape 8"/>
            <p:cNvSpPr/>
            <p:nvPr/>
          </p:nvSpPr>
          <p:spPr>
            <a:xfrm>
              <a:off x="5313600" y="430524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AutoShape 8"/>
            <p:cNvSpPr/>
            <p:nvPr/>
          </p:nvSpPr>
          <p:spPr>
            <a:xfrm>
              <a:off x="5532480" y="426888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AutoShape 8"/>
            <p:cNvSpPr/>
            <p:nvPr/>
          </p:nvSpPr>
          <p:spPr>
            <a:xfrm>
              <a:off x="6919920" y="558324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AutoShape 8"/>
            <p:cNvSpPr/>
            <p:nvPr/>
          </p:nvSpPr>
          <p:spPr>
            <a:xfrm>
              <a:off x="6043680" y="492588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AutoShape 8"/>
            <p:cNvSpPr/>
            <p:nvPr/>
          </p:nvSpPr>
          <p:spPr>
            <a:xfrm>
              <a:off x="6153120" y="492588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AutoShape 8"/>
            <p:cNvSpPr/>
            <p:nvPr/>
          </p:nvSpPr>
          <p:spPr>
            <a:xfrm>
              <a:off x="6262920" y="492588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D88B-4ACC-410F-A613-C6811495A1B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c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aring files can be done easily in APL by SALT or by any 3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party progra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4" name="AutoShape 8"/>
          <p:cNvSpPr/>
          <p:nvPr/>
        </p:nvSpPr>
        <p:spPr>
          <a:xfrm>
            <a:off x="1979640" y="3940200"/>
            <a:ext cx="2154240" cy="13874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in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8"/>
          <p:cNvSpPr/>
          <p:nvPr/>
        </p:nvSpPr>
        <p:spPr>
          <a:xfrm>
            <a:off x="4389480" y="3940200"/>
            <a:ext cx="2154240" cy="13874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Lin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1577880" y="4341960"/>
            <a:ext cx="5367600" cy="3650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B42E-7233-41F7-83CB-F20BC049613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oing i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irst step is to convert the workspace to the new for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C3C2-D592-4AA5-8002-191FA0A00F1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971280" y="1736280"/>
            <a:ext cx="7412040" cy="37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art Dyalog, SALT should be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14" descr=""/>
          <p:cNvPicPr/>
          <p:nvPr/>
        </p:nvPicPr>
        <p:blipFill>
          <a:blip r:embed="rId1"/>
          <a:stretch/>
        </p:blipFill>
        <p:spPr>
          <a:xfrm>
            <a:off x="1614600" y="2406600"/>
            <a:ext cx="60609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6D3E-9C78-4C3B-990C-DF8019231F2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227160" y="1700280"/>
            <a:ext cx="8858160" cy="8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it isn’t we have to make sure SALT is enable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10" descr=""/>
          <p:cNvPicPr/>
          <p:nvPr/>
        </p:nvPicPr>
        <p:blipFill>
          <a:blip r:embed="rId1"/>
          <a:stretch/>
        </p:blipFill>
        <p:spPr>
          <a:xfrm>
            <a:off x="1249200" y="2406600"/>
            <a:ext cx="646272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1BEB-97B8-4753-A0B9-73C92DE72D8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971640" y="1521000"/>
            <a:ext cx="737712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LOAD our worksp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11" descr=""/>
          <p:cNvPicPr/>
          <p:nvPr/>
        </p:nvPicPr>
        <p:blipFill>
          <a:blip r:embed="rId1"/>
          <a:stretch/>
        </p:blipFill>
        <p:spPr>
          <a:xfrm>
            <a:off x="993600" y="2327400"/>
            <a:ext cx="7193160" cy="35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9CF0-A6DC-434C-9117-C3BB06E5B74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What is SALT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312640"/>
            <a:ext cx="7486560" cy="29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Geneva"/>
              </a:rPr>
              <a:t>SALT is a tool to deal with code outside the workspace in text (Unicode) format.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E08C-3793-4D61-8F74-8AA9E1D5B3B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934920" y="1521000"/>
            <a:ext cx="741384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ake sure the workdir includes Dyalo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8" descr=""/>
          <p:cNvPicPr/>
          <p:nvPr/>
        </p:nvPicPr>
        <p:blipFill>
          <a:blip r:embed="rId1"/>
          <a:stretch/>
        </p:blipFill>
        <p:spPr>
          <a:xfrm>
            <a:off x="1212840" y="2151000"/>
            <a:ext cx="6637320" cy="3870360"/>
          </a:xfrm>
          <a:prstGeom prst="rect">
            <a:avLst/>
          </a:prstGeom>
          <a:ln w="0">
            <a:noFill/>
          </a:ln>
        </p:spPr>
      </p:pic>
      <p:sp>
        <p:nvSpPr>
          <p:cNvPr id="281" name="Oval 6"/>
          <p:cNvSpPr/>
          <p:nvPr/>
        </p:nvSpPr>
        <p:spPr>
          <a:xfrm>
            <a:off x="1030320" y="4633920"/>
            <a:ext cx="44766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9" descr=""/>
          <p:cNvPicPr/>
          <p:nvPr/>
        </p:nvPicPr>
        <p:blipFill>
          <a:blip r:embed="rId1"/>
          <a:stretch/>
        </p:blipFill>
        <p:spPr>
          <a:xfrm>
            <a:off x="1504800" y="2260440"/>
            <a:ext cx="6426360" cy="3794400"/>
          </a:xfrm>
          <a:prstGeom prst="rect">
            <a:avLst/>
          </a:prstGeom>
          <a:ln w="0">
            <a:noFill/>
          </a:ln>
        </p:spPr>
      </p:pic>
      <p:sp>
        <p:nvSpPr>
          <p:cNvPr id="28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2115-8081-46A7-B992-BD9A13C119F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007640" y="1521000"/>
            <a:ext cx="734076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ring in the conversion tool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11"/>
          <p:cNvSpPr/>
          <p:nvPr/>
        </p:nvSpPr>
        <p:spPr>
          <a:xfrm>
            <a:off x="3403440" y="4414680"/>
            <a:ext cx="1936800" cy="40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9FF9-5EEF-4C76-9E62-C6C7E4259E3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576000" y="1725120"/>
            <a:ext cx="7775640" cy="37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StoScript is a namespace containing code to perform conversion of regular (non sourced) namespac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unction to use in it is &lt;Convert&gt;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E855-BC4E-4983-AF59-4CB26797615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576000" y="1592280"/>
            <a:ext cx="838836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example, to convert namespace 'UTIL'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1833480" y="2333520"/>
            <a:ext cx="5805720" cy="34275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"/>
          <p:cNvPicPr/>
          <p:nvPr/>
        </p:nvPicPr>
        <p:blipFill>
          <a:blip r:embed="rId2"/>
          <a:stretch/>
        </p:blipFill>
        <p:spPr>
          <a:xfrm>
            <a:off x="1833480" y="2333520"/>
            <a:ext cx="5805720" cy="3427560"/>
          </a:xfrm>
          <a:prstGeom prst="rect">
            <a:avLst/>
          </a:prstGeom>
          <a:ln w="0">
            <a:noFill/>
          </a:ln>
        </p:spPr>
      </p:pic>
      <p:sp>
        <p:nvSpPr>
          <p:cNvPr id="298" name="Oval 6"/>
          <p:cNvSpPr/>
          <p:nvPr/>
        </p:nvSpPr>
        <p:spPr>
          <a:xfrm>
            <a:off x="2016000" y="4487760"/>
            <a:ext cx="31687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3"/>
          <a:stretch/>
        </p:blipFill>
        <p:spPr>
          <a:xfrm>
            <a:off x="1833480" y="2333520"/>
            <a:ext cx="5805720" cy="34275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6" descr=""/>
          <p:cNvPicPr/>
          <p:nvPr/>
        </p:nvPicPr>
        <p:blipFill>
          <a:blip r:embed="rId4"/>
          <a:stretch/>
        </p:blipFill>
        <p:spPr>
          <a:xfrm>
            <a:off x="1833480" y="2333520"/>
            <a:ext cx="5805720" cy="34275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"/>
          <p:cNvPicPr/>
          <p:nvPr/>
        </p:nvPicPr>
        <p:blipFill>
          <a:blip r:embed="rId5"/>
          <a:stretch/>
        </p:blipFill>
        <p:spPr>
          <a:xfrm>
            <a:off x="1833480" y="2333520"/>
            <a:ext cx="5811840" cy="34322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"/>
          <p:cNvPicPr/>
          <p:nvPr/>
        </p:nvPicPr>
        <p:blipFill>
          <a:blip r:embed="rId6"/>
          <a:stretch/>
        </p:blipFill>
        <p:spPr>
          <a:xfrm>
            <a:off x="2344680" y="1676520"/>
            <a:ext cx="5635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C568-19A0-4FA9-A89B-6A990206375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576000" y="1483920"/>
            <a:ext cx="8388360" cy="19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convert several namespaces first )CS where the namespaces a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1395360" y="2625840"/>
            <a:ext cx="62802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CF2B-7B03-4B9D-86EA-1CB62346AAB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576000" y="1483920"/>
            <a:ext cx="8388360" cy="11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n use an expression lik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8" descr=""/>
          <p:cNvPicPr/>
          <p:nvPr/>
        </p:nvPicPr>
        <p:blipFill>
          <a:blip r:embed="rId1"/>
          <a:stretch/>
        </p:blipFill>
        <p:spPr>
          <a:xfrm>
            <a:off x="1541520" y="2114640"/>
            <a:ext cx="5878440" cy="3941640"/>
          </a:xfrm>
          <a:prstGeom prst="rect">
            <a:avLst/>
          </a:prstGeom>
          <a:ln w="0">
            <a:noFill/>
          </a:ln>
        </p:spPr>
      </p:pic>
      <p:sp>
        <p:nvSpPr>
          <p:cNvPr id="313" name="Oval 6"/>
          <p:cNvSpPr/>
          <p:nvPr/>
        </p:nvSpPr>
        <p:spPr>
          <a:xfrm>
            <a:off x="1797120" y="2771640"/>
            <a:ext cx="320508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" descr=""/>
          <p:cNvPicPr/>
          <p:nvPr/>
        </p:nvPicPr>
        <p:blipFill>
          <a:blip r:embed="rId1"/>
          <a:stretch/>
        </p:blipFill>
        <p:spPr>
          <a:xfrm>
            <a:off x="2490840" y="2735280"/>
            <a:ext cx="4952880" cy="3886200"/>
          </a:xfrm>
          <a:prstGeom prst="rect">
            <a:avLst/>
          </a:prstGeom>
          <a:ln w="0">
            <a:noFill/>
          </a:ln>
        </p:spPr>
      </p:pic>
      <p:sp>
        <p:nvSpPr>
          <p:cNvPr id="31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9507-083C-41F9-88C2-BAD09B31FF4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576000" y="1557360"/>
            <a:ext cx="838836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plorer now shows us the namespaces with the new icon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2"/>
          <a:stretch/>
        </p:blipFill>
        <p:spPr>
          <a:xfrm>
            <a:off x="2490840" y="2735280"/>
            <a:ext cx="4952880" cy="38862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"/>
          <p:cNvPicPr/>
          <p:nvPr/>
        </p:nvPicPr>
        <p:blipFill>
          <a:blip r:embed="rId3"/>
          <a:stretch/>
        </p:blipFill>
        <p:spPr>
          <a:xfrm>
            <a:off x="2490840" y="2735280"/>
            <a:ext cx="4952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B1D7-D030-47A4-B1EF-E2E3A65BCCE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576000" y="1557360"/>
            <a:ext cx="838836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workspace has the same functionality as befor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)SAVEd in this new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40A1-0B3C-405D-A5D7-B4D641811B3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Filing awa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47640" y="2133360"/>
            <a:ext cx="77724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next step is to store those namespaces in Unicode fi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ltho is it relatively simple to read/write text to file, their management, because of the encoding, is a bit more complex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gain, SALT comes in hand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2A9C-A6A5-4A02-A3C7-9B34529D8FD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aving the scripts as text file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9080" y="2701800"/>
            <a:ext cx="647856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ecide where to put them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the SALT Save func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cript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712880"/>
            <a:ext cx="7772400" cy="23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p until V11 namespaces came in a single for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ontained functions, variables and other namespac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6C67-CBDA-4765-89A7-A8893A4D5E0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1359000" y="4049640"/>
            <a:ext cx="3162240" cy="2095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2"/>
          <a:stretch/>
        </p:blipFill>
        <p:spPr>
          <a:xfrm>
            <a:off x="4900680" y="3940200"/>
            <a:ext cx="31622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C2A9-9E53-4441-959F-E82D97D08B6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aving the scripts as text file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55640" y="1808280"/>
            <a:ext cx="7166160" cy="23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Save function takes a string argument of: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'</a:t>
            </a:r>
            <a:r>
              <a:rPr b="0" lang="en-GB" sz="3200" spc="-1" strike="noStrike">
                <a:solidFill>
                  <a:srgbClr val="00b0f0"/>
                </a:solidFill>
                <a:latin typeface="Geneva"/>
              </a:rPr>
              <a:t>namespa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  </a:t>
            </a:r>
            <a:r>
              <a:rPr b="0" lang="en-GB" sz="3200" spc="-1" strike="noStrike">
                <a:solidFill>
                  <a:srgbClr val="00b050"/>
                </a:solidFill>
                <a:latin typeface="Geneva"/>
              </a:rPr>
              <a:t>locat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'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1511280" y="3068640"/>
            <a:ext cx="583416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7E3C-209B-44CE-9D75-74793D5DB00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aving the scripts as text file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19280" y="1700280"/>
            <a:ext cx="7524720" cy="23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save all the namespaces at once d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42" name="Picture 5" descr=""/>
          <p:cNvPicPr/>
          <p:nvPr/>
        </p:nvPicPr>
        <p:blipFill>
          <a:blip r:embed="rId1"/>
          <a:stretch/>
        </p:blipFill>
        <p:spPr>
          <a:xfrm>
            <a:off x="1258920" y="2529000"/>
            <a:ext cx="6589800" cy="3481200"/>
          </a:xfrm>
          <a:prstGeom prst="rect">
            <a:avLst/>
          </a:prstGeom>
          <a:ln w="0">
            <a:noFill/>
          </a:ln>
        </p:spPr>
      </p:pic>
      <p:sp>
        <p:nvSpPr>
          <p:cNvPr id="343" name="Oval 6"/>
          <p:cNvSpPr/>
          <p:nvPr/>
        </p:nvSpPr>
        <p:spPr>
          <a:xfrm>
            <a:off x="1800360" y="3409920"/>
            <a:ext cx="446400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1066680" y="2803680"/>
            <a:ext cx="7047000" cy="3375000"/>
          </a:xfrm>
          <a:prstGeom prst="rect">
            <a:avLst/>
          </a:prstGeom>
          <a:ln w="0">
            <a:noFill/>
          </a:ln>
        </p:spPr>
      </p:pic>
      <p:sp>
        <p:nvSpPr>
          <p:cNvPr id="34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46C2-8606-40A0-813D-127E454FB9B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aving the scripts as text file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19280" y="1639440"/>
            <a:ext cx="7524720" cy="13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you want to save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everyth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t once you can do instea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9" name="Oval 6"/>
          <p:cNvSpPr/>
          <p:nvPr/>
        </p:nvSpPr>
        <p:spPr>
          <a:xfrm>
            <a:off x="1212840" y="4086360"/>
            <a:ext cx="361476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767D-2E61-48B6-A5EC-9A386B31074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aving the scripts as text file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19280" y="1639440"/>
            <a:ext cx="7524720" cy="13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ither way you should now have a folder with many scripts in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1541520" y="2808360"/>
            <a:ext cx="624528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831D-BB94-4D5E-8C92-3AB8B8DC4AF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'remembers' where each script was sav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hanging one of them now means SALT will change the file as soon as the script is modified through the edito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F311-26FF-4CD4-BDEE-A6A77D4AC18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62" name="Picture 4" descr=""/>
          <p:cNvPicPr/>
          <p:nvPr/>
        </p:nvPicPr>
        <p:blipFill>
          <a:blip r:embed="rId1"/>
          <a:stretch/>
        </p:blipFill>
        <p:spPr>
          <a:xfrm>
            <a:off x="2268360" y="2241720"/>
            <a:ext cx="4753080" cy="380988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5"/>
          <p:cNvSpPr/>
          <p:nvPr/>
        </p:nvSpPr>
        <p:spPr>
          <a:xfrm>
            <a:off x="275400" y="1589040"/>
            <a:ext cx="733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Here's what one of the scripts' contents looks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31EE-B13E-4A0D-A493-9F2B6591C2A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67" name="Picture 3" descr=""/>
          <p:cNvPicPr/>
          <p:nvPr/>
        </p:nvPicPr>
        <p:blipFill>
          <a:blip r:embed="rId1"/>
          <a:stretch/>
        </p:blipFill>
        <p:spPr>
          <a:xfrm>
            <a:off x="2268360" y="2241720"/>
            <a:ext cx="4753080" cy="380988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4"/>
          <p:cNvSpPr/>
          <p:nvPr/>
        </p:nvSpPr>
        <p:spPr>
          <a:xfrm>
            <a:off x="415080" y="1589040"/>
            <a:ext cx="43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And here we make a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Picture 5" descr=""/>
          <p:cNvPicPr/>
          <p:nvPr/>
        </p:nvPicPr>
        <p:blipFill>
          <a:blip r:embed="rId2"/>
          <a:stretch/>
        </p:blipFill>
        <p:spPr>
          <a:xfrm>
            <a:off x="2268360" y="2241720"/>
            <a:ext cx="4751640" cy="3809880"/>
          </a:xfrm>
          <a:prstGeom prst="rect">
            <a:avLst/>
          </a:prstGeom>
          <a:ln w="0">
            <a:noFill/>
          </a:ln>
        </p:spPr>
      </p:pic>
      <p:sp>
        <p:nvSpPr>
          <p:cNvPr id="370" name="Oval 6"/>
          <p:cNvSpPr/>
          <p:nvPr/>
        </p:nvSpPr>
        <p:spPr>
          <a:xfrm>
            <a:off x="2916360" y="3205080"/>
            <a:ext cx="2232000" cy="3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8BE4-32F1-439A-991D-77C39BA2241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71280" y="1673280"/>
            <a:ext cx="89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SALT detected the change and offers to change the script f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7" descr=""/>
          <p:cNvPicPr/>
          <p:nvPr/>
        </p:nvPicPr>
        <p:blipFill>
          <a:blip r:embed="rId1"/>
          <a:stretch/>
        </p:blipFill>
        <p:spPr>
          <a:xfrm>
            <a:off x="2340000" y="2705040"/>
            <a:ext cx="435600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EC78-869C-4C9F-95DD-3EBAA000720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503280" y="1944720"/>
            <a:ext cx="8300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You should )SAVE the workspace here. 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Like this SALT will remember where the edited namespaces are stored and detect if changes have been made outside APL (e.g. with Notep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E736-62F6-48EF-A064-D2765BE1172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is the 2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part of the work to do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omes with its own versioning of files and comparison functions but it is primitive compared to state of the art version control systems lik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cript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712880"/>
            <a:ext cx="7772400" cy="23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arting with V11 namespaces also came in a script for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ontained functions, etc. are listed in text forma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0572-6CC2-4DF9-8859-313744B5886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212840" y="3940200"/>
            <a:ext cx="3162240" cy="2200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4856040" y="3465360"/>
            <a:ext cx="325764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8762-D960-4D07-A28D-3395FDD61F7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a company it is preferable to use existing software lik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us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we first need somewhere to put the scripts fi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5216-D5B6-41A6-AE61-9992230C26A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picked folder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weapon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s repositor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1"/>
          <a:stretch/>
        </p:blipFill>
        <p:spPr>
          <a:xfrm>
            <a:off x="2268360" y="2168640"/>
            <a:ext cx="4695840" cy="4267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"/>
          <p:cNvPicPr/>
          <p:nvPr/>
        </p:nvPicPr>
        <p:blipFill>
          <a:blip r:embed="rId2"/>
          <a:stretch/>
        </p:blipFill>
        <p:spPr>
          <a:xfrm>
            <a:off x="2987640" y="2816280"/>
            <a:ext cx="3600360" cy="2249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" descr=""/>
          <p:cNvPicPr/>
          <p:nvPr/>
        </p:nvPicPr>
        <p:blipFill>
          <a:blip r:embed="rId3"/>
          <a:stretch/>
        </p:blipFill>
        <p:spPr>
          <a:xfrm>
            <a:off x="2879640" y="2781360"/>
            <a:ext cx="385308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Date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7C49-AF09-4B45-9E04-039A4DFCF87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9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We now import the scripts into the repository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(we put our code in 'Troops')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00" name="Picture 7" descr=""/>
          <p:cNvPicPr/>
          <p:nvPr/>
        </p:nvPicPr>
        <p:blipFill>
          <a:blip r:embed="rId1"/>
          <a:stretch/>
        </p:blipFill>
        <p:spPr>
          <a:xfrm>
            <a:off x="3887640" y="1557360"/>
            <a:ext cx="4600800" cy="46101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9" descr=""/>
          <p:cNvPicPr/>
          <p:nvPr/>
        </p:nvPicPr>
        <p:blipFill>
          <a:blip r:embed="rId2"/>
          <a:stretch/>
        </p:blipFill>
        <p:spPr>
          <a:xfrm>
            <a:off x="3635280" y="1557360"/>
            <a:ext cx="5040360" cy="37749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0" descr=""/>
          <p:cNvPicPr/>
          <p:nvPr/>
        </p:nvPicPr>
        <p:blipFill>
          <a:blip r:embed="rId3"/>
          <a:stretch/>
        </p:blipFill>
        <p:spPr>
          <a:xfrm>
            <a:off x="3600360" y="1449360"/>
            <a:ext cx="52768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EEF3-B55B-448E-B5CD-8E91CC73706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87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One of the testers now checks out a copy: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08" name="Picture 4" descr=""/>
          <p:cNvPicPr/>
          <p:nvPr/>
        </p:nvPicPr>
        <p:blipFill>
          <a:blip r:embed="rId1"/>
          <a:stretch/>
        </p:blipFill>
        <p:spPr>
          <a:xfrm>
            <a:off x="3851280" y="1665360"/>
            <a:ext cx="3198960" cy="45003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6" descr=""/>
          <p:cNvPicPr/>
          <p:nvPr/>
        </p:nvPicPr>
        <p:blipFill>
          <a:blip r:embed="rId2"/>
          <a:stretch/>
        </p:blipFill>
        <p:spPr>
          <a:xfrm>
            <a:off x="3527280" y="1700280"/>
            <a:ext cx="5148360" cy="3612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"/>
          <p:cNvPicPr/>
          <p:nvPr/>
        </p:nvPicPr>
        <p:blipFill>
          <a:blip r:embed="rId3"/>
          <a:stretch/>
        </p:blipFill>
        <p:spPr>
          <a:xfrm>
            <a:off x="3816360" y="2384280"/>
            <a:ext cx="3780000" cy="20494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"/>
          <p:cNvPicPr/>
          <p:nvPr/>
        </p:nvPicPr>
        <p:blipFill>
          <a:blip r:embed="rId4"/>
          <a:stretch/>
        </p:blipFill>
        <p:spPr>
          <a:xfrm>
            <a:off x="3564000" y="1484280"/>
            <a:ext cx="52768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7075-C550-447B-8C92-3E93C4D7E42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y other tester can do the same thing and update it independent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6" name="AutoShape 4"/>
          <p:cNvSpPr/>
          <p:nvPr/>
        </p:nvSpPr>
        <p:spPr>
          <a:xfrm>
            <a:off x="4213080" y="3173400"/>
            <a:ext cx="1244880" cy="152712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AutoShape 5"/>
          <p:cNvSpPr/>
          <p:nvPr/>
        </p:nvSpPr>
        <p:spPr>
          <a:xfrm flipH="1" rot="20261400">
            <a:off x="2446920" y="4581000"/>
            <a:ext cx="1758960" cy="630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6"/>
          <p:cNvSpPr/>
          <p:nvPr/>
        </p:nvSpPr>
        <p:spPr>
          <a:xfrm>
            <a:off x="1332000" y="335772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AutoShape 7"/>
          <p:cNvSpPr/>
          <p:nvPr/>
        </p:nvSpPr>
        <p:spPr>
          <a:xfrm rot="2095200">
            <a:off x="5364000" y="4701960"/>
            <a:ext cx="1773360" cy="6825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AutoShape 8"/>
          <p:cNvSpPr/>
          <p:nvPr/>
        </p:nvSpPr>
        <p:spPr>
          <a:xfrm>
            <a:off x="1368360" y="5013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9"/>
          <p:cNvSpPr/>
          <p:nvPr/>
        </p:nvSpPr>
        <p:spPr>
          <a:xfrm>
            <a:off x="7345440" y="285264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AutoShape 10"/>
          <p:cNvSpPr/>
          <p:nvPr/>
        </p:nvSpPr>
        <p:spPr>
          <a:xfrm>
            <a:off x="7056360" y="5229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AutoShape 11"/>
          <p:cNvSpPr/>
          <p:nvPr/>
        </p:nvSpPr>
        <p:spPr>
          <a:xfrm rot="20552400">
            <a:off x="5564160" y="3358800"/>
            <a:ext cx="1671840" cy="6174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AutoShape 12"/>
          <p:cNvSpPr/>
          <p:nvPr/>
        </p:nvSpPr>
        <p:spPr>
          <a:xfrm flipH="1" rot="163800">
            <a:off x="2484360" y="3600000"/>
            <a:ext cx="1638360" cy="560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Date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3538-159D-4C9E-A03D-72C36226DAE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Picture 13" descr=""/>
          <p:cNvPicPr/>
          <p:nvPr/>
        </p:nvPicPr>
        <p:blipFill>
          <a:blip r:embed="rId1"/>
          <a:stretch/>
        </p:blipFill>
        <p:spPr>
          <a:xfrm>
            <a:off x="3959280" y="1665360"/>
            <a:ext cx="4714920" cy="437184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86920" y="1980720"/>
            <a:ext cx="313236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He can see what's in his fold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Date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967E-0306-43C6-A0C8-5B5C63235F3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638680" cy="10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nd use any portion (pattern) of i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34" name="Picture 3" descr=""/>
          <p:cNvPicPr/>
          <p:nvPr/>
        </p:nvPicPr>
        <p:blipFill>
          <a:blip r:embed="rId1"/>
          <a:stretch/>
        </p:blipFill>
        <p:spPr>
          <a:xfrm>
            <a:off x="1405080" y="2808360"/>
            <a:ext cx="6453000" cy="3066840"/>
          </a:xfrm>
          <a:prstGeom prst="rect">
            <a:avLst/>
          </a:prstGeom>
          <a:ln w="0">
            <a:noFill/>
          </a:ln>
        </p:spPr>
      </p:pic>
      <p:sp>
        <p:nvSpPr>
          <p:cNvPr id="435" name="Oval 8"/>
          <p:cNvSpPr/>
          <p:nvPr/>
        </p:nvSpPr>
        <p:spPr>
          <a:xfrm>
            <a:off x="4024440" y="4305240"/>
            <a:ext cx="766800" cy="438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11E9-07B8-4300-88BF-D33573FC3A1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9" name="Text Box 5"/>
          <p:cNvSpPr/>
          <p:nvPr/>
        </p:nvSpPr>
        <p:spPr>
          <a:xfrm>
            <a:off x="395280" y="2023920"/>
            <a:ext cx="3060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Then grab th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eneva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 column (the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names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6" descr=""/>
          <p:cNvPicPr/>
          <p:nvPr/>
        </p:nvPicPr>
        <p:blipFill>
          <a:blip r:embed="rId1"/>
          <a:stretch/>
        </p:blipFill>
        <p:spPr>
          <a:xfrm>
            <a:off x="3600360" y="1700280"/>
            <a:ext cx="5004000" cy="268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Date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EBF0-6FA6-4619-9AEC-C0367FDF685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9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ake sure his own folder is in the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workdir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lis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45" name="Picture 10" descr=""/>
          <p:cNvPicPr/>
          <p:nvPr/>
        </p:nvPicPr>
        <p:blipFill>
          <a:blip r:embed="rId1"/>
          <a:stretch/>
        </p:blipFill>
        <p:spPr>
          <a:xfrm>
            <a:off x="3679920" y="1693800"/>
            <a:ext cx="4932360" cy="26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Date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0506-889A-4AFF-99CF-9659529199C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Picture 8" descr=""/>
          <p:cNvPicPr/>
          <p:nvPr/>
        </p:nvPicPr>
        <p:blipFill>
          <a:blip r:embed="rId1"/>
          <a:stretch/>
        </p:blipFill>
        <p:spPr>
          <a:xfrm>
            <a:off x="3672000" y="1700280"/>
            <a:ext cx="4932360" cy="263988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9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nd bring in his files in the 'R' namespace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51" name="Picture 9" descr=""/>
          <p:cNvPicPr/>
          <p:nvPr/>
        </p:nvPicPr>
        <p:blipFill>
          <a:blip r:embed="rId2"/>
          <a:stretch/>
        </p:blipFill>
        <p:spPr>
          <a:xfrm>
            <a:off x="1908000" y="4165560"/>
            <a:ext cx="5543640" cy="10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15198 L 4.44444E-006 0.00023 E">
                                      <p:cBhvr>
                                        <p:cTn id="127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" dur="2000" fill="hold"/>
                                        <p:tgtEl>
                                          <p:spTgt spid="4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cript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712880"/>
            <a:ext cx="7772400" cy="23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script and the functions in it can be edited via the editor, e.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ED ns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ED ns2.tfn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A60C-DC86-4DF1-83FA-F4728A4781A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4856040" y="3465360"/>
            <a:ext cx="325764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A905-1CC3-4E16-8592-A20D13DFB61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 can now repeat this procedure each time he )LOADs the workspace or )SAVE his own copy (e.g. 'tester1robots') which can be )loaded instea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8C8A-4CE4-417B-B37A-2156B0ADC38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, and any other tester that has done the same thing, can now test the system and update it independent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0" name="AutoShape 9"/>
          <p:cNvSpPr/>
          <p:nvPr/>
        </p:nvSpPr>
        <p:spPr>
          <a:xfrm>
            <a:off x="3851280" y="3681360"/>
            <a:ext cx="1260360" cy="1332000"/>
          </a:xfrm>
          <a:prstGeom prst="flowChartMagneticDisk">
            <a:avLst/>
          </a:prstGeom>
          <a:solidFill>
            <a:srgbClr val="bbe0e3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AutoShape 18"/>
          <p:cNvSpPr/>
          <p:nvPr/>
        </p:nvSpPr>
        <p:spPr>
          <a:xfrm>
            <a:off x="1332000" y="335772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9"/>
          <p:cNvSpPr/>
          <p:nvPr/>
        </p:nvSpPr>
        <p:spPr>
          <a:xfrm>
            <a:off x="1368360" y="5013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20"/>
          <p:cNvSpPr/>
          <p:nvPr/>
        </p:nvSpPr>
        <p:spPr>
          <a:xfrm>
            <a:off x="7345440" y="285264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AutoShape 21"/>
          <p:cNvSpPr/>
          <p:nvPr/>
        </p:nvSpPr>
        <p:spPr>
          <a:xfrm>
            <a:off x="7056360" y="5229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odifying the co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6011-45AB-4B44-AD56-1F0FCFB7007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tretch/>
        </p:blipFill>
        <p:spPr>
          <a:xfrm>
            <a:off x="1468440" y="1932120"/>
            <a:ext cx="6276960" cy="407664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3" descr=""/>
          <p:cNvPicPr/>
          <p:nvPr/>
        </p:nvPicPr>
        <p:blipFill>
          <a:blip r:embed="rId2"/>
          <a:stretch/>
        </p:blipFill>
        <p:spPr>
          <a:xfrm>
            <a:off x="1468440" y="1932120"/>
            <a:ext cx="6276960" cy="40766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4" descr=""/>
          <p:cNvPicPr/>
          <p:nvPr/>
        </p:nvPicPr>
        <p:blipFill>
          <a:blip r:embed="rId3"/>
          <a:stretch/>
        </p:blipFill>
        <p:spPr>
          <a:xfrm>
            <a:off x="1468440" y="1932120"/>
            <a:ext cx="6276960" cy="40766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5" descr=""/>
          <p:cNvPicPr/>
          <p:nvPr/>
        </p:nvPicPr>
        <p:blipFill>
          <a:blip r:embed="rId4"/>
          <a:stretch/>
        </p:blipFill>
        <p:spPr>
          <a:xfrm>
            <a:off x="1468440" y="1932120"/>
            <a:ext cx="6276960" cy="40766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"/>
          <p:cNvPicPr/>
          <p:nvPr/>
        </p:nvPicPr>
        <p:blipFill>
          <a:blip r:embed="rId5"/>
          <a:stretch/>
        </p:blipFill>
        <p:spPr>
          <a:xfrm>
            <a:off x="1468440" y="1932120"/>
            <a:ext cx="6276960" cy="40766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"/>
          <p:cNvPicPr/>
          <p:nvPr/>
        </p:nvPicPr>
        <p:blipFill>
          <a:blip r:embed="rId6"/>
          <a:stretch/>
        </p:blipFill>
        <p:spPr>
          <a:xfrm>
            <a:off x="1468440" y="1932120"/>
            <a:ext cx="6276960" cy="40766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9" descr=""/>
          <p:cNvPicPr/>
          <p:nvPr/>
        </p:nvPicPr>
        <p:blipFill>
          <a:blip r:embed="rId7"/>
          <a:stretch/>
        </p:blipFill>
        <p:spPr>
          <a:xfrm>
            <a:off x="3352680" y="2562120"/>
            <a:ext cx="243864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6" descr=""/>
          <p:cNvPicPr/>
          <p:nvPr/>
        </p:nvPicPr>
        <p:blipFill>
          <a:blip r:embed="rId1"/>
          <a:stretch/>
        </p:blipFill>
        <p:spPr>
          <a:xfrm>
            <a:off x="1724040" y="2004840"/>
            <a:ext cx="5905440" cy="390528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iew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3D37-BA1D-4018-8FE4-32BE35D6975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Picture 5" descr=""/>
          <p:cNvPicPr/>
          <p:nvPr/>
        </p:nvPicPr>
        <p:blipFill>
          <a:blip r:embed="rId2"/>
          <a:stretch/>
        </p:blipFill>
        <p:spPr>
          <a:xfrm>
            <a:off x="1724040" y="2004840"/>
            <a:ext cx="5905440" cy="3905280"/>
          </a:xfrm>
          <a:prstGeom prst="rect">
            <a:avLst/>
          </a:prstGeom>
          <a:ln w="0">
            <a:noFill/>
          </a:ln>
        </p:spPr>
      </p:pic>
      <p:sp>
        <p:nvSpPr>
          <p:cNvPr id="480" name="Oval 12"/>
          <p:cNvSpPr/>
          <p:nvPr/>
        </p:nvSpPr>
        <p:spPr>
          <a:xfrm>
            <a:off x="6872400" y="4597560"/>
            <a:ext cx="1022400" cy="912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iew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7F99-CD0F-4E2D-BEDC-5E56E85818E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Picture 2" descr=""/>
          <p:cNvPicPr/>
          <p:nvPr/>
        </p:nvPicPr>
        <p:blipFill>
          <a:blip r:embed="rId1"/>
          <a:stretch/>
        </p:blipFill>
        <p:spPr>
          <a:xfrm>
            <a:off x="1103400" y="1822320"/>
            <a:ext cx="702468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Date Placeholder 4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018F-2955-447A-B1BB-E13424F3CE7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338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When changes are ready to be checked in you do (here DANIMAL has been changed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89" name="Picture 5" descr=""/>
          <p:cNvPicPr/>
          <p:nvPr/>
        </p:nvPicPr>
        <p:blipFill>
          <a:blip r:embed="rId1"/>
          <a:stretch/>
        </p:blipFill>
        <p:spPr>
          <a:xfrm>
            <a:off x="4788000" y="1736640"/>
            <a:ext cx="3971880" cy="240048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4795920" y="1727280"/>
            <a:ext cx="3971880" cy="40482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8" descr=""/>
          <p:cNvPicPr/>
          <p:nvPr/>
        </p:nvPicPr>
        <p:blipFill>
          <a:blip r:embed="rId3"/>
          <a:stretch/>
        </p:blipFill>
        <p:spPr>
          <a:xfrm>
            <a:off x="4535640" y="1557360"/>
            <a:ext cx="4362120" cy="46576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9" descr=""/>
          <p:cNvPicPr/>
          <p:nvPr/>
        </p:nvPicPr>
        <p:blipFill>
          <a:blip r:embed="rId4"/>
          <a:stretch/>
        </p:blipFill>
        <p:spPr>
          <a:xfrm>
            <a:off x="4535640" y="1563840"/>
            <a:ext cx="4362120" cy="46576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1" descr=""/>
          <p:cNvPicPr/>
          <p:nvPr/>
        </p:nvPicPr>
        <p:blipFill>
          <a:blip r:embed="rId5"/>
          <a:stretch/>
        </p:blipFill>
        <p:spPr>
          <a:xfrm>
            <a:off x="3672000" y="2529000"/>
            <a:ext cx="527688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1950-3FFC-46D6-BC30-B241DEDFF24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, and any other tester that has done the same thing, can now test the system and update it independent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8" name="AutoShape 4"/>
          <p:cNvSpPr/>
          <p:nvPr/>
        </p:nvSpPr>
        <p:spPr>
          <a:xfrm>
            <a:off x="3959280" y="3681360"/>
            <a:ext cx="1260360" cy="13320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5"/>
          <p:cNvSpPr/>
          <p:nvPr/>
        </p:nvSpPr>
        <p:spPr>
          <a:xfrm>
            <a:off x="1332000" y="335772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6"/>
          <p:cNvSpPr/>
          <p:nvPr/>
        </p:nvSpPr>
        <p:spPr>
          <a:xfrm>
            <a:off x="1368360" y="5013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7"/>
          <p:cNvSpPr/>
          <p:nvPr/>
        </p:nvSpPr>
        <p:spPr>
          <a:xfrm>
            <a:off x="7345440" y="285264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8"/>
          <p:cNvSpPr/>
          <p:nvPr/>
        </p:nvSpPr>
        <p:spPr>
          <a:xfrm>
            <a:off x="7056360" y="5229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9"/>
          <p:cNvSpPr/>
          <p:nvPr/>
        </p:nvSpPr>
        <p:spPr>
          <a:xfrm rot="559800">
            <a:off x="2555640" y="3715920"/>
            <a:ext cx="1187280" cy="468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0"/>
          <p:cNvSpPr/>
          <p:nvPr/>
        </p:nvSpPr>
        <p:spPr>
          <a:xfrm rot="20589000">
            <a:off x="2592000" y="4868640"/>
            <a:ext cx="1187640" cy="468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1"/>
          <p:cNvSpPr/>
          <p:nvPr/>
        </p:nvSpPr>
        <p:spPr>
          <a:xfrm flipH="1" rot="20640600">
            <a:off x="5472000" y="3573360"/>
            <a:ext cx="1261080" cy="468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3"/>
          <p:cNvSpPr/>
          <p:nvPr/>
        </p:nvSpPr>
        <p:spPr>
          <a:xfrm flipH="1" rot="978000">
            <a:off x="5434920" y="4939920"/>
            <a:ext cx="1260360" cy="468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AFCA-500D-47CE-8FE1-8CBFFCBD92C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VC should be able to handle conflicts, report on differences and generate complete new systems from the current repositor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CD21-7F96-49EC-9615-ABF2E65A803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local or smaller systems you may choose to use SALT's limited versioning and comparing abilities but a solid Version Control system is a must for large system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69E7-9DF3-4198-B7DC-2F47AE6969C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y version control will probably do but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well supported and well documen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it's fre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6EAB-E305-49A4-A36E-A0F87AA4F70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01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How do we do it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661840"/>
            <a:ext cx="777240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We'll see the conversion process a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ow to use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,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third party product, to control its versioning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712A-581F-4DCC-8245-6709A83891C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tu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BAAD is a military weapons manufacturing compan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ne of its best sellers is the SD2, a device used to search and destroy specific targe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6C96-E22D-4F81-9EDC-842F95DF308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BAAD's SD2 produ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s unit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s self contained: its behaviour is set once and does not require external inpu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several (possibly 1000s) models, each with a different code name. The logic (code) of each is uniqu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nb</cp:lastModifiedBy>
  <dcterms:modified xsi:type="dcterms:W3CDTF">2008-12-02T20:23:09Z</dcterms:modified>
  <cp:revision>3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