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media/image8.png" ContentType="image/png"/>
  <Override PartName="/ppt/media/image13.png" ContentType="image/png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CC38-05FD-4DF9-8BC3-C09DC5F34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C567-44FB-4BDC-BA47-DDFF209CA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FD2A-6ABD-432B-8424-42D4A4719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e of the class is un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DAB8-8E2E-40E6-963B-E337BA108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93B2-A1B0-411C-828B-2759B51B7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to generate general help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6460-8388-4C1B-80E8-13CF2A047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30E9-C40D-4D4F-9077-8783A5370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8BA1-3D8C-4622-9B5A-65BED10F5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51AA-891F-4D83-80D2-B5BE1328C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1ADC-CB0A-48DF-8697-B885B1C13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8ECD-ECD3-48B9-8F24-A1DFD36FE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6CF2-3851-488C-955A-76566A676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ny ways it is like Users Commands in APL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754F-B468-4ED9-86A7-9E38A22D2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FCF6-E171-4811-BE96-EF1C64B26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FFA1-9477-4358-8670-C0DD58B9D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EE63-272D-41B3-9179-B90B17BD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41EF-1DD9-47FF-9EEB-A91AF6F8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87B0-025B-4AC7-B47A-620171412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7858-A066-40EA-A41B-3C7CD3BB4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294D-4C89-42E7-B045-2B9D0FD9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0BEB-7617-4F54-B7CD-AAFB6E93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E2FD-B301-494C-8E51-C49236DC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2634-6E36-4594-99D6-9CCA8EA2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FBEC-65AA-47B8-96D3-5F859EAA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A108-8FF5-4485-AC3E-D8055C6B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8106-6687-4D59-BD27-FB0AF0B4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E360-380B-4EA0-A071-DC9638D3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24000" y="6381360"/>
            <a:ext cx="2248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84720" y="6337080"/>
            <a:ext cx="69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D943-3177-416C-BF3B-19D7E97B3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WordArt 8"/>
          <p:cNvSpPr txBox="1"/>
          <p:nvPr/>
        </p:nvSpPr>
        <p:spPr>
          <a:xfrm>
            <a:off x="1258920" y="1700280"/>
            <a:ext cx="6710400" cy="42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99">
                    <a:alpha val="41000"/>
                  </a:srgbClr>
                </a:solidFill>
                <a:latin typeface="Arial Black"/>
              </a:rPr>
              <a:t>SPICE</a:t>
            </a:r>
            <a:endParaRPr b="0" lang="en-US" sz="1800" spc="1" strike="noStrike">
              <a:ln w="0">
                <a:noFill/>
              </a:ln>
              <a:solidFill>
                <a:srgbClr val="ffff99">
                  <a:alpha val="41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6" name="Picture 9" descr="dyalog_noapl"/>
          <p:cNvPicPr/>
          <p:nvPr/>
        </p:nvPicPr>
        <p:blipFill>
          <a:blip r:embed="rId2"/>
          <a:stretch/>
        </p:blipFill>
        <p:spPr>
          <a:xfrm>
            <a:off x="250920" y="189000"/>
            <a:ext cx="2382840" cy="4492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pdfgreyline"/>
          <p:cNvPicPr/>
          <p:nvPr/>
        </p:nvPicPr>
        <p:blipFill>
          <a:blip r:embed="rId3"/>
          <a:stretch/>
        </p:blipFill>
        <p:spPr>
          <a:xfrm>
            <a:off x="279360" y="692280"/>
            <a:ext cx="8604360" cy="1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Book Antiqua"/>
              </a:rPr>
              <a:t>Spice</a:t>
            </a:r>
            <a:br>
              <a:rPr sz="6600"/>
            </a:br>
            <a:r>
              <a:rPr b="0" lang="en-GB" sz="6600" spc="-1" strike="noStrike">
                <a:solidFill>
                  <a:srgbClr val="000000"/>
                </a:solidFill>
                <a:latin typeface="Book Antiqua"/>
              </a:rPr>
              <a:t>in Dyalo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5878080"/>
            <a:ext cx="6400800" cy="5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1.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1C44-3193-49B1-8011-EA4429286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ce commands are kept in script files, like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ce files have a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.</a:t>
            </a:r>
            <a:r>
              <a:rPr b="0" i="1" lang="en-US" sz="3200" spc="-1" strike="noStrike">
                <a:solidFill>
                  <a:srgbClr val="ffc000"/>
                </a:solidFill>
                <a:latin typeface="Arial"/>
              </a:rPr>
              <a:t>dyalog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pice script files are kept by default in f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[Dyalog]\SALT\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5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6987-0117-431F-A469-916DF1134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cript file contains a class with a number of (presumably) related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ample a script/class could co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and to search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and to replac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A2FB-511E-40D6-84AF-11228FD48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cript file MUST contain at least 3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public share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for the Spice handl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&lt;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&lt;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&lt;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ay contain other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FEC3-4914-485F-913B-E99A5351A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is nilad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returns a list of as many namespaces as there are commands in the script f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: if there are 2 commands in the script file it returns 2 namespa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8D21-9D06-4D7B-9E86-5B4FFA84C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50012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namespace returned by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tains 4 variables; each one is a st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name of the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group the command belong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Des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short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Par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pars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D99B-8940-4362-B872-5E3DEF06E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single word, e.g.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lo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single word, e.g.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Des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sentence, e.g.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Find string in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Par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string describing the command syntax, e.g.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2 –exclude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4B77-14D3-4C33-A045-CECD7ACC9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(example with 2 cm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∇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←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:Access Shared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←⎕NS¨2⍴⊂'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.Name←'Locate' 'Replace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.Group←⊂'Files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.Parse←'1' '2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[1].Desc←'Find a string in files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[2].Desc←'Replace a string by another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D639-0A0F-44B3-A7A7-2CA8B6D32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is monad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akes a string naming the command to return detailed help for, e.g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returns a string describing help for that com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8A90-A2D4-4715-B5FE-E3CC228BF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(example with 2 cm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∇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←Help C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:Access Shared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←'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,←⊂'Arg: string; shows where the string is found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,←⊂'Arg: 2 strings; replace the first one by the other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←r⊃⍨'Locate' 'Replace'⍳⊂C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0045-A6C2-434E-9C0F-4A58FE0E4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is monad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akes 2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ing naming the command to deal with, e.g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ther a string or a namespace which is the argument to the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1066-7F64-4039-ACAF-5CD820916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is a user command hand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 V11 &amp; V12 it uses an input area at the bottom of the screen to issue user defined commands using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an be initialized directly from SAL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8"/>
          <p:cNvGrpSpPr/>
          <p:nvPr/>
        </p:nvGrpSpPr>
        <p:grpSpPr>
          <a:xfrm>
            <a:off x="2286000" y="4334040"/>
            <a:ext cx="4800600" cy="2038320"/>
            <a:chOff x="2286000" y="4334040"/>
            <a:chExt cx="4800600" cy="2038320"/>
          </a:xfrm>
        </p:grpSpPr>
        <p:pic>
          <p:nvPicPr>
            <p:cNvPr id="59" name="Picture 5" descr=""/>
            <p:cNvPicPr/>
            <p:nvPr/>
          </p:nvPicPr>
          <p:blipFill>
            <a:blip r:embed="rId2"/>
            <a:stretch/>
          </p:blipFill>
          <p:spPr>
            <a:xfrm>
              <a:off x="2514600" y="4334040"/>
              <a:ext cx="4286160" cy="20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Oval 6"/>
            <p:cNvSpPr/>
            <p:nvPr/>
          </p:nvSpPr>
          <p:spPr>
            <a:xfrm>
              <a:off x="2286000" y="5410080"/>
              <a:ext cx="4800600" cy="6098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>
              <a:off x="2819520" y="4991040"/>
              <a:ext cx="2209680" cy="2286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1916-31A3-4780-989B-A9828DBE8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(example with 2 cm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∇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r←Run(Cmd ca);ct;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:Access Shared 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r←0 0⍴'' ⋄ ct←⎕SE.SALT.Load'Utils\fileUtils -noname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w←##.textUtils.splitOn⍨⎕SE.SALT.Settings'workdir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:Select C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:Case 1⊃Fns ⋄ w ct.showExpr¨⊂ca.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:Case 2⊃Fns </a:t>
            </a:r>
            <a:r>
              <a:rPr b="0" lang="en-GB" sz="1800" spc="-1" strike="noStrike">
                <a:solidFill>
                  <a:srgbClr val="000000"/>
                </a:solidFill>
                <a:latin typeface="APL385 Unicode"/>
              </a:rPr>
              <a:t>⋄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w ct.replExpr¨⊂ca.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:End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DDA3-B854-45C3-97C1-9E44F61F5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e script Spice\aSample.dy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ontains 2 examples of Spice comma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pars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specific pars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F436-2636-4D43-9AB9-89C483EC5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445680" y="1625760"/>
            <a:ext cx="654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yntax is described in the hel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8"/>
          <p:cNvGrpSpPr/>
          <p:nvPr/>
        </p:nvGrpSpPr>
        <p:grpSpPr>
          <a:xfrm>
            <a:off x="1689120" y="2263680"/>
            <a:ext cx="6240240" cy="4093920"/>
            <a:chOff x="1689120" y="2263680"/>
            <a:chExt cx="6240240" cy="4093920"/>
          </a:xfrm>
        </p:grpSpPr>
        <p:pic>
          <p:nvPicPr>
            <p:cNvPr id="180" name="Picture 4" descr=""/>
            <p:cNvPicPr/>
            <p:nvPr/>
          </p:nvPicPr>
          <p:blipFill>
            <a:blip r:embed="rId1"/>
            <a:stretch/>
          </p:blipFill>
          <p:spPr>
            <a:xfrm>
              <a:off x="1689120" y="2263680"/>
              <a:ext cx="6240240" cy="40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Oval 7"/>
            <p:cNvSpPr/>
            <p:nvPr/>
          </p:nvSpPr>
          <p:spPr>
            <a:xfrm>
              <a:off x="3515760" y="4373640"/>
              <a:ext cx="3422160" cy="4262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1518-36BA-48EE-9B6A-18ADD6D1B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7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6276960" cy="35434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446400" y="1625760"/>
            <a:ext cx="76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the syntax is wrong Spice will compl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1116000" y="4508640"/>
            <a:ext cx="2665440" cy="433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3492360" y="3429000"/>
            <a:ext cx="3240360" cy="287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5"/>
          <p:cNvSpPr/>
          <p:nvPr/>
        </p:nvSpPr>
        <p:spPr>
          <a:xfrm>
            <a:off x="1989000" y="5138640"/>
            <a:ext cx="129708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0"/>
          <p:cNvSpPr/>
          <p:nvPr/>
        </p:nvSpPr>
        <p:spPr>
          <a:xfrm>
            <a:off x="3654000" y="507204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No argument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Straight Arrow Connector 12"/>
          <p:cNvCxnSpPr>
            <a:stCxn id="190" idx="1"/>
            <a:endCxn id="189" idx="6"/>
          </p:cNvCxnSpPr>
          <p:nvPr/>
        </p:nvCxnSpPr>
        <p:spPr>
          <a:xfrm flipH="1">
            <a:off x="3285720" y="5255280"/>
            <a:ext cx="357840" cy="100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AD03-8CC3-43CE-BE3E-453230305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7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7129440" cy="3743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447480" y="1625760"/>
            <a:ext cx="64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the syntax is right Spice will do 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5"/>
          <p:cNvSpPr/>
          <p:nvPr/>
        </p:nvSpPr>
        <p:spPr>
          <a:xfrm>
            <a:off x="1763640" y="5138640"/>
            <a:ext cx="129708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3348000" y="3429000"/>
            <a:ext cx="3600360" cy="287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8"/>
          <p:cNvSpPr/>
          <p:nvPr/>
        </p:nvSpPr>
        <p:spPr>
          <a:xfrm>
            <a:off x="6199200" y="3889440"/>
            <a:ext cx="72072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956C-ED4F-4916-9E3E-25681FD22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command lo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APL is installed Spice commands location is [Dyalog]\SALT\spice but you can chang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ALT settings contain Spice’s commands location in </a:t>
            </a:r>
            <a:r>
              <a:rPr b="0" lang="en-GB" sz="3200" spc="-1" strike="noStrike">
                <a:solidFill>
                  <a:srgbClr val="ffc000"/>
                </a:solidFill>
                <a:latin typeface="Arial"/>
              </a:rPr>
              <a:t>cmddi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Arial"/>
              </a:rPr>
              <a:t>]setting  </a:t>
            </a:r>
            <a:r>
              <a:rPr b="1" lang="en-GB" sz="3200" spc="-1" strike="noStrike">
                <a:solidFill>
                  <a:srgbClr val="ffc000"/>
                </a:solidFill>
                <a:latin typeface="Arial"/>
              </a:rPr>
              <a:t>cmddi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\my\own\user\cm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change the Spice/user commands folder to \my\own\user\cm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C1E8-B4CD-4000-9AD8-FFFBDFB25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ecial Spice com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985080" cy="34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6EC5-636D-4C77-9A3D-C46287175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is a development 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an be used to store frequently used (and even less frequently used) use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4"/>
          <p:cNvSpPr/>
          <p:nvPr/>
        </p:nvSpPr>
        <p:spPr>
          <a:xfrm flipV="1">
            <a:off x="8244000" y="476280"/>
            <a:ext cx="287280" cy="503280"/>
          </a:xfrm>
          <a:custGeom>
            <a:avLst/>
            <a:gdLst>
              <a:gd name="textAreaLeft" fmla="*/ 59760 w 287280"/>
              <a:gd name="textAreaRight" fmla="*/ 227520 w 287280"/>
              <a:gd name="textAreaTop" fmla="*/ 104760 h 503280"/>
              <a:gd name="textAreaBottom" fmla="*/ 3985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6126-670A-4DD2-92DA-88D383726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hort 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information can be found in the Spice doc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alog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4"/>
          <p:cNvSpPr/>
          <p:nvPr/>
        </p:nvSpPr>
        <p:spPr>
          <a:xfrm flipV="1">
            <a:off x="7956720" y="548280"/>
            <a:ext cx="863280" cy="431640"/>
          </a:xfrm>
          <a:custGeom>
            <a:avLst/>
            <a:gdLst>
              <a:gd name="textAreaLeft" fmla="*/ 179640 w 863280"/>
              <a:gd name="textAreaRight" fmla="*/ 683640 w 863280"/>
              <a:gd name="textAreaTop" fmla="*/ 89640 h 431640"/>
              <a:gd name="textAreaBottom" fmla="*/ 34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8F97-D705-4A66-B5C0-A0956E435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itializing Sp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can be started automatically when starting APL by setting the SALT registry key AddSPICE to ‘1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8"/>
          <p:cNvGrpSpPr/>
          <p:nvPr/>
        </p:nvGrpSpPr>
        <p:grpSpPr>
          <a:xfrm>
            <a:off x="1546200" y="3206880"/>
            <a:ext cx="6121440" cy="3041640"/>
            <a:chOff x="1546200" y="3206880"/>
            <a:chExt cx="6121440" cy="3041640"/>
          </a:xfrm>
        </p:grpSpPr>
        <p:pic>
          <p:nvPicPr>
            <p:cNvPr id="67" name="Picture 6" descr=""/>
            <p:cNvPicPr/>
            <p:nvPr/>
          </p:nvPicPr>
          <p:blipFill>
            <a:blip r:embed="rId1"/>
            <a:stretch/>
          </p:blipFill>
          <p:spPr>
            <a:xfrm>
              <a:off x="1546200" y="3206880"/>
              <a:ext cx="6121440" cy="30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Oval 7"/>
            <p:cNvSpPr/>
            <p:nvPr/>
          </p:nvSpPr>
          <p:spPr>
            <a:xfrm>
              <a:off x="5689440" y="4476600"/>
              <a:ext cx="274680" cy="3096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Picture 7" descr="MCj03113240000[1]"/>
          <p:cNvPicPr/>
          <p:nvPr/>
        </p:nvPicPr>
        <p:blipFill>
          <a:blip r:embed="rId2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F6A8-0B5C-4774-B23A-16A4FF166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itializing Sp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pice input area can also be started automatically by using the &lt;enableSpice&gt; function in the SALT worksp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LOAD  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MCj03113240000[1]"/>
          <p:cNvPicPr/>
          <p:nvPr/>
        </p:nvPicPr>
        <p:blipFill>
          <a:blip r:embed="rId1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D559-0BD1-49FE-8AA0-747A5FDB9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71640" y="713880"/>
            <a:ext cx="78008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itializing the Spice area in V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onfiguration men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2006640" y="2185920"/>
            <a:ext cx="5641920" cy="4145040"/>
          </a:xfrm>
          <a:prstGeom prst="rect">
            <a:avLst/>
          </a:prstGeom>
          <a:ln w="0">
            <a:noFill/>
          </a:ln>
        </p:spPr>
      </p:pic>
      <p:sp>
        <p:nvSpPr>
          <p:cNvPr id="80" name="Oval 6"/>
          <p:cNvSpPr/>
          <p:nvPr/>
        </p:nvSpPr>
        <p:spPr>
          <a:xfrm>
            <a:off x="1967040" y="3071880"/>
            <a:ext cx="110484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MCj03113240000[1]"/>
          <p:cNvPicPr/>
          <p:nvPr/>
        </p:nvPicPr>
        <p:blipFill>
          <a:blip r:embed="rId2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4960-9321-4837-B6BA-32CC7FB92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itializing Spice in V12.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is no need to initialize the Spice input area in 12.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pice user command handler is always available directly through the ] with 12.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y use ] where you would use the input area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Arial"/>
              </a:rPr>
              <a:t>]myc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MCj03113240000[1]"/>
          <p:cNvPicPr/>
          <p:nvPr/>
        </p:nvPicPr>
        <p:blipFill>
          <a:blip r:embed="rId1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36DC-C630-4118-AA9C-420D56A4F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get a list of all available commands you enter </a:t>
            </a:r>
            <a:r>
              <a:rPr b="0" lang="en-GB" sz="3200" spc="-1" strike="noStrike">
                <a:solidFill>
                  <a:srgbClr val="ffc000"/>
                </a:solidFill>
                <a:latin typeface="Arial"/>
              </a:rPr>
              <a:t>]?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r ‘?’ in the input ar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1"/>
          <a:stretch/>
        </p:blipFill>
        <p:spPr>
          <a:xfrm>
            <a:off x="2124000" y="2374920"/>
            <a:ext cx="5256360" cy="3987720"/>
          </a:xfrm>
          <a:prstGeom prst="rect">
            <a:avLst/>
          </a:prstGeom>
          <a:ln w="0">
            <a:noFill/>
          </a:ln>
        </p:spPr>
      </p:pic>
      <p:sp>
        <p:nvSpPr>
          <p:cNvPr id="92" name="Oval 8"/>
          <p:cNvSpPr/>
          <p:nvPr/>
        </p:nvSpPr>
        <p:spPr>
          <a:xfrm>
            <a:off x="2152800" y="5689440"/>
            <a:ext cx="274320" cy="309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7986600" y="0"/>
            <a:ext cx="92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cc33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10EA-8468-4D96-B20D-7D40EAAFB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1196640"/>
            <a:ext cx="7704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 of a custom Spice command: </a:t>
            </a: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loc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784872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“locat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ring”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locate a regular expression string in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lders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locate </a:t>
            </a: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\b</a:t>
            </a:r>
            <a:r>
              <a:rPr b="1" lang="en-GB" sz="3200" spc="-1" strike="noStrike">
                <a:solidFill>
                  <a:srgbClr val="ff9900"/>
                </a:solidFill>
                <a:latin typeface="Courier New"/>
              </a:rPr>
              <a:t>abc</a:t>
            </a: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&gt;0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find in SALT files where syntactic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 greater than 0 at the end of a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"/>
          <p:cNvSpPr/>
          <p:nvPr/>
        </p:nvSpPr>
        <p:spPr>
          <a:xfrm>
            <a:off x="512640" y="3832200"/>
            <a:ext cx="7515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 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739D-841C-4036-B837-2E67F0E57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sing SALT commands in Sp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SALT commands bu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New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be issued here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save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myclass file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compare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file1 -ver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list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load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myf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removeversions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filex -v=&lt;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j0208400"/>
          <p:cNvPicPr/>
          <p:nvPr/>
        </p:nvPicPr>
        <p:blipFill>
          <a:blip r:embed="rId1"/>
          <a:stretch/>
        </p:blipFill>
        <p:spPr>
          <a:xfrm rot="232800">
            <a:off x="7924680" y="75960"/>
            <a:ext cx="106056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3:21:21Z</dcterms:created>
  <dc:creator>DanB</dc:creator>
  <dc:description/>
  <dc:language>en-US</dc:language>
  <cp:lastModifiedBy>Danb</cp:lastModifiedBy>
  <dcterms:modified xsi:type="dcterms:W3CDTF">2009-09-08T20:00:48Z</dcterms:modified>
  <cp:revision>89</cp:revision>
  <dc:subject/>
  <dc:title>SALT in Dyalog</dc:title>
</cp:coreProperties>
</file>