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30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8B9E-517F-4C79-9CE4-ABAEE839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2991-DCD4-4415-BD4E-E1F717523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3C0-FED5-462B-A594-68D98D5E0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F80C-D122-4C56-B508-ACE42EB47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llie inherits 3 members (fields) and creates 1 of it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vector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8403-0DB7-43B5-AF2D-957B2325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7BA-2D0C-432F-8506-52710488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EEEB-3AD4-489A-9A4E-9B7CACDC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6752-F876-4AA6-9912-2E4B1D635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0145-7D09-4CCA-AAF5-2C69A406C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154-589D-4142-A930-F7E4D46A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39F6-5E28-4125-B8B6-E9AF179AB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ID is 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493D-1317-49C8-99EE-DC8EBAF3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10D4-5559-4EF7-91D7-928F7051A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AA25-1B02-4473-B87F-2101135B7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6485-1199-4FB9-BD9B-C1676959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4E14-20F2-4A2D-9679-7D906CB1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5D98-4A2F-4A59-A7E1-DA23E446F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AE57-8243-4D07-996E-85D5D2D1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VE button is still a du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775D-7476-4EA4-9989-9FA67105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3FF-060F-4648-BFE4-95E2669D1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D062-10D1-4449-848F-97BC2395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trig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2F52-B1DB-402D-8B75-D54D98CA4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6F8E-D9B6-43A8-B570-549DC1171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cies came up with a solution to this problem and invented their own Code Management Systems to group code &amp; data into units but this took a lot of man-days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had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7821-6FE3-40EC-B0DE-8983DBAAE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no real need to make that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57F-C0F9-4B9D-A731-2EA6F8A37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eate the other property I. There are 2 ways to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9655-0C1A-4989-B12F-DC04DB465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returns a sc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7EB8-A794-4328-B227-F2186174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oblems are still the same tho: name clashing &amp; cleaning after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ECA-7557-4DFD-8DC4-B0DBF84C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3432-0CEF-4C87-BF3D-F831216B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eturns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use of []TH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A8BE-DEE9-4EA8-B006-2D5711FB6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no []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7AAE-9827-4A86-B358-5856E7F3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programmers invented tricks to shadow the names and execute code hidden on the stack but that was like a crutch, something better w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94E-297C-4073-9761-FA9366A4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3D5-C922-4CA9-8646-5C7B96F5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0EC3-71AE-4811-BBB4-5376B5FB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1E6C-F5DE-4F4A-9929-EC097D966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kspace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A12-278D-41B1-A6F2-185B7CA0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2A1B-9A90-4020-B3E3-3D2E007F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 in languages that support it (like C). All these structures ar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1E1C-4B01-44F5-96C7-8E482FEE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0B15-2FE9-40C2-836D-7BD0710C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C89-0694-4962-AF17-0F6A59D7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Basic had no concept of function &amp; local variable, trad system have no concept of objects and their "local"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D804-95A2-4734-B739-94D498D6A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ne terms to be used in order to speak the same "LANGUA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CC46-419C-4BF4-90B5-891DAE3A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a survey of nearly 40 years of computing literature identified a number of fundamental concepts, identified in the strong majority of definitions of O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following slides some of the terms used (e.g. SHARED=STATIC) vary from one implementation/languag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50F-BD07-411B-9CDB-36702D7DD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ext in green refers to items already implemented in Dyalog AP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1271-F668-4062-BD20-F540E2C1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5A0-1756-4319-BAB2-2FB5453A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B2F-6F2A-4D92-8EB6-D326769A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utlet is the interface to use to connect into the electrical net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ances must conform to be able to plug into it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1FE-586B-4822-B4ED-7423BEBC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ctions are said to be abstract because they do not have code, only synt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classes are ABSTRACT and cannot be instantiated. Just like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BFFD-E946-4015-9D75-D894912C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ime permits show OO implementation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7509-217F-4242-96FD-2719481B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or others – ex: photoshop plugins which state how to access their inn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how you present yourself to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77D-42DC-48E4-AAFF-AA6B5D1A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8894-D22B-4F12-A254-AD9CF207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860A-7665-4858-98DC-73FBC5B2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k of an object (namespace) as a mini workspace which can be initialized ([]LX) via a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316-1EF0-467A-BD9C-18BA5C35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4935-0096-401D-BDDD-7259B5351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D=STATIC in C#. Shared members are common to all instances and do not need or cannot be copied, e.g. global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F1C-85C5-4252-9C18-96BDD797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practice APL does not copy the me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FCF-CDDB-492A-9EE1-8C3588D50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7ED-4A70-48AA-8EB0-F6D96F03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6044-D3F4-473A-9927-7D53B7E7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7EE1-6CE2-4BDB-8F69-6B3AF48C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3588-32E5-405B-A632-D77199D0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s are commonly used as a means of interprocess communication 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F615-C6D6-4256-B987-E5827032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which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hing we (programmers) are familiar with: modify code to get new code OR call existing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738-7DDA-4A56-9617-CEBFEE29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820-F8E0-45AA-B819-E2CCCC64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B917-DEB0-490D-98A6-7D757CFC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66FF-5BA1-400A-98AC-4F2B55BA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way to achieve (some sort of) multiple inheritance is by using multiple implem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6405-6E4A-4BDF-9AEB-4306D4F6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5CAA-FD24-406D-B411-252005744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B6EC-C832-41DF-A0FE-FBFA9BDC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5D0-0C8C-47EA-A710-EB52C494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1BC2-1E4A-43B4-AC32-5CBCB9F5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 SIMULA was the 1</a:t>
            </a:r>
            <a:r>
              <a:rPr b="0" lang="fr-CA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 object language. Others; Eiffel, CLOS, SELF, Java, B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Unlike APL it has been GROWING since the 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FF82-C6D7-456F-B1D9-E1A0AF59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one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BF5-D0FB-48BE-ABFE-9739A9E0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RIDE is also known as VIRTUAL in some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A and B a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independ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&lt;M2&gt; is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brouti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F6B1-7B03-4EF1-959F-3E2E1C0D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5D5-5495-409B-BE5D-0F54BE40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C24D-C5BF-4DA0-B8B6-779A565F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can be overridden and it is effectively don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F31C-55C5-45D3-9EFE-B1A1EE852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E834-A4E6-444A-826D-048E662D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. private=local for a function,public=globa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BA0B-604F-4BF9-9AE0-96AE795F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like localized vars in APL (except that they cannot be seen in subfns)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2A8-4732-4E47-8FEB-B4E01FE1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, they can be reached up the stack by called functions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BD7E-B267-4FC1-BE5A-B26EB59D4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 like ctrl struct were a new concept for programmers, oo is another step in the sam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06BD-3CB5-4A04-8F61-27CFBFCB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glob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0186-4CBF-4394-B6E3-80D8A6A6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elevator &amp; its repairman. He has access to the inner workings of the elev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187-5EF2-4685-B7A4-13137C6C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98F8-2E41-428B-9539-281C8C38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F2C9-7A88-49AA-8397-82590B81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PL most fns are overloa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24C2-639C-4E31-B987-8A51D6B2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arguments have to be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coerce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o a new type to achieve proper behavi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6557-2BCC-439E-BF07-DCA00FD5E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rder to delve into the OO paradigm we need to understand a few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digm=theoretical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D411-6BE6-4DF2-B55D-9FC1A2EF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3CF7-7554-44D8-8FF9-7682F8E7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E79E-4A34-458F-B288-23B0F0D9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960-C7AE-404F-BB34-9057EBF5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CLASSES is a new system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D9E-F202-43E9-BF1E-DAE9A695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29A-7B41-4863-95D4-52E46196D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A3BA-9036-4173-9E1B-508263472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 D-fns &amp; ops cannot be public (they cannot use the :access stat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C95-89B1-4C42-AC47-5F928CFC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re can be many!), NewValue is set &amp; maybe Index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ing of &lt;G/Set&gt; un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9A56-017F-4ED8-9607-15E8909E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me as []NS []OR ‘class’ then call the constructor is per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F372-9DA2-42B5-A250-20287609C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2186-9E9C-4A3E-A3DF-19C959C72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ide the brackets is the name of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of the time this has worked fairly well – and there was no alterna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Slide Number Placeholder 3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2E64-90D1-4FC6-B95A-78AECAAF6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87F-5039-4D25-B621-A12FD1E8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sometimes useful to known who is w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0836-48B5-4540-95BF-D6045284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.Nlegs is not new, it’s been there since refs were introduced. ‘Nlegs’ needs to be in every item of ‘Animal’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398B-5D81-4D14-A2B1-C3D2728A3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DBF7-C3E1-4733-A04E-24F6B14C1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B82F-DAA8-4036-B1B6-7AB153E3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85D-F397-454F-95FF-7C595292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6B3-B883-410F-A973-A94C9FAAE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base call is made at the statement’s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32B-589E-4437-B255-41C5A6C6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specific to 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B2BA-6349-4100-957E-08681B636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788-B6A1-4D71-8F3E-1273C283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93D-7FE2-4740-B563-AE6B7594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676-53DF-41DC-8A44-76B6E1D4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7DC-B8EE-4166-93B6-219258D9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E297-B161-4B43-AB75-BA113AC7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3FA0-B47B-4BC5-81F4-5DC6B69B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7494-0F28-41CC-9770-16A789BD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6ED8-68C2-4E23-85E5-F2375BB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C58A-7F36-41B7-8154-305CF5E7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FB6-DC8F-4E91-BCFC-E06EF753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8B4-2DE5-444D-ABA8-BD01F335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C26-048B-48CD-8749-05CF142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CF19-B0FF-4F8B-B402-95CFFE6B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0D6F-0BF7-44A3-B878-2230CE3C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6FA9-22BE-4831-A79E-E73E7FA5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C63E-48A8-482F-96B0-768BB0A0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26A0-1223-4D03-8782-3419F8B5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322D-E5A3-4054-BCC1-D54A901E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0AC-FFE8-4B2E-8CF0-6660906A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7A2-78FD-49DF-8C22-5908DB12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844B-6F5C-4DD4-B808-225ABD0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2E5-7E6D-4CB8-BFAB-0AE86CB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F56-08B3-4F62-953A-8B0A0760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9C7-1B96-444A-84BA-1D1C7439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D56-8472-4DBD-9475-5D36534A298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D5F-E791-4BD2-84C6-329E2C7B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dyalog.com/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" Target="slide147.xml"/><Relationship Id="rId2" Type="http://schemas.openxmlformats.org/officeDocument/2006/relationships/slide" Target="slide124.xml"/><Relationship Id="rId3" Type="http://schemas.openxmlformats.org/officeDocument/2006/relationships/slide" Target="slide116.xml"/><Relationship Id="rId4" Type="http://schemas.openxmlformats.org/officeDocument/2006/relationships/slide" Target="slide170.xml"/><Relationship Id="rId5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ight Arrow 3"/>
          <p:cNvSpPr/>
          <p:nvPr/>
        </p:nvSpPr>
        <p:spPr>
          <a:xfrm>
            <a:off x="2714760" y="2827440"/>
            <a:ext cx="4000320" cy="12859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ee821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3080" y="1096560"/>
            <a:ext cx="84596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b469ff"/>
                </a:solidFill>
                <a:latin typeface="Geneva"/>
              </a:rPr>
              <a:t>Object Oriented Programming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50920" y="3212640"/>
            <a:ext cx="5113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New Dire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2009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Geneva"/>
              </a:rPr>
              <a:t>V1.22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C440-AB05-4F58-9DE3-054E89B469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5960" y="3319560"/>
            <a:ext cx="581328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98B8-D6C4-461E-BB41-A4F8EE38A0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0" name="Picture 1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5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52" name="Text Box 16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18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55" name="Rectangle 31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2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3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4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35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36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37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193-959E-42D1-A7DE-1CC9AAA7B0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6" name="Text Box 17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605880" y="271476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go over this again slowl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007-DC43-497D-80C9-7C171CEE65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5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←⎕NEW Collie ‘Rex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⎕nl 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me  Nlegs  Sounds  Ty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et.(Name Typ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nis familiar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7" descr=""/>
          <p:cNvPicPr/>
          <p:nvPr/>
        </p:nvPicPr>
        <p:blipFill>
          <a:blip r:embed="rId3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977" name="Rectangle 8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9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0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11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12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13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14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15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16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6" name="AutoShape 17"/>
          <p:cNvCxnSpPr>
            <a:stCxn id="985" idx="7"/>
            <a:endCxn id="984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7" name="AutoShape 18"/>
          <p:cNvCxnSpPr>
            <a:stCxn id="980" idx="1"/>
            <a:endCxn id="981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8" name="AutoShape 19"/>
          <p:cNvCxnSpPr>
            <a:stCxn id="982" idx="0"/>
            <a:endCxn id="983" idx="0"/>
          </p:cNvCxnSpPr>
          <p:nvPr/>
        </p:nvCxnSpPr>
        <p:spPr>
          <a:xfrm flipV="1" rot="16200000">
            <a:off x="4382640" y="-218520"/>
            <a:ext cx="423000" cy="4998240"/>
          </a:xfrm>
          <a:prstGeom prst="curvedConnector5">
            <a:avLst>
              <a:gd name="adj1" fmla="val 154088"/>
              <a:gd name="adj2" fmla="val 49996"/>
              <a:gd name="adj3" fmla="val 1540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9" name="Straight Arrow Connector 25"/>
          <p:cNvCxnSpPr/>
          <p:nvPr/>
        </p:nvCxnSpPr>
        <p:spPr>
          <a:xfrm flipH="1">
            <a:off x="2069280" y="242892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0" name="Rectangle 26"/>
          <p:cNvSpPr/>
          <p:nvPr/>
        </p:nvSpPr>
        <p:spPr>
          <a:xfrm>
            <a:off x="4500720" y="2857680"/>
            <a:ext cx="78552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1" name="AutoShape 19"/>
          <p:cNvCxnSpPr>
            <a:stCxn id="990" idx="3"/>
          </p:cNvCxnSpPr>
          <p:nvPr/>
        </p:nvCxnSpPr>
        <p:spPr>
          <a:xfrm>
            <a:off x="5286240" y="3035160"/>
            <a:ext cx="643320" cy="1751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2" name="Rectangle 30"/>
          <p:cNvSpPr/>
          <p:nvPr/>
        </p:nvSpPr>
        <p:spPr>
          <a:xfrm>
            <a:off x="5929200" y="4714920"/>
            <a:ext cx="819360" cy="285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33"/>
          <p:cNvSpPr/>
          <p:nvPr/>
        </p:nvSpPr>
        <p:spPr>
          <a:xfrm>
            <a:off x="1285920" y="2714760"/>
            <a:ext cx="2143080" cy="357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4" name="AutoShape 19"/>
          <p:cNvCxnSpPr>
            <a:endCxn id="990" idx="1"/>
          </p:cNvCxnSpPr>
          <p:nvPr/>
        </p:nvCxnSpPr>
        <p:spPr>
          <a:xfrm>
            <a:off x="3428640" y="2928600"/>
            <a:ext cx="1072440" cy="106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2211-60EE-4D46-8B9E-6181F725850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00000" y="1803240"/>
            <a:ext cx="73440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acces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4B6-6A29-4BE7-9193-5F4E9B104F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321840" y="1844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xpose a member you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mu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ak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) you must use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Access 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te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) you must use this statemen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: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yFiel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title"/>
          </p:nvPr>
        </p:nvSpPr>
        <p:spPr>
          <a:xfrm>
            <a:off x="394920" y="549000"/>
            <a:ext cx="8350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5C27-CC97-41AA-87B1-579CBDDD353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250560" y="163008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ccess is the same for methods (fns) and properti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94920" y="49356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10" name="Group 15"/>
          <p:cNvGrpSpPr/>
          <p:nvPr/>
        </p:nvGrpSpPr>
        <p:grpSpPr>
          <a:xfrm>
            <a:off x="3695760" y="1860480"/>
            <a:ext cx="5268960" cy="4232160"/>
            <a:chOff x="3695760" y="1860480"/>
            <a:chExt cx="5268960" cy="4232160"/>
          </a:xfrm>
        </p:grpSpPr>
        <p:pic>
          <p:nvPicPr>
            <p:cNvPr id="1011" name="Picture 4" descr=""/>
            <p:cNvPicPr/>
            <p:nvPr/>
          </p:nvPicPr>
          <p:blipFill>
            <a:blip r:embed="rId1"/>
            <a:stretch/>
          </p:blipFill>
          <p:spPr>
            <a:xfrm>
              <a:off x="3695760" y="186048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Rectangle 7"/>
            <p:cNvSpPr/>
            <p:nvPr/>
          </p:nvSpPr>
          <p:spPr>
            <a:xfrm>
              <a:off x="4716360" y="337176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8"/>
            <p:cNvSpPr/>
            <p:nvPr/>
          </p:nvSpPr>
          <p:spPr>
            <a:xfrm>
              <a:off x="5508720" y="358920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9"/>
            <p:cNvSpPr/>
            <p:nvPr/>
          </p:nvSpPr>
          <p:spPr>
            <a:xfrm>
              <a:off x="7308720" y="3805200"/>
              <a:ext cx="360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10"/>
            <p:cNvSpPr/>
            <p:nvPr/>
          </p:nvSpPr>
          <p:spPr>
            <a:xfrm>
              <a:off x="5508720" y="4020840"/>
              <a:ext cx="3031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1"/>
            <p:cNvSpPr/>
            <p:nvPr/>
          </p:nvSpPr>
          <p:spPr>
            <a:xfrm>
              <a:off x="6227640" y="423684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2"/>
            <p:cNvSpPr/>
            <p:nvPr/>
          </p:nvSpPr>
          <p:spPr>
            <a:xfrm>
              <a:off x="6227640" y="4452840"/>
              <a:ext cx="3034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3"/>
            <p:cNvSpPr/>
            <p:nvPr/>
          </p:nvSpPr>
          <p:spPr>
            <a:xfrm>
              <a:off x="6227640" y="466848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4"/>
            <p:cNvSpPr/>
            <p:nvPr/>
          </p:nvSpPr>
          <p:spPr>
            <a:xfrm>
              <a:off x="7913520" y="4865400"/>
              <a:ext cx="30348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8DE8-A18E-4B0A-B767-3DBBF526F1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936720" y="1977840"/>
            <a:ext cx="748800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instance gets a copy of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membe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is kept in the class for all instances to see (and us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914-31F4-400D-88C5-93D9DA7A38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609120" y="1773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keepCou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each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its own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D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2D7-3F12-4A15-9606-12C404CC6C2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394920" y="1588680"/>
            <a:ext cx="482436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4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Cou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←0,1,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yID MyNam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1137600" y="246204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'Count' rema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AutoShape 10"/>
          <p:cNvCxnSpPr>
            <a:stCxn id="1034" idx="2"/>
            <a:endCxn id="1036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0" name="AutoShape 11"/>
          <p:cNvCxnSpPr>
            <a:stCxn id="1034" idx="2"/>
            <a:endCxn id="1037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1" name="AutoShape 12"/>
          <p:cNvCxnSpPr>
            <a:stCxn id="1034" idx="2"/>
            <a:endCxn id="1042" idx="0"/>
          </p:cNvCxnSpPr>
          <p:nvPr/>
        </p:nvCxnSpPr>
        <p:spPr>
          <a:xfrm>
            <a:off x="4535280" y="3860640"/>
            <a:ext cx="252324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3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2" name="Rectangle 15"/>
          <p:cNvSpPr/>
          <p:nvPr/>
        </p:nvSpPr>
        <p:spPr>
          <a:xfrm>
            <a:off x="6084720" y="450864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MyID=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yName=XYZ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B41E-8E73-46BA-BA6B-57AF3C12DCE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46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3←⎕new keep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 am XYZ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keepCount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2.⎕nl-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Count  MyName 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      </a:t>
            </a: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in1.Count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Geneva"/>
              </a:rPr>
              <a:t>3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394920" y="56664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000" spc="-1" strike="noStrike">
                <a:solidFill>
                  <a:srgbClr val="333333"/>
                </a:solidFill>
                <a:latin typeface="Geneva"/>
              </a:rPr>
              <a:t>Encapsulation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049" name="Group 10"/>
          <p:cNvGrpSpPr/>
          <p:nvPr/>
        </p:nvGrpSpPr>
        <p:grpSpPr>
          <a:xfrm>
            <a:off x="5035680" y="1460520"/>
            <a:ext cx="3929040" cy="4751280"/>
            <a:chOff x="5035680" y="1460520"/>
            <a:chExt cx="3929040" cy="4751280"/>
          </a:xfrm>
        </p:grpSpPr>
        <p:pic>
          <p:nvPicPr>
            <p:cNvPr id="1050" name="Picture 5" descr=""/>
            <p:cNvPicPr/>
            <p:nvPr/>
          </p:nvPicPr>
          <p:blipFill>
            <a:blip r:embed="rId1"/>
            <a:stretch/>
          </p:blipFill>
          <p:spPr>
            <a:xfrm>
              <a:off x="5035680" y="1460520"/>
              <a:ext cx="39290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Rectangle 6"/>
            <p:cNvSpPr/>
            <p:nvPr/>
          </p:nvSpPr>
          <p:spPr>
            <a:xfrm>
              <a:off x="6162840" y="2520720"/>
              <a:ext cx="2016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7"/>
            <p:cNvSpPr/>
            <p:nvPr/>
          </p:nvSpPr>
          <p:spPr>
            <a:xfrm>
              <a:off x="5683320" y="4339800"/>
              <a:ext cx="57636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"/>
            <p:cNvSpPr/>
            <p:nvPr/>
          </p:nvSpPr>
          <p:spPr>
            <a:xfrm>
              <a:off x="6188040" y="3116160"/>
              <a:ext cx="23749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9"/>
            <p:cNvSpPr/>
            <p:nvPr/>
          </p:nvSpPr>
          <p:spPr>
            <a:xfrm>
              <a:off x="5683320" y="4700160"/>
              <a:ext cx="647640" cy="287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EE98-7038-4E77-8CAB-92ED09AD6B4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428840" y="3500280"/>
            <a:ext cx="6357960" cy="2675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642960" y="2857680"/>
            <a:ext cx="592920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FEEA-3123-406E-874C-B8F0EFC08C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OH, a constructor MAY have severa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5363640" y="1483920"/>
            <a:ext cx="302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F1F2-7EC9-42AE-BDBC-B6961D1D09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title"/>
          </p:nvPr>
        </p:nvSpPr>
        <p:spPr>
          <a:xfrm>
            <a:off x="144360" y="56664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5" name="Text Box 4"/>
          <p:cNvSpPr/>
          <p:nvPr/>
        </p:nvSpPr>
        <p:spPr>
          <a:xfrm>
            <a:off x="395280" y="1892160"/>
            <a:ext cx="4681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ing on the number of arguments, the proper fn will be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16"/>
          <p:cNvGrpSpPr/>
          <p:nvPr/>
        </p:nvGrpSpPr>
        <p:grpSpPr>
          <a:xfrm>
            <a:off x="5715000" y="1857240"/>
            <a:ext cx="2655720" cy="4214880"/>
            <a:chOff x="5715000" y="1857240"/>
            <a:chExt cx="2655720" cy="4214880"/>
          </a:xfrm>
        </p:grpSpPr>
        <p:sp>
          <p:nvSpPr>
            <p:cNvPr id="1067" name="Rectangle 5"/>
            <p:cNvSpPr/>
            <p:nvPr/>
          </p:nvSpPr>
          <p:spPr>
            <a:xfrm>
              <a:off x="5838840" y="242064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6"/>
            <p:cNvSpPr/>
            <p:nvPr/>
          </p:nvSpPr>
          <p:spPr>
            <a:xfrm>
              <a:off x="5838840" y="3328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7"/>
            <p:cNvSpPr/>
            <p:nvPr/>
          </p:nvSpPr>
          <p:spPr>
            <a:xfrm>
              <a:off x="5838840" y="4417920"/>
              <a:ext cx="237708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8"/>
            <p:cNvSpPr/>
            <p:nvPr/>
          </p:nvSpPr>
          <p:spPr>
            <a:xfrm>
              <a:off x="5838840" y="5497560"/>
              <a:ext cx="2377080" cy="2174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1"/>
            <p:cNvSpPr/>
            <p:nvPr/>
          </p:nvSpPr>
          <p:spPr>
            <a:xfrm>
              <a:off x="5715000" y="1857240"/>
              <a:ext cx="2643840" cy="421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Straight Connector 13"/>
            <p:cNvSpPr/>
            <p:nvPr/>
          </p:nvSpPr>
          <p:spPr>
            <a:xfrm>
              <a:off x="5715000" y="29480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Straight Connector 14"/>
            <p:cNvSpPr/>
            <p:nvPr/>
          </p:nvSpPr>
          <p:spPr>
            <a:xfrm>
              <a:off x="5715000" y="385740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Straight Connector 15"/>
            <p:cNvSpPr/>
            <p:nvPr/>
          </p:nvSpPr>
          <p:spPr>
            <a:xfrm>
              <a:off x="5726880" y="4967640"/>
              <a:ext cx="2643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40A-B6B2-48ED-9EE4-DB98D7BBB68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ED to edi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much lik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members (vars &amp; fns) can all be accessed 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W makes an ins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can be based on another on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use constructors to initialize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2EB-7E03-43B1-ACB5-F66FFE6823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714240" y="1933560"/>
            <a:ext cx="778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re are MANY other things related to OO that have been implemented but are out of the scope of this pres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 find more visit Dyalog’s website at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www.dyalog.com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and grab the free document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2FEC-80AD-43E4-913F-617979B3F9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7128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CB6-8BA0-4301-9A02-C4C70A4617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oice of exercis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2" action="ppaction://hlinksldjump"/>
              </a:rPr>
              <a:t>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 formatted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3" action="ppaction://hlinksldjump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raphical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lnet cli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5" name="Rectangle 6">
            <a:hlinkClick r:id="rId4" action="ppaction://hlinksldjump"/>
          </p:cNvPr>
          <p:cNvSpPr/>
          <p:nvPr/>
        </p:nvSpPr>
        <p:spPr>
          <a:xfrm>
            <a:off x="6357960" y="5429160"/>
            <a:ext cx="1785960" cy="571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6A93-9795-4A37-BE20-4AF22A9BCF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riving from Dyalog GUI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sides classes you can write classes derived fro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LE servers/contro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5C49-217F-4642-9D12-7DD3A82617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L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oleclient'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⊂'classname' 'Excel.application'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←'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sent←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System.DateTime.Now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7D16-A9B9-41BE-9E7B-B9BF373BA7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need to write a class that will create a form, just lik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'form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('caption' 'zzz')('size'(100 200)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ith 2 buttons already setup for SAVE and QUIT so we can d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1←⎕new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myForm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(…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F98-7F7E-4690-B856-E2789C83EB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1390680" y="1657440"/>
            <a:ext cx="6362640" cy="4629240"/>
          </a:xfrm>
          <a:prstGeom prst="rect">
            <a:avLst/>
          </a:prstGeom>
          <a:ln w="0">
            <a:noFill/>
          </a:ln>
        </p:spPr>
      </p:pic>
      <p:sp>
        <p:nvSpPr>
          <p:cNvPr id="1116" name="Oval 6"/>
          <p:cNvSpPr/>
          <p:nvPr/>
        </p:nvSpPr>
        <p:spPr>
          <a:xfrm>
            <a:off x="4010040" y="3857760"/>
            <a:ext cx="1133640" cy="407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642680"/>
            <a:ext cx="767232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1F31-8A93-484A-A2AF-2F4D6D8CFA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sUt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42960" y="2214720"/>
            <a:ext cx="7643880" cy="10713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0833 L -0.5382 0.16123 E">
                                      <p:cBhvr>
                                        <p:cTn id="3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8CB6-3CC8-4540-B022-8A5A25915D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1" name="TextBox 6"/>
          <p:cNvSpPr/>
          <p:nvPr/>
        </p:nvSpPr>
        <p:spPr>
          <a:xfrm>
            <a:off x="627480" y="20001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1←⎕new Dialog(‘pref form' (100 500) ⍬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Picture 3" descr=""/>
          <p:cNvPicPr/>
          <p:nvPr/>
        </p:nvPicPr>
        <p:blipFill>
          <a:blip r:embed="rId1"/>
          <a:stretch/>
        </p:blipFill>
        <p:spPr>
          <a:xfrm>
            <a:off x="1714680" y="3071880"/>
            <a:ext cx="57369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DB80-3BCA-48BE-8F84-E892F2C14A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428760" y="2786040"/>
            <a:ext cx="8288280" cy="285768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8"/>
          <p:cNvSpPr/>
          <p:nvPr/>
        </p:nvSpPr>
        <p:spPr>
          <a:xfrm>
            <a:off x="598320" y="1857240"/>
            <a:ext cx="60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lass creates an edit obj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9"/>
          <p:cNvSpPr/>
          <p:nvPr/>
        </p:nvSpPr>
        <p:spPr>
          <a:xfrm>
            <a:off x="3795840" y="4021200"/>
            <a:ext cx="50004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05CA-F524-40FC-8ABA-BA482351E08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567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Preformatted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4" name="TextBox 6"/>
          <p:cNvSpPr/>
          <p:nvPr/>
        </p:nvSpPr>
        <p:spPr>
          <a:xfrm>
            <a:off x="183960" y="1571760"/>
            <a:ext cx="886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←⎕new Dialog('pref form' (200 3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fn←f1.⎕new EditField ('First name:' '' (10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ln←f1.⎕new EditField ('Last name:' '' (38 60) (⍬ 100) ⍬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ad←f1.⎕new EditField ('Address:' '' (66 60) (90 230) (⊂'style' 'multi')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1.(fn ln ad).Text←'Jeremy' 'Cricket'('TopFlower' 'last field'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2" descr=""/>
          <p:cNvPicPr/>
          <p:nvPr/>
        </p:nvPicPr>
        <p:blipFill>
          <a:blip r:embed="rId1">
            <a:alphaModFix amt="26000"/>
          </a:blip>
          <a:stretch/>
        </p:blipFill>
        <p:spPr>
          <a:xfrm>
            <a:off x="2286000" y="3360600"/>
            <a:ext cx="471492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794E-5E65-470E-9871-01330871FE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an interf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FE08-60BB-45E6-A45B-CA0853C3A8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 – Complex nu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rational or “normal number” is a decimal number that can be viewed on the line of “real”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-10                     -5                       0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Geneva"/>
              </a:rPr>
              <a:t>+5.3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                +10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46" name="Group 47"/>
          <p:cNvGrpSpPr/>
          <p:nvPr/>
        </p:nvGrpSpPr>
        <p:grpSpPr>
          <a:xfrm>
            <a:off x="785880" y="4925880"/>
            <a:ext cx="7787160" cy="146160"/>
            <a:chOff x="785880" y="4925880"/>
            <a:chExt cx="7787160" cy="146160"/>
          </a:xfrm>
        </p:grpSpPr>
        <p:cxnSp>
          <p:nvCxnSpPr>
            <p:cNvPr id="1147" name="Straight Arrow Connector 7"/>
            <p:cNvCxnSpPr/>
            <p:nvPr/>
          </p:nvCxnSpPr>
          <p:spPr>
            <a:xfrm>
              <a:off x="785880" y="4999680"/>
              <a:ext cx="77875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148" name="Straight Connector 10"/>
            <p:cNvSpPr/>
            <p:nvPr/>
          </p:nvSpPr>
          <p:spPr>
            <a:xfrm flipH="1">
              <a:off x="4642920" y="492876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Straight Connector 11"/>
            <p:cNvSpPr/>
            <p:nvPr/>
          </p:nvSpPr>
          <p:spPr>
            <a:xfrm flipH="1">
              <a:off x="5000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Straight Connector 12"/>
            <p:cNvSpPr/>
            <p:nvPr/>
          </p:nvSpPr>
          <p:spPr>
            <a:xfrm flipH="1">
              <a:off x="53557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Straight Connector 13"/>
            <p:cNvSpPr/>
            <p:nvPr/>
          </p:nvSpPr>
          <p:spPr>
            <a:xfrm flipH="1">
              <a:off x="5713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Straight Connector 14"/>
            <p:cNvSpPr/>
            <p:nvPr/>
          </p:nvSpPr>
          <p:spPr>
            <a:xfrm flipH="1">
              <a:off x="60717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Straight Connector 15"/>
            <p:cNvSpPr/>
            <p:nvPr/>
          </p:nvSpPr>
          <p:spPr>
            <a:xfrm flipH="1">
              <a:off x="64296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Straight Connector 16"/>
            <p:cNvSpPr/>
            <p:nvPr/>
          </p:nvSpPr>
          <p:spPr>
            <a:xfrm flipH="1">
              <a:off x="67845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Straight Connector 17"/>
            <p:cNvSpPr/>
            <p:nvPr/>
          </p:nvSpPr>
          <p:spPr>
            <a:xfrm flipH="1">
              <a:off x="71424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Straight Connector 32"/>
            <p:cNvSpPr/>
            <p:nvPr/>
          </p:nvSpPr>
          <p:spPr>
            <a:xfrm flipH="1">
              <a:off x="17859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Straight Connector 33"/>
            <p:cNvSpPr/>
            <p:nvPr/>
          </p:nvSpPr>
          <p:spPr>
            <a:xfrm flipH="1">
              <a:off x="2143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Straight Connector 34"/>
            <p:cNvSpPr/>
            <p:nvPr/>
          </p:nvSpPr>
          <p:spPr>
            <a:xfrm flipH="1">
              <a:off x="249876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Straight Connector 35"/>
            <p:cNvSpPr/>
            <p:nvPr/>
          </p:nvSpPr>
          <p:spPr>
            <a:xfrm flipH="1">
              <a:off x="2856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Straight Connector 36"/>
            <p:cNvSpPr/>
            <p:nvPr/>
          </p:nvSpPr>
          <p:spPr>
            <a:xfrm flipH="1">
              <a:off x="3214800" y="492732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Straight Connector 37"/>
            <p:cNvSpPr/>
            <p:nvPr/>
          </p:nvSpPr>
          <p:spPr>
            <a:xfrm flipH="1">
              <a:off x="357264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Straight Connector 38"/>
            <p:cNvSpPr/>
            <p:nvPr/>
          </p:nvSpPr>
          <p:spPr>
            <a:xfrm flipH="1">
              <a:off x="3927600" y="492660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Straight Connector 39"/>
            <p:cNvSpPr/>
            <p:nvPr/>
          </p:nvSpPr>
          <p:spPr>
            <a:xfrm flipH="1">
              <a:off x="4285440" y="492588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Straight Connector 40"/>
            <p:cNvSpPr/>
            <p:nvPr/>
          </p:nvSpPr>
          <p:spPr>
            <a:xfrm flipH="1">
              <a:off x="14288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Straight Connector 41"/>
            <p:cNvSpPr/>
            <p:nvPr/>
          </p:nvSpPr>
          <p:spPr>
            <a:xfrm flipH="1">
              <a:off x="75013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Straight Connector 42"/>
            <p:cNvSpPr/>
            <p:nvPr/>
          </p:nvSpPr>
          <p:spPr>
            <a:xfrm flipH="1">
              <a:off x="785844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Straight Connector 43"/>
            <p:cNvSpPr/>
            <p:nvPr/>
          </p:nvSpPr>
          <p:spPr>
            <a:xfrm flipH="1">
              <a:off x="821412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Straight Connector 44"/>
            <p:cNvSpPr/>
            <p:nvPr/>
          </p:nvSpPr>
          <p:spPr>
            <a:xfrm flipH="1">
              <a:off x="1071360" y="4928040"/>
              <a:ext cx="1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Oval 48"/>
          <p:cNvSpPr/>
          <p:nvPr/>
        </p:nvSpPr>
        <p:spPr>
          <a:xfrm>
            <a:off x="6429240" y="4857840"/>
            <a:ext cx="28584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F60F-4481-4453-AD3D-9304BD4222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2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5480" y="1671120"/>
            <a:ext cx="378612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omplex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a number in th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plan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 rational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re used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18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present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75" name="Group 99"/>
          <p:cNvGrpSpPr/>
          <p:nvPr/>
        </p:nvGrpSpPr>
        <p:grpSpPr>
          <a:xfrm>
            <a:off x="1734120" y="1455480"/>
            <a:ext cx="6338520" cy="5045400"/>
            <a:chOff x="1734120" y="1455480"/>
            <a:chExt cx="6338520" cy="5045400"/>
          </a:xfrm>
        </p:grpSpPr>
        <p:grpSp>
          <p:nvGrpSpPr>
            <p:cNvPr id="1176" name="Group 28"/>
            <p:cNvGrpSpPr/>
            <p:nvPr/>
          </p:nvGrpSpPr>
          <p:grpSpPr>
            <a:xfrm>
              <a:off x="2143080" y="5315400"/>
              <a:ext cx="5929560" cy="142560"/>
              <a:chOff x="2143080" y="5315400"/>
              <a:chExt cx="5929560" cy="142560"/>
            </a:xfrm>
          </p:grpSpPr>
          <p:cxnSp>
            <p:nvCxnSpPr>
              <p:cNvPr id="1177" name="Straight Arrow Connector 29"/>
              <p:cNvCxnSpPr/>
              <p:nvPr/>
            </p:nvCxnSpPr>
            <p:spPr>
              <a:xfrm>
                <a:off x="2143080" y="5387400"/>
                <a:ext cx="5929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178" name="Straight Connector 30"/>
              <p:cNvSpPr/>
              <p:nvPr/>
            </p:nvSpPr>
            <p:spPr>
              <a:xfrm flipH="1">
                <a:off x="5079600" y="531828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Straight Connector 31"/>
              <p:cNvSpPr/>
              <p:nvPr/>
            </p:nvSpPr>
            <p:spPr>
              <a:xfrm flipH="1">
                <a:off x="5352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Straight Connector 45"/>
              <p:cNvSpPr/>
              <p:nvPr/>
            </p:nvSpPr>
            <p:spPr>
              <a:xfrm flipH="1">
                <a:off x="562248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46"/>
              <p:cNvSpPr/>
              <p:nvPr/>
            </p:nvSpPr>
            <p:spPr>
              <a:xfrm flipH="1">
                <a:off x="5895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47"/>
              <p:cNvSpPr/>
              <p:nvPr/>
            </p:nvSpPr>
            <p:spPr>
              <a:xfrm flipH="1">
                <a:off x="61675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48"/>
              <p:cNvSpPr/>
              <p:nvPr/>
            </p:nvSpPr>
            <p:spPr>
              <a:xfrm flipH="1">
                <a:off x="6440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Straight Connector 49"/>
              <p:cNvSpPr/>
              <p:nvPr/>
            </p:nvSpPr>
            <p:spPr>
              <a:xfrm flipH="1">
                <a:off x="67104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Straight Connector 50"/>
              <p:cNvSpPr/>
              <p:nvPr/>
            </p:nvSpPr>
            <p:spPr>
              <a:xfrm flipH="1">
                <a:off x="6982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Straight Connector 51"/>
              <p:cNvSpPr/>
              <p:nvPr/>
            </p:nvSpPr>
            <p:spPr>
              <a:xfrm flipH="1">
                <a:off x="290412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52"/>
              <p:cNvSpPr/>
              <p:nvPr/>
            </p:nvSpPr>
            <p:spPr>
              <a:xfrm flipH="1">
                <a:off x="31766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Straight Connector 53"/>
              <p:cNvSpPr/>
              <p:nvPr/>
            </p:nvSpPr>
            <p:spPr>
              <a:xfrm flipH="1">
                <a:off x="344700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54"/>
              <p:cNvSpPr/>
              <p:nvPr/>
            </p:nvSpPr>
            <p:spPr>
              <a:xfrm flipH="1">
                <a:off x="37195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Straight Connector 55"/>
              <p:cNvSpPr/>
              <p:nvPr/>
            </p:nvSpPr>
            <p:spPr>
              <a:xfrm flipH="1">
                <a:off x="3992040" y="531684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Straight Connector 56"/>
              <p:cNvSpPr/>
              <p:nvPr/>
            </p:nvSpPr>
            <p:spPr>
              <a:xfrm flipH="1">
                <a:off x="426456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Straight Connector 57"/>
              <p:cNvSpPr/>
              <p:nvPr/>
            </p:nvSpPr>
            <p:spPr>
              <a:xfrm flipH="1">
                <a:off x="4534920" y="531612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Straight Connector 58"/>
              <p:cNvSpPr/>
              <p:nvPr/>
            </p:nvSpPr>
            <p:spPr>
              <a:xfrm flipH="1">
                <a:off x="4807440" y="531540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Straight Connector 59"/>
              <p:cNvSpPr/>
              <p:nvPr/>
            </p:nvSpPr>
            <p:spPr>
              <a:xfrm flipH="1">
                <a:off x="2631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Straight Connector 60"/>
              <p:cNvSpPr/>
              <p:nvPr/>
            </p:nvSpPr>
            <p:spPr>
              <a:xfrm flipH="1">
                <a:off x="7256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Straight Connector 61"/>
              <p:cNvSpPr/>
              <p:nvPr/>
            </p:nvSpPr>
            <p:spPr>
              <a:xfrm flipH="1">
                <a:off x="75279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Straight Connector 62"/>
              <p:cNvSpPr/>
              <p:nvPr/>
            </p:nvSpPr>
            <p:spPr>
              <a:xfrm flipH="1">
                <a:off x="779904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Straight Connector 63"/>
              <p:cNvSpPr/>
              <p:nvPr/>
            </p:nvSpPr>
            <p:spPr>
              <a:xfrm flipH="1">
                <a:off x="2360160" y="5317560"/>
                <a:ext cx="1080" cy="13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64"/>
            <p:cNvGrpSpPr/>
            <p:nvPr/>
          </p:nvGrpSpPr>
          <p:grpSpPr>
            <a:xfrm>
              <a:off x="4439880" y="1455480"/>
              <a:ext cx="189360" cy="5045400"/>
              <a:chOff x="4439880" y="1455480"/>
              <a:chExt cx="189360" cy="5045400"/>
            </a:xfrm>
          </p:grpSpPr>
          <p:cxnSp>
            <p:nvCxnSpPr>
              <p:cNvPr id="1200" name="Straight Arrow Connector 65"/>
              <p:cNvCxnSpPr/>
              <p:nvPr/>
            </p:nvCxnSpPr>
            <p:spPr>
              <a:xfrm flipV="1">
                <a:off x="4535280" y="1455480"/>
                <a:ext cx="2520" cy="5045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</p:cxnSp>
          <p:sp>
            <p:nvSpPr>
              <p:cNvPr id="1201" name="Straight Connector 66"/>
              <p:cNvSpPr/>
              <p:nvPr/>
            </p:nvSpPr>
            <p:spPr>
              <a:xfrm>
                <a:off x="4443840" y="40014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Straight Connector 67"/>
              <p:cNvSpPr/>
              <p:nvPr/>
            </p:nvSpPr>
            <p:spPr>
              <a:xfrm>
                <a:off x="4442760" y="376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Straight Connector 68"/>
              <p:cNvSpPr/>
              <p:nvPr/>
            </p:nvSpPr>
            <p:spPr>
              <a:xfrm>
                <a:off x="4442760" y="35395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Straight Connector 69"/>
              <p:cNvSpPr/>
              <p:nvPr/>
            </p:nvSpPr>
            <p:spPr>
              <a:xfrm>
                <a:off x="4441680" y="330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Straight Connector 70"/>
              <p:cNvSpPr/>
              <p:nvPr/>
            </p:nvSpPr>
            <p:spPr>
              <a:xfrm>
                <a:off x="4442760" y="30754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Straight Connector 71"/>
              <p:cNvSpPr/>
              <p:nvPr/>
            </p:nvSpPr>
            <p:spPr>
              <a:xfrm>
                <a:off x="4441680" y="284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Straight Connector 72"/>
              <p:cNvSpPr/>
              <p:nvPr/>
            </p:nvSpPr>
            <p:spPr>
              <a:xfrm>
                <a:off x="4441680" y="2613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Straight Connector 73"/>
              <p:cNvSpPr/>
              <p:nvPr/>
            </p:nvSpPr>
            <p:spPr>
              <a:xfrm>
                <a:off x="4440600" y="2381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Straight Connector 74"/>
              <p:cNvSpPr/>
              <p:nvPr/>
            </p:nvSpPr>
            <p:spPr>
              <a:xfrm>
                <a:off x="4442760" y="58521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Straight Connector 75"/>
              <p:cNvSpPr/>
              <p:nvPr/>
            </p:nvSpPr>
            <p:spPr>
              <a:xfrm>
                <a:off x="4441680" y="5620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Straight Connector 76"/>
              <p:cNvSpPr/>
              <p:nvPr/>
            </p:nvSpPr>
            <p:spPr>
              <a:xfrm>
                <a:off x="4441680" y="53902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Straight Connector 77"/>
              <p:cNvSpPr/>
              <p:nvPr/>
            </p:nvSpPr>
            <p:spPr>
              <a:xfrm>
                <a:off x="4440600" y="51584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Straight Connector 78"/>
              <p:cNvSpPr/>
              <p:nvPr/>
            </p:nvSpPr>
            <p:spPr>
              <a:xfrm>
                <a:off x="4441680" y="49266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Straight Connector 79"/>
              <p:cNvSpPr/>
              <p:nvPr/>
            </p:nvSpPr>
            <p:spPr>
              <a:xfrm>
                <a:off x="4440600" y="469476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Straight Connector 80"/>
              <p:cNvSpPr/>
              <p:nvPr/>
            </p:nvSpPr>
            <p:spPr>
              <a:xfrm>
                <a:off x="4440600" y="4464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Straight Connector 81"/>
              <p:cNvSpPr/>
              <p:nvPr/>
            </p:nvSpPr>
            <p:spPr>
              <a:xfrm>
                <a:off x="4439880" y="423288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Straight Connector 82"/>
              <p:cNvSpPr/>
              <p:nvPr/>
            </p:nvSpPr>
            <p:spPr>
              <a:xfrm>
                <a:off x="4442760" y="608364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Straight Connector 83"/>
              <p:cNvSpPr/>
              <p:nvPr/>
            </p:nvSpPr>
            <p:spPr>
              <a:xfrm>
                <a:off x="4442760" y="214920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Straight Connector 84"/>
              <p:cNvSpPr/>
              <p:nvPr/>
            </p:nvSpPr>
            <p:spPr>
              <a:xfrm>
                <a:off x="4442760" y="19177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Straight Connector 85"/>
              <p:cNvSpPr/>
              <p:nvPr/>
            </p:nvSpPr>
            <p:spPr>
              <a:xfrm>
                <a:off x="4442760" y="16873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Straight Connector 86"/>
              <p:cNvSpPr/>
              <p:nvPr/>
            </p:nvSpPr>
            <p:spPr>
              <a:xfrm>
                <a:off x="4442760" y="6315120"/>
                <a:ext cx="185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2" name="TextBox 87"/>
            <p:cNvSpPr/>
            <p:nvPr/>
          </p:nvSpPr>
          <p:spPr>
            <a:xfrm>
              <a:off x="1734120" y="5600880"/>
              <a:ext cx="633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-4                   -2                    0                   +2                  +4                  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TextBox 88"/>
            <p:cNvSpPr/>
            <p:nvPr/>
          </p:nvSpPr>
          <p:spPr>
            <a:xfrm>
              <a:off x="3931200" y="43149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Box 89"/>
            <p:cNvSpPr/>
            <p:nvPr/>
          </p:nvSpPr>
          <p:spPr>
            <a:xfrm>
              <a:off x="3971520" y="338616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Box 90"/>
            <p:cNvSpPr/>
            <p:nvPr/>
          </p:nvSpPr>
          <p:spPr>
            <a:xfrm>
              <a:off x="3971520" y="24570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+6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Straight Connector 92"/>
            <p:cNvSpPr/>
            <p:nvPr/>
          </p:nvSpPr>
          <p:spPr>
            <a:xfrm flipV="1">
              <a:off x="6164280" y="2814840"/>
              <a:ext cx="1440" cy="292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Straight Connector 94"/>
            <p:cNvSpPr/>
            <p:nvPr/>
          </p:nvSpPr>
          <p:spPr>
            <a:xfrm flipH="1" flipV="1">
              <a:off x="3999960" y="3538800"/>
              <a:ext cx="25714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Oval 97"/>
            <p:cNvSpPr/>
            <p:nvPr/>
          </p:nvSpPr>
          <p:spPr>
            <a:xfrm>
              <a:off x="6019920" y="3405240"/>
              <a:ext cx="285480" cy="285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98"/>
          <p:cNvSpPr/>
          <p:nvPr/>
        </p:nvSpPr>
        <p:spPr>
          <a:xfrm>
            <a:off x="5871600" y="195732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 3J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5E3B-0788-4ACB-AC7E-DC5703C6FB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real numbers and 3 methods to perform Add, Multiply and return the Reciprocal of a complex numb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70DE-BF44-445F-9BB1-B79E4346F0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complex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11A1-DF95-4D71-9768-ACE4716882F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,  where i = ¯1 * 0.5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gineers use the J notation,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j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enote the complex number with a real value of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an imaginary value of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4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7CE9-0916-4AFF-9A22-C3B7338C5A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 + C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+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+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+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initialized (via []LX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viewed as an ob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serve as base and be copied into another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modifi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3359-D568-4C3B-9C96-2BD71FA52A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42960" y="5572080"/>
            <a:ext cx="4214880" cy="5716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CF33-A207-4277-B35B-D323602FE19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82072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2         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a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b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(a1×a2) + (b1i × b2i) + (a1×b2i) + (b1i×a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((a1×a2) - (b1 × b2))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((a1×b2) + (b1×a2))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55" name="Group 9"/>
          <p:cNvGrpSpPr/>
          <p:nvPr/>
        </p:nvGrpSpPr>
        <p:grpSpPr>
          <a:xfrm>
            <a:off x="2700360" y="3518280"/>
            <a:ext cx="1295280" cy="705240"/>
            <a:chOff x="2700360" y="3518280"/>
            <a:chExt cx="1295280" cy="705240"/>
          </a:xfrm>
        </p:grpSpPr>
        <p:sp>
          <p:nvSpPr>
            <p:cNvPr id="1256" name="AutoShape 5"/>
            <p:cNvSpPr/>
            <p:nvPr/>
          </p:nvSpPr>
          <p:spPr>
            <a:xfrm rot="5400000">
              <a:off x="2541600" y="373032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AutoShape 6"/>
            <p:cNvSpPr/>
            <p:nvPr/>
          </p:nvSpPr>
          <p:spPr>
            <a:xfrm rot="5400000">
              <a:off x="3589200" y="3741480"/>
              <a:ext cx="565200" cy="247680"/>
            </a:xfrm>
            <a:prstGeom prst="rightArrow">
              <a:avLst>
                <a:gd name="adj1" fmla="val 50000"/>
                <a:gd name="adj2" fmla="val 5704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AutoShape 7"/>
            <p:cNvSpPr/>
            <p:nvPr/>
          </p:nvSpPr>
          <p:spPr>
            <a:xfrm rot="2700000">
              <a:off x="3012840" y="373680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AutoShape 8"/>
            <p:cNvSpPr/>
            <p:nvPr/>
          </p:nvSpPr>
          <p:spPr>
            <a:xfrm rot="8100000">
              <a:off x="2963520" y="3756960"/>
              <a:ext cx="720720" cy="247680"/>
            </a:xfrm>
            <a:prstGeom prst="rightArrow">
              <a:avLst>
                <a:gd name="adj1" fmla="val 50000"/>
                <a:gd name="adj2" fmla="val 7274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DA23-3000-42A0-BA6F-2C2E736EB2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lex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complex number is 1÷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ch that        C × R = 1 = 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0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eal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((a1×a2) - (b1 × b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img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((a1×b2) + (b1×a2))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l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Ra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  Ca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Rb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=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 -Cb÷((Ca×Ca)-(Cb×Cb)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19CA-417D-46C8-8FC5-61A3386C831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complex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0" name="Picture 4" descr=""/>
          <p:cNvPicPr/>
          <p:nvPr/>
        </p:nvPicPr>
        <p:blipFill>
          <a:blip r:embed="rId1"/>
          <a:stretch/>
        </p:blipFill>
        <p:spPr>
          <a:xfrm>
            <a:off x="2195640" y="3362400"/>
            <a:ext cx="4392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BC2B-B4C9-430D-B229-4D664B5AB11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76" name="Picture 5" descr=""/>
          <p:cNvPicPr/>
          <p:nvPr/>
        </p:nvPicPr>
        <p:blipFill>
          <a:blip r:embed="rId1"/>
          <a:stretch/>
        </p:blipFill>
        <p:spPr>
          <a:xfrm>
            <a:off x="1979640" y="2844720"/>
            <a:ext cx="482436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F039-0F54-4C1C-AFE0-EB5F6D012E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2 field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82" name="Picture 6" descr=""/>
          <p:cNvPicPr/>
          <p:nvPr/>
        </p:nvPicPr>
        <p:blipFill>
          <a:blip r:embed="rId1"/>
          <a:stretch/>
        </p:blipFill>
        <p:spPr>
          <a:xfrm>
            <a:off x="2556000" y="2852640"/>
            <a:ext cx="525600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6BE-6C22-482F-A049-FDDAC61155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←⎕NEW complex 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re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complex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j←{⎕new complex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←5 j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2.im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E169-FC45-4145-99D6-A6FA06FFD8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c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(real im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E8F0-A95C-4669-AE11-3126A04716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J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 ⎕DF '3J4'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or whatev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C17-6F2E-4AC1-BAAB-0DDAE76349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.img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c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properties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2 proper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53F-37E9-44FC-AD34-3C73DB5CDB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08" name="Picture 6" descr=""/>
          <p:cNvPicPr/>
          <p:nvPr/>
        </p:nvPicPr>
        <p:blipFill>
          <a:blip r:embed="rId1"/>
          <a:stretch/>
        </p:blipFill>
        <p:spPr>
          <a:xfrm>
            <a:off x="2124000" y="2847960"/>
            <a:ext cx="45356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F0A-B94A-4975-ACD8-49FE59D359E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143000" y="3571920"/>
            <a:ext cx="2071800" cy="25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3500280" y="378612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COPY  Files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9"/>
          <p:cNvSpPr/>
          <p:nvPr/>
        </p:nvSpPr>
        <p:spPr>
          <a:xfrm>
            <a:off x="6072120" y="3571920"/>
            <a:ext cx="2071800" cy="92880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n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2.41962E-006 L -0.54132 0.21582 E">
                                      <p:cBhvr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A5C0-F11B-4E9D-B8C8-4E31B533A1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c1  complex.plu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AC0-9485-4E14-A53D-ED1D1D254C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9" name="Picture 4" descr=""/>
          <p:cNvPicPr/>
          <p:nvPr/>
        </p:nvPicPr>
        <p:blipFill>
          <a:blip r:embed="rId1"/>
          <a:stretch/>
        </p:blipFill>
        <p:spPr>
          <a:xfrm>
            <a:off x="1763640" y="2954160"/>
            <a:ext cx="547236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A21-365A-43FF-8A25-7B0B5EEED3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c1  complex.times  c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real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D046-6664-4C5E-8BCC-AA83EB2A67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30" name="Picture 5" descr=""/>
          <p:cNvPicPr/>
          <p:nvPr/>
        </p:nvPicPr>
        <p:blipFill>
          <a:blip r:embed="rId1"/>
          <a:stretch/>
        </p:blipFill>
        <p:spPr>
          <a:xfrm>
            <a:off x="1835280" y="3284640"/>
            <a:ext cx="511308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A616-063A-47B0-9639-59348E9958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omplex.plus/4⍴c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real  img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4⍴c1     ⍝ 12 1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times\3⍴c1   ⍝ 3 4  ¯7 24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omplex.plus/c1 complex.times¨4⍴c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21FB-6A92-4A07-BAA7-9B91A8F067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1 ÷ c1   or   c1 × ÷c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1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c2 complex.times c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2.52   0.64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5277-E2B3-442A-8791-815ADB12EA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magnitude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A97-76A9-4D2A-88B2-E1E0BF2B3BA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 with 2 integers representing frac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Numerator &amp; a Denomin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.:  3 / 7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th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9027-09DF-4DAF-8EEB-C0B4B7706F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will contain 2 integer numbers and 3 methods to perform Add, Multiply and return the Reciprocal of a pair of simple numbers representing a f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0C9-FDAA-490E-AD41-CCA3F8B87ED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a class to do simple ma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thods to perform Add and Multiply will b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in the class) methods and the Reciprocal will be an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(us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)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not be stored as a unit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ly 1 workspace item per component (variable or function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ed to cleanup when finish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44A5-CB72-457A-8CA4-45E4704209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E9BC-14CF-461B-B096-DB0DDA685F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number will be called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ill be stored in a vector (2 el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will be two properties to access them individu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DAB-49FC-4F0F-BB85-DEE6DB3683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imple math definit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ddition of 2 simple numbers (frac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+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d2 + n2 x 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ication of 2 simple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1 x S2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n1 x n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d1 x d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ciprocal of a simple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÷S1 = (</a:t>
            </a:r>
            <a:r>
              <a:rPr b="0" lang="en-GB" sz="3200" spc="-1" strike="noStrike">
                <a:solidFill>
                  <a:srgbClr val="03eb2f"/>
                </a:solidFill>
                <a:latin typeface="Geneva"/>
              </a:rPr>
              <a:t>d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,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n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7C7-0ABD-4D84-8EE8-4FB08B9880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thing to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simp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76" name="Picture 2" descr=""/>
          <p:cNvPicPr/>
          <p:nvPr/>
        </p:nvPicPr>
        <p:blipFill>
          <a:blip r:embed="rId1"/>
          <a:stretch/>
        </p:blipFill>
        <p:spPr>
          <a:xfrm>
            <a:off x="2571840" y="3286080"/>
            <a:ext cx="4071960" cy="22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196A-DDD3-41B9-862B-EE1850F155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2" name="Picture 2" descr=""/>
          <p:cNvPicPr/>
          <p:nvPr/>
        </p:nvPicPr>
        <p:blipFill>
          <a:blip r:embed="rId1"/>
          <a:stretch/>
        </p:blipFill>
        <p:spPr>
          <a:xfrm>
            <a:off x="2500200" y="2857680"/>
            <a:ext cx="443700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831-02E1-47D1-BE4B-5D8C818F2E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constructor, it takes 2 numbers as arguments, it merely sets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88" name="Picture 2" descr=""/>
          <p:cNvPicPr/>
          <p:nvPr/>
        </p:nvPicPr>
        <p:blipFill>
          <a:blip r:embed="rId1"/>
          <a:stretch/>
        </p:blipFill>
        <p:spPr>
          <a:xfrm>
            <a:off x="2643120" y="2928960"/>
            <a:ext cx="44290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083A-1CD0-4294-8C8C-E156838219C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the class does not do anyth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‘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umbers’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private and cannot be accessed from outsi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Let’s create properties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2E07-F7A5-40A6-8E70-D18C758FF0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properties, they take 1 number to set a value in the fiel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99" name="Picture 2" descr=""/>
          <p:cNvPicPr/>
          <p:nvPr/>
        </p:nvPicPr>
        <p:blipFill>
          <a:blip r:embed="rId1"/>
          <a:stretch/>
        </p:blipFill>
        <p:spPr>
          <a:xfrm>
            <a:off x="2000160" y="2906640"/>
            <a:ext cx="5072040" cy="3094200"/>
          </a:xfrm>
          <a:prstGeom prst="rect">
            <a:avLst/>
          </a:prstGeom>
          <a:ln w="0">
            <a:noFill/>
          </a:ln>
        </p:spPr>
      </p:pic>
      <p:sp>
        <p:nvSpPr>
          <p:cNvPr id="1400" name="Rectangle 7"/>
          <p:cNvSpPr/>
          <p:nvPr/>
        </p:nvSpPr>
        <p:spPr>
          <a:xfrm>
            <a:off x="4062240" y="368460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C7F-C5B7-48CA-9231-C8B51EF1B5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4922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←⎕NEW simple(3,4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ease creation of simple number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←{⎕new simple (⍺ ⍵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←5 s 1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2.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enter the second property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5C45-A700-4203-A82E-17AA8A781C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9" descr=""/>
          <p:cNvPicPr/>
          <p:nvPr/>
        </p:nvPicPr>
        <p:blipFill>
          <a:blip r:embed="rId1"/>
          <a:stretch/>
        </p:blipFill>
        <p:spPr>
          <a:xfrm>
            <a:off x="1500120" y="2786040"/>
            <a:ext cx="61437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0594-579B-431B-A487-EB48BC513C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563480"/>
            <a:ext cx="77724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yping s1 does not provide useful informa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 would be nice if we could find what the numbers are without having to u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(N  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(solution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ackag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over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roup items (vars &amp; fns) togeth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ct as a (static) un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stored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copied, like wss, into existing code and dispersed i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298-B9B3-4D95-94E2-58747A373FE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C05-C005-43C6-825F-70910C9F6E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isplay form can be improv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use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to show a different string, e.g. 3/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 ⎕DF '3/4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ncluding the setting in the construc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8BB5-6D1E-485F-970D-F22EF3606A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isplay for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ignment does not change the displa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.N←22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verify that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←s1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the same display form it had bef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properties’ code to change th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⎕DF to change the display in the &lt;set&gt;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9C69-41A1-4784-BC7C-632AF86396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first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32" name="Picture 8" descr=""/>
          <p:cNvPicPr/>
          <p:nvPr/>
        </p:nvPicPr>
        <p:blipFill>
          <a:blip r:embed="rId1"/>
          <a:stretch/>
        </p:blipFill>
        <p:spPr>
          <a:xfrm>
            <a:off x="2143080" y="2705040"/>
            <a:ext cx="478620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D057-BBDA-4089-B38F-FEF5FA7A8D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lu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s←s1  simple.plu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CB88-B200-468C-8391-6572A93CF9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ethod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43" name="Picture 8" descr=""/>
          <p:cNvPicPr/>
          <p:nvPr/>
        </p:nvPicPr>
        <p:blipFill>
          <a:blip r:embed="rId1"/>
          <a:stretch/>
        </p:blipFill>
        <p:spPr>
          <a:xfrm>
            <a:off x="1785960" y="2714760"/>
            <a:ext cx="5500800" cy="32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CB0-4195-47B6-A86D-1E0300D998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st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imes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ct←s1  simple.times  s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t.N 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B428-10BE-404C-B644-22A5B3E3B8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nter the methods,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&lt;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reciprocal&gt;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454" name="Picture 8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42952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844-6185-45CB-8C63-2632DA1692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imple.plus/4⍴s1 ⍝ if funny display, us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←{⍵.(N ‘/’ D)}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4⍴s1     ⍝ 22/1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times\3⍴s1   ⍝ 11/2 121/4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imple.plus/s1 simple.times¨4⍴s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88AC-E9DB-4D01-8786-1903FA50EE2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y i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⍝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s1 ÷ s1   or   s1 × ÷s1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1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j s2 simple.times s1.reciproca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5/66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7D94-57F6-4D6B-810B-342665CB21B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erci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rovem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functions (square, abs?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ccept a single (real) numb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this into a complex number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 action="ppaction://hlinksldjump"/>
              </a:rPr>
              <a:t>Back to exercise choi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pack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were only a partial solution to a more general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 clashing still happen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ean up was still need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B8A-5C3E-42D6-9D35-11EB4D2976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9776-C55E-4F76-B350-0F86C3D689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/>
          </p:nvPr>
        </p:nvSpPr>
        <p:spPr>
          <a:xfrm>
            <a:off x="610920" y="187632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e of modif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duced maintenance cos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od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an speed up development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1378-7DAE-44D3-86E1-6B3EC8D0E79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O languages make abstraction eas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encourage architectures with elaborate layers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3D80-17B8-4CBE-A80B-1E6BC154A1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/>
          </p:nvPr>
        </p:nvSpPr>
        <p:spPr>
          <a:xfrm>
            <a:off x="250560" y="191736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24F2-6B27-4D62-A4FE-E81FA2B4CC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458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662B-2B40-494B-94A2-A8839FED955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3059280" y="3610080"/>
            <a:ext cx="3457440" cy="89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uyer bewar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areful!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–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80s a company came up with the concept of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namespa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probably from other languages like C++ and Jav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s are like workspaces but nes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DFA-D831-481F-BE33-69D3E0ED614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4240" y="16426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1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1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1,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n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lat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35C-7D99-4CCB-B1FA-1A05A6528C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42861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42960" y="2286000"/>
            <a:ext cx="2286000" cy="30002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3968-2D46-4B8A-9970-C92F863E9C5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000" y="3068640"/>
            <a:ext cx="813420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33"/>
                </a:solidFill>
                <a:latin typeface="Geneva"/>
              </a:rPr>
              <a:t>Object Orientation</a:t>
            </a:r>
            <a:endParaRPr b="0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258920" y="171468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V11 was released in 200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jor features w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03440" y="1571400"/>
            <a:ext cx="77724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OS V2.0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V8.0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Dir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s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2.e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1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Abc.dws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var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ote.txt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unction_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older2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namespace2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Etc.doc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f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sub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1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na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lex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pb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Fich.log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000" spc="-1" strike="noStrike">
                <a:solidFill>
                  <a:srgbClr val="333333"/>
                </a:solidFill>
                <a:latin typeface="Geneva"/>
              </a:rPr>
              <a:t>objxv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ee (nested) struc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DE89-DBF7-4A60-B5C0-8D2B2681D4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357800" y="2143080"/>
            <a:ext cx="264312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14240" y="2143080"/>
            <a:ext cx="2643480" cy="37148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429080" y="219384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776160" y="2184480"/>
            <a:ext cx="1571760" cy="100008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286240" y="4357800"/>
            <a:ext cx="1490760" cy="104112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1071720" y="4357800"/>
            <a:ext cx="1490400" cy="10713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4429080" y="3643200"/>
            <a:ext cx="2428920" cy="18129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765000" y="3602160"/>
            <a:ext cx="2021040" cy="187776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99680" y="1500120"/>
            <a:ext cx="8358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ontains functions, variables (including some system variabl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can contain an entire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acts as a unit: it can be put as a single item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- It 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dynam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it can be moved into to execute code, no need to disperse conte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0288-E3E6-4EF6-B642-373462F06F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285840" y="1690560"/>
            <a:ext cx="885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namespace is similar to a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ike a workspace, if you need to tweak one you take a copy and modify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orkspace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myAp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&lt;-[]NS []OR ’myApp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&lt;-3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 newApp.A&lt;-3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newApp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0C04-3868-412B-AD04-D61B5A3667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one of the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template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namespace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73BA-85BE-4897-A3E2-E7B5C176C1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Right Arrow 7"/>
          <p:cNvSpPr/>
          <p:nvPr/>
        </p:nvSpPr>
        <p:spPr>
          <a:xfrm>
            <a:off x="3124080" y="402912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99680" y="1619280"/>
            <a:ext cx="82868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Reusability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very much like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a class you create a new version possibly modifying it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1 class      many possibly different vers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907-C9D5-472F-AFD2-6C09CCB8AD0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Right Arrow 7"/>
          <p:cNvSpPr/>
          <p:nvPr/>
        </p:nvSpPr>
        <p:spPr>
          <a:xfrm>
            <a:off x="1928880" y="4024440"/>
            <a:ext cx="428400" cy="28548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OO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Net is based on namespaces and supports many OO concep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APL is based on namespaces and supports many OO concepts.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well hand in hand toge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376-BD2F-4BB9-80E4-14E1EBEE477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A2F-BD63-4284-9E2D-EA4D4FDD23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.Net and Dyalo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838836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not new! The ability to us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.Ne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create classes was already in V10 but it was more difficult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250920" y="3200400"/>
            <a:ext cx="8713800" cy="3036960"/>
            <a:chOff x="250920" y="3200400"/>
            <a:chExt cx="8713800" cy="303696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3200400"/>
              <a:ext cx="291456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2"/>
            <a:stretch/>
          </p:blipFill>
          <p:spPr>
            <a:xfrm>
              <a:off x="3316320" y="3200400"/>
              <a:ext cx="2192400" cy="30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" descr=""/>
            <p:cNvPicPr/>
            <p:nvPr/>
          </p:nvPicPr>
          <p:blipFill>
            <a:blip r:embed="rId3"/>
            <a:stretch/>
          </p:blipFill>
          <p:spPr>
            <a:xfrm>
              <a:off x="5707080" y="3200400"/>
              <a:ext cx="325764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4827-BCB3-4879-8AC6-A8DDADA6981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09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lementary data elements (like int) and arrays of them (all the sam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tructures (like {i: int; d: date}), many elementary elements or structures (recursiv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Namespaces (structures whose elements are referred to by name). They include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578880" indent="-578880">
              <a:spcBef>
                <a:spcPts val="1749"/>
              </a:spcBef>
              <a:buClr>
                <a:srgbClr val="000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(namespaces with initializers &amp; cleaners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632-E231-4EAE-B23B-FF90540970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ata in Dyalog APL (DYW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2207880"/>
            <a:ext cx="77724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DYW all these objects exis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often simulate one by ano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W can also store the ⎕OR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AED-65F5-47F1-AF81-FBCFFC784F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4360" y="151560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1116000" y="2492280"/>
            <a:ext cx="6624720" cy="3744720"/>
            <a:chOff x="1116000" y="2492280"/>
            <a:chExt cx="6624720" cy="3744720"/>
          </a:xfrm>
        </p:grpSpPr>
        <p:sp>
          <p:nvSpPr>
            <p:cNvPr id="266" name="Line 11"/>
            <p:cNvSpPr/>
            <p:nvPr/>
          </p:nvSpPr>
          <p:spPr>
            <a:xfrm>
              <a:off x="4322880" y="249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"/>
            <p:cNvSpPr/>
            <p:nvPr/>
          </p:nvSpPr>
          <p:spPr>
            <a:xfrm>
              <a:off x="1116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>
              <a:off x="1116000" y="4005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2484360" y="5013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7"/>
            <p:cNvSpPr/>
            <p:nvPr/>
          </p:nvSpPr>
          <p:spPr>
            <a:xfrm>
              <a:off x="7020000" y="2852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8"/>
            <p:cNvSpPr/>
            <p:nvPr/>
          </p:nvSpPr>
          <p:spPr>
            <a:xfrm>
              <a:off x="3780000" y="2997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3778200" y="4005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0"/>
            <p:cNvSpPr/>
            <p:nvPr/>
          </p:nvSpPr>
          <p:spPr>
            <a:xfrm>
              <a:off x="3780000" y="5013000"/>
              <a:ext cx="1081080" cy="72072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>
              <a:off x="4327560" y="573228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4327560" y="371592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4313160" y="4724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AutoShape 15"/>
            <p:cNvCxnSpPr>
              <a:stCxn id="267" idx="5"/>
              <a:endCxn id="271" idx="1"/>
            </p:cNvCxnSpPr>
            <p:nvPr/>
          </p:nvCxnSpPr>
          <p:spPr>
            <a:xfrm flipV="1">
              <a:off x="1763280" y="3356640"/>
              <a:ext cx="201708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AutoShape 16"/>
            <p:cNvCxnSpPr>
              <a:stCxn id="271" idx="3"/>
              <a:endCxn id="270" idx="2"/>
            </p:cNvCxnSpPr>
            <p:nvPr/>
          </p:nvCxnSpPr>
          <p:spPr>
            <a:xfrm>
              <a:off x="4860720" y="3357000"/>
              <a:ext cx="22309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9" name="AutoShape 17"/>
            <p:cNvCxnSpPr>
              <a:stCxn id="268" idx="5"/>
              <a:endCxn id="271" idx="1"/>
            </p:cNvCxnSpPr>
            <p:nvPr/>
          </p:nvCxnSpPr>
          <p:spPr>
            <a:xfrm flipV="1">
              <a:off x="1763280" y="3356640"/>
              <a:ext cx="2017080" cy="118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AutoShape 18"/>
            <p:cNvCxnSpPr>
              <a:stCxn id="268" idx="5"/>
              <a:endCxn id="272" idx="1"/>
            </p:cNvCxnSpPr>
            <p:nvPr/>
          </p:nvCxnSpPr>
          <p:spPr>
            <a:xfrm flipV="1">
              <a:off x="1763640" y="4364640"/>
              <a:ext cx="201528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AutoShape 19"/>
            <p:cNvCxnSpPr>
              <a:stCxn id="272" idx="3"/>
              <a:endCxn id="270" idx="2"/>
            </p:cNvCxnSpPr>
            <p:nvPr/>
          </p:nvCxnSpPr>
          <p:spPr>
            <a:xfrm flipV="1">
              <a:off x="4859280" y="3393000"/>
              <a:ext cx="223272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" name="AutoShape 20"/>
            <p:cNvCxnSpPr>
              <a:stCxn id="269" idx="5"/>
              <a:endCxn id="273" idx="1"/>
            </p:cNvCxnSpPr>
            <p:nvPr/>
          </p:nvCxnSpPr>
          <p:spPr>
            <a:xfrm flipV="1">
              <a:off x="3132000" y="5372640"/>
              <a:ext cx="648360" cy="18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F153-6D79-4D0F-971B-A68E3EAF60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eneva"/>
              </a:rPr>
              <a:t>This presentation is based on two things: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2600" y="2852640"/>
            <a:ext cx="828684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What is Object Orientation programming? 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1100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How do I use it in APL?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65E-4F5B-4449-A082-754283BB31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88" name="Group 33"/>
          <p:cNvGrpSpPr/>
          <p:nvPr/>
        </p:nvGrpSpPr>
        <p:grpSpPr>
          <a:xfrm>
            <a:off x="1042920" y="3068640"/>
            <a:ext cx="4321080" cy="1944720"/>
            <a:chOff x="1042920" y="3068640"/>
            <a:chExt cx="4321080" cy="1944720"/>
          </a:xfrm>
        </p:grpSpPr>
        <p:pic>
          <p:nvPicPr>
            <p:cNvPr id="289" name="Picture 25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43210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26"/>
            <p:cNvSpPr/>
            <p:nvPr/>
          </p:nvSpPr>
          <p:spPr>
            <a:xfrm>
              <a:off x="109080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2432880" y="4411440"/>
              <a:ext cx="75672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8"/>
            <p:cNvSpPr/>
            <p:nvPr/>
          </p:nvSpPr>
          <p:spPr>
            <a:xfrm>
              <a:off x="1090800" y="37058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9"/>
            <p:cNvSpPr/>
            <p:nvPr/>
          </p:nvSpPr>
          <p:spPr>
            <a:xfrm>
              <a:off x="2584080" y="371124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3489120" y="37087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1"/>
            <p:cNvSpPr/>
            <p:nvPr/>
          </p:nvSpPr>
          <p:spPr>
            <a:xfrm>
              <a:off x="3785040" y="405720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2"/>
            <p:cNvSpPr/>
            <p:nvPr/>
          </p:nvSpPr>
          <p:spPr>
            <a:xfrm>
              <a:off x="4387320" y="3703320"/>
              <a:ext cx="756360" cy="32940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51"/>
          <p:cNvGrpSpPr/>
          <p:nvPr/>
        </p:nvGrpSpPr>
        <p:grpSpPr>
          <a:xfrm>
            <a:off x="6299280" y="2421000"/>
            <a:ext cx="2376360" cy="3600000"/>
            <a:chOff x="6299280" y="2421000"/>
            <a:chExt cx="2376360" cy="3600000"/>
          </a:xfrm>
        </p:grpSpPr>
        <p:sp>
          <p:nvSpPr>
            <p:cNvPr id="298" name="Line 52"/>
            <p:cNvSpPr/>
            <p:nvPr/>
          </p:nvSpPr>
          <p:spPr>
            <a:xfrm>
              <a:off x="7449480" y="242100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53"/>
            <p:cNvSpPr/>
            <p:nvPr/>
          </p:nvSpPr>
          <p:spPr>
            <a:xfrm>
              <a:off x="629928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54"/>
            <p:cNvSpPr/>
            <p:nvPr/>
          </p:nvSpPr>
          <p:spPr>
            <a:xfrm>
              <a:off x="6299280" y="387540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55"/>
            <p:cNvSpPr/>
            <p:nvPr/>
          </p:nvSpPr>
          <p:spPr>
            <a:xfrm>
              <a:off x="6789960" y="48445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56"/>
            <p:cNvSpPr/>
            <p:nvPr/>
          </p:nvSpPr>
          <p:spPr>
            <a:xfrm>
              <a:off x="8417160" y="2767320"/>
              <a:ext cx="258480" cy="103932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57"/>
            <p:cNvSpPr/>
            <p:nvPr/>
          </p:nvSpPr>
          <p:spPr>
            <a:xfrm>
              <a:off x="7254720" y="29059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58"/>
            <p:cNvSpPr/>
            <p:nvPr/>
          </p:nvSpPr>
          <p:spPr>
            <a:xfrm>
              <a:off x="7254000" y="387540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59"/>
            <p:cNvSpPr/>
            <p:nvPr/>
          </p:nvSpPr>
          <p:spPr>
            <a:xfrm>
              <a:off x="7254720" y="4844520"/>
              <a:ext cx="387720" cy="6926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60"/>
            <p:cNvSpPr/>
            <p:nvPr/>
          </p:nvSpPr>
          <p:spPr>
            <a:xfrm>
              <a:off x="7451280" y="5536080"/>
              <a:ext cx="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1"/>
            <p:cNvSpPr/>
            <p:nvPr/>
          </p:nvSpPr>
          <p:spPr>
            <a:xfrm>
              <a:off x="7451280" y="3597120"/>
              <a:ext cx="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62"/>
            <p:cNvSpPr/>
            <p:nvPr/>
          </p:nvSpPr>
          <p:spPr>
            <a:xfrm>
              <a:off x="7446240" y="456696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AutoShape 63"/>
            <p:cNvCxnSpPr>
              <a:stCxn id="299" idx="5"/>
              <a:endCxn id="303" idx="1"/>
            </p:cNvCxnSpPr>
            <p:nvPr/>
          </p:nvCxnSpPr>
          <p:spPr>
            <a:xfrm flipV="1">
              <a:off x="6531120" y="3251880"/>
              <a:ext cx="72396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0" name="AutoShape 64"/>
            <p:cNvCxnSpPr>
              <a:stCxn id="303" idx="3"/>
              <a:endCxn id="302" idx="2"/>
            </p:cNvCxnSpPr>
            <p:nvPr/>
          </p:nvCxnSpPr>
          <p:spPr>
            <a:xfrm>
              <a:off x="7642800" y="3252240"/>
              <a:ext cx="800640" cy="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1" name="AutoShape 65"/>
            <p:cNvCxnSpPr>
              <a:stCxn id="300" idx="5"/>
              <a:endCxn id="303" idx="1"/>
            </p:cNvCxnSpPr>
            <p:nvPr/>
          </p:nvCxnSpPr>
          <p:spPr>
            <a:xfrm flipV="1">
              <a:off x="6531120" y="3251880"/>
              <a:ext cx="72396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66"/>
            <p:cNvCxnSpPr>
              <a:stCxn id="300" idx="5"/>
              <a:endCxn id="304" idx="1"/>
            </p:cNvCxnSpPr>
            <p:nvPr/>
          </p:nvCxnSpPr>
          <p:spPr>
            <a:xfrm flipV="1">
              <a:off x="6531120" y="4221000"/>
              <a:ext cx="72324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AutoShape 67"/>
            <p:cNvCxnSpPr>
              <a:stCxn id="304" idx="3"/>
              <a:endCxn id="302" idx="2"/>
            </p:cNvCxnSpPr>
            <p:nvPr/>
          </p:nvCxnSpPr>
          <p:spPr>
            <a:xfrm flipV="1">
              <a:off x="7642080" y="3287160"/>
              <a:ext cx="801360" cy="934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68"/>
            <p:cNvCxnSpPr>
              <a:stCxn id="301" idx="5"/>
              <a:endCxn id="305" idx="1"/>
            </p:cNvCxnSpPr>
            <p:nvPr/>
          </p:nvCxnSpPr>
          <p:spPr>
            <a:xfrm flipV="1">
              <a:off x="7021800" y="5190120"/>
              <a:ext cx="232920" cy="17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2257-B81D-41A5-8EEE-E97CEFA0E95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4360" y="158724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OO systems, data is more tightly coupled with co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0" name="Group 26"/>
          <p:cNvGrpSpPr/>
          <p:nvPr/>
        </p:nvGrpSpPr>
        <p:grpSpPr>
          <a:xfrm>
            <a:off x="1000080" y="3500280"/>
            <a:ext cx="3024360" cy="1656000"/>
            <a:chOff x="1000080" y="3500280"/>
            <a:chExt cx="3024360" cy="1656000"/>
          </a:xfrm>
        </p:grpSpPr>
        <p:sp>
          <p:nvSpPr>
            <p:cNvPr id="321" name="AutoShape 8"/>
            <p:cNvSpPr/>
            <p:nvPr/>
          </p:nvSpPr>
          <p:spPr>
            <a:xfrm>
              <a:off x="1000080" y="3500280"/>
              <a:ext cx="3024360" cy="165600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"/>
            <p:cNvSpPr/>
            <p:nvPr/>
          </p:nvSpPr>
          <p:spPr>
            <a:xfrm>
              <a:off x="12157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7"/>
            <p:cNvSpPr/>
            <p:nvPr/>
          </p:nvSpPr>
          <p:spPr>
            <a:xfrm>
              <a:off x="3089520" y="3787560"/>
              <a:ext cx="720720" cy="108144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AutoShape 9"/>
          <p:cNvSpPr/>
          <p:nvPr/>
        </p:nvSpPr>
        <p:spPr>
          <a:xfrm>
            <a:off x="6804000" y="31417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/>
          <p:cNvSpPr/>
          <p:nvPr/>
        </p:nvSpPr>
        <p:spPr>
          <a:xfrm>
            <a:off x="6804000" y="4043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6804000" y="497052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7307280" y="38908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7307280" y="4789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31"/>
          <p:cNvSpPr/>
          <p:nvPr/>
        </p:nvSpPr>
        <p:spPr>
          <a:xfrm>
            <a:off x="7307280" y="56912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32"/>
          <p:cNvSpPr/>
          <p:nvPr/>
        </p:nvSpPr>
        <p:spPr>
          <a:xfrm>
            <a:off x="7307280" y="2757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3"/>
          <p:cNvSpPr/>
          <p:nvPr/>
        </p:nvSpPr>
        <p:spPr>
          <a:xfrm>
            <a:off x="3714840" y="4286160"/>
            <a:ext cx="3313080" cy="216000"/>
          </a:xfrm>
          <a:prstGeom prst="leftRightArrow">
            <a:avLst>
              <a:gd name="adj1" fmla="val 50000"/>
              <a:gd name="adj2" fmla="val 30534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7000920" y="4143240"/>
            <a:ext cx="26172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7"/>
          <p:cNvSpPr/>
          <p:nvPr/>
        </p:nvSpPr>
        <p:spPr>
          <a:xfrm>
            <a:off x="7462800" y="4143240"/>
            <a:ext cx="260280" cy="4813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EAF3-A2FF-4550-AD04-A6FF87E9CE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evolution of data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6603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me thing in OO APL system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9" name="Group 21"/>
          <p:cNvGrpSpPr/>
          <p:nvPr/>
        </p:nvGrpSpPr>
        <p:grpSpPr>
          <a:xfrm>
            <a:off x="1000080" y="3143160"/>
            <a:ext cx="3457800" cy="2008440"/>
            <a:chOff x="1000080" y="3143160"/>
            <a:chExt cx="3457800" cy="2008440"/>
          </a:xfrm>
        </p:grpSpPr>
        <p:sp>
          <p:nvSpPr>
            <p:cNvPr id="340" name="AutoShape 5"/>
            <p:cNvSpPr/>
            <p:nvPr/>
          </p:nvSpPr>
          <p:spPr>
            <a:xfrm>
              <a:off x="1000080" y="3143160"/>
              <a:ext cx="3457800" cy="2008440"/>
            </a:xfrm>
            <a:prstGeom prst="flowChart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"/>
            <p:cNvSpPr/>
            <p:nvPr/>
          </p:nvSpPr>
          <p:spPr>
            <a:xfrm>
              <a:off x="1246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3388680" y="3491640"/>
              <a:ext cx="824040" cy="13114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AutoShape 8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4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7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6"/>
          <p:cNvSpPr/>
          <p:nvPr/>
        </p:nvSpPr>
        <p:spPr>
          <a:xfrm>
            <a:off x="5464080" y="4303800"/>
            <a:ext cx="0" cy="11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072040" y="3714840"/>
            <a:ext cx="1096920" cy="7365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6"/>
          <p:cNvSpPr/>
          <p:nvPr/>
        </p:nvSpPr>
        <p:spPr>
          <a:xfrm>
            <a:off x="5149800" y="3843360"/>
            <a:ext cx="26208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7"/>
          <p:cNvSpPr/>
          <p:nvPr/>
        </p:nvSpPr>
        <p:spPr>
          <a:xfrm>
            <a:off x="5829480" y="3843360"/>
            <a:ext cx="261720" cy="47952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456080" y="3147840"/>
            <a:ext cx="615960" cy="5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 flipV="1">
            <a:off x="4471200" y="4446720"/>
            <a:ext cx="59076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5"/>
          <p:cNvSpPr/>
          <p:nvPr/>
        </p:nvSpPr>
        <p:spPr>
          <a:xfrm>
            <a:off x="5572080" y="4500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6259-EF5F-4D35-B5A1-7772B5A699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fc20"/>
                    </a:gs>
                    <a:gs pos="100000">
                      <a:srgbClr val="bed81b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fc20"/>
                  </a:gs>
                  <a:gs pos="100000">
                    <a:srgbClr val="bed81b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24000" y="106992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Object Oriented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9B95-F8F9-4FBE-BB47-FAEE8E8C1D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660320"/>
            <a:ext cx="7989840" cy="68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bject Oriented paradigm is based 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2338560" y="251784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&amp;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8C7-B98D-4EA1-9166-C801F21D0A7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750680"/>
            <a:ext cx="8351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1. 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fines the abstract characteristics of som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, akin to a bluepri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describes a collection of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members (data and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asses can be nes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CC3-1B4C-43EE-8693-86D04BA87CC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ex: House blueprint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78" name="Group 11"/>
          <p:cNvGrpSpPr/>
          <p:nvPr/>
        </p:nvGrpSpPr>
        <p:grpSpPr>
          <a:xfrm>
            <a:off x="3203280" y="3860640"/>
            <a:ext cx="3097440" cy="1944720"/>
            <a:chOff x="3203280" y="3860640"/>
            <a:chExt cx="3097440" cy="1944720"/>
          </a:xfrm>
        </p:grpSpPr>
        <p:sp>
          <p:nvSpPr>
            <p:cNvPr id="379" name="Rectangle 4"/>
            <p:cNvSpPr/>
            <p:nvPr/>
          </p:nvSpPr>
          <p:spPr>
            <a:xfrm>
              <a:off x="3564000" y="4581360"/>
              <a:ext cx="2376360" cy="122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3203280" y="3860640"/>
              <a:ext cx="1584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H="1" flipV="1">
              <a:off x="4788000" y="3860640"/>
              <a:ext cx="1512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3786120" y="5000400"/>
              <a:ext cx="857160" cy="35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5143680" y="5143320"/>
              <a:ext cx="357120" cy="64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E757-EBBA-4FB8-8734-EBBBF908211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000" y="17334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Class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Geneva"/>
              </a:rPr>
              <a:t>can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mplement one or more </a:t>
            </a:r>
            <a:r>
              <a:rPr b="0" i="1" lang="en-US" sz="3200" spc="-1" strike="noStrike">
                <a:solidFill>
                  <a:srgbClr val="000000"/>
                </a:solidFill>
                <a:latin typeface="Geneva"/>
              </a:rPr>
              <a:t>interfac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what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it should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3F9B-2D1F-4451-90B8-A459715EADB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733040"/>
            <a:ext cx="8351640" cy="27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</a:rPr>
              <a:t>Interfa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terfa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describes how to communicate with an objec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electrical system &amp; electrical outl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94" name="Picture 7" descr="C:\Users\Danb\Pictures\outlet.jpg"/>
          <p:cNvPicPr/>
          <p:nvPr/>
        </p:nvPicPr>
        <p:blipFill>
          <a:blip r:embed="rId1"/>
          <a:stretch/>
        </p:blipFill>
        <p:spPr>
          <a:xfrm>
            <a:off x="3049560" y="4043520"/>
            <a:ext cx="280836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9BBE-D97C-4A1C-8A28-A01F1F48E4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4920" y="1820520"/>
            <a:ext cx="8064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following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maneuver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nterface describes what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A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be done with a machine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tee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direction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where to go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Accellerate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power);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 // go fast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ethod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lowDow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strength); // go slow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does NOT specify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HOW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t should be don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339A-7C82-449B-81E4-823B2BC15EE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ve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39640" y="2449440"/>
            <a:ext cx="410364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History of OO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Definitions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711360" indent="-711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ne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The APL way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DD79-3ED6-41BF-83CD-5572542365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arcockpit3"/>
          <p:cNvPicPr/>
          <p:nvPr/>
        </p:nvPicPr>
        <p:blipFill>
          <a:blip r:embed="rId1"/>
          <a:stretch/>
        </p:blipFill>
        <p:spPr>
          <a:xfrm>
            <a:off x="5943600" y="1916280"/>
            <a:ext cx="3205080" cy="424944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1080" y="13712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ar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79280" y="2085840"/>
            <a:ext cx="62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eeringWhe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urn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as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ush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BreakPed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hit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8ED-3FAB-4A2D-8A0D-C96A1A367F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cockpit2"/>
          <p:cNvPicPr/>
          <p:nvPr/>
        </p:nvPicPr>
        <p:blipFill>
          <a:blip r:embed="rId1"/>
          <a:stretch/>
        </p:blipFill>
        <p:spPr>
          <a:xfrm>
            <a:off x="5722920" y="2060640"/>
            <a:ext cx="3421080" cy="4032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nterfaces -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plan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implements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 maneuve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250920" y="2157480"/>
            <a:ext cx="5761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Yo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te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mov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and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Accelle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pp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lap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 implem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maneuvering.SlowDow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degree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C5B-9176-43E8-87DE-57699793628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589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tangibl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object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created from a specific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code) of the class if some sort of initialization is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destruction,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responsible for cleaning up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95F1-6C60-4FCC-AC09-29E2B817BE2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000" y="1588680"/>
            <a:ext cx="38178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2. Instanc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New House (Blue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24" name="Group 11" descr=""/>
          <p:cNvPicPr/>
          <p:nvPr/>
        </p:nvPicPr>
        <p:blipFill>
          <a:blip r:embed="rId1"/>
          <a:stretch/>
        </p:blipFill>
        <p:spPr>
          <a:xfrm>
            <a:off x="3054240" y="2981160"/>
            <a:ext cx="3121200" cy="1968840"/>
          </a:xfrm>
          <a:prstGeom prst="rect">
            <a:avLst/>
          </a:prstGeom>
          <a:ln w="0">
            <a:noFill/>
          </a:ln>
        </p:spPr>
      </p:pic>
      <p:sp>
        <p:nvSpPr>
          <p:cNvPr id="425" name="Isosceles Triangle 12"/>
          <p:cNvSpPr/>
          <p:nvPr/>
        </p:nvSpPr>
        <p:spPr>
          <a:xfrm>
            <a:off x="3429000" y="2998800"/>
            <a:ext cx="2428920" cy="716040"/>
          </a:xfrm>
          <a:prstGeom prst="triangle">
            <a:avLst>
              <a:gd name="adj" fmla="val 49574"/>
            </a:avLst>
          </a:pr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605520" y="5072040"/>
            <a:ext cx="740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ter the creation of the new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or paints it i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255-7033-407B-B03C-9D43B9CB83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5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4920" y="1660320"/>
            <a:ext cx="8280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3.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code and the data of a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de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unctions) and data is divided int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iables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are Fields implemented via functions to read/set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1874-DBFB-4E9D-8A9D-D4B39F8B6E2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528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se can reside inside the class if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in th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: the .Ne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has a member 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o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at does not require an instance to be called.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DateTime.Now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⍝ straight from the 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2007/10/21  9:12:04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13D-7E59-4009-BC02-521BFA9CB70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4920" y="1589040"/>
            <a:ext cx="4824360" cy="12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Shared vs Ins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3562200" y="2565360"/>
            <a:ext cx="1944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695160" y="2462040"/>
            <a:ext cx="27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d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 in th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04292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56220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6083280" y="4510080"/>
            <a:ext cx="1944720" cy="1295280"/>
          </a:xfrm>
          <a:prstGeom prst="rect">
            <a:avLst/>
          </a:prstGeom>
          <a:solidFill>
            <a:srgbClr val="8fff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S1 S2 S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1 I2 I3 I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900040" y="3033720"/>
            <a:ext cx="277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memb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reated in t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10"/>
          <p:cNvCxnSpPr>
            <a:stCxn id="442" idx="2"/>
            <a:endCxn id="444" idx="0"/>
          </p:cNvCxnSpPr>
          <p:nvPr/>
        </p:nvCxnSpPr>
        <p:spPr>
          <a:xfrm flipH="1">
            <a:off x="2015280" y="3860640"/>
            <a:ext cx="252036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49" name="AutoShape 12"/>
          <p:cNvCxnSpPr>
            <a:stCxn id="442" idx="2"/>
            <a:endCxn id="445" idx="0"/>
          </p:cNvCxnSpPr>
          <p:nvPr/>
        </p:nvCxnSpPr>
        <p:spPr>
          <a:xfrm>
            <a:off x="4535280" y="3860640"/>
            <a:ext cx="108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50" name="AutoShape 13"/>
          <p:cNvCxnSpPr>
            <a:stCxn id="442" idx="2"/>
            <a:endCxn id="446" idx="0"/>
          </p:cNvCxnSpPr>
          <p:nvPr/>
        </p:nvCxnSpPr>
        <p:spPr>
          <a:xfrm>
            <a:off x="4535640" y="3860640"/>
            <a:ext cx="2521440" cy="650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6AAB-D32F-436B-8181-8DAC1874684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660320"/>
            <a:ext cx="798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Metho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also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bstrac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 (e.g. in interfaces) with no code, only calling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d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destructor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re metho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CF03-B107-498F-A3DA-2B3AA599BE1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0504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Field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also be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read onl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D84-BC2E-461B-ACC4-385CF62DC6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60320"/>
            <a:ext cx="835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embers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opertie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ose are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Field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mplemented by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access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thods, i.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en-GB" sz="2800" spc="-1" strike="noStrike">
                <a:solidFill>
                  <a:srgbClr val="333333"/>
                </a:solidFill>
                <a:latin typeface="APL385 Unicode"/>
              </a:rPr>
              <a:t>PropX←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⍝ </a:t>
            </a:r>
            <a:r>
              <a:rPr b="0" lang="fr-CA" sz="2800" spc="-1" strike="noStrike">
                <a:solidFill>
                  <a:srgbClr val="333333"/>
                </a:solidFill>
                <a:latin typeface="Geneva"/>
              </a:rPr>
              <a:t>is implemented by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333333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y can either reside in the class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shared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 or in the instance (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US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)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9A41-498B-4235-BC66-F6FE8C2D375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: why do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763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cause Object Orientation is a Valuable Tool of Thought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be able to Share Tools and Components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o help us Manage Complexity in all Project Pha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.Net more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6BF-7F93-45E1-B89C-7E899DF1E9D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964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4. Message passing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the (usually asynchronous) sending (often by copy) of a data item to a communication endpoint (process, thread, socket, etc.)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procedural languages like Dyalog, it corresponds to a call made to a routi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D1E8-0207-4097-8C90-B46EC2F1437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5. 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from them and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inheri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heir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member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This helps achiev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reusability, 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a cornerstone of OO by avoiding to rewrite code and use what already exis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CB4E-7099-4E8C-860D-0F48625C3F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e say that a (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derived)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 i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333333"/>
                </a:solidFill>
                <a:latin typeface="Geneva"/>
              </a:rPr>
              <a:t>All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classes (but one) are derived from another one or from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ystem.Object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EE89-3724-4892-A3C7-9914472C7C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31280" y="166032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 (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reusability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6" name="Group 24"/>
          <p:cNvGrpSpPr/>
          <p:nvPr/>
        </p:nvGrpSpPr>
        <p:grpSpPr>
          <a:xfrm>
            <a:off x="322200" y="3287880"/>
            <a:ext cx="8353440" cy="2877480"/>
            <a:chOff x="322200" y="3287880"/>
            <a:chExt cx="8353440" cy="2877480"/>
          </a:xfrm>
        </p:grpSpPr>
        <p:sp>
          <p:nvSpPr>
            <p:cNvPr id="487" name="Rectangle 4"/>
            <p:cNvSpPr/>
            <p:nvPr/>
          </p:nvSpPr>
          <p:spPr>
            <a:xfrm>
              <a:off x="82728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5"/>
            <p:cNvSpPr/>
            <p:nvPr/>
          </p:nvSpPr>
          <p:spPr>
            <a:xfrm>
              <a:off x="291456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g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709128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x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291456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709128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5002200" y="328788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002200" y="465444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lli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4" name="AutoShape 15"/>
            <p:cNvCxnSpPr>
              <a:stCxn id="487" idx="3"/>
              <a:endCxn id="488" idx="1"/>
            </p:cNvCxnSpPr>
            <p:nvPr/>
          </p:nvCxnSpPr>
          <p:spPr>
            <a:xfrm flipV="1">
              <a:off x="2411280" y="4079160"/>
              <a:ext cx="50400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AutoShape 16"/>
            <p:cNvCxnSpPr>
              <a:stCxn id="487" idx="3"/>
              <a:endCxn id="490" idx="1"/>
            </p:cNvCxnSpPr>
            <p:nvPr/>
          </p:nvCxnSpPr>
          <p:spPr>
            <a:xfrm>
              <a:off x="241128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AutoShape 17"/>
            <p:cNvCxnSpPr>
              <a:stCxn id="488" idx="3"/>
              <a:endCxn id="492" idx="1"/>
            </p:cNvCxnSpPr>
            <p:nvPr/>
          </p:nvCxnSpPr>
          <p:spPr>
            <a:xfrm flipV="1">
              <a:off x="4498920" y="3791520"/>
              <a:ext cx="504000" cy="28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AutoShape 18"/>
            <p:cNvCxnSpPr>
              <a:stCxn id="488" idx="3"/>
              <a:endCxn id="493" idx="1"/>
            </p:cNvCxnSpPr>
            <p:nvPr/>
          </p:nvCxnSpPr>
          <p:spPr>
            <a:xfrm>
              <a:off x="4498920" y="4079520"/>
              <a:ext cx="504000" cy="108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9"/>
            <p:cNvCxnSpPr>
              <a:stCxn id="493" idx="3"/>
              <a:endCxn id="491" idx="1"/>
            </p:cNvCxnSpPr>
            <p:nvPr/>
          </p:nvCxnSpPr>
          <p:spPr>
            <a:xfrm flipV="1">
              <a:off x="6586560" y="4511160"/>
              <a:ext cx="505440" cy="64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AutoShape 20"/>
            <p:cNvCxnSpPr>
              <a:stCxn id="493" idx="3"/>
              <a:endCxn id="489" idx="1"/>
            </p:cNvCxnSpPr>
            <p:nvPr/>
          </p:nvCxnSpPr>
          <p:spPr>
            <a:xfrm>
              <a:off x="6586560" y="5158800"/>
              <a:ext cx="50544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Text Box 21"/>
            <p:cNvSpPr/>
            <p:nvPr/>
          </p:nvSpPr>
          <p:spPr>
            <a:xfrm>
              <a:off x="716472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2"/>
            <p:cNvSpPr/>
            <p:nvPr/>
          </p:nvSpPr>
          <p:spPr>
            <a:xfrm>
              <a:off x="319392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>
              <a:off x="32220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4212-1049-449A-BB86-7592B5D2E6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4000" y="1589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be based on several other classes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e is made out of 2 different class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8" name="Group 21"/>
          <p:cNvGrpSpPr/>
          <p:nvPr/>
        </p:nvGrpSpPr>
        <p:grpSpPr>
          <a:xfrm>
            <a:off x="2771640" y="3429000"/>
            <a:ext cx="3889440" cy="2374920"/>
            <a:chOff x="2771640" y="3429000"/>
            <a:chExt cx="3889440" cy="2374920"/>
          </a:xfrm>
        </p:grpSpPr>
        <p:sp>
          <p:nvSpPr>
            <p:cNvPr id="509" name="Rectangle 9"/>
            <p:cNvSpPr/>
            <p:nvPr/>
          </p:nvSpPr>
          <p:spPr>
            <a:xfrm>
              <a:off x="2771640" y="3429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ors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0"/>
            <p:cNvSpPr/>
            <p:nvPr/>
          </p:nvSpPr>
          <p:spPr>
            <a:xfrm>
              <a:off x="2771640" y="479592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nkey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1" name="AutoShape 15"/>
            <p:cNvCxnSpPr>
              <a:stCxn id="510" idx="3"/>
              <a:endCxn id="512" idx="1"/>
            </p:cNvCxnSpPr>
            <p:nvPr/>
          </p:nvCxnSpPr>
          <p:spPr>
            <a:xfrm flipV="1">
              <a:off x="4356000" y="4725720"/>
              <a:ext cx="721440" cy="57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AutoShape 19"/>
            <p:cNvCxnSpPr>
              <a:stCxn id="509" idx="3"/>
              <a:endCxn id="512" idx="1"/>
            </p:cNvCxnSpPr>
            <p:nvPr/>
          </p:nvCxnSpPr>
          <p:spPr>
            <a:xfrm>
              <a:off x="4356000" y="3933360"/>
              <a:ext cx="721440" cy="793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2" name="Rectangle 20"/>
            <p:cNvSpPr/>
            <p:nvPr/>
          </p:nvSpPr>
          <p:spPr>
            <a:xfrm>
              <a:off x="5076720" y="422100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ul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A5F-56EE-43D1-915F-9BE5B4B169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4720" y="1660320"/>
            <a:ext cx="8460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mulat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ultiple inherit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implement several interfaces. Here </a:t>
            </a:r>
            <a:r>
              <a:rPr b="0" lang="en-GB" sz="3200" spc="-1" strike="noStrike">
                <a:solidFill>
                  <a:srgbClr val="00ccff"/>
                </a:solidFill>
                <a:latin typeface="Geneva"/>
              </a:rPr>
              <a:t>clas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enguin implements 2 different behaviours (interfac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556000" y="400536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wim,eg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2556000" y="5156280"/>
            <a:ext cx="1584360" cy="1008000"/>
          </a:xfrm>
          <a:prstGeom prst="rect">
            <a:avLst/>
          </a:prstGeom>
          <a:solidFill>
            <a:srgbClr val="ddfc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y,eggs,s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AutoShape 7"/>
          <p:cNvCxnSpPr>
            <a:stCxn id="520" idx="3"/>
            <a:endCxn id="522" idx="1"/>
          </p:cNvCxnSpPr>
          <p:nvPr/>
        </p:nvCxnSpPr>
        <p:spPr>
          <a:xfrm flipV="1">
            <a:off x="4140360" y="5086080"/>
            <a:ext cx="72144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AutoShape 8"/>
          <p:cNvCxnSpPr>
            <a:stCxn id="519" idx="3"/>
            <a:endCxn id="522" idx="1"/>
          </p:cNvCxnSpPr>
          <p:nvPr/>
        </p:nvCxnSpPr>
        <p:spPr>
          <a:xfrm>
            <a:off x="4140360" y="4509720"/>
            <a:ext cx="72144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Rectangle 9"/>
          <p:cNvSpPr/>
          <p:nvPr/>
        </p:nvSpPr>
        <p:spPr>
          <a:xfrm>
            <a:off x="4861080" y="4365720"/>
            <a:ext cx="21589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gu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wim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lies n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egg/y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oak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52A0-6AC8-4C2B-A639-BAEBEC8022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When an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instanc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is created from a class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bas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on another one it inherits all its member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Members can be redefined but </a:t>
            </a:r>
            <a:r>
              <a:rPr b="0" lang="fr-CA" sz="3200" spc="-1" strike="noStrike" u="sng">
                <a:solidFill>
                  <a:srgbClr val="333333"/>
                </a:solidFill>
                <a:uFillTx/>
                <a:latin typeface="Geneva"/>
              </a:rPr>
              <a:t>subroutines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must be specifically set to </a:t>
            </a:r>
            <a:r>
              <a:rPr b="0" i="1" lang="fr-CA" sz="3200" spc="-1" strike="noStrike">
                <a:solidFill>
                  <a:srgbClr val="99cc00"/>
                </a:solidFill>
                <a:latin typeface="Geneva"/>
              </a:rPr>
              <a:t>override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base class subroutin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A94-2070-4920-9802-959B8B9B807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54" dur="2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56" dur="2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71C-5C8F-40E6-BE97-E2FFA7D952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24000" y="1805040"/>
            <a:ext cx="864072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a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derived</a:t>
            </a: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 class inherits all the base member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900000" y="3355920"/>
            <a:ext cx="1727280" cy="216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469ff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6156360" y="3355920"/>
            <a:ext cx="1727280" cy="2160720"/>
          </a:xfrm>
          <a:prstGeom prst="rect">
            <a:avLst/>
          </a:prstGeom>
          <a:solidFill>
            <a:srgbClr val="bbe0e3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2: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embe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75341E-006 L -0.29254 -0.00023 E">
                                      <p:cBhvr>
                                        <p:cTn id="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3257E-007 L 0.28351 0.00023 E">
                                      <p:cBhvr>
                                        <p:cTn id="64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2CE-C101-4B4E-A01A-5500762C44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0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itialization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is performed by the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If a class is derived, the </a:t>
            </a:r>
            <a:r>
              <a:rPr b="0" lang="en-GB" sz="3600" spc="-1" strike="noStrike">
                <a:solidFill>
                  <a:srgbClr val="99cc00"/>
                </a:solidFill>
                <a:latin typeface="Geneva"/>
              </a:rPr>
              <a:t>base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class' </a:t>
            </a:r>
            <a:r>
              <a:rPr b="0" i="1" lang="en-GB" sz="36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3600" spc="-1" strike="noStrike">
                <a:solidFill>
                  <a:srgbClr val="333333"/>
                </a:solidFill>
                <a:latin typeface="Geneva"/>
              </a:rPr>
              <a:t> will also be called if there is one.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00B5-F0E1-421F-BECD-A649B76B10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isto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8904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not new, it’s been around for a whi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tty much the same story as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50s: concep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6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mplementation (SIMULA compiler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70s: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user base, Smalltalk compil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80s: starts to be used more serious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Geneva"/>
              </a:rPr>
              <a:t>≠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) thanks to C++ and Java &amp; the Interne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6AA-CA8E-490E-B9C0-F7D56A2AF3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24000" y="1660680"/>
            <a:ext cx="864072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Some classes may be </a:t>
            </a:r>
            <a:r>
              <a:rPr b="0" i="1" lang="fr-CA" sz="3200" spc="-1" strike="noStrike">
                <a:solidFill>
                  <a:srgbClr val="333333"/>
                </a:solidFill>
                <a:latin typeface="Geneva"/>
              </a:rPr>
              <a:t>sealed</a:t>
            </a:r>
            <a:r>
              <a:rPr b="0" lang="fr-CA" sz="3200" spc="-1" strike="noStrike">
                <a:solidFill>
                  <a:srgbClr val="333333"/>
                </a:solidFill>
                <a:latin typeface="Geneva"/>
              </a:rPr>
              <a:t> to prevent other classes from inheriting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D753-0605-47B4-8936-32A234E45A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verride conce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122480" y="446076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76960" y="4437000"/>
            <a:ext cx="250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 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12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3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4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5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6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9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0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9EA8-5860-416A-98AB-0DFD8BA81B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15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8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9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6B02-E6C6-4C22-BD24-E6D2E3C6E4D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0" name="AutoShape 5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6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7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8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9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1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2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3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6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7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2"/>
          <p:cNvSpPr/>
          <p:nvPr/>
        </p:nvSpPr>
        <p:spPr>
          <a:xfrm>
            <a:off x="2055600" y="558972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does not allow to be overrid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FF92-7B92-4B4B-830D-8B32180E52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2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B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rid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: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M1 i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A’s (on which B is based) M1 i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7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1117440" y="446076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A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A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5365440" y="443700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/ M1 calls B’s M2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W B).M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1481040" y="558972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:M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llow to be overridden AND B wants to override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9779-4B9F-42F1-9BBA-B61F0198F6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neva"/>
              </a:rPr>
              <a:t>6. Encapsu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Hides the underlying functionality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t conceals the exact details of how a particular class works from objects (external or internal) that use its c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This allows to modify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the internal implementation of a class without requiring changes to its services (i.e. methods).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B766-D205-43B0-8EEC-C52E55733DF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: a ca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24000" y="15541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0" name="Picture 4" descr="dash-wiring4"/>
          <p:cNvPicPr/>
          <p:nvPr/>
        </p:nvPicPr>
        <p:blipFill>
          <a:blip r:embed="rId1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closeddash1"/>
          <p:cNvPicPr/>
          <p:nvPr/>
        </p:nvPicPr>
        <p:blipFill>
          <a:blip r:embed="rId2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790E-88E6-4679-AAC4-9EBCEA153A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capsulation (access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allow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member there are various level definit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,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nor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D99A-A28E-40B2-8AF2-1D0DDB42B86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1908000" y="4214880"/>
            <a:ext cx="4969080" cy="195084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24000" y="1517760"/>
            <a:ext cx="864072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</a:t>
            </a:r>
            <a:r>
              <a:rPr b="0" i="1" lang="en-US" sz="3600" spc="-1" strike="noStrike">
                <a:solidFill>
                  <a:srgbClr val="333333"/>
                </a:solidFill>
                <a:latin typeface="Geneva"/>
              </a:rPr>
              <a:t>privat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not be seen from anywhere. Methods can only access it from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insi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 cla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sted or derived objects can't see it eith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2b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AB1-93D5-4606-B5F4-09FDCDEE162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40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rotecte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protect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only be seen from within the instance of from nested or derived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BB74-8D04-49D1-B8AB-66116A9BF2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nother to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bject Orientation is another tool for programmers. Users won’t see any differen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 way for programmers to simplify their lives by supplying each other with already made objects (almost) ready to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521-0A06-4A62-8C0D-7DEDA058D6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public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shar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public instanc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Oval 4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 is 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e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C6E5-18E9-4E42-90A8-FF5F2077A1A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Encapsulation: friend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declared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frie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an see the offerer’s private and public member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9" name="AutoShape 14"/>
          <p:cNvSpPr/>
          <p:nvPr/>
        </p:nvSpPr>
        <p:spPr>
          <a:xfrm>
            <a:off x="5508720" y="4149720"/>
            <a:ext cx="2160360" cy="172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B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B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iend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1890360" y="3521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5870160" y="3500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2"/>
          <p:cNvSpPr/>
          <p:nvPr/>
        </p:nvSpPr>
        <p:spPr>
          <a:xfrm>
            <a:off x="1547640" y="4148280"/>
            <a:ext cx="2160720" cy="93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te Ap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blic A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550872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 flipH="1">
            <a:off x="3595680" y="4508640"/>
            <a:ext cx="220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5"/>
          <p:cNvSpPr/>
          <p:nvPr/>
        </p:nvSpPr>
        <p:spPr>
          <a:xfrm flipH="1" flipV="1">
            <a:off x="3564000" y="4724280"/>
            <a:ext cx="22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919800" y="527040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A sees B’s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its own mem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8DE1-4DFA-44AA-9798-94FE488D3C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24000" y="17334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7. 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types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of data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4648-DDB3-4D83-8F04-2CC0AACF4A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 example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539640" y="2284560"/>
            <a:ext cx="360072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integer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n integer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42 //“Int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4788000" y="2284560"/>
            <a:ext cx="3600360" cy="301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 (string ar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fn called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/ a string ar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“String arg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1621440" y="54309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me function name, differ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5D7F-481E-4486-8A0B-B425588AB89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24000" y="1442880"/>
            <a:ext cx="864072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Polymorphism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5280" y="2122560"/>
            <a:ext cx="799308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ogram that accepts multiple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verload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language example: + is used to add and caten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2+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t ‘aaa’+’bbb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aabb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BAB-A3F6-4189-AA13-90D8D2A702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O fundamental concep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24000" y="16585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More concepts</a:t>
            </a:r>
            <a:endParaRPr b="0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95280" y="2717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many more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ose presented here are the most common 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s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not an OO concept but it is often us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F94A-87F8-46F1-97D6-205175E36F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OO C</a:t>
            </a: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oncepts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Summar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8000" y="170136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O is based on +-7 key conce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blueprin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ances are objects created from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ontain members (data &amp; cod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access is restric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relation between classes is based on inheritance and/or specific acce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0D69-02EE-476B-8CA2-912B8717FC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nd of OO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131640" y="2719440"/>
            <a:ext cx="2590920" cy="27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QUES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333333"/>
                </a:solidFill>
                <a:latin typeface="Geneva"/>
              </a:rPr>
              <a:t>?</a:t>
            </a:r>
            <a:endParaRPr b="0" lang="en-US" sz="1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CFC1-045A-4DDF-B93D-19EA9483D8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WordArt 5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CEF0-1B70-42C3-93AA-3AB43292565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follows C# rules close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xtensions to the language have been made in following with the 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Keywor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cheme introduced in the 90s (All new keywords start with ‘</a:t>
            </a:r>
            <a:r>
              <a:rPr b="1" lang="en-GB" sz="3200" spc="-1" strike="noStrike">
                <a:solidFill>
                  <a:srgbClr val="99cc00"/>
                </a:solidFill>
                <a:latin typeface="Geneva"/>
              </a:rPr>
              <a:t>: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’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functions have been added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ome new system command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name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rom the beginning APL had this kind of notion in the form of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Namespace = Workspace?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C1C9-8E18-4B3A-BA57-76C206E7EFE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D56-0375-4A94-BE8E-E27AF34834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73196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see how Dyalog APL does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554200" y="2589120"/>
            <a:ext cx="46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an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a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herit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F9B-94CC-4329-8C00-2F16680B24E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class can be defined using the )EDitor as i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ED ○ 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5075280" y="2357280"/>
            <a:ext cx="331308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222-B260-498E-A72B-8F0CB43F1B3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lass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workspac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MyCla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ppears as a name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NC ‘MyClas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)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D994-771D-428C-875A-888F1396970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members in a clas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varia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same as a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 looks and feels like a variable but implemented as a (pair of)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can be eithe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ublic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iv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the defaul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98D0-921B-4FE6-9BC0-7143F2B247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fiel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vars) and their acces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the same for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(fns) and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68" name="Group 10"/>
          <p:cNvGrpSpPr/>
          <p:nvPr/>
        </p:nvGrpSpPr>
        <p:grpSpPr>
          <a:xfrm>
            <a:off x="3635280" y="1933560"/>
            <a:ext cx="5268960" cy="4232160"/>
            <a:chOff x="3635280" y="1933560"/>
            <a:chExt cx="5268960" cy="4232160"/>
          </a:xfrm>
        </p:grpSpPr>
        <p:pic>
          <p:nvPicPr>
            <p:cNvPr id="769" name="Picture 6" descr=""/>
            <p:cNvPicPr/>
            <p:nvPr/>
          </p:nvPicPr>
          <p:blipFill>
            <a:blip r:embed="rId1"/>
            <a:stretch/>
          </p:blipFill>
          <p:spPr>
            <a:xfrm>
              <a:off x="3635280" y="1933560"/>
              <a:ext cx="5268960" cy="42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7"/>
            <p:cNvSpPr/>
            <p:nvPr/>
          </p:nvSpPr>
          <p:spPr>
            <a:xfrm>
              <a:off x="5419440" y="4319280"/>
              <a:ext cx="792360" cy="828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5448240" y="3878280"/>
              <a:ext cx="180000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"/>
            <p:cNvSpPr/>
            <p:nvPr/>
          </p:nvSpPr>
          <p:spPr>
            <a:xfrm>
              <a:off x="6211800" y="4929120"/>
              <a:ext cx="71892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C6AB-8CC9-4424-B72B-5D72CC8ACC7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3168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a few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method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(fns) and their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acce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&lt;mon1&gt; is also used as a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constructo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 It MUST be publi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78" name="Group 9"/>
          <p:cNvGrpSpPr/>
          <p:nvPr/>
        </p:nvGrpSpPr>
        <p:grpSpPr>
          <a:xfrm>
            <a:off x="4459320" y="1557360"/>
            <a:ext cx="4289400" cy="4608360"/>
            <a:chOff x="4459320" y="1557360"/>
            <a:chExt cx="4289400" cy="4608360"/>
          </a:xfrm>
        </p:grpSpPr>
        <p:pic>
          <p:nvPicPr>
            <p:cNvPr id="779" name="Picture 5" descr=""/>
            <p:cNvPicPr/>
            <p:nvPr/>
          </p:nvPicPr>
          <p:blipFill>
            <a:blip r:embed="rId1"/>
            <a:stretch/>
          </p:blipFill>
          <p:spPr>
            <a:xfrm>
              <a:off x="4459320" y="1557360"/>
              <a:ext cx="42894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Rectangle 6"/>
            <p:cNvSpPr/>
            <p:nvPr/>
          </p:nvSpPr>
          <p:spPr>
            <a:xfrm>
              <a:off x="5600880" y="3601800"/>
              <a:ext cx="2158920" cy="21564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7"/>
            <p:cNvSpPr/>
            <p:nvPr/>
          </p:nvSpPr>
          <p:spPr>
            <a:xfrm>
              <a:off x="5599080" y="4336920"/>
              <a:ext cx="1944720" cy="21528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8"/>
            <p:cNvSpPr/>
            <p:nvPr/>
          </p:nvSpPr>
          <p:spPr>
            <a:xfrm>
              <a:off x="5599080" y="3420720"/>
              <a:ext cx="1368360" cy="18072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0870-0A5A-435D-96E5-21DEBD93C59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membe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316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class to the right shows 2 </a:t>
            </a:r>
            <a:r>
              <a:rPr b="0" lang="en-GB" sz="2800" spc="-1" strike="noStrike">
                <a:solidFill>
                  <a:srgbClr val="99cc00"/>
                </a:solidFill>
                <a:latin typeface="Geneva"/>
              </a:rPr>
              <a:t>propertie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and their access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rivate and readonly (it has no </a:t>
            </a:r>
            <a:r>
              <a:rPr b="0" i="1" lang="en-GB" sz="2800" spc="-1" strike="noStrike">
                <a:solidFill>
                  <a:srgbClr val="99cc00"/>
                </a:solidFill>
                <a:latin typeface="Geneva"/>
              </a:rPr>
              <a:t>se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fn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28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one is public read/writ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788" name="Group 9"/>
          <p:cNvGrpSpPr/>
          <p:nvPr/>
        </p:nvGrpSpPr>
        <p:grpSpPr>
          <a:xfrm>
            <a:off x="4776840" y="1557360"/>
            <a:ext cx="3682800" cy="4608360"/>
            <a:chOff x="4776840" y="1557360"/>
            <a:chExt cx="3682800" cy="4608360"/>
          </a:xfrm>
        </p:grpSpPr>
        <p:pic>
          <p:nvPicPr>
            <p:cNvPr id="789" name="Picture 5" descr=""/>
            <p:cNvPicPr/>
            <p:nvPr/>
          </p:nvPicPr>
          <p:blipFill>
            <a:blip r:embed="rId1"/>
            <a:stretch/>
          </p:blipFill>
          <p:spPr>
            <a:xfrm>
              <a:off x="4776840" y="1557360"/>
              <a:ext cx="3682800" cy="46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Rectangle 6"/>
            <p:cNvSpPr/>
            <p:nvPr/>
          </p:nvSpPr>
          <p:spPr>
            <a:xfrm>
              <a:off x="5640120" y="2421000"/>
              <a:ext cx="2520720" cy="86508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"/>
            <p:cNvSpPr/>
            <p:nvPr/>
          </p:nvSpPr>
          <p:spPr>
            <a:xfrm>
              <a:off x="5640120" y="3429000"/>
              <a:ext cx="2520720" cy="2160360"/>
            </a:xfrm>
            <a:prstGeom prst="rect">
              <a:avLst/>
            </a:prstGeom>
            <a:solidFill>
              <a:srgbClr val="ff0000">
                <a:alpha val="3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"/>
            <p:cNvSpPr/>
            <p:nvPr/>
          </p:nvSpPr>
          <p:spPr>
            <a:xfrm>
              <a:off x="5713200" y="3573360"/>
              <a:ext cx="1150560" cy="21600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4228-923C-40C2-AF1C-BB6B1D9BDEC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614160" y="158904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are like blueprints: they define how things should b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is a new system function that creates an object using a class as an instance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is in the class will appear in the instance as a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py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not a refere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stanc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1E1-084D-4D72-B100-0B50432C553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685440" y="1874520"/>
            <a:ext cx="81342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⎕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NEW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ccepts a one or two elements arg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1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ne is the class (not in quote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, if present, is what to start/initialize the instance with. It can only be supplied if the class allow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685800" y="566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1B3C-E8CF-42D2-AF13-33353ADFA0A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 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display form includes [brackets] by defaul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Instan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t is another type of namespace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NC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myInstance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9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N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epts of the OO paradigm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ntains everything needed to run an applic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904B-0F7D-4770-BB4A-81752B9E40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71720" y="3357720"/>
            <a:ext cx="7200720" cy="2676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9"/>
          <p:cNvSpPr/>
          <p:nvPr/>
        </p:nvSpPr>
        <p:spPr>
          <a:xfrm>
            <a:off x="642960" y="2286000"/>
            <a:ext cx="7715160" cy="92880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C2CC-79AB-4083-BE38-D26CFF5FC49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685440" y="1733400"/>
            <a:ext cx="8134200" cy="43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F allows to change the default Display Form of a name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⎕←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←⎕NEW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My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#.[MyClass]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r>
              <a:rPr b="0" lang="en-GB" sz="2800" spc="-1" strike="noStrike">
                <a:solidFill>
                  <a:srgbClr val="009999"/>
                </a:solidFill>
                <a:latin typeface="APL385 Unicode"/>
              </a:rPr>
              <a:t>.⎕DF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‘OO class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    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bj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OO clas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⎕DF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FB1-8150-4490-839E-36DDF667D1E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lasses may requir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something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initialize the instance.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)ED ○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title"/>
          </p:nvPr>
        </p:nvSpPr>
        <p:spPr>
          <a:xfrm>
            <a:off x="323640" y="58104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8" name="Text Box 5"/>
          <p:cNvSpPr/>
          <p:nvPr/>
        </p:nvSpPr>
        <p:spPr>
          <a:xfrm>
            <a:off x="166680" y="350676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have at least tw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# of le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ounds it mak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8"/>
          <p:cNvGrpSpPr/>
          <p:nvPr/>
        </p:nvGrpSpPr>
        <p:grpSpPr>
          <a:xfrm>
            <a:off x="4500720" y="2440080"/>
            <a:ext cx="4248000" cy="3652920"/>
            <a:chOff x="4500720" y="2440080"/>
            <a:chExt cx="4248000" cy="3652920"/>
          </a:xfrm>
        </p:grpSpPr>
        <p:pic>
          <p:nvPicPr>
            <p:cNvPr id="820" name="Picture 4" descr=""/>
            <p:cNvPicPr/>
            <p:nvPr/>
          </p:nvPicPr>
          <p:blipFill>
            <a:blip r:embed="rId1"/>
            <a:stretch/>
          </p:blipFill>
          <p:spPr>
            <a:xfrm>
              <a:off x="4500720" y="2440080"/>
              <a:ext cx="424800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6"/>
            <p:cNvSpPr/>
            <p:nvPr/>
          </p:nvSpPr>
          <p:spPr>
            <a:xfrm>
              <a:off x="5651640" y="3616560"/>
              <a:ext cx="22338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5437440" y="4743720"/>
              <a:ext cx="2016000" cy="360360"/>
            </a:xfrm>
            <a:prstGeom prst="rect">
              <a:avLst/>
            </a:prstGeom>
            <a:solidFill>
              <a:srgbClr val="ddfc20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EBC9-6CE9-4A7C-8A20-314E26A6120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23640" y="1587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everal instances can be made up of the same Animal clas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323640" y="49356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construct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8" name="Picture 6" descr=""/>
          <p:cNvPicPr/>
          <p:nvPr/>
        </p:nvPicPr>
        <p:blipFill>
          <a:blip r:embed="rId1"/>
          <a:stretch/>
        </p:blipFill>
        <p:spPr>
          <a:xfrm>
            <a:off x="3429000" y="2135160"/>
            <a:ext cx="5175360" cy="229392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7"/>
          <p:cNvSpPr/>
          <p:nvPr/>
        </p:nvSpPr>
        <p:spPr>
          <a:xfrm>
            <a:off x="167040" y="293040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running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in a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ce we hav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)o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sh monkey snake tiger Ani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C ‘animals’   ⍝ this is a variable holding 4 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imals.Nlegs   ⍝ how many legs for each anim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4 0 0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B8F9-AD09-44CA-85A8-9AAAE4A8B0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79280" y="56664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Implementation: message passing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class.sharedFn   arg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009999"/>
                </a:solidFill>
                <a:latin typeface="Geneva"/>
              </a:rPr>
              <a:t>myInstance.Fn   args ⍝ args if requi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FA9-EB7A-4DE4-8FC9-BE5392A7AF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5280" y="56664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51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clas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Geneva"/>
              </a:rPr>
              <a:t>class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Collie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Dog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based on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 Anima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40" name="Group 21"/>
          <p:cNvGrpSpPr/>
          <p:nvPr/>
        </p:nvGrpSpPr>
        <p:grpSpPr>
          <a:xfrm>
            <a:off x="179280" y="3359160"/>
            <a:ext cx="8353440" cy="2806200"/>
            <a:chOff x="179280" y="3359160"/>
            <a:chExt cx="8353440" cy="2806200"/>
          </a:xfrm>
        </p:grpSpPr>
        <p:sp>
          <p:nvSpPr>
            <p:cNvPr id="841" name="Rectangle 4"/>
            <p:cNvSpPr/>
            <p:nvPr/>
          </p:nvSpPr>
          <p:spPr>
            <a:xfrm>
              <a:off x="684360" y="436680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5"/>
            <p:cNvSpPr/>
            <p:nvPr/>
          </p:nvSpPr>
          <p:spPr>
            <a:xfrm>
              <a:off x="2771640" y="357480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og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6"/>
            <p:cNvSpPr/>
            <p:nvPr/>
          </p:nvSpPr>
          <p:spPr>
            <a:xfrm>
              <a:off x="6948360" y="515736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7"/>
            <p:cNvSpPr/>
            <p:nvPr/>
          </p:nvSpPr>
          <p:spPr>
            <a:xfrm>
              <a:off x="2771640" y="4943160"/>
              <a:ext cx="158436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sh: Anim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8"/>
            <p:cNvSpPr/>
            <p:nvPr/>
          </p:nvSpPr>
          <p:spPr>
            <a:xfrm>
              <a:off x="6948360" y="4006440"/>
              <a:ext cx="158436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do (Collie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0"/>
            <p:cNvSpPr/>
            <p:nvPr/>
          </p:nvSpPr>
          <p:spPr>
            <a:xfrm>
              <a:off x="4859280" y="4727160"/>
              <a:ext cx="158436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lli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7" name="AutoShape 11"/>
            <p:cNvCxnSpPr>
              <a:stCxn id="841" idx="3"/>
              <a:endCxn id="842" idx="1"/>
            </p:cNvCxnSpPr>
            <p:nvPr/>
          </p:nvCxnSpPr>
          <p:spPr>
            <a:xfrm flipV="1">
              <a:off x="2268360" y="4079160"/>
              <a:ext cx="504000" cy="79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8" name="AutoShape 12"/>
            <p:cNvCxnSpPr>
              <a:stCxn id="841" idx="3"/>
              <a:endCxn id="844" idx="1"/>
            </p:cNvCxnSpPr>
            <p:nvPr/>
          </p:nvCxnSpPr>
          <p:spPr>
            <a:xfrm>
              <a:off x="2268360" y="4871520"/>
              <a:ext cx="504000" cy="57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9" name="AutoShape 13"/>
            <p:cNvCxnSpPr>
              <a:stCxn id="842" idx="3"/>
              <a:endCxn id="850" idx="1"/>
            </p:cNvCxnSpPr>
            <p:nvPr/>
          </p:nvCxnSpPr>
          <p:spPr>
            <a:xfrm flipV="1">
              <a:off x="4355640" y="3863520"/>
              <a:ext cx="361080" cy="21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1" name="AutoShape 14"/>
            <p:cNvCxnSpPr>
              <a:stCxn id="842" idx="3"/>
              <a:endCxn id="846" idx="1"/>
            </p:cNvCxnSpPr>
            <p:nvPr/>
          </p:nvCxnSpPr>
          <p:spPr>
            <a:xfrm>
              <a:off x="4356000" y="4079160"/>
              <a:ext cx="504000" cy="115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2" name="AutoShape 15"/>
            <p:cNvCxnSpPr>
              <a:stCxn id="846" idx="3"/>
              <a:endCxn id="845" idx="1"/>
            </p:cNvCxnSpPr>
            <p:nvPr/>
          </p:nvCxnSpPr>
          <p:spPr>
            <a:xfrm flipV="1">
              <a:off x="6443640" y="4510800"/>
              <a:ext cx="505440" cy="72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3" name="AutoShape 16"/>
            <p:cNvCxnSpPr>
              <a:stCxn id="846" idx="3"/>
              <a:endCxn id="843" idx="1"/>
            </p:cNvCxnSpPr>
            <p:nvPr/>
          </p:nvCxnSpPr>
          <p:spPr>
            <a:xfrm>
              <a:off x="6443640" y="5232240"/>
              <a:ext cx="505440" cy="430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4" name="Text Box 17"/>
            <p:cNvSpPr/>
            <p:nvPr/>
          </p:nvSpPr>
          <p:spPr>
            <a:xfrm>
              <a:off x="7021800" y="354924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bfd87"/>
                  </a:solidFill>
                  <a:latin typeface="Arial"/>
                </a:rPr>
                <a:t>Instanc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18"/>
            <p:cNvSpPr/>
            <p:nvPr/>
          </p:nvSpPr>
          <p:spPr>
            <a:xfrm>
              <a:off x="3051000" y="4546440"/>
              <a:ext cx="108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ccff"/>
                  </a:solidFill>
                  <a:latin typeface="Arial"/>
                </a:rPr>
                <a:t>Class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19"/>
            <p:cNvSpPr/>
            <p:nvPr/>
          </p:nvSpPr>
          <p:spPr>
            <a:xfrm>
              <a:off x="179280" y="487008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20"/>
            <p:cNvSpPr/>
            <p:nvPr/>
          </p:nvSpPr>
          <p:spPr>
            <a:xfrm>
              <a:off x="4716360" y="3359160"/>
              <a:ext cx="1944720" cy="100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at Dane: Do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8EC-2EF5-4D54-A87E-AEDF734B1A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23640" y="1803240"/>
            <a:ext cx="8134200" cy="8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xample: a bird’s generic description is ‘plain Bird’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←⎕NEW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Birdy.Desc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Geneva"/>
              </a:rPr>
              <a:t>plain Bird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468360" y="56664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62" name="Group 27"/>
          <p:cNvGrpSpPr/>
          <p:nvPr/>
        </p:nvGrpSpPr>
        <p:grpSpPr>
          <a:xfrm>
            <a:off x="754200" y="4149720"/>
            <a:ext cx="3888720" cy="1008000"/>
            <a:chOff x="754200" y="4149720"/>
            <a:chExt cx="3888720" cy="1008000"/>
          </a:xfrm>
        </p:grpSpPr>
        <p:sp>
          <p:nvSpPr>
            <p:cNvPr id="863" name="Rectangle 4"/>
            <p:cNvSpPr/>
            <p:nvPr/>
          </p:nvSpPr>
          <p:spPr>
            <a:xfrm>
              <a:off x="1114200" y="4149720"/>
              <a:ext cx="158400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AutoShape 12"/>
            <p:cNvCxnSpPr>
              <a:stCxn id="863" idx="3"/>
              <a:endCxn id="865" idx="1"/>
            </p:cNvCxnSpPr>
            <p:nvPr/>
          </p:nvCxnSpPr>
          <p:spPr>
            <a:xfrm>
              <a:off x="2698560" y="4654080"/>
              <a:ext cx="360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5" name="Rectangle 19"/>
            <p:cNvSpPr/>
            <p:nvPr/>
          </p:nvSpPr>
          <p:spPr>
            <a:xfrm>
              <a:off x="3058920" y="4149720"/>
              <a:ext cx="1584000" cy="100800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20"/>
            <p:cNvSpPr/>
            <p:nvPr/>
          </p:nvSpPr>
          <p:spPr>
            <a:xfrm>
              <a:off x="754200" y="46544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3"/>
          <p:cNvSpPr/>
          <p:nvPr/>
        </p:nvSpPr>
        <p:spPr>
          <a:xfrm>
            <a:off x="324000" y="357336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Group 26"/>
          <p:cNvGrpSpPr/>
          <p:nvPr/>
        </p:nvGrpSpPr>
        <p:grpSpPr>
          <a:xfrm>
            <a:off x="4932360" y="2749680"/>
            <a:ext cx="3887640" cy="2766960"/>
            <a:chOff x="4932360" y="2749680"/>
            <a:chExt cx="3887640" cy="2766960"/>
          </a:xfrm>
        </p:grpSpPr>
        <p:pic>
          <p:nvPicPr>
            <p:cNvPr id="869" name="Picture 22" descr=""/>
            <p:cNvPicPr/>
            <p:nvPr/>
          </p:nvPicPr>
          <p:blipFill>
            <a:blip r:embed="rId1"/>
            <a:stretch/>
          </p:blipFill>
          <p:spPr>
            <a:xfrm>
              <a:off x="4932360" y="2749680"/>
              <a:ext cx="388764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Rectangle 24"/>
            <p:cNvSpPr/>
            <p:nvPr/>
          </p:nvSpPr>
          <p:spPr>
            <a:xfrm>
              <a:off x="6661080" y="4314960"/>
              <a:ext cx="1224000" cy="288720"/>
            </a:xfrm>
            <a:prstGeom prst="rect">
              <a:avLst/>
            </a:prstGeom>
            <a:solidFill>
              <a:srgbClr val="ff00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 Box 25"/>
          <p:cNvSpPr/>
          <p:nvPr/>
        </p:nvSpPr>
        <p:spPr>
          <a:xfrm>
            <a:off x="591840" y="557388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all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A198-E346-407B-945F-22C037D3D8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1342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 base class has a constructor it must be call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se constructors are called when the </a:t>
            </a:r>
            <a:r>
              <a:rPr b="0" lang="en-GB" sz="3200" spc="-1" strike="noStrike">
                <a:solidFill>
                  <a:srgbClr val="99cc00"/>
                </a:solidFill>
                <a:latin typeface="Geneva"/>
              </a:rPr>
              <a:t>:Implements constructo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statement is reach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several classes are based one on another their constructors’ call are made in the same fash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B47-34E5-4E3E-800A-BED44474BD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17" descr=""/>
          <p:cNvPicPr/>
          <p:nvPr/>
        </p:nvPicPr>
        <p:blipFill>
          <a:blip r:embed="rId1"/>
          <a:stretch/>
        </p:blipFill>
        <p:spPr>
          <a:xfrm>
            <a:off x="5076720" y="142092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39" descr=""/>
          <p:cNvPicPr/>
          <p:nvPr/>
        </p:nvPicPr>
        <p:blipFill>
          <a:blip r:embed="rId2"/>
          <a:stretch/>
        </p:blipFill>
        <p:spPr>
          <a:xfrm>
            <a:off x="5364000" y="329256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323640" y="1564920"/>
            <a:ext cx="4679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ampl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 parrot is a bir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←⎕NEW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Coco.Des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Geneva"/>
              </a:rPr>
              <a:t>Not a plain Bird, a Parro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468360" y="49356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884" name="Group 16"/>
          <p:cNvGrpSpPr/>
          <p:nvPr/>
        </p:nvGrpSpPr>
        <p:grpSpPr>
          <a:xfrm>
            <a:off x="395280" y="4157640"/>
            <a:ext cx="5256000" cy="1942920"/>
            <a:chOff x="395280" y="4157640"/>
            <a:chExt cx="5256000" cy="1942920"/>
          </a:xfrm>
        </p:grpSpPr>
        <p:sp>
          <p:nvSpPr>
            <p:cNvPr id="885" name="Rectangle 4"/>
            <p:cNvSpPr/>
            <p:nvPr/>
          </p:nvSpPr>
          <p:spPr>
            <a:xfrm>
              <a:off x="715680" y="495756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6" name="AutoShape 5"/>
            <p:cNvCxnSpPr>
              <a:stCxn id="885" idx="3"/>
              <a:endCxn id="887" idx="1"/>
            </p:cNvCxnSpPr>
            <p:nvPr/>
          </p:nvCxnSpPr>
          <p:spPr>
            <a:xfrm flipV="1">
              <a:off x="2126160" y="4557600"/>
              <a:ext cx="321120" cy="80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7" name="Rectangle 6"/>
            <p:cNvSpPr/>
            <p:nvPr/>
          </p:nvSpPr>
          <p:spPr>
            <a:xfrm>
              <a:off x="2446920" y="4157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irdy (Bird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7"/>
            <p:cNvSpPr/>
            <p:nvPr/>
          </p:nvSpPr>
          <p:spPr>
            <a:xfrm>
              <a:off x="395280" y="5358240"/>
              <a:ext cx="320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0"/>
            <p:cNvSpPr/>
            <p:nvPr/>
          </p:nvSpPr>
          <p:spPr>
            <a:xfrm>
              <a:off x="2446920" y="5300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arrot: Bir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0" name="AutoShape 11"/>
            <p:cNvCxnSpPr>
              <a:stCxn id="885" idx="3"/>
              <a:endCxn id="889" idx="1"/>
            </p:cNvCxnSpPr>
            <p:nvPr/>
          </p:nvCxnSpPr>
          <p:spPr>
            <a:xfrm>
              <a:off x="2126160" y="5358240"/>
              <a:ext cx="32112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1" name="Rectangle 13"/>
            <p:cNvSpPr/>
            <p:nvPr/>
          </p:nvSpPr>
          <p:spPr>
            <a:xfrm>
              <a:off x="4241160" y="530064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co (Parrot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2" name="AutoShape 15"/>
            <p:cNvCxnSpPr>
              <a:stCxn id="889" idx="3"/>
              <a:endCxn id="891" idx="1"/>
            </p:cNvCxnSpPr>
            <p:nvPr/>
          </p:nvCxnSpPr>
          <p:spPr>
            <a:xfrm>
              <a:off x="3856680" y="5700960"/>
              <a:ext cx="384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3" name="Rectangle 18"/>
          <p:cNvSpPr/>
          <p:nvPr/>
        </p:nvSpPr>
        <p:spPr>
          <a:xfrm>
            <a:off x="6804000" y="300528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9"/>
          <p:cNvSpPr/>
          <p:nvPr/>
        </p:nvSpPr>
        <p:spPr>
          <a:xfrm>
            <a:off x="6408720" y="560376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0"/>
          <p:cNvSpPr/>
          <p:nvPr/>
        </p:nvSpPr>
        <p:spPr>
          <a:xfrm>
            <a:off x="395280" y="3292560"/>
            <a:ext cx="3960720" cy="431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1"/>
          <p:cNvSpPr/>
          <p:nvPr/>
        </p:nvSpPr>
        <p:spPr>
          <a:xfrm>
            <a:off x="4140360" y="242892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2"/>
          <p:cNvSpPr/>
          <p:nvPr/>
        </p:nvSpPr>
        <p:spPr>
          <a:xfrm>
            <a:off x="6118200" y="422928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3"/>
          <p:cNvSpPr/>
          <p:nvPr/>
        </p:nvSpPr>
        <p:spPr>
          <a:xfrm>
            <a:off x="8028000" y="5021280"/>
            <a:ext cx="7128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4"/>
          <p:cNvSpPr/>
          <p:nvPr/>
        </p:nvSpPr>
        <p:spPr>
          <a:xfrm>
            <a:off x="6443640" y="2500200"/>
            <a:ext cx="71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AutoShape 25"/>
          <p:cNvCxnSpPr>
            <a:stCxn id="896" idx="1"/>
            <a:endCxn id="897" idx="7"/>
          </p:cNvCxnSpPr>
          <p:nvPr/>
        </p:nvCxnSpPr>
        <p:spPr>
          <a:xfrm flipH="1" rot="16200000">
            <a:off x="4264920" y="2325960"/>
            <a:ext cx="1800720" cy="2028240"/>
          </a:xfrm>
          <a:prstGeom prst="curvedConnector5">
            <a:avLst>
              <a:gd name="adj1" fmla="val -439"/>
              <a:gd name="adj2" fmla="val 49991"/>
              <a:gd name="adj3" fmla="val -43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1" name="AutoShape 26"/>
          <p:cNvCxnSpPr>
            <a:stCxn id="898" idx="1"/>
            <a:endCxn id="899" idx="1"/>
          </p:cNvCxnSpPr>
          <p:nvPr/>
        </p:nvCxnSpPr>
        <p:spPr>
          <a:xfrm flipV="1" rot="16200000">
            <a:off x="5985720" y="297900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Freeform 30"/>
          <p:cNvSpPr/>
          <p:nvPr/>
        </p:nvSpPr>
        <p:spPr>
          <a:xfrm>
            <a:off x="6443640" y="3141720"/>
            <a:ext cx="2089080" cy="2158920"/>
          </a:xfrm>
          <a:prstGeom prst="pie">
            <a:avLst/>
          </a:pr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31"/>
          <p:cNvSpPr/>
          <p:nvPr/>
        </p:nvSpPr>
        <p:spPr>
          <a:xfrm>
            <a:off x="6189840" y="4373640"/>
            <a:ext cx="71280" cy="57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38"/>
          <p:cNvSpPr/>
          <p:nvPr/>
        </p:nvSpPr>
        <p:spPr>
          <a:xfrm>
            <a:off x="6443640" y="5373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3DEC-8B2C-4C2D-9E95-4E588BA9200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create classes and instances at all leve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468360" y="637920"/>
            <a:ext cx="8207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0" name="Rectangle 4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rot: Bi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eety (Maca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aw: Parr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4" name="AutoShape 10"/>
          <p:cNvCxnSpPr>
            <a:stCxn id="910" idx="3"/>
            <a:endCxn id="911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5" name="AutoShape 11"/>
          <p:cNvCxnSpPr>
            <a:stCxn id="910" idx="3"/>
            <a:endCxn id="916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AutoShape 13"/>
          <p:cNvCxnSpPr>
            <a:stCxn id="911" idx="3"/>
            <a:endCxn id="913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AutoShape 14"/>
          <p:cNvCxnSpPr>
            <a:stCxn id="913" idx="3"/>
            <a:endCxn id="912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Text Box 16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7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8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rdy (Bi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9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co (Parr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AutoShape 21"/>
          <p:cNvCxnSpPr>
            <a:stCxn id="911" idx="3"/>
            <a:endCxn id="922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Oct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OOAP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368-2621-4B3F-8ADA-EB6E4DF19B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637920"/>
            <a:ext cx="856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Implementation: inheritan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Geneva"/>
              </a:rPr>
              <a:t>Inheritance: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nstructors with argum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Using the animal kingdom as exampl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5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: Anim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do (Colli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9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ig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10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6" name="AutoShape 11"/>
          <p:cNvCxnSpPr>
            <a:stCxn id="929" idx="3"/>
            <a:endCxn id="930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7" name="AutoShape 12"/>
          <p:cNvCxnSpPr>
            <a:stCxn id="929" idx="3"/>
            <a:endCxn id="932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8" name="AutoShape 13"/>
          <p:cNvCxnSpPr>
            <a:stCxn id="930" idx="3"/>
            <a:endCxn id="934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9" name="AutoShape 14"/>
          <p:cNvCxnSpPr>
            <a:stCxn id="930" idx="3"/>
            <a:endCxn id="935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0" name="AutoShape 15"/>
          <p:cNvCxnSpPr>
            <a:stCxn id="935" idx="3"/>
            <a:endCxn id="933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1" name="AutoShape 16"/>
          <p:cNvCxnSpPr>
            <a:stCxn id="935" idx="3"/>
            <a:endCxn id="931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Text Box 17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9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20"/>
          <p:cNvSpPr/>
          <p:nvPr/>
        </p:nvSpPr>
        <p:spPr>
          <a:xfrm>
            <a:off x="4859280" y="3141720"/>
            <a:ext cx="194472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eat Dane: Do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9-02-17T16:29:00Z</dcterms:modified>
  <cp:revision>602</cp:revision>
  <dc:subject/>
  <dc:title>OO Obj OR pgm</dc:title>
</cp:coreProperties>
</file>