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4838-904A-481A-9A3B-B3042FFF5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B4C-70C1-4513-A80A-10ADED5FC1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9572-A480-46F9-8212-393882BE7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1E65-2FEF-4A74-ABD0-7F3DF34103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6EE-26F3-4ED1-A9A2-0B01139CD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0C9-20F1-464D-980A-34298800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94D-170B-4F6C-93F4-6ABB9AB3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5C7-42D7-4072-967C-CFFB182F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7BB-3AB7-44E3-B25D-6505F283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DCC-CF8D-41EF-8436-F6C2B1A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B46-3076-4E75-80D1-4226C87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2BC-1F65-453E-B3F4-4F1D863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6B4-3D34-4845-BED9-73A1C21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2D0-7C3D-411E-B675-EC899F4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466-B717-40DE-954A-BD2095F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212-C559-443A-91CC-B19014B8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5F4-3A79-441B-B9B0-0BB3F41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E31-3C15-4E37-AE5C-94DD5E22D7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 means of transporting data and data structure between applica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haracter stre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XML converts to/from APL matri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ased on Mark E Johns’ APL imple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esigned with Micr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0E6-387D-4CD0-AC40-55C347EC31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56760" y="856800"/>
            <a:ext cx="857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2nd html no end tag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Initial html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/html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3rd html no blank lines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nd Levels no blank lines"/>
          <p:cNvSpPr/>
          <p:nvPr/>
        </p:nvSpPr>
        <p:spPr>
          <a:xfrm>
            <a:off x="357120" y="857160"/>
            <a:ext cx="8571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4th html spread out"/>
          <p:cNvSpPr/>
          <p:nvPr/>
        </p:nvSpPr>
        <p:spPr>
          <a:xfrm>
            <a:off x="1133640" y="857160"/>
            <a:ext cx="801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title&gt;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h1&gt;       Maecenas sed risus vitae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rem ipsum dolor sit amet, consectetur adipiscing el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&lt;b&gt;         Donec commodo turpis a mauris fringilla phare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enean semper nibh vitae ante mattis ac feugiat nequ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Genev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71680" y="1571760"/>
            <a:ext cx="8429400" cy="342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traight Connector 10"/>
          <p:cNvSpPr/>
          <p:nvPr/>
        </p:nvSpPr>
        <p:spPr>
          <a:xfrm>
            <a:off x="571680" y="1928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2"/>
          <p:cNvSpPr/>
          <p:nvPr/>
        </p:nvSpPr>
        <p:spPr>
          <a:xfrm>
            <a:off x="571680" y="2286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571680" y="271476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571680" y="307188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8"/>
          <p:cNvSpPr/>
          <p:nvPr/>
        </p:nvSpPr>
        <p:spPr>
          <a:xfrm>
            <a:off x="570960" y="342900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20"/>
          <p:cNvSpPr/>
          <p:nvPr/>
        </p:nvSpPr>
        <p:spPr>
          <a:xfrm>
            <a:off x="571680" y="378612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571680" y="4143240"/>
            <a:ext cx="84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24"/>
          <p:cNvSpPr/>
          <p:nvPr/>
        </p:nvSpPr>
        <p:spPr>
          <a:xfrm>
            <a:off x="1357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26"/>
          <p:cNvSpPr/>
          <p:nvPr/>
        </p:nvSpPr>
        <p:spPr>
          <a:xfrm>
            <a:off x="2500200" y="1571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Demonstr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DE7-4822-4BFD-AC3B-2BC42E6276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XM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4 September, 200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9-09-08T13:22:49Z</dcterms:modified>
  <cp:revision>1</cp:revision>
  <dc:subject/>
  <dc:title/>
</cp:coreProperties>
</file>