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EBA17-D127-4D36-9BF0-EF6410008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2344-75DC-4129-BE45-2D6EE234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790DE-0A77-4E03-83B5-C5FD1FEFD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A2D7-F09C-4753-8528-34259F1D7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0290-2A93-446A-B43B-CDE3447F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919ED-1442-4D8C-B1C8-60F83761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B26F-AD2C-4D32-80CC-1F4A96FA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4B322-DBDA-49D6-9574-F205E563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3318-F8E0-4ACC-90DF-87E96ACB8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3D55-1182-48E9-A8E5-56FD474D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392A-ADBD-4C24-9946-61DD8B90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7D97-00D2-4C49-98AC-FF42520EA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70C2-425F-4450-8CCF-162003FF5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Design Pattern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havioral patter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of Responsibi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en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ton is a class of which only a single instance may exist at every given ti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ive mechanism for object cre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regular object cre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glet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Balance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cl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the object poo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o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object by copying existing rather then using []NEW.</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cloning of objects as alternative way to create instance instead of regular object cre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ed to prevent regular object cre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with time and resource consuming initialization proce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series of objects without specifying object 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 Factor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It is more relevant to the strongly typed world as strong typing puts limitations, which this pattern trying to resolve.</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use: </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ools which operate/generate different classes with the same interfa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e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to represent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encapsulation of class behavi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x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n interface representing another interface/cla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terface structure defin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multiple interface implement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esign patt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design patte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classes and objects in APL compared to the rest of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erent are patterns in AP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design patter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 solution templates for frequently occurring problems. This term is widely applied to the design of Objects and their relations with each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needs design patter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classes in my first application using Object Oriented programming where static classes. If you are in the same boat why do we need Object Orientation at 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fferent are classes and objects in APL?</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less nature of variables/objects – Type of variable is defined at the run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full nature of workspace – workspace at every point in time has preexisting st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el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type-less nature on classes/objec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typing of results helps resolving data type compatibility problems at a time of compi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strong typing gives flexibility for developers at implementation time, but may cause type compatibility issues at a run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fields and method’s results of classes are not strongly typ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will see it may be good or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state full workspace on class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lass is defined by static members (fields, properties) of class (State of object is defined by dynamic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ull nature of workspace may be described as the fact that at every point in time workspace is continuation of previous work rather then start from scratch. Static members are assigned at the time of class initialization. And may already change several times during test run before workspace will be saved. So application will start with static members which comes not from class definition but from intermediate state prior workspace sa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onal patter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tract Fa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Patter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ç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ywe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x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6:39:39Z</dcterms:created>
  <dc:creator>Fiserv</dc:creator>
  <dc:description/>
  <dc:language>en-US</dc:language>
  <cp:lastModifiedBy>Fiserv</cp:lastModifiedBy>
  <dcterms:modified xsi:type="dcterms:W3CDTF">2009-09-08T21:04:36Z</dcterms:modified>
  <cp:revision>10</cp:revision>
  <dc:subject/>
  <dc:title>Introduction to Design Patterns </dc:title>
</cp:coreProperties>
</file>