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B91-50F2-4C2A-B429-44FC8CEF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CB2-F77E-48B6-A281-D3368F62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249-598B-4598-8E31-F03F6A04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334-2FC0-47A7-BCE8-B5090C9B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29C-3315-4950-9C30-088FF1D9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3AF-01CE-4D8E-B6AB-00E4328D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CB7-A8D7-48AE-83CB-4A1A3958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920-9D23-4224-884A-BBBF4C4A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B25-BAA2-43A4-869F-911E8B4F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789-1BAF-45E0-88ED-98F754E3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969-08A9-4C86-8344-23EDA78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D32-F106-493C-B0A6-E976E17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A8EA-CDFD-494D-9B57-F08D3ED7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PL in Second Ge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’s the point of AP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notation of direc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bstraction is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kip the fluf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038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im the f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ep it si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05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t the cr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-to-1 (notion to nota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352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n’t waste my ti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Food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u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ustry Software Exp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APL have a fu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perating System Develo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um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usin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ustry Software Exper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perating System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visible Utility Wiz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don’t buy it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don’t have a Utili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zard and we don’t ne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.  We do just f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already know how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ute an average.  W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n’t need another metho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r method works just f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PL+WIN"/>
                <a:ea typeface="APL+WIN"/>
              </a:rPr>
              <a:t>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Prepare to fall in love agai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notation of direc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bstraction is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im the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rst gear: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0960" y="34290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5200" y="19810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gear: Utilities built on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77800" y="2743200"/>
            <a:ext cx="65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gear: Utilities built on ut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oday’s date TODAY (yyyymmdd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 birthdate DOB (yyyymmdd), wh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ge of the policyhold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PL+WIN"/>
                <a:ea typeface="APL+WIN"/>
              </a:rPr>
              <a:t>„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L+WIN"/>
                <a:ea typeface="APL+WIN"/>
              </a:rPr>
              <a:t>„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L+WIN"/>
                <a:ea typeface="APL+WIN"/>
              </a:rPr>
              <a:t>„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’s the point of AP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oday’s date TODAY (yyyymmdd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the contract date POLD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yyyymmdd), how many days h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policy been in eff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PL+WIN"/>
                <a:ea typeface="APL+WIN"/>
              </a:rPr>
              <a:t>„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n today’s date TOD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yyyymmdd), what will be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te (yyyymmdd) in 90 day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0 days, 360 d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PL+WIN"/>
                <a:ea typeface="APL+WIN"/>
              </a:rPr>
              <a:t>„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at these dates as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-column matrix i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m/dd/yyyy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PL+WIN"/>
                <a:ea typeface="APL+WIN"/>
              </a:rPr>
              <a:t>„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ute the average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t of numbers 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L+WIN"/>
                <a:ea typeface="APL+WIN"/>
              </a:rPr>
              <a:t>„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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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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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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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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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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‘‘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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2840" y="2285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ll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d Ken Iverson invent AP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: Given a comma-delimited fi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looks like the following, read its fields (except SS No.) into a set of APL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8960" y="28951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No.,Date of Birth,Sex,SSNo,LastName,Premiu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14,03/15/1940,M,022-14-1567,Smith,103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983,05/30/1937,F,038-15-1129,Jones,58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„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„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„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„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„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„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„„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…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„„†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: Given a fixed-format fi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th the following layout, read its fiel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xcept SS No.) into a set of APL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ytes  Length  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  ------  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-8      8    Policy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-18    10    Date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       1    Sex (M or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-30    11    Social Security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-50    20    Las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1-65    15    Premiums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„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„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„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„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„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„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„„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…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„„†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Handling: Save the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variables in an APL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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…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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tions: Sum premiums and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mber of policies by year of bi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„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„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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„›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: Generate th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, and display it on the scre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120" y="198072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licy Summar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 of 09/22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    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  of Policies  Premium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  -----------  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0       17         12,3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5      302      3,125,8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6       45         55,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„</a:t>
            </a: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ƒ†Œ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„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„„„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„Œ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„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„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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d Ken Iverson discover AP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: build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 as a Word fi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„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…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„</a:t>
            </a: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œ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„„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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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s/output: build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ort as an .xls fi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437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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…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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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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„</a:t>
            </a: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ƒ†Œ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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„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„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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„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„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„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„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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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„œ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„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„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„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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PL+WIN"/>
                <a:ea typeface="APL+WIN"/>
              </a:rPr>
              <a:t>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ions: Given two .xls fi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d by other functions, send th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attachments to Fred in Accou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„›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</a:t>
            </a: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œ„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œ„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œ„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œ„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œ„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œ„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„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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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 choices, from which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ser is to pick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7241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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oices, from which the us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 pick any number of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5048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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Exists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ind of the Beho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 of choices, from which the user may pick any number of them.  Selected choices are in a list on the right; remaining choices are in a list on the left; Add/Remove buttons are located in betw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22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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a menu of choice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llow the user to alter thei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highlighting choices and click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p or Down but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486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PL+WIN"/>
                <a:ea typeface="APL+WIN"/>
              </a:rPr>
              <a:t>„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put: Present the following input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lip_image002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448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„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„„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„„„„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„„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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„›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„›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„›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„›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„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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„›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„›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„›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„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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…„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„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PL+WIN"/>
                <a:ea typeface="APL+WIN"/>
              </a:rPr>
              <a:t>„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have we gone wro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’s holding us ba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um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usin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ustry Software Expe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perating System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olution: a differ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ear-two) mind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 Interpreter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s Wizar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s “librarian,” not “auth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cuments/distributes both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is a Tool of Thou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 of whose though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tility Wiz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52480" y="22093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orks with A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es with other Wi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s ut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5639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ides feedback to Wi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rites 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in Second Gear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uture of A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L Big Bang The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PL+WIN"/>
                <a:ea typeface="APL+WIN"/>
              </a:rPr>
              <a:t>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26:53Z</dcterms:created>
  <dc:creator>Gary A. Bergquist</dc:creator>
  <dc:description/>
  <dc:language>en-US</dc:language>
  <cp:lastModifiedBy>Gary A. Bergquist</cp:lastModifiedBy>
  <dcterms:modified xsi:type="dcterms:W3CDTF">2009-09-09T12:48:50Z</dcterms:modified>
  <cp:revision>14</cp:revision>
  <dc:subject/>
  <dc:title>APL in Second Gear</dc:title>
</cp:coreProperties>
</file>