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3B81-B786-4665-9704-241C9128EF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B21D-8318-43D1-A30E-6B14CC9E62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159A-7160-4431-9B4C-7AAB23EA92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9333-DFA0-4E6E-9A71-AE783594C0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419E-F46C-4981-96B3-47C946153D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BCF5-55D7-4E9A-933B-D22743E7A6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74B9-BF05-4A66-8892-9FC1F4408F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7FFD-BDAE-4B31-B8BD-4221F05DD7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9C1C-E264-4397-8B97-736D985E58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41B2-5879-49F3-B985-E29F7B2DBC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F1DA-8AB0-4C3D-AA5F-D8F631925C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E4CC-3291-4579-A40B-CEEB46C960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D678-E634-41F3-A974-1FF4E5F2EA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7C57-23F8-4230-974A-492A40DF94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B3CC-D79C-44A1-953B-CFE30BE1EC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763F-C0C9-4568-8C01-3D4EA4818D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4B15-3D16-4457-9260-53DC60842A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0141-F8F5-4709-8DD8-C3964633CC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9743-1437-4A78-9177-DFFFF652B0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08AF-0AD2-4B69-87CF-B3CE8BD2C3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B37B-0DC6-4BFC-A93C-0208D68AE9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2D02-C6A8-4D6D-BF88-0099975590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25DD-63E7-44A3-85D8-A62A3745B1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1CBD-108E-46D7-9D57-A991B507C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2DC1-2A71-4C33-B321-916E68B211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785F-0E43-4FB1-85EC-6379A5EBCC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CE33-E53E-468F-AA77-A56F75AD6A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2BC0-607C-40A0-88F8-40CFBD2A87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4D0F-F650-4B5E-B468-4175E7766D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3DDA-BEE5-43C0-8D3B-F2E18D030E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35D1-B853-4D3D-B54A-ACFAEAF074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AAB2-B3B7-405E-A803-17FFD66634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3535-6D56-413F-BC71-7FD81F91ED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4FFD-FFD9-4226-9212-DC93236F7A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3681-749A-4047-8D35-D4F58EC756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FD00-17FF-497D-8890-FE103031E7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122-838F-4706-A12B-2611E95DAF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E607-2C43-44E4-9723-DF5868A131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7CE1-E449-4ED4-B8EA-D75332D096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9CAD-88D6-4B55-86E5-5169F0C431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5D1F-E4CC-4CAB-AB60-D4B5900755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BD01-AEF7-4340-967E-0EEF95EBE5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721C-A465-410F-A822-691027D552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B47-BB8F-4E41-9E30-D289A471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1A0-6D2C-4A19-9116-6CE127D6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C73BDF-1A21-4077-9173-04C338B8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C940AA-4421-406E-AC6E-6D2CF2DE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E837BF-2FC0-41AC-9A93-753C6BF5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EAEDA6-7BAD-467A-8946-0B757A20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2635CA-7D86-4765-BF17-2C62A29A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97807D-5EB1-43EA-98F1-B6F7F69C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30FC0D-82FF-4313-859D-864A2A7A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C5201A-23D2-4EC2-A919-1DDDB233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73B0EA-9F04-48E4-A33C-64734BA6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F2A95-0AF8-4C1D-83F6-AFDD0023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EA7-9C7E-488F-84D4-6DE6362E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1DC0A-376D-4978-915D-E0DD3CF7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05243-FEDF-4513-932B-D66D5481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C6900-C53D-47EA-8D89-CEE1EFC0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FA759-E5F7-4C06-A39D-9114B71A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6FDF3-2ECF-4DBE-BA18-9BF74498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998E9-1156-4CC3-A948-E3F4EE67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370A8-DB9E-45EB-9082-74CAA017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BF911-D7CB-4370-BEF8-795D144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4B228-8D29-484D-B761-91AD307B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77589-4FB8-42A6-8EF9-10DDAD04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0C2-D659-438D-B543-41F89473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7B9D2-4C8A-4BDB-AA81-905E909B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83668-4120-4895-927F-06E384A3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E6E42-8BC2-49DD-A2E4-6E397916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92A6E-380B-43C2-AE3F-6523F604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35934-FB98-4969-9C88-8E50CE73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EC80B-04E2-4BB7-9CCD-DAD89457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93AFE-AEFB-47A8-B11C-D13F08FA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97C32-83E3-4129-99A3-BCE3FCD8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721D6-E35A-4598-A0C3-EE26CB78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F1D35-3D90-4428-BEA8-BCFC38C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BD6E-9922-4C5D-B966-F6DE2E5E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0D438-93CD-4DFA-A459-36FC1D19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E99A5-674A-4FCC-A3DA-8E108121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CE3BE-7FA7-4EC3-88DC-DD19C3A8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27958-6291-4FAE-8FEA-8A9CFF50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CA4EC-F51C-4CF6-9092-27F8CFFC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A97A8-26E2-4FBB-A7DC-ECBE84AD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BD10F-B6DE-4F6E-8482-19DF060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5FFB5-D89B-43A5-9C37-C1E88399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8000F-376F-4311-AD45-7293D892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0D907-96B0-486D-A21F-30C87E12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9410-C603-4388-A60A-FBC29D49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D0B0C-49F8-44DB-9AFC-9ECBE508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1B046-9E31-4E8D-AFE4-684CE8E2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7F732-FFB6-41C0-B36F-EBE596A7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A5F02-A975-4DE6-9235-47AA803A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40BD1-46A3-4F99-94BA-AE34910A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AB01A-5E5B-4E31-B778-355483F2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47244-DBDD-4C06-A896-DB8AFF2C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B718E-3F34-4EFA-BE32-EC27636E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394C1-B7E7-48F5-B666-F6D920A5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E5A1C-48F7-440A-8E80-B3FC5D50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D004-F5A3-4086-8331-CBCD04C0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1C419-993D-4431-B952-9442C823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62B59-9822-4AE1-B237-D2F0843F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D7156-5642-42B9-AEEC-56A708A0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C6940-A67E-437D-A883-E11B9C6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02115-32AA-4C96-BCF9-01AF663F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A1C69-24A8-460B-A7B1-6EE176B7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CD26F-6CF5-48A0-9737-2589F56F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A9E24-B5CA-4FE0-A92A-17E228F7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C38F7-E93A-4F03-BF2A-7505B3DB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1AD66-47B7-421E-9D0B-793415D5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4C3C-2730-4A96-B063-92CDEDE0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B44F8-9FFC-476C-B0B6-A0DD470F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D97FA-625E-4B83-B895-A135C016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00059-3FE6-4984-AFD1-4F81180D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D4318-538B-4B23-9787-06B69558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82D41-4667-4A4D-9DA1-515B6B9B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E1969-2A7B-4585-8EAE-F8E648BD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FB3C4-F32F-4C00-B4C4-9191EBFF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77988-FD18-4EEE-BFD4-AEB2335A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BDD55-CEA1-4099-A246-31DC788E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8AE6-C3B2-4BD0-90C2-D0A3968C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307E-DA05-4D9C-98DF-EC856893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C31D-54AA-4B44-B7CF-B9A334BE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518-11E0-41DF-A89B-0895EA92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DDF3-D467-472E-8E03-7117822D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97F3-8B24-4A2E-8302-58966E9E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594C-68F7-428E-B858-42E4D489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90CA-17ED-4C41-BEE5-20C7890C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0119-9115-4472-B480-694366E3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CD6F-4FFB-4618-A3B9-64549947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57CE2-94F8-47BD-96ED-4B5FDE0F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6349-0512-4900-8CA7-6DED3896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73DE5-C953-4798-B4CA-B714D106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0499-A960-4D9B-A9A0-D838E19B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713-FEC3-4691-AE4D-E8A11684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A03C-873C-4104-AC81-AF34762B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8511-87B9-4229-BBAA-90CF60A7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1E69-4FE0-4184-A868-9B0AC1E5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82D2-E9E8-4AB6-A62B-7145F92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F627-974B-43D1-8799-FC53B40E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8E4C-1915-4A8B-8692-6B05B94D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F94F4-DE13-4A4F-8A17-F795EBEA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2A3ED-BE25-4F18-81F3-74489E2F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500A7-C54F-4C1C-A817-69C765EB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4137-1F69-4FC4-A9C5-B9406A44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A44-B869-41DC-BC6A-7B000092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C2295-AC34-45A9-BEC1-3F55547F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E5DF2-E10E-4739-816C-A817BEE1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8170-70BD-4A2C-A29D-8EF86FDF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FA754-30E2-46C1-9835-268FEC13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F00F3-D11C-468F-B3AC-C9278438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BBC2-4A5F-4B13-B586-3ECF172D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08D1A-374B-467D-9ABA-469FC79F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F0F26-BCC3-464C-AE69-EAAEDFF6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6729-7697-4D03-A558-B296449D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834B0-25F8-45AD-85E6-8CD9A706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33A-8C7C-48A9-84FD-C4EAB659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D7394-5D91-4B83-8C48-AD44C048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9E488-AB28-4AE0-8090-5916D962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963B-0192-441E-A614-2519B460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99D4C-EB68-4785-A12D-787CAB67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C930D-F81A-46B9-97AD-6E234555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EC20C-D3DC-4A40-AA80-237CE203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B90D-0156-459F-B182-856DEB70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AABCE-FD42-47AA-BDD0-7894BA4F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5552A-B1F9-4BCE-9D36-60B0F115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55131-A421-42AE-9C88-FEDE358D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244-A165-48C2-B5A5-CD7A4118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BF767-761F-4CC1-AFF3-54EFA345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F28DF-3608-445C-BDA7-14DF8CC6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6D422-4732-41AE-B7CF-BE8BAA5A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0FBB6-D4D8-4D23-8B9A-E40AA3DD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E52FB-5587-444B-84AB-5A3CC788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43D42-5656-4FD8-9519-3D7A4AD9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C67D4-503E-4DAC-A23C-042EE389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7F357-0E93-4707-921A-9AB7E0E5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F517F-1608-452C-B26C-B997119B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10A3C-6A2C-4E57-8E27-51FEEDC1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B0D-09B4-4F39-9982-7377315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14D2C-0910-4792-84B5-DC5556DA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02A06-CC4D-47BA-9AE8-B12CB156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A7FAF-A606-4041-90B9-C4A48756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84F37-6F6E-411A-B774-A1073C72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6B50C-24A0-4381-940C-83378C85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6C356-547F-4EB6-878C-4233366D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EE5EE-1A77-47CB-BB84-81F07061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0F2CB-2643-4FA1-B7F6-D51C6F05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D1FA6-549D-43E0-A46B-7C530BAA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B6AC0-A0A9-4B80-8D64-587792F0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41D-F2E3-4477-BDB4-335159E3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E03D9-F1B9-41F8-9E3F-6FC5FFC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70B0D-CD8C-40BB-9161-CD984570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48192-FA96-44F3-8AB5-3BE74C3A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32375-C463-447B-9643-AE0F2D1C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852EE-7742-41F0-BE05-67CBF566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8B442-ACBE-4DD1-A392-2283B3BC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8697B-83C7-45D5-B848-54FFF32D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38D58-D59D-48B8-BE05-D7F85E17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C6E51-35A1-4A1E-8AA1-0BB479C7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17E14-28D2-4B10-ABF2-91E3B817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4ED-CFDC-4BE2-9CA9-4313F1E5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DF0B7-672D-42A0-833C-D8CCE871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12555-EAF7-4B64-BB83-C4D357E5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CD33-6D13-4804-B10D-03E993A4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F4CBD-9AD9-46CE-8704-15FCA01C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0555E-1AFA-4FC2-8A10-19AC5404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9ACB3-B32E-4E14-85B3-1FDC7FC0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728C3-6E81-41E5-9A69-3F085E73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7DE1F2-2ED6-45C8-ABCD-181CEA99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56DE39-2B48-46F9-A01B-3EFC2FEF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434DF3-DAD1-4A02-8A25-443FAFC3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986E-C085-4521-ADFC-FE76B0276B5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EE7E-3A71-4F9B-8C08-E292ED989C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8419-6C3D-4CAB-BB75-33A4CEC4CD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B986-36B7-4B44-B8BC-48A1AE4262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B0EA-3057-4778-A48D-56C915F4F9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D22E-CF14-46F3-98B9-59C2AC1506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C482-0F8C-40E1-A40E-563874BF02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05C3-7855-4337-8791-C7B0BD2720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93A0-5A72-4531-B8E4-3BA5FEBA01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EECE-9D8D-4C36-9664-970D0F0C8D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FCD2-D139-48A2-B141-64706D06C9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196F-5DD7-489C-B214-5E3A0638A5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31A0-6462-4C8A-9D77-F5814F0B361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9B0F-FEF3-4FBE-9FE5-E7CC9DC83C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Program%20Files/Dyalog/Dyalog%20APL%2012.1%20Unicode/SALT/Spice/monitor.dyalo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krom@dyalog.com" TargetMode="External"/><Relationship Id="rId2" Type="http://schemas.openxmlformats.org/officeDocument/2006/relationships/hyperlink" Target="http://www.dyalog.com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C:/aplsharp/silverlight/aplsharp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4291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’09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6" name="Picture 4" descr="tegning09"/>
          <p:cNvPicPr/>
          <p:nvPr/>
        </p:nvPicPr>
        <p:blipFill>
          <a:blip r:embed="rId1"/>
          <a:stretch/>
        </p:blipFill>
        <p:spPr>
          <a:xfrm>
            <a:off x="1785960" y="1143000"/>
            <a:ext cx="5276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erformance Case Stud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Visited company in Bruxelles doing “actuarial calculation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V12.1 gave a 20% speedup “out of the box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We found 20% more by doing “hot spot” analysis for a couple of hou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An 8 core machine (2xQuad) gave a 5x speedup using “PEACH” on the inner loop of the applic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ummary: 7-8x faster. 1 Hour calculation takes &lt;10 minutes. Customer is pleased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B8F0-8E60-46F9-9222-2F991FE7F61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User Command Process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ame idea as in APL*PLUS, but based on Unicode text files as source for user command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 “User command” consists of a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single Unicode Text fil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, all you need to do is drop it in a particular folder (no need to restart APL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akes it *VERY* easy to share development too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]display 2 2↑3 3⍴'UCMDS' 'Rock!'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┌→────────────────┐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↓ ┌→────┐ ┌→────┐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│</a:t>
            </a: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UCMDS│ │Rock!│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└─────┘ └─────┘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┌→────┐ ┌→────┐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│</a:t>
            </a: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Rock!│ │UCMDS│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│ └─────┘ └─────┘ │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385 Unicode"/>
              </a:rPr>
              <a:t>└∊────────────────┘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5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5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7193-5B1D-43E8-A0E1-CE226E1B576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IDE Enhanc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 Editor has been completely rewritten to better support editing large classes and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utlining, Collapsible Regions, “Refactoring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John Daintree will show you all the new features after lunch!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8099-75E1-472A-A310-92782818D9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ast XML Transform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onverts XML text to (&amp;from) an array: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1] Level of nesting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2] Element Name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3] Element Data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4] Attributes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5] Node type (0=Empty Tag, 1=Text only, 3=Has Children, etc…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;4] not required when generating XML, [;5] ignored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D162-F1C2-4824-BFBB-B8506A5522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Integrated MS.Net GUI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6F90-CD1C-413D-A902-0CF56C4A09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7" descr=""/>
          <p:cNvPicPr/>
          <p:nvPr/>
        </p:nvPicPr>
        <p:blipFill>
          <a:blip r:embed="rId1"/>
          <a:stretch/>
        </p:blipFill>
        <p:spPr>
          <a:xfrm>
            <a:off x="357120" y="0"/>
            <a:ext cx="85820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</a:t>
            </a:r>
            <a:r>
              <a:rPr b="1" lang="da-DK" sz="4400" spc="-1" strike="noStrike">
                <a:solidFill>
                  <a:srgbClr val="000000"/>
                </a:solidFill>
                <a:latin typeface="Geneva"/>
              </a:rPr>
              <a:t>.1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–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57132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er on Single Core, Some Multi-Core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ditor Enhance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 XML-to-Array Conversion Tool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⎕XML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icrosoft.Net components embeddable in Dyalog GUI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User Command Processor for “Tool Delivery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Pv6 Support with Conga v2.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Journaling Component Files: Protection against O/S Crash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ew Developer Tools: SAWS, MildServer, LoadData, GRAP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pplications deployable as single .exe file (interpreter+ws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mproved Keyboard and Terminal Suppor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-Beam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⌶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) allows experimental &amp; undocumented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D17-39D8-49EF-85A1-2E6C1F930F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Timefram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omplete except for packaging and a rapidly diminishing number of bugs in the new edi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arget for General Availability on Windows+AIX is August/September 2009 (was “before” Dyalog’09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inux and PDA before year e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t isn’t too late to join the Beta-Test programme: Write to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mkrom@dyalog.co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nd explain what you would like to test…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onitor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Geneva"/>
                <a:hlinkClick r:id="rId2"/>
              </a:rPr>
              <a:t>http://www.dyalog.co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lang="en-GB" sz="2000" spc="-1" strike="noStrike">
                <a:solidFill>
                  <a:srgbClr val="333399"/>
                </a:solidFill>
                <a:latin typeface="Geneva"/>
              </a:rPr>
              <a:t>twitter.com/dyalogapl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for notificatio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D433-61B4-4EE7-98F1-532B01E9AB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tatus – Spring’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4541-2E7A-479F-A3AF-DEBE562DA5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7" descr=""/>
          <p:cNvPicPr/>
          <p:nvPr/>
        </p:nvPicPr>
        <p:blipFill>
          <a:blip r:embed="rId1"/>
          <a:stretch/>
        </p:blipFill>
        <p:spPr>
          <a:xfrm>
            <a:off x="642960" y="0"/>
            <a:ext cx="772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Next Release Cyc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333333"/>
                </a:solidFill>
                <a:latin typeface="Geneva"/>
              </a:rPr>
              <a:t>Conga 2.1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10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333333"/>
                </a:solidFill>
                <a:latin typeface="Geneva"/>
              </a:rPr>
              <a:t>Version 13.0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7710-59D2-4C73-A9FF-BF5B1EBE59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nga 2.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pport for More Certificate Typ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’ve had help from Peter-Michael Hag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ncrypted Certificat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Windows Certificate Store (allows use of SmartCards and other “Tokens” that interface with thi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 available early in 201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7FF7-75A8-4EFB-8284-D288B92942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echnical Road Map ’09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785600" y="3571560"/>
            <a:ext cx="5257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yalog’09 – Princeton, NJ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9" name="Picture 4" descr="tegning09"/>
          <p:cNvPicPr/>
          <p:nvPr/>
        </p:nvPicPr>
        <p:blipFill>
          <a:blip r:embed="rId1"/>
          <a:stretch/>
        </p:blipFill>
        <p:spPr>
          <a:xfrm>
            <a:off x="214200" y="585792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ikely Features for ”v13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re Performance and QA 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Continued focus on multi-core, cache optimization and other aspects of modern chip architec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ndustrial Strength” local and distributed PEACH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move “2 billion element” limit from 64-bit vers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ew Data Types: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128-bit Decimal Floating Point (IEEE-754-2008) for banking applicatio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Complex Numbers to attract educational use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Rational Numbers / Unlimited Precision Integers can wai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We have decided we do NOT NEED 64-bit Intege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6951-6BA2-41BB-8142-9EA47E21B5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ikely Features for ”v13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mprove and rationalise internal developer tool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DMX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Diagnostic Message – eXten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Provide more detailed information about erro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MONITOR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Measure CPU and Elapsed Time with higher precision, easier to use, handle recurs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STACK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NSI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to return “ref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NC, ⎕NL…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ationalise “Metadata” or “Reflection” tools: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7DE0-3444-4268-9A96-EC48A93E3EF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More Likely v13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upport for Unicode source files built-in to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oad, Save and direct Edit of Unicode Text fil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General-purpose Encryption Library (Hashing, Symmetrical and Asymmetrical encryption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arget availability for v13 in “roughly 12 month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F47D-0CA0-4774-BF31-E50526CE2D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Other Potential Proje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SQAPL Server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Allow an APL application to appear to be a Relational Database Engine (with ODBC, ADO, ADO.NET and JDBC drivers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(This will not be a free product due to 3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party licensing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mote IDE for DyalogAPL on all platform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no” Bridge – use .Net Framework under Linu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rovide More Developer Tools – as part of the APL Library. Cultivate an “Open Source” code repository,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D3B0-62D5-4755-8924-8C41801579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4260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have started a research project, to produce a completely new, ”Fully Managed” APL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will publish a specification and discuss it, first with major customers and then ”in public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ll be fully integrated with Microsoft.Net – but the core language syntax will be independent of 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83A3-3785-4E65-ACD4-46960E2866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 - Benefi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4260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plications written in APL# will be deployable in a ”secure” fashion over the internet, and in other scenarios where ”managed code” is a requirement or provides a significant advantag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or example, you will be able to write web applications with APL code executing in the browser to provide a ”rich client” experienc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267D-9F2F-4B42-8954-C4E7BD9E6E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 </a:t>
            </a: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- ”Likely Characteristics”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ull set of APL primitives, operators and other core language featu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esigned as a tool for APL thinkers – but comfortable for software engineers</a:t>
            </a:r>
            <a:br>
              <a:rPr sz="2400"/>
            </a:b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ONE BIG difference: No ”semiglobals” (a function cannot see the locals of its calling environment)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re WILL be true globa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nd the equivalent of namespaces will provide a ”reasonable” migration path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408F-7222-49C6-8B70-ADECDE90B1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# </a:t>
            </a: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- ”Likely Characteristics”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LL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ROBABLY NOT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HAV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uxiliary Processors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ML, ⎕OR, ⎕SM, ⎕RTL, ⎕SD, ⎕SR, ⎕NTIE, ⎕ARBIN, ⎕W*, ⎕AI, ⎕SVO, ⎕DQ, ⎕D.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(Library functions for which a perfectly good equivalent exists in the .Net framework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aved workspaces will not be able to have an )SI stack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400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First versions may not be able )SAVE workspaces at all</a:t>
            </a:r>
            <a:br>
              <a:rPr sz="1600"/>
            </a:b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LL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ROBABLY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HAV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APL385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CT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IO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(jury is still out), and a small set of carefully selected library functions, Component Files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XML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(etc) which provide unique value to APL programme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9259-616E-4277-BFFA-CCDED39CBA7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” vs ”APL #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# is a complimentary product which allows the use of APL in places where it can not be deployed today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t is useful to organizations who need managed code, or use Visual Studio / C# or are otherwise heavily invested in Microsoft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rate of development of the core product will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continue to accelera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two products will inter-operate seamlessl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9BF8-9C06-494E-8BB7-A4F80C60F01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</a:t>
            </a:r>
            <a:r>
              <a:rPr b="1" lang="da-DK" sz="4400" spc="-1" strike="noStrike">
                <a:solidFill>
                  <a:srgbClr val="333333"/>
                </a:solidFill>
                <a:latin typeface="APL385 Unicode"/>
              </a:rPr>
              <a:t>→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APL # ”Interop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# assemblies can be called by Dyalog APL (as any other .NET assembly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yalog and APL# will (eventually) be able to share Component Files and communicate (many) APL arrays via TCP/IP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But not saved workspa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elected New Language Features in APL# will be ported to Dyalog AP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ill allow the writing of code which can be used in both environ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5763-DCC7-4C0A-94A7-61BF5A4D56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gend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ntroducing Version 12.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emonstration of some Key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 Next Release Cyc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ersion 13.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Conga 2.1, Encryption &amp; Encoding Librar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APL#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” -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 new APL interpreter to complement Dyalog AP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irrus or Cumulo-Nimbus?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agle’s Eye View of Curves in the Roa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Recommendations on preparing for the futur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F3C4-AA32-4FF7-BC23-7D1265F009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4" descr="tegning09"/>
          <p:cNvPicPr/>
          <p:nvPr/>
        </p:nvPicPr>
        <p:blipFill>
          <a:blip r:embed="rId1"/>
          <a:stretch/>
        </p:blipFill>
        <p:spPr>
          <a:xfrm>
            <a:off x="7380360" y="587700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imelin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# is still being designed, but see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da-DK" sz="24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C:\aplsharp\silverlight\aplsharp.htm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will start reviewing the design externally this winter (come to APL2010 to heckl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prototype may be available at APL’2010 – earliest ”General Availability” in 2011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essure (and funding </a:t>
            </a:r>
            <a:r>
              <a:rPr b="0" lang="da-DK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) from customers could make us more ambitious about the features, but probably not the timing, of the first relea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8070-FC49-40EC-A5B6-D0080F381B0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irrus or Cumulo-Nimbu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 good home for ”Vapourware”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ave Thomas is about to teach us how to recognize and use different forms of clouds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2575-9D5A-454D-BD03-53B0D24247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8" descr="http://www.enchantedlearning.com/cgifs/clouds.GIF"/>
          <p:cNvPicPr/>
          <p:nvPr/>
        </p:nvPicPr>
        <p:blipFill>
          <a:blip r:embed="rId1"/>
          <a:stretch/>
        </p:blipFill>
        <p:spPr>
          <a:xfrm>
            <a:off x="3214800" y="2357280"/>
            <a:ext cx="53719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mazon Web Services (AWS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42600" y="178596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”mature” provider of ”web and computing infrastructure” (since 2006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You provide a virtual machine image and Amazon ”scales it infinitely” at reasonable cos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are investigating providing tools to support EC2 (Elastic Compute Cloud), S3 (Simple Storage Servic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Goal is to provide recipes, or pre-configured ”Amazon Machine Images” to build up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have a lot to learn, but hope to wrap our new knowledge up nicely for Dyalog us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o timeline... Talk to us if you have a potential app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0928-5174-4430-9045-0D11607D49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oughts about</a:t>
            </a:r>
            <a:br>
              <a:rPr sz="4400"/>
            </a:b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Road Ah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85800" y="198108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6DCE-BF82-4125-B0BA-6356643A01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" descr="http://susty.com/image/country-road-clouds-photoshoped-into-world-map-continents-float-in-blue-sky-clear-green-grass-black-pavement-white-broken-line-image-photo.jpg"/>
          <p:cNvPicPr/>
          <p:nvPr/>
        </p:nvPicPr>
        <p:blipFill>
          <a:blip r:embed="rId1"/>
          <a:stretch/>
        </p:blipFill>
        <p:spPr>
          <a:xfrm>
            <a:off x="1928880" y="2286000"/>
            <a:ext cx="5297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 Very Briefl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98108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Version 11.0 (Autumn 2006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bject Orientation –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Tool of Though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ignificantly Improved Integration with 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urce code management using standard too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Version - LARGE Workspa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re Language Extens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number of new primitives: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⍣ ⌷ ∧ ∨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662-A80F-40F1-A7DA-E165E2DBB4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: v12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rst Release (Win32) in February 2008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in Featur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Unicode Suppor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Journaling Component File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implified, Secure Communications Toolkit (“Conga”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uilt-In Charting and Document Cre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anguage Bar and On-Screen Keyboa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66BC-8318-4D9E-B126-CCB1136578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7" descr=""/>
          <p:cNvPicPr/>
          <p:nvPr/>
        </p:nvPicPr>
        <p:blipFill>
          <a:blip r:embed="rId1"/>
          <a:stretch/>
        </p:blipFill>
        <p:spPr>
          <a:xfrm>
            <a:off x="6805440" y="5643720"/>
            <a:ext cx="1338480" cy="10760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”Back”: v12.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ctober 2009, Key Featu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aster, more Robust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ulti-Core Suppor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nhanced Edi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XML, Web Servic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utorials and Tools – and more to co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0E50-6F86-48EC-A5C9-6710EAF0EF7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7" descr=""/>
          <p:cNvPicPr/>
          <p:nvPr/>
        </p:nvPicPr>
        <p:blipFill>
          <a:blip r:embed="rId1"/>
          <a:stretch/>
        </p:blipFill>
        <p:spPr>
          <a:xfrm>
            <a:off x="6805440" y="5643720"/>
            <a:ext cx="1338480" cy="10760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o Come ..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ew “Commercial” and “Technical” Data Typ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re Speed – Especially On Multiple Co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ncryption and Other Web Enabling Too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anaged Code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ore Ways to Run APL as a Service across Multiple Platforms (ODBC Data Source etc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F54B-BB7B-472C-B286-5FE42A4347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Picture 7" descr=""/>
          <p:cNvPicPr/>
          <p:nvPr/>
        </p:nvPicPr>
        <p:blipFill>
          <a:blip r:embed="rId1"/>
          <a:stretch/>
        </p:blipFill>
        <p:spPr>
          <a:xfrm>
            <a:off x="6805440" y="5643720"/>
            <a:ext cx="1338480" cy="10760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commend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is Becoming Common, even on Window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Good news: Porting to 64-bit requires few code changes (once all the other components you need are available in 64-bit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lease investigate what it will take to migra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o hurry – but eventually, we will start adding new features in Unicode only (we’ll need more symbols </a:t>
            </a:r>
            <a:r>
              <a:rPr b="0" lang="da-DK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lti (at least 2)-core machines are everywhe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Look at PEACH and other forms of ”multicore” split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F8CA-BAE0-4D0B-AE04-1ACBB59D09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commend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o prepare for the Web or Cloud - think about addding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b Front Ends using ASP.NET, MildServer et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b Services using ASP.NET or SAW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 ODBC or ADO frontend using the SQAPL Server?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ake a look at Source Code in Unicode Text Fil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asier sharing and managem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ccess to many excellent (often free) tools!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1448-7B56-45E0-874C-5C42CF41BA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</a:t>
            </a:r>
            <a:r>
              <a:rPr b="1" lang="da-DK" sz="4400" spc="-1" strike="noStrike">
                <a:solidFill>
                  <a:srgbClr val="000000"/>
                </a:solidFill>
                <a:latin typeface="Geneva"/>
              </a:rPr>
              <a:t>.1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–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7132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was supposed to be a “Year of Consolidation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et the new QA manager take charg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uild, Install &amp; QA on every platform, every nigh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ind and Kill more bugs, Speed things up a bi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.. But we managed to sneak a few new things into v12.1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1C58-E3E8-42B2-9E33-F08D0357F9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Talks by Devt. Team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72E1-00F4-41AE-868F-10318A5E28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428760" y="1643040"/>
          <a:ext cx="8001000" cy="182880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day (Mon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The Version 12.1 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ichard Smith: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⎕XML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, Journaled Files Phas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oger Hui: Complex Numbers Implementation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Complex Nu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714240" y="3500280"/>
          <a:ext cx="8001000" cy="111312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morrow (Tues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An ODBC Driver for A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Session Whizba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857160" y="4643280"/>
          <a:ext cx="8001000" cy="148284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Wednesday (Cour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Dan Baronet: Source Code Mgt using SALT and Sub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Using the Microsoft.Net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Multicore / Application Tuning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’ve been keeping busy!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’re starting to enjoy the benefits of being a significantly larger tea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hope that you will enjoy some of the new Features - and Products - that are heading your way!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ank You For Listening!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0EFD-9CCB-4C28-936D-1C1239B7D4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Talks by Devt. Team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FE04-8A24-477F-B5C8-17C44FFBC1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428760" y="1643040"/>
          <a:ext cx="8001000" cy="182880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day (Mon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The Version 12.1 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ichard Smith: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⎕XML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, Journaled Files Phas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oger Hui: Complex Numbers Implementation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Complex Nu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714240" y="3500280"/>
          <a:ext cx="8001000" cy="111312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morrow (Tues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An ODBC Driver for A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Scholes: Session Whizba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2" name=""/>
          <p:cNvGraphicFramePr/>
          <p:nvPr/>
        </p:nvGraphicFramePr>
        <p:xfrm>
          <a:off x="857160" y="4643280"/>
          <a:ext cx="8001000" cy="148284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Wednesday (Cour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Dan Baronet: Source Code Mgt using SALT and Sub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Using the Microsoft.Net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Multicore / Application Tuning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</a:t>
            </a:r>
            <a:r>
              <a:rPr b="1" lang="da-DK" sz="4400" spc="-1" strike="noStrike">
                <a:solidFill>
                  <a:srgbClr val="000000"/>
                </a:solidFill>
                <a:latin typeface="Geneva"/>
              </a:rPr>
              <a:t>.1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 –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71320" y="17146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er on Single Core, Some Multi-Core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ditor Enhance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ast XML-to-Array Conversion Tool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⎕XML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Microsoft.Net components embeddable in Dyalog GUI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User Command Processor for “Tool Delivery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Pv6 Support with Conga v2.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Journaling Component Files: Protection against O/S Crash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ew Developer Tools: SAWS, MildServer, LoadData, GRAP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pplications deployable as single .exe file (interpreter+ws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mproved Keyboard and Terminal Suppor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-Beam (</a:t>
            </a:r>
            <a:r>
              <a:rPr b="0" lang="en-GB" sz="2000" spc="-1" strike="noStrike">
                <a:solidFill>
                  <a:srgbClr val="333333"/>
                </a:solidFill>
                <a:latin typeface="APL385 Unicode"/>
              </a:rPr>
              <a:t>⌶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) allows experimental &amp; undocumented featu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0F85-0C4D-4754-B765-090CA628FC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Core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2771-7E7C-4664-82EA-873FE7E0C7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785880" y="1857240"/>
          <a:ext cx="7358040" cy="4391280"/>
        </p:xfrm>
        <a:graphic>
          <a:graphicData uri="http://schemas.openxmlformats.org/drawingml/2006/table">
            <a:tbl>
              <a:tblPr/>
              <a:tblGrid>
                <a:gridCol w="500040"/>
                <a:gridCol w="533520"/>
                <a:gridCol w="537840"/>
                <a:gridCol w="1357560"/>
                <a:gridCol w="1741320"/>
                <a:gridCol w="115920"/>
                <a:gridCol w="714600"/>
                <a:gridCol w="823680"/>
                <a:gridCol w="1033560"/>
              </a:tblGrid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0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2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 gridSpan="9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Boolean Scans and Reductions Highly Opt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←1000 1000 r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+⌿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000000 r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≠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 gridSpan="9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Set Functions” (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PL385 Unicode"/>
                        </a:rPr>
                        <a:t>⍳ ∊ ∪ ∩ ~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) Optimized for “One Small Argumen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000000 rand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~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(vec≠5)/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0680">
                <a:tc gridSpan="4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4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Transpose Rewrit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⍉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⍉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 gridSpan="6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Indexing Uses Less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1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i j←1000?¨1000 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1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[i;]</a:t>
                      </a:r>
                      <a:r>
                        <a:rPr b="0" lang="da-DK" sz="11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 ⍝ (kb u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0680">
                <a:tc gridSpan="6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Indexing is also (often) Fa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data←mat[i;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[j;]←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25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Core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1C6A-368A-4E49-AE93-8DECE79E55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857160" y="1643040"/>
          <a:ext cx="7572600" cy="4357800"/>
        </p:xfrm>
        <a:graphic>
          <a:graphicData uri="http://schemas.openxmlformats.org/drawingml/2006/table">
            <a:tbl>
              <a:tblPr/>
              <a:tblGrid>
                <a:gridCol w="603360"/>
                <a:gridCol w="2825640"/>
                <a:gridCol w="1143000"/>
                <a:gridCol w="505080"/>
                <a:gridCol w="552240"/>
                <a:gridCol w="965160"/>
                <a:gridCol w="978120"/>
              </a:tblGrid>
              <a:tr h="2491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0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2.1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Grade Uses New (lexicographic) Algorit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e6 rand 1e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⍋</a:t>
                      </a: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For “Small Range” Data, Even Fa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←1e6 rand 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⍋</a:t>
                      </a: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Sort” is  now an idi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{⍵[⍋⍵]}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7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        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mat←100000 4 rand 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{⍵[⍋⍵;]}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20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arithmetic (+ - ×) has been fully rewritten in assembly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Simple Arith uses “SSE” instructions where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 b←1000∘rand¨50 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⍝ 1-byte 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+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More Optimized Cross-Type 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 b←1 0.001×(1000 1000)∘rand¨50 1000000 ⍝ a: 1-byte ints, b:flo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a×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Matrix iota idiom extended to numeric arr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data←10000 10 rand 1E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data{(↓⍺)⍳↓⍵}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ulti-Core Suppor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ost Scalar Dyadic Functions on Floating-Point arguments will use multiple cores (configurabl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But not + and -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EE51-3DDC-46E6-A67C-6CE1C2F676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2214720" y="3500280"/>
          <a:ext cx="4786200" cy="2229120"/>
        </p:xfrm>
        <a:graphic>
          <a:graphicData uri="http://schemas.openxmlformats.org/drawingml/2006/table">
            <a:tbl>
              <a:tblPr/>
              <a:tblGrid>
                <a:gridCol w="1595160"/>
                <a:gridCol w="1041480"/>
                <a:gridCol w="2149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2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4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GCD/L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arallel Each Oper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42960" y="185724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A user-defined operator called PEACH is included with v12.1. It uses Conga to orchestrate multiple core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[Demo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arallel Each on a single machine works well with algorithms that have a good CPU:Memory ratio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istributed Each” works for any kind of calculation if transfer or arguments and results not too expensiv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ED01-C1B1-4DD4-ACDA-6CEA44E4885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Morten Kromberg</cp:lastModifiedBy>
  <dcterms:modified xsi:type="dcterms:W3CDTF">2009-09-15T11:45:56Z</dcterms:modified>
  <cp:revision>377</cp:revision>
  <dc:subject/>
  <dc:title>Rolling the Process</dc:title>
</cp:coreProperties>
</file>