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5040" y="518760"/>
            <a:ext cx="511776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480" y="6377040"/>
            <a:ext cx="4891320" cy="26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2D3D-8D24-42BC-AAAA-EEED7A54EC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EF64-E3C6-4477-81D0-19F6AF09E4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37AF-56CA-4EB7-86B1-67A8E542CD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D9CF-2C9F-4C64-91DB-6742C56F2C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DCD7-50E3-4144-B1D3-4E176E0DF1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8B8D-F899-430D-8973-CD2F23FD2D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7F59-2A05-4E34-915B-933D7B15EC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0D15-5BFE-497D-A057-80BF1FD63B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A472-9707-4501-8DF5-2475E9F8AC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E500-ECC9-4CF6-9DBD-4B684426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8A5-41BF-42EF-A224-1D3C2A30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18FC-13E6-44AB-8A18-0E28F9AD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39A0-40FC-4587-9E70-A53763C6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3DE-E7DF-4608-AE72-EEC27649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B37-3E6B-4C2A-AED8-33C9354B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46B-8FD6-4AAF-AC44-3FF8690B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6EF-6926-43DB-B550-919979BC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D1D-F179-4EAD-9635-6D884351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1DC-DD41-4B05-B98F-D6D19094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B29-A711-4FA7-B784-F782DAB2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E068-7763-49B8-A008-12195751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89C2-1687-4C35-BFE3-67DE8C37AC6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Component File</a:t>
            </a:r>
            <a:br>
              <a:rPr sz="4400"/>
            </a:b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Journaling Op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414288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Richard Smith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14 September, 2009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Component file lay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6E77-07F6-4847-8FB3-60BFF6E9BC8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64296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72bfc5"/>
                </a:solidFill>
                <a:latin typeface="Geneva"/>
              </a:rPr>
              <a:t>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c00000"/>
                </a:solidFill>
                <a:latin typeface="Geneva"/>
              </a:rPr>
              <a:t>Global file information (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2060"/>
                </a:solidFill>
                <a:latin typeface="Geneva"/>
              </a:rPr>
              <a:t>Component index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92d050"/>
                </a:solidFill>
                <a:latin typeface="Geneva"/>
              </a:rPr>
              <a:t>Component data (APL array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7030a0"/>
                </a:solidFill>
                <a:latin typeface="Geneva"/>
              </a:rPr>
              <a:t>Free space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Geneva"/>
              </a:rPr>
              <a:t>Multiple file writes per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entagon 18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1714680" y="1785960"/>
            <a:ext cx="17143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6"/>
          <p:cNvSpPr/>
          <p:nvPr/>
        </p:nvSpPr>
        <p:spPr>
          <a:xfrm>
            <a:off x="3429000" y="1785960"/>
            <a:ext cx="22147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564372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12.0 journaled 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BE4F-3E95-4F8E-A4C9-22805DBFC9B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4296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entagon 18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1714680" y="1785960"/>
            <a:ext cx="17143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6"/>
          <p:cNvSpPr/>
          <p:nvPr/>
        </p:nvSpPr>
        <p:spPr>
          <a:xfrm>
            <a:off x="3429000" y="1785960"/>
            <a:ext cx="22147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0"/>
          <p:cNvSpPr/>
          <p:nvPr/>
        </p:nvSpPr>
        <p:spPr>
          <a:xfrm>
            <a:off x="564372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592920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3429000" y="1785960"/>
            <a:ext cx="28584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42960" y="2643120"/>
            <a:ext cx="78152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rite journal to end of file, which describes th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Perform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lear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If interrupted, the journal remains present so the update can be red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2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Safer journaled updat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3644-DD2F-44EE-8E59-D0AA6525EAB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64296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entagon 18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1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1714680" y="1785960"/>
            <a:ext cx="17143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929040" y="1785960"/>
            <a:ext cx="157176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3429000" y="1785960"/>
            <a:ext cx="28584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42960" y="2643120"/>
            <a:ext cx="78152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Journaling does not work when disk caches are not flu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Forcing data to be flushed to disk is slow but may be minimis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sing checksummed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sing checksummed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3643200" y="1785960"/>
            <a:ext cx="28584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7"/>
          <p:cNvSpPr/>
          <p:nvPr/>
        </p:nvSpPr>
        <p:spPr>
          <a:xfrm>
            <a:off x="1714680" y="1785960"/>
            <a:ext cx="19285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No data loss on OS crash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ould require 4 disk cache flushes per update if no checksu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an be achieved with 2 disk cache flushes per update using checksu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an be achieved with 1 disk cache flush per update and repair too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26"/>
                </a:solidFill>
                <a:latin typeface="Geneva"/>
              </a:rPr>
              <a:t>Repair tool can be used with </a:t>
            </a:r>
            <a:r>
              <a:rPr b="1" i="1" lang="en-GB" sz="3200" spc="-1" strike="noStrike">
                <a:solidFill>
                  <a:srgbClr val="262626"/>
                </a:solidFill>
                <a:latin typeface="Geneva"/>
              </a:rPr>
              <a:t>any</a:t>
            </a:r>
            <a:r>
              <a:rPr b="1" lang="en-GB" sz="3200" spc="-1" strike="noStrike">
                <a:solidFill>
                  <a:srgbClr val="262626"/>
                </a:solidFill>
                <a:latin typeface="Geneva"/>
              </a:rPr>
              <a:t> checksummed component fi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7E68-31DB-49E7-A9ED-AFBE17ACC0A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J1C0"/>
          <p:cNvSpPr/>
          <p:nvPr/>
        </p:nvSpPr>
        <p:spPr>
          <a:xfrm>
            <a:off x="3286080" y="328608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J0C0"/>
          <p:cNvSpPr/>
          <p:nvPr/>
        </p:nvSpPr>
        <p:spPr>
          <a:xfrm>
            <a:off x="3286080" y="264312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J3C1"/>
          <p:cNvSpPr/>
          <p:nvPr/>
        </p:nvSpPr>
        <p:spPr>
          <a:xfrm>
            <a:off x="5929200" y="457200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J2C1"/>
          <p:cNvSpPr/>
          <p:nvPr/>
        </p:nvSpPr>
        <p:spPr>
          <a:xfrm>
            <a:off x="5929200" y="392904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J1C1"/>
          <p:cNvSpPr/>
          <p:nvPr/>
        </p:nvSpPr>
        <p:spPr>
          <a:xfrm>
            <a:off x="5929200" y="328608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J0C1"/>
          <p:cNvSpPr/>
          <p:nvPr/>
        </p:nvSpPr>
        <p:spPr>
          <a:xfrm>
            <a:off x="5929200" y="264312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J3C0"/>
          <p:cNvSpPr/>
          <p:nvPr/>
        </p:nvSpPr>
        <p:spPr>
          <a:xfrm>
            <a:off x="3286080" y="4572000"/>
            <a:ext cx="2643120" cy="642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J2C0"/>
          <p:cNvSpPr/>
          <p:nvPr/>
        </p:nvSpPr>
        <p:spPr>
          <a:xfrm>
            <a:off x="3286080" y="3929040"/>
            <a:ext cx="2643120" cy="642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J3"/>
          <p:cNvSpPr/>
          <p:nvPr/>
        </p:nvSpPr>
        <p:spPr>
          <a:xfrm>
            <a:off x="642960" y="457200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J2"/>
          <p:cNvSpPr/>
          <p:nvPr/>
        </p:nvSpPr>
        <p:spPr>
          <a:xfrm>
            <a:off x="642960" y="392904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J1"/>
          <p:cNvSpPr/>
          <p:nvPr/>
        </p:nvSpPr>
        <p:spPr>
          <a:xfrm>
            <a:off x="642960" y="328608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J0"/>
          <p:cNvSpPr/>
          <p:nvPr/>
        </p:nvSpPr>
        <p:spPr>
          <a:xfrm>
            <a:off x="642960" y="264312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C1"/>
          <p:cNvSpPr/>
          <p:nvPr/>
        </p:nvSpPr>
        <p:spPr>
          <a:xfrm>
            <a:off x="5929200" y="200016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C0"/>
          <p:cNvSpPr/>
          <p:nvPr/>
        </p:nvSpPr>
        <p:spPr>
          <a:xfrm>
            <a:off x="3286080" y="200016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Journaling/checksum choi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F4F6-47B6-4945-9715-65F93EF59BB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12.1"/>
          <p:cNvSpPr/>
          <p:nvPr/>
        </p:nvSpPr>
        <p:spPr>
          <a:xfrm>
            <a:off x="714240" y="5429160"/>
            <a:ext cx="7929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Availability in 12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12.0"/>
          <p:cNvSpPr/>
          <p:nvPr/>
        </p:nvSpPr>
        <p:spPr>
          <a:xfrm>
            <a:off x="714240" y="5429160"/>
            <a:ext cx="7929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ompatibility with 12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11.0"/>
          <p:cNvSpPr/>
          <p:nvPr/>
        </p:nvSpPr>
        <p:spPr>
          <a:xfrm>
            <a:off x="642960" y="5429160"/>
            <a:ext cx="8072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ompatibility with 11.0 and ear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J1C0 X"/>
          <p:cNvSpPr/>
          <p:nvPr/>
        </p:nvSpPr>
        <p:spPr>
          <a:xfrm>
            <a:off x="3286080" y="328608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J0C0 X"/>
          <p:cNvSpPr/>
          <p:nvPr/>
        </p:nvSpPr>
        <p:spPr>
          <a:xfrm>
            <a:off x="3286080" y="2643120"/>
            <a:ext cx="264312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J0C1 X"/>
          <p:cNvSpPr/>
          <p:nvPr/>
        </p:nvSpPr>
        <p:spPr>
          <a:xfrm>
            <a:off x="5929200" y="264312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J1C1 ?"/>
          <p:cNvSpPr/>
          <p:nvPr/>
        </p:nvSpPr>
        <p:spPr>
          <a:xfrm>
            <a:off x="5929200" y="328608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J2C1 ?"/>
          <p:cNvSpPr/>
          <p:nvPr/>
        </p:nvSpPr>
        <p:spPr>
          <a:xfrm>
            <a:off x="5929200" y="392904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J3C1 ?"/>
          <p:cNvSpPr/>
          <p:nvPr/>
        </p:nvSpPr>
        <p:spPr>
          <a:xfrm>
            <a:off x="5929200" y="4572000"/>
            <a:ext cx="2643480" cy="642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42960" y="2000160"/>
          <a:ext cx="7929720" cy="3214800"/>
        </p:xfrm>
        <a:graphic>
          <a:graphicData uri="http://schemas.openxmlformats.org/drawingml/2006/table">
            <a:tbl>
              <a:tblPr/>
              <a:tblGrid>
                <a:gridCol w="2643120"/>
                <a:gridCol w="2643120"/>
                <a:gridCol w="264348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‘</a:t>
                      </a:r>
                      <a:r>
                        <a:rPr b="1" lang="da-DK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C’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‘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C’ 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‘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’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‘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’ 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‘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’ 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‘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’ 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remove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remove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Repair tool demo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D68D-52DF-49B9-9359-0F1EA72D79C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Component File</a:t>
            </a:r>
            <a:br>
              <a:rPr sz="4400"/>
            </a:b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Journaling Op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414288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Richard Smith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14 September, 2009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5:51:48Z</dcterms:created>
  <dc:creator/>
  <dc:description/>
  <dc:language>en-US</dc:language>
  <cp:lastModifiedBy/>
  <dcterms:modified xsi:type="dcterms:W3CDTF">2009-09-08T13:23:42Z</dcterms:modified>
  <cp:revision>1</cp:revision>
  <dc:subject/>
  <dc:title/>
</cp:coreProperties>
</file>