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0D6-388C-477F-B13F-9C06E5582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3F94-BB84-443E-8107-D42EC29B2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281D-0AB2-4034-8EE2-EB7905CEC3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8C81-DCE3-46EE-8BAF-179FBE835D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D88D-0B00-475C-96DC-9DF4542B6E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C8A9-6252-46A1-BF6A-B708FFE270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0B9-1CDF-4FCA-A040-22693E4DAB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2BA2-C3CC-4596-81EA-3FEED2A0C4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0E1-A64B-4686-8B99-C4D3411592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749-BE6B-4CC3-B429-4BE6EB718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EBA-33B6-4F48-A1DA-34903A5696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0B0-9C4F-43C9-9714-2F33B48B01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F85-1DF9-4671-9C6C-9F159EFCDA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917-0FFE-4F2A-A9D0-AD373B05D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E420-F034-4E01-863D-B7AFE9B70C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213B-F644-4AFF-A6AF-7F5BB13DF3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5A13-967F-4179-854F-F5BA58406A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F77B-55B3-49B1-87F3-E870A170AD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F217-3260-4D2A-BB62-C3A17287D2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F5A-D842-43E3-ABA5-6A5349BCF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3977-82E0-4649-A87A-B261161E05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5B8-86DD-4F74-BF8A-D06050B42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3CE7-3344-4818-983A-9D71D43A62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E236-E072-43CA-A83E-1214EFF67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D1B-9DF3-4D89-B516-805834CED8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  <p:sp>
        <p:nvSpPr>
          <p:cNvPr id="525" name="Notes Placeholder 5"/>
          <p:cNvSpPr/>
          <p:nvPr/>
        </p:nvSpPr>
        <p:spPr>
          <a:xfrm>
            <a:off x="888840" y="2590920"/>
            <a:ext cx="4891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8A3-8F97-4DCA-8128-C64B4277B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D4E8-7FFF-4BE6-BF97-FA5C125EB0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F595-542F-46BD-B286-8EDD4F15B9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CE85-BE7E-43A9-9F32-B3AC6449D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EED-40E4-4CE0-9FC3-13609AF85B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8553-5FAB-4546-9F32-1E057CAA3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E66-5318-4245-95A9-DB2ABD46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11A-B818-4EA1-B0B4-10EDAE1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255-6FB2-4B50-B9F4-E2B05ADD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3D5-A60D-481F-9B29-10232059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4DF-53C1-4019-A602-076E9B57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B3C-A56F-455E-8525-A442C709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F28-624E-4D39-9CAB-202D22A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F5B-E45D-4011-B55F-0D5A41B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503-CD5C-4905-A4B3-07CFC43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E98-24F6-44EC-9C5C-03A9768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9F5-9950-4EAD-834E-EB9C279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461-822A-40F4-B1B2-EF66066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9411-EAB5-43D5-BB83-2F8C5D56A0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001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Component File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John Scholes and 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3 October, 2008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Geneva"/>
              </a:rPr>
              <a:t>Or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Geneva"/>
              </a:rPr>
              <a:t>How to never see FILE DAMAGED agai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can be upd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put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ost of the component i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The free space node was left inta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ll remaining updates are journa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activ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DBDB-B1C5-4339-AE3B-091133E9C5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9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nly free space updat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ntire update recorded i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B3F-C145-4B78-AE68-D1A36CA145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E46-AE98-48EF-956C-383165F434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9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rmal case - there is no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thing needs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F547-43A0-4127-ABD8-A3D0C863D0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cess killed before journal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s were all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ile has been safely rolled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FB3-C0D4-4353-BF3D-33AE0C2324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cess killed after journal complete but before update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(re-)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has been completed and damage repa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994-421A-4BD8-8E65-9930C60785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3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ight Arrow 29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1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2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7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768E-283B-449A-87B1-E42AF0B51E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supported now in 12.0.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Have very little impact on performance and file siz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y be enabled on a per-file bas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APL385 Unicode"/>
              </a:rPr>
              <a:t>⎕</a:t>
            </a:r>
            <a:r>
              <a:rPr b="1" lang="da-DK" sz="3200" spc="-1" strike="noStrike">
                <a:solidFill>
                  <a:srgbClr val="262626"/>
                </a:solidFill>
                <a:latin typeface="APL385 Unicode"/>
              </a:rPr>
              <a:t>FPROPS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 converts a file to/from journa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EF84-EA9B-4F48-B797-1C84CAD037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82868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only be accessed by 12.0.3 or later (but journaling can be switched off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not enabled 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tect from file damage if APL is kil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o not currently always protect from file damage if the OS is kil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lowchart: Magnetic Disk 21"/>
          <p:cNvSpPr/>
          <p:nvPr/>
        </p:nvSpPr>
        <p:spPr>
          <a:xfrm>
            <a:off x="7143840" y="1571760"/>
            <a:ext cx="1342800" cy="16430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71680" y="3357720"/>
            <a:ext cx="78152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isk writes are held in memory and flushed efficiently (out of sequ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ata still flushed if APL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ut if the O/S is killed, out of sequence data may b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62D-0CAD-46C0-8588-4F287729E4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isk ca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Flowchart: Data 24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lowchart: Data 2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lowchart: Data 2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Data 32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lowchart: Data 33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lowchart: Data 3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lowchart: Data 3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lowchart: Data 36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lowchart: Data 3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lowchart: Data 38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lowchart: Data 39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lowchart: Data 40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lowchart: Data 41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lowchart: Data 42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lowchart: Data 43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lowchart: Data 4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lowchart: Data 46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714240" y="1857240"/>
            <a:ext cx="1357560" cy="10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loud 19"/>
          <p:cNvSpPr/>
          <p:nvPr/>
        </p:nvSpPr>
        <p:spPr>
          <a:xfrm>
            <a:off x="3643200" y="1643040"/>
            <a:ext cx="2143080" cy="157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73580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08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1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723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726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729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3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9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758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765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768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0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6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805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808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1 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ing this broken journal would corrupt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re are 4 such points in 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56DF-E92F-4F08-9FCB-D36E7F2D54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Why this matter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9B22-045B-41B7-9F85-54EA8E7490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" name="Picture 2" descr="C:\Documents and Settings\Richard\Local Settings\Temporary Internet Files\Content.IE5\B93I2H6R\MCj03512350000[1].wmf"/>
          <p:cNvPicPr/>
          <p:nvPr/>
        </p:nvPicPr>
        <p:blipFill>
          <a:blip r:embed="rId1"/>
          <a:stretch/>
        </p:blipFill>
        <p:spPr>
          <a:xfrm>
            <a:off x="857160" y="1928880"/>
            <a:ext cx="720252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se must be done atomic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Execut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20E-14C9-4BF9-8B83-EACC649222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ritical update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6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7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4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5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8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9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3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lowchart: Magnetic Disk 21"/>
          <p:cNvSpPr/>
          <p:nvPr/>
        </p:nvSpPr>
        <p:spPr>
          <a:xfrm>
            <a:off x="7143840" y="1571760"/>
            <a:ext cx="1342800" cy="16430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571680" y="3357720"/>
            <a:ext cx="78152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fsync causes APL to wait for the data to be committed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uld issue 4 fsyncs pe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F935-3DE0-49EB-90A9-E79E75092F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sync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Flowchart: Data 24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lowchart: Data 2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lowchart: Data 2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lowchart: Data 32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lowchart: Data 33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lowchart: Data 3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lowchart: Data 4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lowchart: Data 46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714240" y="1857240"/>
            <a:ext cx="1357560" cy="10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loud 19"/>
          <p:cNvSpPr/>
          <p:nvPr/>
        </p:nvSpPr>
        <p:spPr>
          <a:xfrm>
            <a:off x="3643200" y="1643040"/>
            <a:ext cx="2143080" cy="157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53"/>
          <p:cNvSpPr/>
          <p:nvPr/>
        </p:nvSpPr>
        <p:spPr>
          <a:xfrm>
            <a:off x="73580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&quot;No&quot; Symbol 29"/>
          <p:cNvSpPr/>
          <p:nvPr/>
        </p:nvSpPr>
        <p:spPr>
          <a:xfrm>
            <a:off x="785880" y="1785960"/>
            <a:ext cx="1214280" cy="114300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5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1054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3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1072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81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109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087-2246-40EA-B52B-02256C9D9D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sync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lows the application considerab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 we should reduce the number of fsyncs if 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Good news is that we ca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1 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ing this broken journal would corrupt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lution: add checksums to de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23CC-339D-4667-AC35-FF77CF7A7F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irst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tart executing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journal no longer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 journal for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lution: use the checksumming and redundancy to rebuil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645-E3FF-4B0A-A89B-02E8E69139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econ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2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3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4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31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2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B3F2-7BEE-4227-BA5B-87C04D5FBB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econ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te: omitting this fsync does not prevent dam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ut we are able to fix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earlier update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 journal for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buil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360-7BE9-4A29-8726-D270C3822C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Thir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0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1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2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9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0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3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4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8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9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If the journal is still present we may re-execute it on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therwise it will fail its checksum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483-BEB1-4555-BA5D-2E929D6EC3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ourth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6286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4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E60-985C-449E-9CBC-5650FE6EED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tional 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wo fsyncs eliminated by checksumm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ne further fsync eliminated if recovery tool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Last fsync eliminated if recovery tool used 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... potential loss of mor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19C-D836-4E05-BD95-5E05299291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tional 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planned for a future rele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have a greater impact on performance and file siz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offer a variety of options so that security and performance may be bala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be configured on a per-file bas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A27-679D-479A-A3E2-91CE982E3E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Purely linear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42884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2960" y="2643120"/>
            <a:ext cx="781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Times New Roman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14316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07180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Component File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0" y="37857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John Scholes and 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3 October, 2008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14316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55F2-26C6-4064-AFF0-85C6A9BCC1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Updating a linear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42884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42960" y="2643120"/>
            <a:ext cx="781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3143160" y="1785960"/>
            <a:ext cx="5716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95240" y="2795760"/>
            <a:ext cx="7815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placing a component with a smaller one wastes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placing a component with a larger one is not possibl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... unless you move potentially large amounts of data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143160" y="1785960"/>
            <a:ext cx="19288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5072040" y="1785960"/>
            <a:ext cx="200016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7.98057E-007 L 0.0007 0.05158 E">
                                      <p:cBhvr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8748-C369-45EC-BFD0-D652897F1C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tual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Geneva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060"/>
                </a:solidFill>
                <a:latin typeface="Geneva"/>
              </a:rPr>
              <a:t>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030a0"/>
                </a:solidFill>
                <a:latin typeface="Geneva"/>
              </a:rPr>
              <a:t>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5643720" y="1785960"/>
            <a:ext cx="200016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764388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A6B6-842D-4524-B76D-EC82C6B822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Updating a compon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714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to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the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10D6-56D1-4E03-948B-D8F7C90567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a compon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a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5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6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6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entagon 25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767-CC53-4325-8C7B-49A2F158B4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– and causing dam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ene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a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** APL process is killed 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node is still referenced but has been corru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7AE-24CA-45EC-BB51-32156F9082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The solution - journal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in a file can be safely upd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majority of an update occurs in this free 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s to existing data are first written to a journ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is then comple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8-10-11T07:28:11Z</dcterms:modified>
  <cp:revision>1</cp:revision>
  <dc:subject/>
  <dc:title/>
</cp:coreProperties>
</file>