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4EF1-D5D2-4FAC-B679-078CD01C74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1AE7-B1CE-4C57-8F82-C06E668680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F1E8-A536-41EF-8337-D92D0670CF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60F4-59C5-4A54-A788-CD363DF8F4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5D1E-7DAC-4624-A61E-6121804E47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553A-C360-4AE8-AEC9-DABE62F477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B043-22C1-4780-B575-B7340A993C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9B40-6BE0-4898-BC9A-62B8695CDE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6D09-874B-4E9F-9E61-CCA18F75B0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4223-895E-472C-A163-49C4AD16B0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77B0-E6E2-4ABA-B3F4-FDF3AA5EEB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DF38-A5DB-49C6-82A5-A8D357AB7D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0C1C-4664-4596-B368-093FC8FE9F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B10B-2BFB-4996-90F8-95A502AD77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F91F-BD46-40AC-94F1-E8E03E82FC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EED7-2508-4BC1-850E-B236145DCF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7C1F-435D-488D-9D49-D37BA71C5F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85D9-C7B0-4CF9-B74D-FD815D4C7C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D8ED-602B-47AB-9B1C-3B79697ACB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6B58-8296-40CD-B3B2-67FD7B7B3D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3615-DB60-466D-9C4A-D5EF2C3E50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0BAD-BB12-4761-8FC5-DF9BEA7620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7BC1-AE55-433B-A94A-1B06023354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DE73-DF8D-4F4F-B257-8234EB5224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AF9D-3B10-4C5B-B988-B11DE91018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0C23-CF11-428F-AA1B-384F91A9D2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6DF6-0042-430B-B061-6016B2F6D8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1E44-A2AA-49E3-BDA2-65C6C225BD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DECA-D12B-4B88-9324-3D01D43D0B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D9C3-5A6E-46F6-872E-0517BCFCEB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D54F-8A23-4FE3-BBA7-3F31DCD371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07E3-C9C9-4D93-BA7C-9E586895C7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C3E5-6FB3-4B13-A022-4C1875D812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7E36-242B-4376-BC54-6901EA0A98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037C-6198-4A7C-8C53-746F12907D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6B44-6CB2-4C02-8C06-11E7DD1C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45A3-24D2-405B-8A1A-96B5EC1D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2C5E3A-EA4E-44A9-943B-AADC465F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38DC80-37D3-44AA-A667-40AB5C2D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1C8E83-D88B-4413-960E-64A083DD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6284DA-B368-4F5C-956F-A7B01494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861EDD-E22F-471B-902D-77B87C77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1A99EA-AAFB-41EC-B5E7-81ECB5A9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4C2234-CE0C-46DE-81B7-3345A385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2CFF1C-FB52-4B13-AA45-1CCA493B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2DD0D8-05EC-4AD0-BE27-9129CCDA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F2285-A7E8-4A69-A93A-B36C769E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AD06-0C68-42DC-9A6B-A82553C7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4CBEE-E289-41B7-9059-3F7D6268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10404-CA90-4793-84F8-F6654F29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68A130-7EE9-42CF-B168-B1AFE8E4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3D655-89F1-4573-A141-E038A2E2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2E33C-E13B-4D0F-AE3B-9CD40BF6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5FCF0-6ED4-49B3-9329-48B596AC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1DA05-6B51-4323-BE57-6D2AF8FA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BB40F-30B2-4566-A394-BC81DF39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2AD78-7956-4FD7-BCB6-E6EF7D04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0B3B6-E4D3-4367-BE98-47AE0213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F400-797A-4138-9F2C-99674A65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B98B1-9FFF-4585-87E2-B056E971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287B4-ADE9-4E60-9EC1-7B8733FE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6F2A3-6A5C-49D5-A19A-7BE05EF6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979FA-340D-43C6-BFDF-18427E75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6DEE3-46AF-4AE7-B7D4-C3E5CB22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79D66-E402-4232-A665-0181C908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9029B-D203-4CA3-BF8E-38A49085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579DF-5A5B-4D87-B218-25112B32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EDD2F-A626-49B4-AB72-075E958A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BCDD4-CE78-4359-91AB-FFC04758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AC42-511D-4A92-823F-78768B85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E9191-BA96-498D-9DC9-06F427AE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2A8C1-8D52-4538-AAF2-37C91D77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BAC6C-4A6D-4896-AF31-28599652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9C4C2-A9F7-459C-9EFA-F04B3D34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C6F5B-26A2-4196-BC6B-4104CEBF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E20EA-6EA4-4BA1-8C99-F821C076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DDB84-00F5-43B8-BD2E-E7598744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CC050-B5CD-44A3-984D-15918660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5CB77-E1D9-4766-9A45-18DA8832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AC77E-5329-4BEA-A0E3-1FAE4447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9C4E-60DF-4452-AD2D-C0194FF5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D6018-C330-4EC9-9C10-F77F8726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CC9F9-73A8-4027-80C9-272B822C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0BF1F-5476-4F02-93A7-C704F1C3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1F33B-82DA-471F-9CFC-5CCD06A6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2C21D-D835-464C-8162-0F62BD4C4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16D880-37D9-46A8-9F8E-FF3BA9BC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3A3533-4457-4CC9-823B-EA57D0C0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FAB2F2-A0D6-4A0F-B90F-5A266414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40D503-8F31-492E-8413-247FA308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13F0B4-A5AD-406F-90A9-8FC83AC7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0D56-E9F9-46F3-83DC-ED5564AB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6CABF7-AD25-4802-A67C-AF5B78CA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9717CD-BDFA-4B54-BCB9-A7B7769C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D9C91-DCED-4926-9576-FDE87FD3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5F5AA3-C583-430F-B306-C02A0F34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C98565-2B29-41AD-938E-03629C4E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77C197-DDBC-4E46-B180-31F1B051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289EFB-305F-4B59-BAF4-A70F30AB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D1E443-7236-481D-BEF0-37DBECC0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928A60-EC2E-4E2C-9335-E15DD6DA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10DC22-A9D5-45D2-9CF1-4449D34F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3B8F-3704-4441-A1E0-5449CA1A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EFB3CA-8A12-4DDE-B296-5C2F13C4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99EB89-21A1-4196-A884-32AB2316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2D630E-33EA-4E07-9E27-0F908D18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62B649-3EBD-4D24-B8D1-DEBD71C0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B955A6-8FE4-4148-AA34-A54110F5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DC8A75-C25C-4D19-A2AF-084A6712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91E99C-251C-4D2B-AB7D-9DFF501F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18FB3A-4A0F-4B47-86FA-F45933FB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743E7D-47DD-4A4A-98A6-1CCD8C85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162F-1859-4724-87C9-1206C529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78B6-3E16-443D-8FE9-0CBC7612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B8DD-D5FA-4A23-8C03-4D952A15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CA16-1261-4B1B-A900-8311EF22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1EFF-CBFC-4FA1-BB58-AFBFB9C7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BE2B-F768-4011-B7E6-42FB422C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84A8-6F3E-4F30-83FD-5E803C71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75A3-8286-4C4A-93CA-77A98C93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3B7D-2212-425C-A454-337088B5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947A1-DDDE-4386-88A6-4324F049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113BB-D422-4108-A893-EC196334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949B9-2CE6-41C2-83B4-9C547B74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33DD1-0BA0-434B-86E6-CBBCF12D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2366A-97DA-4011-8E47-A7A8C586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82EC-1916-4BB4-85C9-5B592C30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38076-C0D1-424B-B8D5-DAD14439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B323E-673F-45F6-8CB8-BCCD54CB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1C343-99AF-4AE9-A26A-760374B1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9351A-B2C1-4838-9672-FEA9A4C4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15AB3-7228-4304-A08C-9F6B78B7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9CED3-2714-4F8E-92FC-900CC493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6DCFB-444F-41E5-9CDE-ED38D19E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BB931-353D-4005-8335-3ED4EB56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AA159-4340-477A-ADD7-41B0D29B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5D11F-CC0C-4CC9-9795-14284AB7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F30A-741A-4939-8ECA-B20963BB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28E1C-BC6D-4A6B-AA6C-B7809665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8D614-D76F-4597-B975-A577EF4B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17A84-6060-42CC-A7C5-C4E28AA3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72458-9C22-47AD-A454-E423AD69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A641D-BD06-4E54-86BD-5EEFCAF7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C6C90-5821-45F7-8BA0-7B1EFF6B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E5E6E-ACE4-4899-96EB-F5390A09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6C9F8-B82B-4180-8960-8171F2FD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4BBD1-9B47-4E39-A0D7-173AE703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28BD6-D3AE-43DA-AB3F-2CC96777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F6AA-8137-4F25-8B1E-AAC100D7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0AED8-0F13-4118-B912-794E134A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0C641-10B1-4F6E-AB2E-738A159A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789BF-3665-4F2C-A959-211C38AB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ED12A-EC5F-4ABD-950D-9BDB99F6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E3D3E-DDA1-4520-880E-FA834D6B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6D062-0BD8-4AD5-B225-CBAA279C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68ECB-BB5A-459E-9AAC-19E5EAFD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D900C-A44F-412B-AC08-53CFC413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7A182-6E13-40E0-96CF-EC1A2057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46B21-8702-421C-8214-94ADE1B9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8AFC-9CEA-44FF-B168-EABCC4AF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2A1ED-A881-48E0-B8B1-3B1D5520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36E12-BE16-40CE-B3DA-1C22DE10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48112-DDA8-495E-B469-B9F2FD24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44805-69B1-48AC-AE62-A3858DFE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3EB94-2C8B-44AE-B0D0-861BF028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E38A4-4803-4CFB-9CC9-D862B7AA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CBD71-CFCA-439A-9116-F9D3BBDF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4F81B-E64F-47AF-A4E9-F00E7315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2E802-F407-47F8-A2E6-2FBA1C32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09534-A429-459E-A9EB-A0931556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99C0-403F-4ED2-B8C7-0BCBEB1A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AA017-FC70-4B45-BE08-BF63FFC7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A18A8-BA9C-4FA2-8CDF-12307115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91596-A035-48FD-B324-5ECAA54A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30A38-B053-4380-B382-B4CABA4F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26C71-83F9-4D7F-9F50-7E5A7291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F0DBF-7E1D-4835-AD0C-50B9F0BC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0259F-CC79-4473-81B3-69556B85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6AAB8-12FD-43E3-A660-B59730C2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3C802-FA3D-4E00-A88E-A1D8BA5D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CE948-550B-49CA-966B-1ADABFD8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915F-9754-43D5-B9E0-FB2AB0BD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FBA1C-6695-4B8D-85C0-49F44998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A5347-E3CC-4FD5-9CBB-D52EEEB9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24CE9-B456-4020-9735-04A6EB7F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FADE2-E2B9-4685-A3EF-0CFEA7DE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1BAAD-8C77-4410-9B49-AC5DECD0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A9064-E712-4B89-AF59-2FFC3A735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512CC-130D-4446-B535-EF215735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65FB2-BA09-4F52-BF5A-B5FA4619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F8FBC-0B22-4B75-9088-DFFA654D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B3EBB-E1FF-4A9A-9970-CA48F5F0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8B21-4117-4E93-9F8D-3A8F1026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62730-1213-4379-8A3A-81E9DBF8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AA5F5-6122-492D-A661-10A8E109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D1AC3-E018-4882-A53B-C96E5257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ABA8B-240D-406A-983B-15CF4512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F7489-AAA1-4763-BD0A-DDF2A72B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FBEEC-3EBD-48F3-BA67-ED16EBD5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06FF7-F79C-418D-B295-9223E491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E2E65A-8BFA-4BE4-BB1F-C78021DB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D713A8-3213-400E-AF5C-7C6BD4B4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094725-1358-439E-AA63-51DB14E6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7113-438E-4A69-8968-425295525D5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A49E-2D5F-4345-9119-05A07CFF3F1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498B-081F-4674-BA24-03694F1C792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28E0-B46B-423E-910D-D3AB19F9BB6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DE2B-51C3-415D-837B-EE1190B7643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5F7B-9CAA-4532-A161-7906B8700A2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4BAF-605C-4180-9E03-356A5D643AA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6F78-CF20-4D21-A3B0-DE2E8F90BCD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37C8-09C6-4A59-A920-7ADA3E6CDD4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B559-5852-4C00-A82D-E7B6FEE715D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BCF0-62E1-4A62-AD86-6134CD3AAD9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2DB5-CF80-40C4-806F-97CB35B38A3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120F-A358-48A6-A71B-DD9A01AAE54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BFE1-EC5B-4AD9-BE96-7388EA5F4A6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3" descr="wyrm2008.jpg"/>
          <p:cNvPicPr/>
          <p:nvPr/>
        </p:nvPicPr>
        <p:blipFill>
          <a:blip r:embed="rId1"/>
          <a:stretch/>
        </p:blipFill>
        <p:spPr>
          <a:xfrm>
            <a:off x="1643040" y="714240"/>
            <a:ext cx="5318280" cy="49294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542916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yalog’08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pplication” Trend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42600" y="185724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icrosoft.Net is a strong unifying for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Open Source .Net (”Mono”) is now embedded with many Linux distribu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e differences between platforms are shrinking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Portability is as important as ever – and should be getting easier to achiev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ervice Buses”, and open standards like WebServices, are supported on all platform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llows easy and secure integration of tools </a:t>
            </a:r>
            <a:r>
              <a:rPr b="1" i="1" lang="da-DK" sz="2400" spc="-1" strike="noStrike">
                <a:solidFill>
                  <a:srgbClr val="333333"/>
                </a:solidFill>
                <a:latin typeface="Geneva"/>
              </a:rPr>
              <a:t>inside and outside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of the .Net Framework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9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51D9-2528-4313-802A-184D803B26C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Platform Philosoph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Many of the most successful APL coders are very ”problem oriented”. They have no wish to recode to adapt to the ”IT flavour of the month”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Rapid development... But also ULTRA long-term maintainability &amp; portability is very important to us and to many of our customers. </a:t>
            </a:r>
            <a:r>
              <a:rPr b="0" i="1" lang="da-DK" sz="2400" spc="-1" strike="noStrike">
                <a:solidFill>
                  <a:srgbClr val="333333"/>
                </a:solidFill>
                <a:latin typeface="Geneva"/>
              </a:rPr>
              <a:t>NO ”big bang” migrations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PL code &amp; data are binary compatible across platform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Despite these constraints, good design has allowed better integration with modern platforms than competitor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Current trends (.Net/Mono) provide more, and better ways for us to achieve all of these goal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4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CB97-7913-4518-949A-FE99430B5EC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Current Research Projects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42600" y="185724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Exploiting multi-core architectur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ithin the interpreter: For example, use several cores to execute a primitive func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Under control of the user (fork the application at suitable points, decided by the APL developer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upport for writing Web Services in APL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Prototype is available, will be bundled with v12.1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ool to run a Dyalog app as a ”Windows Service” too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9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C115-2C1A-4895-9E31-3360944F907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Picture 3" descr="wyrm2008.jpg"/>
          <p:cNvPicPr/>
          <p:nvPr/>
        </p:nvPicPr>
        <p:blipFill>
          <a:blip r:embed="rId1"/>
          <a:stretch/>
        </p:blipFill>
        <p:spPr>
          <a:xfrm>
            <a:off x="6643800" y="5429160"/>
            <a:ext cx="14284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ikely Research Projects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Implement new Development Environment based on .Net/Mono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Would be easily portable to any platform where .Net or Mono is available (almost everywhere)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Can be connected to APL on a different machine / platform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55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333333"/>
                </a:solidFill>
                <a:latin typeface="Geneva"/>
              </a:rPr>
              <a:t>Extend .Net bridge to allow APL developers to use Mono</a:t>
            </a:r>
            <a:endParaRPr b="0" lang="en-US" sz="22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Related to, but independant of the IDE project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Design and Implement Prototype of a </a:t>
            </a:r>
            <a:r>
              <a:rPr b="0" i="1" lang="da-DK" sz="2000" spc="-1" strike="noStrike">
                <a:solidFill>
                  <a:srgbClr val="333333"/>
                </a:solidFill>
                <a:latin typeface="Geneva"/>
              </a:rPr>
              <a:t>Managed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APL Interpreter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Based on the Microsoft.Net runtim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Would allow Dyalog components to run inside web browsers, etc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Language / interpreter research into using multiple cor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For example fuse trains of primitives into a single unit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55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333333"/>
                </a:solidFill>
                <a:latin typeface="Geneva"/>
              </a:rPr>
              <a:t>File Acceleration Server (on the Back Burner)</a:t>
            </a:r>
            <a:endParaRPr b="0" lang="en-US" sz="22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Secure, Fast Component File System as a Service via TCP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5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B802-3FAB-425F-9F1E-3081254FA82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New IDE and Managed APL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Managed interpreter would NOT be a replacement for the current Dyalog system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76080" indent="-259920">
              <a:spcBef>
                <a:spcPts val="55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333333"/>
                </a:solidFill>
                <a:latin typeface="Geneva"/>
              </a:rPr>
              <a:t>Unlikely to be 100% upwards compatible, even at the core language level – due to framework constraints</a:t>
            </a:r>
            <a:endParaRPr b="0" lang="en-US" sz="2200" spc="-1" strike="noStrike">
              <a:solidFill>
                <a:srgbClr val="333333"/>
              </a:solidFill>
              <a:latin typeface="Geneva"/>
            </a:endParaRPr>
          </a:p>
          <a:p>
            <a:pPr lvl="1" marL="676080" indent="-259920">
              <a:spcBef>
                <a:spcPts val="55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333333"/>
                </a:solidFill>
                <a:latin typeface="Geneva"/>
              </a:rPr>
              <a:t>Initially aimed at writing </a:t>
            </a:r>
            <a:r>
              <a:rPr b="0" i="1" lang="da-DK" sz="2200" spc="-1" strike="noStrike">
                <a:solidFill>
                  <a:srgbClr val="333333"/>
                </a:solidFill>
                <a:latin typeface="Geneva"/>
              </a:rPr>
              <a:t>components</a:t>
            </a:r>
            <a:r>
              <a:rPr b="0" lang="da-DK" sz="2200" spc="-1" strike="noStrike">
                <a:solidFill>
                  <a:srgbClr val="333333"/>
                </a:solidFill>
                <a:latin typeface="Geneva"/>
              </a:rPr>
              <a:t> to be embedded in web servers or other ”frameworks”, where </a:t>
            </a:r>
            <a:r>
              <a:rPr b="0" i="1" lang="da-DK" sz="2200" spc="-1" strike="noStrike">
                <a:solidFill>
                  <a:srgbClr val="333333"/>
                </a:solidFill>
                <a:latin typeface="Geneva"/>
              </a:rPr>
              <a:t>managed code</a:t>
            </a:r>
            <a:r>
              <a:rPr b="0" lang="da-DK" sz="2200" spc="-1" strike="noStrike">
                <a:solidFill>
                  <a:srgbClr val="333333"/>
                </a:solidFill>
                <a:latin typeface="Geneva"/>
              </a:rPr>
              <a:t> is a requirement</a:t>
            </a:r>
            <a:endParaRPr b="0" lang="en-US" sz="22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New IDE would work with both the current and the .Net interpret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76080" indent="-25992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Interpreters would inter-operate as ”seamlessly” as possib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76080" indent="-25992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It should be easy to write and maintain systems composed of components based on both system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0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E947-9851-480A-B6D9-5F460404BE2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wo Prongs - Alway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42600" y="2071800"/>
            <a:ext cx="817236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must make it easy to write components that can be embedded in enterprise development framework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333333"/>
                </a:solidFill>
                <a:latin typeface="Geneva"/>
              </a:rPr>
              <a:t>BUT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must also constantly strive to make it easier for the lone entrepreneur or ”domain expert” to build a complete application without learning how to operate heavy machinery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5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8933-50EC-4810-ABF9-8BB0344952E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evt Too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 will look at providing ”simpler” ways to use modern GUI and Web framework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Likely to be prototyped in APL, like the WebService framework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hould we invest in CausewayPro as a GUI design tool for ”simple” applications?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 will work on building (and collecting) general developer tools. For example, a tool for test-driven development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0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A895-4833-4049-B34A-99532608E71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2.1 IDE Enhanc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42960" y="1785960"/>
            <a:ext cx="8501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Better support for editing 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ake it easier to work with individual functions in a clas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ome ideas prototyped - see John Daintree’s presentation right after lunch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Better access to .Net metadat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Evaluate and Autocomplete, and other idea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(Also look at performance of .Net marshalling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5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D20B-6180-4D36-A117-F95B655F2C0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2.1 Perform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Boolean Scans and Redu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See Roger Hui at 14:15 toda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ndexing and Indexed Assignmen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Rewritten, primarily to reduce space consumption, but speed also improved for some cas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See Nic Delcros and John Scholes at 15:3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et membership and lookup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Will revisit algorithms for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∊ ⍳ ∩ ∪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Have ideas for transpose and inner produc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Experiments with using multiple cores to execute primitives on large array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0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35FB-0F68-4490-9726-C6A4529B92D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Boolean Speedups </a:t>
            </a:r>
            <a:r>
              <a:rPr b="1" lang="da-DK" sz="1800" spc="-1" strike="noStrike">
                <a:solidFill>
                  <a:srgbClr val="333333"/>
                </a:solidFill>
                <a:latin typeface="Geneva"/>
              </a:rPr>
              <a:t>(by Roger Hui)</a:t>
            </a:r>
            <a:endParaRPr b="1" lang="en-US" sz="1800" spc="-1" strike="noStrike">
              <a:solidFill>
                <a:srgbClr val="333333"/>
              </a:solidFill>
              <a:latin typeface="Geneva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500040" y="1928880"/>
          <a:ext cx="7786800" cy="2786040"/>
        </p:xfrm>
        <a:graphic>
          <a:graphicData uri="http://schemas.openxmlformats.org/drawingml/2006/table">
            <a:tbl>
              <a:tblPr/>
              <a:tblGrid>
                <a:gridCol w="341280"/>
                <a:gridCol w="744480"/>
                <a:gridCol w="744480"/>
                <a:gridCol w="744840"/>
                <a:gridCol w="744480"/>
                <a:gridCol w="744480"/>
                <a:gridCol w="744480"/>
                <a:gridCol w="744480"/>
                <a:gridCol w="744480"/>
                <a:gridCol w="744840"/>
                <a:gridCol w="744480"/>
              </a:tblGrid>
              <a:tr h="23184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0">
                  <a:txBody>
                    <a:bodyPr lIns="29160" rIns="29160" tIns="14760" bIns="14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Ratios in Execution 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 v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 x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 x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 c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 c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 od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[0]x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[0]x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[0]c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[0]o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≠</a:t>
                      </a: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76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3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0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5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5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6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5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9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=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448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3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7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4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6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2.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2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9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∧</a:t>
                      </a: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x 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x 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x 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8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.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4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∨</a:t>
                      </a: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x 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x 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x 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6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4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1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+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x 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3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3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5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7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3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5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6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3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6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≠</a:t>
                      </a: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\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58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64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64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50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5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55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505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73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2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=\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3.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4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5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50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9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7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82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37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0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∧</a:t>
                      </a: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\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3.7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52.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51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6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32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8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02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76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9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4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∨</a:t>
                      </a: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\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9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51.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9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5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36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7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92.8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63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9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4.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&lt;\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90.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8.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2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4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5.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0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02.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70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9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8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BC03-2019-4A01-B93F-15CD26EC33F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8"/>
          <p:cNvSpPr/>
          <p:nvPr/>
        </p:nvSpPr>
        <p:spPr>
          <a:xfrm>
            <a:off x="428760" y="4929120"/>
            <a:ext cx="3786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PL385 Unicode"/>
              </a:rPr>
              <a:t>v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← randbool 6.4e6 +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ve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PL385 Unicode"/>
              </a:rPr>
              <a:t>xw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← randbool 1000 100 6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with word-multiple # of colum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PL385 Unicode"/>
              </a:rPr>
              <a:t>x8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← randbool 1000 114 5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with multiple-of-8 # of colum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9"/>
          <p:cNvSpPr/>
          <p:nvPr/>
        </p:nvSpPr>
        <p:spPr>
          <a:xfrm>
            <a:off x="4500720" y="4929120"/>
            <a:ext cx="4143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PL385 Unicode"/>
              </a:rPr>
              <a:t>c5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← randbool 1.28e6 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array with 5 colum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PL385 Unicode"/>
              </a:rPr>
              <a:t>c8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← randbool 890 900 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array with 8 colum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PL385 Unicode"/>
              </a:rPr>
              <a:t>odd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← randbool 56638 11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an odd number of columns (&gt; 8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0040" y="1928880"/>
            <a:ext cx="777384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echnical Road Map ’08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1785600" y="3571560"/>
            <a:ext cx="5257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orten Kromber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Dyalog’08 - Elsinor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00" name="Picture 3" descr="wyrm2008.jpg"/>
          <p:cNvPicPr/>
          <p:nvPr/>
        </p:nvPicPr>
        <p:blipFill>
          <a:blip r:embed="rId1"/>
          <a:stretch/>
        </p:blipFill>
        <p:spPr>
          <a:xfrm>
            <a:off x="142920" y="5429160"/>
            <a:ext cx="14288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Prioritizing Perform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 have ideas and some clear customer requests (like Indexing and Iota), bu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 need your help to measure which primitives are importa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Recently patched version 12.0 systems include a monitor which can be enabled using the startup parameter   </a:t>
            </a:r>
            <a:r>
              <a:rPr b="1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-D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e APL monitor registers CPU consumption broken down by primitiv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2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0284-8583-453D-B3CF-4D2030F04E9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PL Monitor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hen started with </a:t>
            </a:r>
            <a:r>
              <a:rPr b="1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–Dm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  <a:ea typeface="Courier New"/>
              </a:rPr>
              <a:t>, Dyalog will create a file called </a:t>
            </a:r>
            <a:r>
              <a:rPr b="1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aplmon.csv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  <a:ea typeface="Courier New"/>
              </a:rPr>
              <a:t> at the end of the session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spcBef>
                <a:spcPts val="45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  <a:ea typeface="Courier New"/>
              </a:rPr>
              <a:t>With thanks to CONAC for permission to show this data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7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5E04-2FE0-46D8-89DA-71A0DEB5931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Picture 4" descr=""/>
          <p:cNvPicPr/>
          <p:nvPr/>
        </p:nvPicPr>
        <p:blipFill>
          <a:blip r:embed="rId1"/>
          <a:stretch/>
        </p:blipFill>
        <p:spPr>
          <a:xfrm>
            <a:off x="1428840" y="2714760"/>
            <a:ext cx="661032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PLMON Summa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3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A8DB-606B-449B-84A2-DA5B0019FDE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Picture 2" descr=""/>
          <p:cNvPicPr/>
          <p:nvPr/>
        </p:nvPicPr>
        <p:blipFill>
          <a:blip r:embed="rId1"/>
          <a:stretch/>
        </p:blipFill>
        <p:spPr>
          <a:xfrm>
            <a:off x="0" y="1571760"/>
            <a:ext cx="79437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PLMON Drill Dow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9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A196-426C-48CA-AA00-9B2875CBFF9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Picture 3" descr=""/>
          <p:cNvPicPr/>
          <p:nvPr/>
        </p:nvPicPr>
        <p:blipFill>
          <a:blip r:embed="rId1"/>
          <a:stretch/>
        </p:blipFill>
        <p:spPr>
          <a:xfrm>
            <a:off x="0" y="1878120"/>
            <a:ext cx="914400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PLMON Summa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hile </a:t>
            </a: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⎕MONITOR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finds hot-spots in your application, APLMON finds them in the interpret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f you send data collected while running time-critical application code, this will help us prioritise our tuning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If your requirements don’t end up at the top of our list, you can join the ”sponsor a primitive” programme </a:t>
            </a:r>
            <a:r>
              <a:rPr b="0" lang="da-DK" sz="20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PLMON is available via DSS now. The analysis workspace will be available as a free download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NB: Nice bar graphs in the session require the latest (Oct 7th) APL385 Unicode font (in the ”Conference Edition” folder on the memory stick)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5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F75A-1633-43E2-BD09-F09F6ED0717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Let APL Decide When to Fork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Experiment: Use multiple cores when executing scalar dyadic functions (arrays &gt;32k elements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anks to Norbert Jurkiewicz at Carlisle for testing on his quad core Windows serv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0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C739-0F76-437D-9EF3-EB139AFA283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2286000" y="2928960"/>
          <a:ext cx="4786200" cy="2225520"/>
        </p:xfrm>
        <a:graphic>
          <a:graphicData uri="http://schemas.openxmlformats.org/drawingml/2006/table">
            <a:tbl>
              <a:tblPr/>
              <a:tblGrid>
                <a:gridCol w="1595520"/>
                <a:gridCol w="1041480"/>
                <a:gridCol w="2149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2 c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4 c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5-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70-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GCD/L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5-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70-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etting APL Decide...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Seems to work well on functions as expensive as floating-point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÷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For ”cheaper” functions, we suspect that data cannot be delivered fast enough by the processors memory-management sub-system. Cores all run at 100% but don’t finish (much) faster than a single core would.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Looks interesting for large applications of functions like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÷!*⍟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on floating-point numbers. Some derived fns and idioms. Hashing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34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And anything involving </a:t>
            </a:r>
            <a:r>
              <a:rPr b="0" lang="da-DK" sz="1800" spc="-1" strike="noStrike">
                <a:solidFill>
                  <a:srgbClr val="333333"/>
                </a:solidFill>
                <a:latin typeface="APL385 Unicode"/>
              </a:rPr>
              <a:t>⎕CT</a:t>
            </a: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: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≤ &lt; = &gt; ≥ ⌈ ⌊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We learned that measuring and understanding performance of multi-threaded applications is HARD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Compiler-style data-flow analysis would help (turn a train of primitives into a unit), and is also HARD (but easier for dfns</a:t>
            </a:r>
            <a:r>
              <a:rPr b="0" lang="da-DK" sz="20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6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9D0E-D0A8-43EF-96D3-FD19A313E18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et the User Decide to Fork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Using multiple cores within primitives is transparent to the APL programmer, so very easy to use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However, forking and collecting on each primitive only works well in some cases. Synchronization and data loading/storing cause bottlenecks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e average size of an array passed to a primitive is </a:t>
            </a:r>
            <a:r>
              <a:rPr b="1" i="1" lang="da-DK" sz="2400" spc="-1" strike="noStrike">
                <a:solidFill>
                  <a:srgbClr val="333333"/>
                </a:solidFill>
                <a:latin typeface="Geneva"/>
              </a:rPr>
              <a:t>very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small in most applications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n many situations, better utilization of the processor is possible if the APL developer controls forking at a higher level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1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52BD-E2DF-4E5C-9C47-9CB1C04A5E1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 Notation for Fork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n addition to the implicit parallel nature of many primitives, Dyalog has two explicit forking mechanisms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i="1" lang="da-DK" sz="2000" spc="-1" strike="noStrike">
                <a:solidFill>
                  <a:srgbClr val="333333"/>
                </a:solidFill>
                <a:latin typeface="Geneva"/>
              </a:rPr>
              <a:t>each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operator (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¨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):</a:t>
            </a:r>
            <a:br>
              <a:rPr sz="2000"/>
            </a:br>
            <a:r>
              <a:rPr b="1" lang="da-DK" sz="2000" spc="-1" strike="noStrike">
                <a:solidFill>
                  <a:srgbClr val="333333"/>
                </a:solidFill>
                <a:latin typeface="Geneva"/>
              </a:rPr>
              <a:t>   </a:t>
            </a:r>
            <a:r>
              <a:rPr b="1" lang="da-DK" sz="2000" spc="-1" strike="noStrike">
                <a:solidFill>
                  <a:srgbClr val="333333"/>
                </a:solidFill>
                <a:latin typeface="APL385 Unicode"/>
              </a:rPr>
              <a:t>     function¨data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A ”dot” to the right of an array of namespaces:</a:t>
            </a:r>
            <a:br>
              <a:rPr sz="2000"/>
            </a:br>
            <a:r>
              <a:rPr b="1" lang="da-DK" sz="2000" spc="-1" strike="noStrike">
                <a:solidFill>
                  <a:srgbClr val="333333"/>
                </a:solidFill>
                <a:latin typeface="APL385 Unicode"/>
              </a:rPr>
              <a:t>      ns_array.function data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  <a:ea typeface="Courier New"/>
              </a:rPr>
              <a:t>In both cases,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  <a:ea typeface="Courier New"/>
              </a:rPr>
              <a:t>function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  <a:ea typeface="Courier New"/>
              </a:rPr>
              <a:t> is (logically) executed in parallel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  <a:ea typeface="Courier New"/>
              </a:rPr>
              <a:t>Due to current limitations in workspace management, Dyalog APL cannot actually make the calls in parallel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  <a:ea typeface="Courier New"/>
              </a:rPr>
              <a:t>However, imagine if we had a mechanism to generate namespaces outside the current workspace..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6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63F9-7C7C-4154-BF80-656F2E6EAF5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emo of Model of Fork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(remember to run with SHOW←1 and inspect the Demo function)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nss←⎕NS¨ '' ''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nss.mat←⊂¯1000+?500 500⍴2000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nss.(0⍕3 3↑mat+.×⌹mat) ⍝ show top left of mat times its inverse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1  0  0    1  0  0 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0  1  0    0  1  0 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0  0  1    0  0  1 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(elapsed time: 18920 msec)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remote←Y 2 ⍝ Y is the ”fork” function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remote.mat←⊂¯1000+?500 500⍴2000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remote.(0⍕3 3↑mat+.×⌹mat)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1  0  0    1  0  0 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0  1  0    0  1  0 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0  0  1    0  0  1 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(elapsed time: 11256 msec)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 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1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75C0-4CE3-49B5-9C0E-687714D8DB8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ooking Back: v1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85800" y="198108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33333"/>
                </a:solidFill>
                <a:latin typeface="Geneva"/>
              </a:rPr>
              <a:t>Version 11.0 (Autumn 2006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Object Orientation – </a:t>
            </a:r>
            <a:r>
              <a:rPr b="0" i="1" lang="da-DK" sz="2800" spc="-1" strike="noStrike">
                <a:solidFill>
                  <a:srgbClr val="333333"/>
                </a:solidFill>
                <a:latin typeface="Geneva"/>
              </a:rPr>
              <a:t>Class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New Tool of Though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ignificantly Improved Integration with .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ource code management using standard tool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64-bit Version - LARGE Workspac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Core Language Extensio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 number of new primitives:  </a:t>
            </a: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⍣ ⌷ ∧ ∨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DF45-EE97-4F75-B907-A950459FED9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Forking Mode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e right argument to Fork could be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586800" indent="-22572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000" spc="-1" strike="noStrike">
                <a:solidFill>
                  <a:srgbClr val="333333"/>
                </a:solidFill>
                <a:latin typeface="Geneva"/>
              </a:rPr>
              <a:t>n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: create empty namespac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586800" indent="-22572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000" spc="-1" strike="noStrike">
                <a:solidFill>
                  <a:srgbClr val="333333"/>
                </a:solidFill>
                <a:latin typeface="Geneva"/>
              </a:rPr>
              <a:t>ref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: copy an existing namespace or object instan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586800" indent="-22572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000" spc="-1" strike="noStrike">
                <a:solidFill>
                  <a:srgbClr val="333333"/>
                </a:solidFill>
                <a:latin typeface="Geneva"/>
              </a:rPr>
              <a:t>wsname: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create a remote namespace from a saved workspa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0720" indent="-2707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e model is a function built on the Conga RPCServer example cod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0720" indent="-2707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e APL model offers (almost) all the performance benefits, but not the elegance of interpreter support – which would put parallel execution ”at your fingertips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0720" indent="-2707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would like to explore the design thoroughly with you before implementing support in the languag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 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6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907E-D2DB-4A79-A905-0290A0CB0AE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Dyalog’08 Conference Edi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Most of Roger Hui’s work on boolean scans and redu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New implementation of indexing (but not yet indexed assignment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Parallel processing of ”large” scalar function calls, controlled by environment variables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4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33333"/>
                </a:solidFill>
                <a:latin typeface="Geneva"/>
              </a:rPr>
              <a:t>APL_MIN_PARALLEL  (array size at which extra cores are used, default 32767)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4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33333"/>
                </a:solidFill>
                <a:latin typeface="Geneva"/>
              </a:rPr>
              <a:t>APL_MAX_THREADS  (number of cores to use, default 2)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The workspace DYALOG08 contains a function which shows off the features of the new interpreter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333333"/>
                </a:solidFill>
                <a:latin typeface="Geneva"/>
              </a:rPr>
              <a:t>Warning: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Do NOT use this interpreter for anything other than experiments. Enabling APLMON in it crashes in my build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1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1EDD-3EF0-4B22-B4E1-E99CE869E51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Dyalog’08 Conference Edi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6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8B17-8421-4CAE-8FC1-A7D466A1FBB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0" y="1500120"/>
            <a:ext cx="7915320" cy="493416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2" descr=""/>
          <p:cNvPicPr/>
          <p:nvPr/>
        </p:nvPicPr>
        <p:blipFill>
          <a:blip r:embed="rId2"/>
          <a:stretch/>
        </p:blipFill>
        <p:spPr>
          <a:xfrm>
            <a:off x="2214720" y="1500120"/>
            <a:ext cx="787716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i="1" lang="da-DK" sz="2800" spc="-1" strike="noStrike">
                <a:solidFill>
                  <a:srgbClr val="333333"/>
                </a:solidFill>
                <a:latin typeface="Geneva"/>
              </a:rPr>
              <a:t>Release Notes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for version 12.1 will be much thinner than the notes for v11.0 and v12.0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It will be faster and strong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It will look better, too (with GRAPL graphics and IDE enhancements)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And after that, things will get </a:t>
            </a:r>
            <a:r>
              <a:rPr b="0" i="1" lang="da-DK" sz="2800" spc="-1" strike="noStrike">
                <a:solidFill>
                  <a:srgbClr val="333333"/>
                </a:solidFill>
                <a:latin typeface="Geneva"/>
              </a:rPr>
              <a:t>really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interesting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3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B937-A131-4DD6-9ACC-ACC59814D6A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Other Talks by Devt. Team...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8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A2F5-8203-4CCF-9653-DDE7CED180F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428760" y="1643040"/>
          <a:ext cx="8001000" cy="2225520"/>
        </p:xfrm>
        <a:graphic>
          <a:graphicData uri="http://schemas.openxmlformats.org/drawingml/2006/table">
            <a:tbl>
              <a:tblPr/>
              <a:tblGrid>
                <a:gridCol w="857160"/>
                <a:gridCol w="714384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Today (Mon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3: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hn Daintree: Version 12.1 IDE Fea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4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Roger Hui: Performance Improvements in Dyalog – A Case Stu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5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Nic Delcros and John Scholes: Interpreter Perform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Richard Smith and John Scholes: Journaled 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nathan Manktelow: APL+Windows Presentation Foun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2" name=""/>
          <p:cNvGraphicFramePr/>
          <p:nvPr/>
        </p:nvGraphicFramePr>
        <p:xfrm>
          <a:off x="642960" y="3857760"/>
          <a:ext cx="8001000" cy="1112760"/>
        </p:xfrm>
        <a:graphic>
          <a:graphicData uri="http://schemas.openxmlformats.org/drawingml/2006/table">
            <a:tbl>
              <a:tblPr/>
              <a:tblGrid>
                <a:gridCol w="857160"/>
                <a:gridCol w="714384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Tomorrow (Tues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Morten Kromberg: Conga, SLL and WebService Tu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Adrian Smith: RainPro Tu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3" name=""/>
          <p:cNvGraphicFramePr/>
          <p:nvPr/>
        </p:nvGraphicFramePr>
        <p:xfrm>
          <a:off x="857160" y="5000760"/>
          <a:ext cx="8001000" cy="1112760"/>
        </p:xfrm>
        <a:graphic>
          <a:graphicData uri="http://schemas.openxmlformats.org/drawingml/2006/table">
            <a:tbl>
              <a:tblPr/>
              <a:tblGrid>
                <a:gridCol w="857520"/>
                <a:gridCol w="714348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Wednesday (Cours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3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Dan Baronet: Source Code Mgt using SALT and Sub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3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hn Daintree: Using the Microsoft.Net frame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ooking Back: v12.0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First Release (Win32) in February 2008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Main Features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Unicode Suppor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Journaling Component Files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Simplified, Secure Communications Toolkit (“Conga”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Built-In Charting and Document Creatio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Language Bar and On-Screen Keyboard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Release schedule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Windows (32&amp;64), Intel Linux, AIX/32 are availabl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AIX/64 will soon be released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Windows Mobile at year end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Solaris versions, other Unixes “on demand”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5FAA-945F-41EC-9E48-B011A7268F7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Picture 3" descr="wyrm2008.jpg"/>
          <p:cNvPicPr/>
          <p:nvPr/>
        </p:nvPicPr>
        <p:blipFill>
          <a:blip r:embed="rId1"/>
          <a:stretch/>
        </p:blipFill>
        <p:spPr>
          <a:xfrm>
            <a:off x="6643800" y="5429160"/>
            <a:ext cx="14284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More About v12 (&amp;v11):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Geneva"/>
              </a:rPr>
              <a:t>Journaling Component Files</a:t>
            </a:r>
            <a:endParaRPr b="0" lang="en-US" sz="2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16:00-16:30 Monday (Richard Smith &amp; John Scholes)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55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Geneva"/>
              </a:rPr>
              <a:t>Simplified, Secure Communications Toolkit (“Conga”)</a:t>
            </a:r>
            <a:endParaRPr b="0" lang="en-US" sz="2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16:00-18:00 Tuesday (Morten Kromberg)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55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Geneva"/>
              </a:rPr>
              <a:t>Built-In Charting and Document Creation</a:t>
            </a:r>
            <a:endParaRPr b="0" lang="en-US" sz="2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16:00-18:00 Tuesday (Adrian Smith)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55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Geneva"/>
              </a:rPr>
              <a:t>Source Code Management</a:t>
            </a:r>
            <a:endParaRPr b="0" lang="en-US" sz="2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13:30-16:30 Wednesday (Dan Baronet)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55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Geneva"/>
              </a:rPr>
              <a:t>Unicode Support</a:t>
            </a:r>
            <a:endParaRPr b="0" lang="en-US" sz="2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Workshop Sunday (Morten Kromberg)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Short Demo </a:t>
            </a:r>
            <a:r>
              <a:rPr b="1" i="1" lang="en-GB" sz="1800" spc="-1" strike="noStrike">
                <a:solidFill>
                  <a:srgbClr val="333333"/>
                </a:solidFill>
                <a:latin typeface="Geneva"/>
              </a:rPr>
              <a:t>now!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A57F-7F03-47AA-A572-B8634B1B575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Date Placeholder 3"/>
          <p:cNvSpPr/>
          <p:nvPr/>
        </p:nvSpPr>
        <p:spPr>
          <a:xfrm>
            <a:off x="685800" y="6324480"/>
            <a:ext cx="21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 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7465-FC19-4F37-8491-9399D019A85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Enhancements 1998-2008 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285840" y="1571760"/>
          <a:ext cx="8358120" cy="4545000"/>
        </p:xfrm>
        <a:graphic>
          <a:graphicData uri="http://schemas.openxmlformats.org/drawingml/2006/table">
            <a:tbl>
              <a:tblPr/>
              <a:tblGrid>
                <a:gridCol w="714240"/>
                <a:gridCol w="765360"/>
                <a:gridCol w="68785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V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(c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Major Feat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TCP/IP, OLE Automation, Dynamic Functions, :Tr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Multithreading, :Hold, :With, GIF &amp; PNG, ActiveXControl, Calendar, ToolControl, TabControl, Splitter, CoolBar, NWise Reduction, Scalar Primitives with Ax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Namespace and GUI object ”Refs”, Dot Syntax for GUI &amp; OLE objects, Windows 2000 GUI (ComboEX etc), Doc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.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.NET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Idiom Recognition, Retained Hash tables, Auto-completion, Pocket A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Tokens for thread synchronisation, 64-bit component files,  Value Tips, More Grid enhancements, Extended function header syntax, Thread Debu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Object Orientation, 64-bit interpreter, Tighter .Net Integration, Squad, Power Operator, LCM/GCD, Simple APL Library Tookit (SAL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.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Unicode, Journaling Component Files, Integrated Graphics and Reporting Tools, Conga, APL Language Bar, more 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.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Secure Sockets, Web Service Framework,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⎕FCO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What’s Next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Dyalog has developed at a breathtaking pace ..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Features for each release have often been researched, prototyped and released in a single cycl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is has made it hard to ensure quality and difficult to predict release dat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t is our goal to become a little more predictable – </a:t>
            </a:r>
            <a:r>
              <a:rPr b="0" i="1" lang="da-DK" sz="2400" spc="-1" strike="noStrike">
                <a:solidFill>
                  <a:srgbClr val="333333"/>
                </a:solidFill>
                <a:latin typeface="Geneva"/>
              </a:rPr>
              <a:t>without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losing momentum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4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552C-A63C-4E50-BEDF-A8D3EE6298C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ersion 12.1 (2009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Version 12.1 will contain few ”visible” changes – at least  compared to recent releas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e theme is </a:t>
            </a:r>
            <a:r>
              <a:rPr b="0" i="1" lang="da-DK" sz="2400" spc="-1" strike="noStrike">
                <a:solidFill>
                  <a:srgbClr val="333333"/>
                </a:solidFill>
                <a:latin typeface="Geneva"/>
              </a:rPr>
              <a:t>Enterprise Applications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, but you don’t need to be an ”Enterprise” to benefit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Focus on performance, scalability, quality/reliability - and making applications easier to deplo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Polishing off ”recent” features: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1143000" indent="-228600">
              <a:spcBef>
                <a:spcPts val="400"/>
              </a:spcBef>
              <a:buClr>
                <a:srgbClr val="ff8000"/>
              </a:buClr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33333"/>
                </a:solidFill>
                <a:latin typeface="Geneva"/>
              </a:rPr>
              <a:t>Better support for editing namespace and class scripts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2" marL="1143000" indent="-228600">
              <a:spcBef>
                <a:spcPts val="400"/>
              </a:spcBef>
              <a:buClr>
                <a:srgbClr val="ff8000"/>
              </a:buClr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33333"/>
                </a:solidFill>
                <a:latin typeface="Geneva"/>
              </a:rPr>
              <a:t>More work on Unicode-based source code management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n parallel, we will start research projects which may not appear until </a:t>
            </a:r>
            <a:r>
              <a:rPr b="0" i="1" lang="da-DK" sz="2400" spc="-1" strike="noStrike">
                <a:solidFill>
                  <a:srgbClr val="333333"/>
                </a:solidFill>
                <a:latin typeface="Geneva"/>
              </a:rPr>
              <a:t>after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12.1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9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782D-4C08-4936-8180-DBC8A416D64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Platform” Trend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Proprietary Unixes (AIX, Solaris, 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remember hp?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) are ”fading” in favour of Linux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indows remains the most important platform for our users at this point in tim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64-bit is becoming common in Unix/Linux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Even Windows users are slo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o</a:t>
            </a: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o</a:t>
            </a:r>
            <a:r>
              <a:rPr b="0" lang="da-DK" sz="1600" spc="-1" strike="noStrike">
                <a:solidFill>
                  <a:srgbClr val="333333"/>
                </a:solidFill>
                <a:latin typeface="Geneva"/>
              </a:rPr>
              <a:t>o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ly moving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ulti (at least 2)-core machines are everywher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MUST make it easy to harness them from AP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4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12A2-85E2-4C3D-9955-035888A922F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6T22:41:42Z</dcterms:created>
  <dc:creator>Gitte Christensen</dc:creator>
  <dc:description/>
  <dc:language>en-US</dc:language>
  <cp:lastModifiedBy>Morten Kromberg</cp:lastModifiedBy>
  <dcterms:modified xsi:type="dcterms:W3CDTF">2008-10-13T11:33:05Z</dcterms:modified>
  <cp:revision>298</cp:revision>
  <dc:subject/>
  <dc:title>Rolling the Process</dc:title>
</cp:coreProperties>
</file>