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56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050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3932-6645-4EAF-8F92-416ED7B5E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2422-B2CA-4155-A3FD-ECC712CFF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F99E-A501-49C9-AC3A-CF59B9C97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66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66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8046-D3B1-4047-A9BA-E5BADB1CD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28BF-1C32-478A-9C67-76E8E2B44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2513-FF59-489F-932B-8A680BB80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248B-85B1-4D69-83A1-D4A0E057F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9338-2C0B-433F-BA2C-34B78EE1D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9600" y="412560"/>
            <a:ext cx="67770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9C01-5E9D-4267-8FC8-050B1EF31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4153-0E8F-45F0-9E92-EEE25D67A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A952-3991-446A-ACB0-007B62AB1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3E4C-4AE9-477E-96E1-58763DE05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190440" indent="-1890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2" marL="387360" indent="-1951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3" marL="598320" indent="-2077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4" marL="806400" indent="-208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5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6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Line 6"/>
          <p:cNvSpPr/>
          <p:nvPr/>
        </p:nvSpPr>
        <p:spPr>
          <a:xfrm>
            <a:off x="949320" y="1111320"/>
            <a:ext cx="1440" cy="54147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Line 7"/>
          <p:cNvSpPr/>
          <p:nvPr/>
        </p:nvSpPr>
        <p:spPr>
          <a:xfrm>
            <a:off x="8913960" y="352440"/>
            <a:ext cx="1440" cy="5415120"/>
          </a:xfrm>
          <a:prstGeom prst="line">
            <a:avLst/>
          </a:prstGeom>
          <a:ln w="4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Line 8"/>
          <p:cNvSpPr/>
          <p:nvPr/>
        </p:nvSpPr>
        <p:spPr>
          <a:xfrm>
            <a:off x="5773680" y="1174680"/>
            <a:ext cx="3719520" cy="18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96572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a-DK" sz="900" spc="-1" strike="noStrike">
                <a:solidFill>
                  <a:srgbClr val="264e84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EBE20E-4235-4DB0-96EA-FA8C3730C64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464600" y="547560"/>
            <a:ext cx="1358640" cy="4874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1650960" y="1274760"/>
            <a:ext cx="66024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t-practice.dk/" TargetMode="External"/><Relationship Id="rId2" Type="http://schemas.openxmlformats.org/officeDocument/2006/relationships/hyperlink" Target="http://www.six.dk/" TargetMode="External"/><Relationship Id="rId3" Type="http://schemas.openxmlformats.org/officeDocument/2006/relationships/hyperlink" Target="http://www.techila.f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6394320" y="476280"/>
            <a:ext cx="2541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a-DK" sz="1200" spc="-1" strike="noStrike">
                <a:solidFill>
                  <a:srgbClr val="264e84"/>
                </a:solidFill>
                <a:latin typeface="Trebuchet MS"/>
              </a:rPr>
              <a:t>October 2008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Line 2"/>
          <p:cNvSpPr/>
          <p:nvPr/>
        </p:nvSpPr>
        <p:spPr>
          <a:xfrm>
            <a:off x="939960" y="2652840"/>
            <a:ext cx="1440" cy="38811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52560" y="2652840"/>
            <a:ext cx="5514840" cy="55548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FinE and Grid-Computing</a:t>
            </a:r>
            <a:r>
              <a:rPr b="1" lang="da-DK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875120" y="3871800"/>
            <a:ext cx="4184640" cy="55584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Presentation by Claus Madsen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8308F3-B61F-4FC5-9BFB-1F208D9C8ABB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Jurisdictional specific models (27 countries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-bil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Zero-coupon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mortizing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ond Forwards and Fu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and Accrued Interest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 Imp. Yield Spread, Modified Duration and WA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and Japanese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st-Of-Carry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arbell Strateg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1F733-3B3A-492E-8B89-21CA3C7F356F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, Quadrati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model parameters using Caps/Floor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default probabilities using a variety of methods, for exampl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market prices of credi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the Transition Matri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ansition Matrix too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ng the Transition Matrix for any time-perio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7E645-CE80-4E84-A5CD-B06B3B0D748E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Credit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using either the Credit Curve or using the default probabilit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, keyfigur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S, 1st to default, nth to defaul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O’s – incl. STCDO and mor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72BD2-FC11-4027-A9F4-41F2FB23A78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11400" y="1371600"/>
            <a:ext cx="7699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Linear Correlation, Rank Correlation, Correlation assuming a GBM process and EWMA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the Correlation Matrix given a Target Correlation Matrix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Know the Market rules f0r CTD-Futures, for example: CBOT, EURONEXT, EUREX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eapest-To-Deliver calculations and determination of Conversion-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CTD-Futures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Risk-Measures and 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inking to internal database with Danish/Swedish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data quer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generic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yieldcurves/swap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ng pool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D55C38-EB70-4729-AE7A-A13478ABDFF2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211400" y="1268280"/>
            <a:ext cx="76993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round 30 Functions to handle anything in connection with day-calculation and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19 Calendar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uilt-in Holiday Calendars + The ability to Customize Holiday Calendars</a:t>
            </a: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dvanced payment structures – including for example Step-Up Coupon structures and variable amortization sched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lack 76, Black-Scholes, 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D13E9-A915-4B75-89CF-29AB5375DA7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pecify you own extended Flex MBB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ighly flexible pricing engine for Flex MBB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67ACB6-4806-4D31-9B96-BC13938A426A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Floating-Rate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ully flexible methods for specifying how to calculate the coupon, this includes for example: Super Coup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2C592C-AB85-447E-94D8-20B98B33752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RA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X Forward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quity and Commodity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rest-Rate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D45BFC-A17A-4AF1-929C-8C42B32345A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PR: “The return over a pre-defined period, given assumptions about the primo values of the assets, the removed cash flows, the refinancing of the removed cash flows and the ultimo values”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powerful generic HPR module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BB prepayment model forecast in the calcu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prepayment schedul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Work with multiple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trol OAS/NPV evolu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y CPI-Curve from IR-Changes and spill-over effec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recast missing CPI-Data using standard ISDA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timating CPI-Curves using Inflation Swaps-or Index Bond Data – taken into account seasona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witching between Inflation-Rate curves and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structing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2959AF-1E6F-4028-AAE1-6A3165D1BC90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ype of Index Bonds include OATs, UK Index-Linked Gilts (IGs), Swedish Index Bonds, TIIS and Danish Index Bonds or similar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de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CPI-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0257EA-CA04-4386-A702-0019A6647982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7086D-EBBF-412B-B11A-834EDC6B5F46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flation Swaps using tailor-made functions – including YoY Inflation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-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Spreads and Fixed Inflation 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ate models belonging to the MCEV cla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echniques for matching the initial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ral ways to generate the random numbers - for example Box-Muelle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ultiple variance reduction techniques available, like for example Brownia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ridge and Measure Transform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D413D1-DB3E-4BA6-B7FC-1CC3B2A37B90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eat MBBs as straigh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Highly flexible pricing engine for MBB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CK93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ny Yield-Curve model from One-Factor Lattice can be use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MBB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refinancing prof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FFA047-4429-49E6-B976-30630776D34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Hull-White, Black-Karisinski, BDT, Quadratic, CIR deterministic Shif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uropean, American or Bermuda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strument coverage: Bond-Options, Swaptions and Cap-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 and Risk-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s on portfolio lev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rid Calculation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ncipal component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principal 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taneously work with 5 different PCA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62FA7D-A0BC-40EA-98C6-610120CA7EC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sis Swaps, Amortizing Swaps and Rollercoaster Swaps, Compounding Swaps, Libor-In-Arrears  and CMS/CM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 Swaps, Average Rate Swaps and General mismatch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terest Rate Swaps and Cross Currenc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quity and Commodit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ar Swap Analysis and calculation of Libor-Spreads and Swap-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Swaption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D06AA2-D6BA-436E-B82B-1E8EB25CA60C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Bond/MBB/Credit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Swap Yield-Curve – includ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posits, FRA’s, Futures,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hift the Yield-Curve using Key-Rate Shifts, Bucket Shifts or Twis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ools for Yield-Curve interpo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uild the Yield-Curve using your favorite Yield-Curve model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ull-White, Ho-Lee, CIR, CIR Extended, Quadratic, CIR Deterministic Shift, Vasicek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nstruct Forward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N-period Historic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6 Univariate Garch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olatility assuming a GBM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W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Garch Volatility forecast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5CDDC1-809D-406C-93C2-E4BB8C76B34E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Dyalog APL in 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2E94E2-74DE-4101-8A2E-3F1E8EAB748D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Dyalog APL is used as an in-process OLE-Server – 99.9% af all APL is embedded in a Com-Object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Other Software used in Fin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.NET package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ilkatDotNet2.dll – used for FTP, ZIP, XML and Crypt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sPose.Cells.dll (.NET 2.0) – used for communicating with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aPack – for some math (eigenvalue calculation etc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atLab Com-Object – is in the process of being replaced with Extreme.Numerics.dll (.NET 2.0) – for optimization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C++ are used for connecting FinE-Core to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VBA for building the interface in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eneric Database Interface uses SQAPL 5.0, most widely use is with SQL-Server 200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st importantly – for the presentation here – we use Techila Grid for performing Grid-Computation! (Java + C++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79DEA0-0B4A-43BA-95B3-1EB5D6DA14D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rid Computing…. Why is that of interest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ome type of Instruments are fairly complex, and to price them (even more importantly to obtain risk-measures) is therefore a relative slow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Risk-Management – at least if we do not wish to rely on a Gaussian Distribution Assumption – we need to perform a lot of calculations in order to derive the return distribution for the 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his is even more pronounced when perform “What-If” calculations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ALM (Asset-Liability-Management) we in general also need to perform many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Remark: All-in-All we need to do a huge amount of calculations, and even on a moderate complex portfolio that is time-cosuming!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7EB032-293A-4D17-8C37-D0480CA4C2C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mplementing Grid Computing in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FL_Init initializes the Grid (incl. loading in methods from the Grid-dll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PortCalcula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not available (or PortSetInGrid = “NO”), then all calculations are performed locall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available (and PortSetInGrid = “YES”), then calculations are done in the 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The Main function is: RUN_PORTFOLIO_IN_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D173A-8B75-4FE4-9D40-5FEE708DEC7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o is FinE Analytics 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inE Analytics was founded by Claus Madsen in 2001 on the idea of developing a framework system consisting of a central container of financial components, which can be used by all of the companys financial application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s the interest for FinE increased, the need for more manpower increased. In 2002 Søren Andersen joined FinE Analytic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6 FinE made a partnership with IT-Practice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www.it-practice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urthermore, we have a partnership with Six Finansinformation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www.six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. (Danish and Swedish financial 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8 FinE made a partnership with Techila Technologies Ltd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techila.fi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B7882-CB55-468B-B72F-1593457D97B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at do we have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cial framework system, which covers all kinds of analysis, keyfigure calculations, pricing and risk management of a wide range of financial instruments and 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which offers efficient, centralised and robust financial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sial system which is independent of the customers choice of database (for market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that can be used directly from MS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 call the framework system: </a:t>
            </a:r>
            <a:r>
              <a:rPr b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934A2-4F2F-497C-BA05-17332AEBD34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977E22-0D50-41BD-9A48-B737ABC270B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e core of FinE is a set of advanced financial components which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re built on 18 years of experience from similar development projects,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ethods and calculations for a wide range of financial products – probably the largest range compared to any similar syste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Offers 1200+ financial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ery flexible and easy to integrate with other IT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COM (.NET) interface with all the integration possibilities that these offer (VB, VBA, C++, C#, etc.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b Servic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Database indepencend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Use FinE with or without market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grates with all common databases (Oracle, Sybase, MS SQL Server)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Generic database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BBDD91-4FB7-4F9C-B569-FAA6F8076D1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Q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utomated tests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ocus on new and relevant financial scien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p-to-date with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arket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ocus on operational optimization of financial problems =&gt; some of the fastest calculations in the market on e.g. motgage backed-bonds, RenteMax,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atabase independence and integration possibilities gives higher fiexibility towards the customers existing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We keep a close contact with our customers and a very anxious to hear about specific methods and wishes for new componen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Extremely fast Time-To-Marke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1338120" y="1255680"/>
            <a:ext cx="3351240" cy="505296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5281560" y="1255680"/>
            <a:ext cx="3392640" cy="506880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ystem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19F2-C04A-4199-89C1-D64ED9C776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AF391-C174-40EE-B128-81B6D02A54A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Bolig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with optional convexity adjustmen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nE Analytics</dc:creator>
  <dc:description/>
  <dc:language>en-US</dc:language>
  <cp:lastModifiedBy>Claus Madsen</cp:lastModifiedBy>
  <dcterms:modified xsi:type="dcterms:W3CDTF">2008-10-10T13:10:49Z</dcterms:modified>
  <cp:revision>78</cp:revision>
  <dc:subject/>
  <dc:title>PowerPoint Presentation</dc:title>
</cp:coreProperties>
</file>