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F739-AFFF-4801-8F50-9E69A0577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9564-F194-44D9-A4BB-F7D441436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0D4B-8E5D-4E02-840F-469F95FD0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F85D-B7B6-49F1-8DF1-1A8123432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FD3F-3746-4786-A2C4-67035A17C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3E09-7975-4FEE-BCF2-59EC5B92D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7AEC-B3D1-404F-B95C-E3EDB3408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7CF-BC80-4ADA-81A1-D34FA91C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1DE-21CC-4061-8D71-3500856F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080-8023-43EF-83D0-725D6C49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49A-7BC2-49D6-A868-A5CF5392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E7B-7B3E-4C47-8FD8-7C9E5430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4F5-8DD7-47C7-89AC-D6C4907B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C0B-7922-48A9-B4DA-5FC6392C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DEC-3A86-4F98-9A87-0599FFB3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6B6-89A7-4C89-B925-3CF30755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0F4-C021-4C13-8C9A-D1E6A785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287-41BC-453A-8A15-D309D5F2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500-CFC9-4422-A658-07AEF180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34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6B3E-AB9A-466F-B727-CF9ECF0464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A3ED-67E5-4059-920A-F15EF950E6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14200" y="64296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Zip + Unz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using APL and 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4597a0"/>
                </a:solidFill>
                <a:latin typeface="Arial"/>
              </a:rPr>
              <a:t>Gianluigi Qu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Dyalog User Conferenc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5EF6-7C6E-48B3-83D1-108004ADE8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4920" y="642960"/>
            <a:ext cx="4214880" cy="585792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.NET </a:t>
            </a: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&gt;= </a:t>
            </a: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System.IO.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57120" y="642960"/>
            <a:ext cx="4357800" cy="5857920"/>
          </a:xfrm>
          <a:prstGeom prst="rect">
            <a:avLst/>
          </a:prstGeom>
          <a:noFill/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.NET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System.IO.Com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ICSharp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SharpZip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nettore 1 12"/>
          <p:cNvSpPr/>
          <p:nvPr/>
        </p:nvSpPr>
        <p:spPr>
          <a:xfrm>
            <a:off x="928800" y="2286000"/>
            <a:ext cx="3143160" cy="500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nnettore 1 14"/>
          <p:cNvSpPr/>
          <p:nvPr/>
        </p:nvSpPr>
        <p:spPr>
          <a:xfrm flipV="1">
            <a:off x="1000080" y="2214360"/>
            <a:ext cx="3071880" cy="571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ccia in giù 17"/>
          <p:cNvSpPr/>
          <p:nvPr/>
        </p:nvSpPr>
        <p:spPr>
          <a:xfrm>
            <a:off x="2357280" y="300024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nettore 1 21"/>
          <p:cNvSpPr/>
          <p:nvPr/>
        </p:nvSpPr>
        <p:spPr>
          <a:xfrm>
            <a:off x="5072040" y="2214720"/>
            <a:ext cx="3143160" cy="500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nnettore 1 22"/>
          <p:cNvSpPr/>
          <p:nvPr/>
        </p:nvSpPr>
        <p:spPr>
          <a:xfrm flipV="1">
            <a:off x="5143680" y="2143080"/>
            <a:ext cx="3071520" cy="57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262673"/>
                </a:solidFill>
                <a:latin typeface="Arial"/>
              </a:rPr>
              <a:t>Primary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1357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rchive file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tect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udit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original zip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ressor compliant with popular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0447-22D0-4134-B75B-01FDB0FAF6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  <p:sp>
        <p:nvSpPr>
          <p:cNvPr id="75" name="Titolo 10"/>
          <p:cNvSpPr/>
          <p:nvPr/>
        </p:nvSpPr>
        <p:spPr>
          <a:xfrm>
            <a:off x="571680" y="3643200"/>
            <a:ext cx="82296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262673"/>
                </a:solidFill>
                <a:latin typeface="Arial"/>
              </a:rPr>
              <a:t>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egnaposto contenuto 24"/>
          <p:cNvSpPr/>
          <p:nvPr/>
        </p:nvSpPr>
        <p:spPr>
          <a:xfrm>
            <a:off x="642960" y="4500720"/>
            <a:ext cx="82296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TP, Emai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ave disk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262673"/>
                </a:solidFill>
                <a:latin typeface="Arial"/>
              </a:rPr>
              <a:t>Neglec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04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ther format of archiv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UI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curse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plitting zip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ile filter for de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rgery inside a zip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F2AD-C139-475A-97C0-939CF42BCC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94D1-A2D4-47B6-BEC8-4A5CDC7742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28760" y="642960"/>
            <a:ext cx="8429400" cy="5857920"/>
          </a:xfrm>
          <a:prstGeom prst="rect">
            <a:avLst/>
          </a:prstGeom>
          <a:noFill/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.NET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System.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ICSharpCode.SharpZipLib</a:t>
            </a: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.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ZipNet.D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roce 16"/>
          <p:cNvSpPr/>
          <p:nvPr/>
        </p:nvSpPr>
        <p:spPr>
          <a:xfrm>
            <a:off x="4214880" y="2357280"/>
            <a:ext cx="71424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roce 18"/>
          <p:cNvSpPr/>
          <p:nvPr/>
        </p:nvSpPr>
        <p:spPr>
          <a:xfrm>
            <a:off x="4357800" y="3714840"/>
            <a:ext cx="71424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2A50-86E9-4942-89A6-EA16C23374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28760" y="642960"/>
            <a:ext cx="8429400" cy="5857920"/>
          </a:xfrm>
          <a:prstGeom prst="rect">
            <a:avLst/>
          </a:prstGeom>
          <a:noFill/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ZipNetIsZip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&lt;file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ZipNetZip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&lt;zip output file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[&lt;filename(s) to be compressed&gt;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[&lt;password&gt;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ZipNetUnzip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&lt;zip input file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[&lt;output directoryname&gt;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[&lt;password&gt;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1:08:15Z</dcterms:created>
  <dc:creator>vibeke</dc:creator>
  <dc:description/>
  <dc:language>en-US</dc:language>
  <cp:lastModifiedBy>Gianluigi Quario</cp:lastModifiedBy>
  <dcterms:modified xsi:type="dcterms:W3CDTF">2008-10-03T12:27:40Z</dcterms:modified>
  <cp:revision>45</cp:revision>
  <dc:subject/>
  <dc:title>Slide 1</dc:title>
</cp:coreProperties>
</file>