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86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85.wmf" ContentType="image/x-wmf"/>
  <Override PartName="/ppt/media/image13.png" ContentType="image/png"/>
  <Override PartName="/ppt/media/image1.png" ContentType="image/pn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8.wmf" ContentType="image/x-wmf"/>
  <Override PartName="/ppt/media/image70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28.png" ContentType="image/png"/>
  <Override PartName="/ppt/media/image93.png" ContentType="image/png"/>
  <Override PartName="/ppt/media/image76.wmf" ContentType="image/x-wmf"/>
  <Override PartName="/ppt/media/image25.png" ContentType="image/png"/>
  <Override PartName="/ppt/media/image90.png" ContentType="image/png"/>
  <Override PartName="/ppt/media/image88.png" ContentType="image/png"/>
  <Override PartName="/ppt/media/image67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84.png" ContentType="image/png"/>
  <Override PartName="/ppt/media/image79.wmf" ContentType="image/x-wmf"/>
  <Override PartName="/ppt/media/image77.wmf" ContentType="image/x-wmf"/>
  <Override PartName="/ppt/media/image75.png" ContentType="image/png"/>
  <Override PartName="/ppt/media/image6.wmf" ContentType="image/x-wmf"/>
  <Override PartName="/ppt/media/image74.png" ContentType="image/png"/>
  <Override PartName="/ppt/media/image5.wmf" ContentType="image/x-wmf"/>
  <Override PartName="/ppt/media/image73.png" ContentType="image/png"/>
  <Override PartName="/ppt/media/image4.wmf" ContentType="image/x-wmf"/>
  <Override PartName="/ppt/media/image72.wmf" ContentType="image/x-wmf"/>
  <Override PartName="/ppt/media/image69.png" ContentType="image/png"/>
  <Override PartName="/ppt/media/image71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2.jpeg" ContentType="image/jpeg"/>
  <Override PartName="/ppt/media/image31.png" ContentType="image/png"/>
  <Override PartName="/ppt/media/image58.png" ContentType="image/png"/>
  <Override PartName="/ppt/media/image3.wmf" ContentType="image/x-wmf"/>
  <Override PartName="/ppt/media/image35.wmf" ContentType="image/x-wmf"/>
  <Override PartName="/ppt/media/image78.png" ContentType="image/png"/>
  <Override PartName="/ppt/media/image91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CAE7-F89D-47F1-93E7-744D05B8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E7C-C356-4FD6-A07B-BDA8D06A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31E-CFE8-49FD-8A57-99DA098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1D9-CE01-478B-A41A-C5214BEF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DA5-CC5A-460C-B10E-0CDEC73F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8A9-8727-427E-B627-60EB709E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814-D1B6-4BDE-AB58-4C8844FB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124-7072-4A03-AF63-B4A09AFE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B45-D52F-4197-B4DF-2A319067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97C-6A2E-41C2-A773-255E763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6FC-C3F8-479D-894C-F34CB699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9F8-7105-45D2-9F5F-08DF60F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3D8-EB15-4B24-87CA-D203BE5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AE98-A639-4E0E-8C9C-A38F6B9F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1.wmf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CE2-A2D3-4B94-A5E0-8266262C16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B4E-21F2-463B-8604-9B7637F1FA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323856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071-BC50-4A7F-A42C-383525BDDE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s. This is the only function to do so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13412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33400" y="4121280"/>
            <a:ext cx="1254240" cy="161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6680" y="41306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7972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110-EE80-4F23-938D-041EF1B190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6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4105440"/>
            <a:ext cx="403380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3943440"/>
            <a:ext cx="934920" cy="142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9280" y="39434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EF4-0E89-4DAD-BA11-ED004C2D55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is the value found initially in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1B8-5256-4CAE-BA88-9C2A7884E4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 and the registry key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Clas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\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1\Classes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3860640"/>
            <a:ext cx="69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14480"/>
            <a:ext cx="31672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464080"/>
            <a:ext cx="87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F1-A341-4BBC-8E13-CF043F56D2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681-96BA-4495-A295-F3BF2BFA21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FC9-9E92-42CA-877E-79A939FD827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F54-E180-4210-A2B5-1559144E30C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62864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629320" cy="2838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53E-9A65-4D62-B08C-B295C593267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EBC-5E11-4141-865A-6E4F10BF7F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97520" cy="43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4040" y="2608200"/>
            <a:ext cx="8254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A89-5B20-4390-8200-A3D1B63D760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49E-DABD-4F38-BE64-998D81CB4A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D27-A691-419C-B667-249A00DA2C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8D6-8133-47CF-9932-F202E0D5D6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941-033F-4C9E-9E3A-B8A6D3CAF8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change the SALT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CM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 the modifi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B5A-D68F-4FFA-A3A0-484DB1B1F6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BDE-5AB3-4813-82AE-774B0980367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7E6-8EF0-43EE-8F4D-F2A6822980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ting comes from the registry and is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ttings can be modified for the session and even saved back into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627-71A3-4AA0-A221-2EC39EEEA0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be a string. It may 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398680" y="3068640"/>
            <a:ext cx="433404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65F-3EC1-4C2B-9CFC-E8B76D428F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class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44F-24AC-40EE-92C8-143695B905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, 1 name or 1 name  followed by a value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7644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1C4-B169-49F0-9490-8330371C66A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4DC-5A5D-4206-9933-E3494CA993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05B-8CB4-4A3E-BAB5-EBFAC53DBF3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203" name="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CC1-7BF1-44E3-8A27-90CB6452ACDB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213" name="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6EA-C277-4A3C-B206-0F2D119AD00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686-F797-454E-9F92-2DB12598A93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94480" y="184788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68B-145F-47E7-8AEA-DA82FFC55AB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6D9-8222-439D-8228-D1592056F2E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360-EBB2-4F83-B46B-191F9D02074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5181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19640" y="4897440"/>
            <a:ext cx="115272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734000"/>
            <a:ext cx="8650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7BF-D7B9-43F8-A097-9A32E2B037B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classe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566-A8AC-4437-9630-E10D1B5C3C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171960" cy="2610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13C-50EB-4109-B5B8-00F67213FD4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4333680" cy="2190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17000" y="544500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ing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3040" y="429264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vers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694-55A6-4A33-88AB-5CD2989D592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7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134-62EA-41DB-BDD9-611253BA6CD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ll use its own com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to perform the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 or be set permanently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gistry key to us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85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007-B5CC-4579-9FEF-D8B53FCA510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iece of software available from the net, you can set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1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63560" y="4660920"/>
            <a:ext cx="6077160" cy="150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1640" y="5373720"/>
            <a:ext cx="3240000" cy="144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52A-8BD9-4C99-AA25-751DF419B0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9C2-2724-47AE-8DFF-EF280DD9791F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304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4FD-10DA-4FFB-8D54-0897700F256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B58-7A89-46E7-8772-E01E41EBEF5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FAD-2076-45EC-947F-2FC7F2E6DD7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E24-5E38-4274-AB94-8C3CDADBC422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CS-2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V11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8B9-C72E-4EE6-AB8B-56E433ED42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CF1-5C55-4C89-9168-007C2CC8B4C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D65-9198-426B-A99C-348E358DC7A7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823-90D9-4D22-8E6E-DE5AE85F6B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5F8-7C59-4822-A7AD-3D1DFCCFE32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37A-7F68-45F2-BF52-7FFA7B53FCC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9D9-6185-4A67-A90D-52F822A4FBB2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151-E68D-4241-B82D-2A3001267F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5A9-1D4A-4242-8AA0-A5ECA4963D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58D-DFFC-45D5-B35C-B6DD1CFFB38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BAC-BE01-416E-9B4D-3F4417CCD31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6F2-41F3-4C62-BF9E-60B985CCA3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Uti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63640" y="2690640"/>
            <a:ext cx="6048360" cy="3475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700360" y="52578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364500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B00-D451-47FF-B391-D0C7DED923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180-9767-4A28-BB3B-40EBACF0DA52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the moment this file contains a namespace with fns to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496-F6E8-4A24-9EEF-B2901D6D07C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⍺←⍵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74B-C559-448F-986B-D5BA67BDB8B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([]NR ‘Fa’) compecv 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445-5F7A-4706-A75A-AAA67B5E20C3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n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alog\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Code.Convert ‘mynamespac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34A-EB52-4FDD-BE37-96F31A1E933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3A7-D3B3-412E-A294-264C6A81E8B7}" type="slidenum">
              <a:t>6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EB8-28E0-4D0B-B7FA-B613261D9AD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571-F584-4D87-A017-7EE9FCADF2E1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967-FF4F-402A-BE56-FF420B5974AE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NOT enabled when V11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it effective you must manually modify 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AA5-D266-42E1-B8AB-34012210D0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‘[‘ is catenated to the left (remember to add the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regex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809-8DF1-4DF2-8922-87A85DDBF29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C22-5DE4-4824-9C0C-24085EAD95A7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074-2B49-43B8-AC04-D065534A695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39C-448D-46E3-852F-45DDA7074A0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1B6-45CB-4E3C-A339-12EE1BCBF69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9F4-719E-49DE-9CAC-67BE506E77EA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05B-7387-49E3-B57E-3EEBD7D972B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6D2-80E9-406F-9A97-06A30B21D9DD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2F2-BF80-496F-AA4A-2F024BC6DB8B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63000 w 287280"/>
              <a:gd name="textAreaRight" fmla="*/ 224280 w 287280"/>
              <a:gd name="textAreaTop" fmla="*/ 110520 h 503280"/>
              <a:gd name="textAreaBottom" fmla="*/ 3927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E94-52AF-4671-90FF-613C201B5E2E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39640" y="3357720"/>
          <a:ext cx="8146800" cy="2768040"/>
        </p:xfrm>
        <a:graphic>
          <a:graphicData uri="http://schemas.openxmlformats.org/drawingml/2006/table">
            <a:tbl>
              <a:tblPr/>
              <a:tblGrid>
                <a:gridCol w="1752480"/>
                <a:gridCol w="2321280"/>
                <a:gridCol w="40730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Cl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800-41D0-4747-A07D-47CEE7F817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89720 w 863280"/>
              <a:gd name="textAreaRight" fmla="*/ 673560 w 8632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156-A8B1-4C8E-A1C9-23EA34072CFD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C51-039E-4FF8-A9EE-E0F99BCF8C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7-05-14T21:15:20Z</dcterms:modified>
  <cp:revision>40</cp:revision>
  <dc:subject/>
  <dc:title>SALT in Dyalog</dc:title>
</cp:coreProperties>
</file>