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3E39-C76C-41BE-BD42-CD198908B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EFFA-009E-4761-B57B-EBD02C63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28D8-2141-4D86-82D8-A4678DC04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BA5C-1C1E-4230-9F7A-CAAB8A4D0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35A4-F189-4168-92D4-0662E93E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7EF1-89E4-4293-A9A1-2E7537F9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D624-0F0E-405D-815D-1374D583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C886-BA1E-4FFB-AAA9-6AD17FB9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B32F-B9F8-48FE-8781-566598BD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B158-FB83-4C9F-AD5E-CDDBB892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F38F-089F-4C90-A31F-EAE1C7C7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8260-1122-454C-977A-EAB4ACB2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0E87-0197-42DF-AD39-92C3130D949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44560"/>
            <a:ext cx="777240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onverting workspaces  and using SALT &amp; </a:t>
            </a:r>
            <a:r>
              <a:rPr b="1" i="1" lang="en-US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 to maintain them.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229000"/>
            <a:ext cx="6400800" cy="4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Geneva"/>
              </a:rPr>
              <a:t>V1.00</a:t>
            </a:r>
            <a:endParaRPr b="0" lang="en-US" sz="1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76C7-FB72-44D1-A697-6AD58A88FDB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The simulator's structur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 workspace is divided into namesp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ne namespace contains all the units' logic, here its name is 'R' (for Robots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ch unit's logic is also contained in a namespace whose name is the name of the unit (like CARLA or AI2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50E4-A7B4-41E1-AB47-9DF918A0BA5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The simulator's structur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584360" y="1773360"/>
            <a:ext cx="5940360" cy="3319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008000" y="5300640"/>
            <a:ext cx="71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re, namespa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where all the Units' logic resi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7B97-B175-45D6-B125-AD3CA7A464B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Updating the workspace 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s involves modifying individual units' code in their respective namesp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nd resaving the entire workspace when finished with the chang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prevents other users from updating the workspace at the same tim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2E5F-32E2-4EC8-B255-89894FED880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Acceptable updating timeline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4" name=""/>
          <p:cNvSpPr/>
          <p:nvPr/>
        </p:nvSpPr>
        <p:spPr>
          <a:xfrm>
            <a:off x="1079640" y="3537000"/>
            <a:ext cx="6121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55600" y="327024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7960" y="192708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92640" y="459252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95640" y="2673360"/>
            <a:ext cx="0" cy="8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27280" y="2673360"/>
            <a:ext cx="0" cy="8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59280" y="357336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88000" y="357336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95640" y="2673360"/>
            <a:ext cx="13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59280" y="44006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1686240" y="28818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3451680" y="370836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3321720" y="28728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5482440" y="37000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74200" y="228744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83640" y="43038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3E12-811C-4502-BBC4-DFF3C49FFE55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09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Unacceptable updating timeline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1" name=""/>
          <p:cNvSpPr/>
          <p:nvPr/>
        </p:nvSpPr>
        <p:spPr>
          <a:xfrm>
            <a:off x="1079640" y="3537000"/>
            <a:ext cx="6121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55600" y="327024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080" y="192708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2640" y="459252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09720" y="2673360"/>
            <a:ext cx="0" cy="8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41720" y="2673360"/>
            <a:ext cx="0" cy="8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16480" y="357336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45200" y="357336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09720" y="2673360"/>
            <a:ext cx="13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6480" y="44006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2200680" y="28818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3008520" y="370836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3836160" y="28728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5400000">
            <a:off x="5039280" y="37000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88280" y="228744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40840" y="43038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49640" y="3537000"/>
            <a:ext cx="118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18880" y="5035680"/>
            <a:ext cx="590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A's changes are overwritten by Tester B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en if the namespace changed is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0887-1DEB-4684-AF82-1FC14422D6BE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c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other problem with this model is that changes are irreversibl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ven tracking changes is difficul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inding differences in code is hard to documen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AF88-B70A-4D1C-8BE5-F38C5B06CB4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yalog V11.0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version allows namespaces to exist in script forma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stead of hav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780000" y="2733840"/>
            <a:ext cx="5148000" cy="325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5D5B-A792-41E1-AD13-2CEE6C7AF96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yalog V11.0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3640" y="1736640"/>
            <a:ext cx="284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can have everything in script form, including the definition of variab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743280" y="1622520"/>
            <a:ext cx="5067360" cy="45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D809-2D47-4843-9E9B-540AEFC459D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cripts fil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Keeping namespaces in scripted form allows to save them in (Unicode) text files outside the workspac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511280" y="3933720"/>
            <a:ext cx="5832360" cy="1656000"/>
            <a:chOff x="1511280" y="3933720"/>
            <a:chExt cx="5832360" cy="1656000"/>
          </a:xfrm>
        </p:grpSpPr>
        <p:sp>
          <p:nvSpPr>
            <p:cNvPr id="130" name=""/>
            <p:cNvSpPr/>
            <p:nvPr/>
          </p:nvSpPr>
          <p:spPr>
            <a:xfrm>
              <a:off x="1511280" y="4329000"/>
              <a:ext cx="2700360" cy="1152720"/>
            </a:xfrm>
            <a:prstGeom prst="flowChartPredefined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worksp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19640" y="4437000"/>
              <a:ext cx="323640" cy="252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19640" y="4780080"/>
              <a:ext cx="323640" cy="252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19640" y="5121360"/>
              <a:ext cx="323640" cy="252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03640" y="3933720"/>
              <a:ext cx="755640" cy="503280"/>
            </a:xfrm>
            <a:prstGeom prst="flowChart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796000" y="4510080"/>
              <a:ext cx="755640" cy="503280"/>
            </a:xfrm>
            <a:prstGeom prst="flowChart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588000" y="5086440"/>
              <a:ext cx="755640" cy="503280"/>
            </a:xfrm>
            <a:prstGeom prst="flowChart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3743280" y="4149360"/>
              <a:ext cx="126036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3743280" y="4723920"/>
              <a:ext cx="205272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743280" y="5230800"/>
              <a:ext cx="284472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CDE1-7431-4EF4-883E-8C6D92AF718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09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Updating can now be done in parallel for different namespaces </a:t>
            </a:r>
            <a:endParaRPr b="1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1" name=""/>
          <p:cNvSpPr/>
          <p:nvPr/>
        </p:nvSpPr>
        <p:spPr>
          <a:xfrm>
            <a:off x="685080" y="221616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2640" y="432900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32000" y="3130560"/>
            <a:ext cx="6121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62440" y="226692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294080" y="226692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62440" y="2266920"/>
            <a:ext cx="13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2453040" y="24750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5400000">
            <a:off x="4088520" y="246636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40640" y="188136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46960" y="5564160"/>
            <a:ext cx="66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A's changes are NOT overwritten by Test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32000" y="3948120"/>
            <a:ext cx="6121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55640" y="328464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68840" y="398448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97560" y="398448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68840" y="481176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3261240" y="41194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5291640" y="411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93200" y="47149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852520" y="2406600"/>
            <a:ext cx="18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mespac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96440" y="4159080"/>
            <a:ext cx="17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mespac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9F2D-5E3E-4A5A-8F73-B344D7863633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roduc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312640"/>
            <a:ext cx="7486560" cy="29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s is an example of converting an existing application to SALT and using a version control system afterwards to maintain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14F5-D8B6-45BE-AB56-792C29536AC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c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easier to track changes now that files are in human readable forma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paring files can be done easily in APL or by any 3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r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party progra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7973-2E02-4B68-8FC7-B278DB87116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oing i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first step is to convert the workspace to the new for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8FEA-8919-4583-9DB5-D1AB9DA7258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4360" y="1699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have to make sure SALT is enabled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258920" y="2475000"/>
            <a:ext cx="6481800" cy="351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D6F1-28A2-48BD-8107-AEB1EA04EB86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971280" y="1736280"/>
            <a:ext cx="7412040" cy="37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tart Dyalog, SALT should be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079640" y="2784600"/>
            <a:ext cx="6984720" cy="2805120"/>
            <a:chOff x="1079640" y="2784600"/>
            <a:chExt cx="6984720" cy="2805120"/>
          </a:xfrm>
        </p:grpSpPr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1079640" y="2784600"/>
              <a:ext cx="6984720" cy="28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1366560" y="4289760"/>
              <a:ext cx="64908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93D1-CEAD-4DFA-880B-21300E956C29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71640" y="1521000"/>
            <a:ext cx="7377120" cy="37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LOAD the workspac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973080" y="2301840"/>
            <a:ext cx="7128000" cy="382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1AC1-7BF1-4C35-AE8A-AFA0826410D0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934920" y="1521000"/>
            <a:ext cx="7413840" cy="37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ake sure the workdir includes Dyalog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73080" y="2301840"/>
            <a:ext cx="7128000" cy="3827520"/>
          </a:xfrm>
          <a:prstGeom prst="rect">
            <a:avLst/>
          </a:prstGeom>
          <a:ln w="0">
            <a:noFill/>
          </a:ln>
        </p:spPr>
      </p:pic>
      <p:grpSp>
        <p:nvGrpSpPr>
          <p:cNvPr id="179" name=""/>
          <p:cNvGrpSpPr/>
          <p:nvPr/>
        </p:nvGrpSpPr>
        <p:grpSpPr>
          <a:xfrm>
            <a:off x="684360" y="2313000"/>
            <a:ext cx="7416720" cy="3827520"/>
            <a:chOff x="684360" y="2313000"/>
            <a:chExt cx="7416720" cy="3827520"/>
          </a:xfrm>
        </p:grpSpPr>
        <p:pic>
          <p:nvPicPr>
            <p:cNvPr id="180" name="" descr=""/>
            <p:cNvPicPr/>
            <p:nvPr/>
          </p:nvPicPr>
          <p:blipFill>
            <a:blip r:embed="rId2"/>
            <a:stretch/>
          </p:blipFill>
          <p:spPr>
            <a:xfrm>
              <a:off x="971640" y="2313000"/>
              <a:ext cx="7129440" cy="382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684360" y="4597560"/>
              <a:ext cx="3600360" cy="576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33F4-1455-4906-BF0E-39501D935682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007640" y="1521000"/>
            <a:ext cx="7340760" cy="37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ring in the conversion tool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973080" y="2301840"/>
            <a:ext cx="7128000" cy="38275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971640" y="2303640"/>
            <a:ext cx="7129440" cy="38271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519280" y="4924440"/>
            <a:ext cx="255744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E89E-536A-4DE8-839B-F062212607A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76000" y="1725120"/>
            <a:ext cx="7775640" cy="37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nvertCode is a namespace containing code to perform conversion of regular (non sourced) namespac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function to use in it is &lt;Convert&gt;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36CF-2018-459B-92CE-3B28796995FE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368360" y="2349360"/>
            <a:ext cx="6410520" cy="36007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76000" y="1592280"/>
            <a:ext cx="8388360" cy="37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example, to convert namespace 'UTIL'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27280" y="4238640"/>
            <a:ext cx="316872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368360" y="2349360"/>
            <a:ext cx="6407280" cy="35989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1943280" y="2205000"/>
            <a:ext cx="5314680" cy="450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74E3-65F3-47EF-8352-4B0E9A166C3D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576000" y="1483920"/>
            <a:ext cx="8388360" cy="37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convert several namespaces first )CS where the namespaces a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511280" y="2708280"/>
            <a:ext cx="6172200" cy="344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34F5-2CB7-4AB7-89B3-EA0B2EE75EED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Topics of Discus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We'll see the conversion process an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ow to use 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,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third party product, to control its versioning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5A92-DB5D-4362-A4E1-B4434435ECC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576000" y="1483920"/>
            <a:ext cx="8388360" cy="37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n use an expression lik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474920" y="2133720"/>
            <a:ext cx="6192720" cy="37684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871640" y="2914560"/>
            <a:ext cx="320508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AA1C-89E8-468F-8377-58BFD2E2FD6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76000" y="1557360"/>
            <a:ext cx="8388360" cy="37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plorer now shows us the namespaces with the new icon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303640" y="2708280"/>
            <a:ext cx="4267080" cy="38480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303640" y="2708280"/>
            <a:ext cx="4267080" cy="3848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2303640" y="2708280"/>
            <a:ext cx="4267080" cy="384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EA12-0D23-4FDB-9C8A-3AC530B52678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oing i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47640" y="2097000"/>
            <a:ext cx="7772400" cy="28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next step is to store those namespaces in Unicode fil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gain, SALT comes in hand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3272-9144-4A4D-95C0-0D9D627CC8C5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aving the scripts as text file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9080" y="2701800"/>
            <a:ext cx="647856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ecide where to put them</a:t>
            </a:r>
            <a:br>
              <a:rPr sz="3200"/>
            </a:b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the SALT Save func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28DE-D7C3-4708-86D9-986915575AC6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aving the scripts as text file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55640" y="1808280"/>
            <a:ext cx="7166160" cy="23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Save function takes a string argument of: 'namespace location'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511280" y="3068640"/>
            <a:ext cx="5834160" cy="249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EBDB-C26E-45DC-AFC8-DA94C1B4B57E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aving the scripts as text file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19280" y="1700280"/>
            <a:ext cx="7524720" cy="23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save all the namespaces at once do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58920" y="2529000"/>
            <a:ext cx="6589800" cy="34812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00360" y="3409920"/>
            <a:ext cx="446400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A8D9-902D-404A-9953-0C04888A7E08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'remembers' where each script was sav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hanging one of them now means SALT will change the file as soon as the script is modified through the edito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8ACA-BC32-4272-8459-C76A5CFB9553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268360" y="2241720"/>
            <a:ext cx="4753080" cy="38098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61000" y="1589040"/>
            <a:ext cx="65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Here's what one of the units' logic looks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26D0-30D8-429A-9AD7-474F847B818E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268360" y="2241720"/>
            <a:ext cx="4753080" cy="38098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15080" y="1589040"/>
            <a:ext cx="43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And here we make a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2268360" y="2241720"/>
            <a:ext cx="4751640" cy="38098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2916360" y="3205080"/>
            <a:ext cx="2232000" cy="3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DE61-4016-4C55-92CC-2F7849233AB1}" type="slidenum">
              <a:t>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9" name=""/>
          <p:cNvSpPr/>
          <p:nvPr/>
        </p:nvSpPr>
        <p:spPr>
          <a:xfrm>
            <a:off x="71280" y="1673280"/>
            <a:ext cx="89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SALT detected the change and offers to change the script fi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340000" y="2705040"/>
            <a:ext cx="4356000" cy="230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DC82-EF74-4188-80D3-6E236CE3F61F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The situ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BAAD is a military weapons manufacturing compan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One of its best sellers is the SD2, a device used to search and destroy specific targe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DE0D-5262-4E1B-A941-BCAB93CF65C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2" name=""/>
          <p:cNvSpPr/>
          <p:nvPr/>
        </p:nvSpPr>
        <p:spPr>
          <a:xfrm>
            <a:off x="503280" y="1944720"/>
            <a:ext cx="8300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You should )SAVE the workspace here. 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SALT will remember where the edited namespaces are stored and detect if changes have been made outside APL (e.g. with Notep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C4B3-B32C-4CB2-95F9-2FF06CC1D252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is the 2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n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part of the work to do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comes with its own versioning of files and comparison functions but it is primitive compared to state of the art version control systems lik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0AE3-E1B1-4CCA-8A56-42C290D3A893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a company like BAAD it is preferable to use existing software lik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us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we first need somewhere to put the scripts fil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78DE-7837-4027-8D83-5B94DA7CCE26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picked folder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\weapon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s repositor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268360" y="2168640"/>
            <a:ext cx="4695840" cy="42670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2987640" y="2816280"/>
            <a:ext cx="3600360" cy="22492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2879640" y="2781360"/>
            <a:ext cx="3853080" cy="146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4EB9-D1F7-41A5-8B65-7732F05A1554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9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We now import the scripts into the repository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(we put our code in 'Troops')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887640" y="1557360"/>
            <a:ext cx="4600800" cy="46101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635280" y="1557360"/>
            <a:ext cx="5040360" cy="37749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3600360" y="1449360"/>
            <a:ext cx="5276880" cy="47530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FA3D-1373-4247-BAFD-A422A276F8D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87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One of the testers now checks out a copy: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851280" y="1665360"/>
            <a:ext cx="3198960" cy="45003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3527280" y="1700280"/>
            <a:ext cx="5148360" cy="36129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3816360" y="2384280"/>
            <a:ext cx="3780000" cy="20494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3564000" y="1484280"/>
            <a:ext cx="5276880" cy="47530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4D11-BD6A-4377-A6F9-688AAB75DA5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y other tester can do the same thing and update it independent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7" name=""/>
          <p:cNvSpPr/>
          <p:nvPr/>
        </p:nvSpPr>
        <p:spPr>
          <a:xfrm>
            <a:off x="4213080" y="3173400"/>
            <a:ext cx="1244880" cy="152712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rot="20261400">
            <a:off x="2446920" y="4581000"/>
            <a:ext cx="1758960" cy="630360"/>
          </a:xfrm>
          <a:custGeom>
            <a:avLst/>
            <a:gdLst>
              <a:gd name="textAreaLeft" fmla="*/ 275040 w 1758960"/>
              <a:gd name="textAreaRight" fmla="*/ 1539720 w 1758960"/>
              <a:gd name="textAreaTop" fmla="*/ 157680 h 630360"/>
              <a:gd name="textAreaBottom" fmla="*/ 473040 h 63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32000" y="3357720"/>
            <a:ext cx="107928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2095200">
            <a:off x="5364000" y="4701960"/>
            <a:ext cx="1773360" cy="682560"/>
          </a:xfrm>
          <a:custGeom>
            <a:avLst/>
            <a:gdLst>
              <a:gd name="textAreaLeft" fmla="*/ 276840 w 1773360"/>
              <a:gd name="textAreaRight" fmla="*/ 1551960 w 1773360"/>
              <a:gd name="textAreaTop" fmla="*/ 170640 h 682560"/>
              <a:gd name="textAreaBottom" fmla="*/ 511920 h 682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68360" y="5013360"/>
            <a:ext cx="107964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345440" y="2852640"/>
            <a:ext cx="107928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r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56360" y="5229360"/>
            <a:ext cx="107964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20552400">
            <a:off x="5564160" y="3358800"/>
            <a:ext cx="1671840" cy="617400"/>
          </a:xfrm>
          <a:custGeom>
            <a:avLst/>
            <a:gdLst>
              <a:gd name="textAreaLeft" fmla="*/ 261000 w 1671840"/>
              <a:gd name="textAreaRight" fmla="*/ 1463040 w 1671840"/>
              <a:gd name="textAreaTop" fmla="*/ 154440 h 617400"/>
              <a:gd name="textAreaBottom" fmla="*/ 463320 h 617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 rot="163800">
            <a:off x="2484360" y="3600000"/>
            <a:ext cx="1638360" cy="560520"/>
          </a:xfrm>
          <a:custGeom>
            <a:avLst/>
            <a:gdLst>
              <a:gd name="textAreaLeft" fmla="*/ 255960 w 1638360"/>
              <a:gd name="textAreaRight" fmla="*/ 1433520 w 1638360"/>
              <a:gd name="textAreaTop" fmla="*/ 140040 h 560520"/>
              <a:gd name="textAreaBottom" fmla="*/ 420480 h 560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CA0C-2CD6-4B79-B909-15838BAF295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3959280" y="1665360"/>
            <a:ext cx="4714920" cy="437184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86920" y="1980720"/>
            <a:ext cx="313236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He can check what's in his folder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4484-4DF5-45E3-B099-D405EADABB38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0" name=""/>
          <p:cNvSpPr/>
          <p:nvPr/>
        </p:nvSpPr>
        <p:spPr>
          <a:xfrm>
            <a:off x="395280" y="2023920"/>
            <a:ext cx="3060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Then grab th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eneva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 column (the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names</a:t>
            </a: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600360" y="1700280"/>
            <a:ext cx="5004000" cy="268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74EA-E89A-4573-9002-DE8F188CF3E2}" type="slidenum">
              <a:t>4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9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ake sure his own folder is in the 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workdir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lis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3679920" y="1693800"/>
            <a:ext cx="493236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2347-2689-4A9F-A070-D33D4355ECC1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BAAD's SD2 produc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s unit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s self contained: its behaviour is set once and does not require external inpu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several (possibly 1000s) models, each with a different code name. The logic (code) of each is uniqu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842A-3320-492D-9F61-98AAFA060A8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3672000" y="1700280"/>
            <a:ext cx="4932360" cy="263988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9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nd bring in his files in the 'R' namespace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1908000" y="4165560"/>
            <a:ext cx="5543640" cy="10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BC5C-C81D-401C-8B2B-483259A1F903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0.15198 L 4.44444E-006 0.00023 E">
                                      <p:cBhvr>
                                        <p:cTn id="113" dur="2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2000" fill="hold"/>
                                        <p:tgtEl>
                                          <p:spTgt spid="2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e can now repeat this procedure each time he )LOADs the workspace or )SAVE his own copy (e.g. 'tester1robots') which will be )loaded instea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9608-B146-49C7-A3D6-D5B11B299F6D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e, and any other tester that has done the same thing, can now test the system and update it independent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3" name=""/>
          <p:cNvSpPr/>
          <p:nvPr/>
        </p:nvSpPr>
        <p:spPr>
          <a:xfrm>
            <a:off x="3851280" y="3681360"/>
            <a:ext cx="1260360" cy="1332000"/>
          </a:xfrm>
          <a:prstGeom prst="flowChartMagneticDisk">
            <a:avLst/>
          </a:prstGeom>
          <a:solidFill>
            <a:srgbClr val="bbe0e3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32000" y="3357720"/>
            <a:ext cx="107928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368360" y="5013360"/>
            <a:ext cx="107964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345440" y="2852640"/>
            <a:ext cx="107928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r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056360" y="5229360"/>
            <a:ext cx="107964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A163-7F5F-4356-AFE9-5A093C25C7E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338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When changes are ready to be checked in you do (here DANIMAL has been changed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4788000" y="1736640"/>
            <a:ext cx="3971880" cy="24004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4795920" y="1727280"/>
            <a:ext cx="3971880" cy="40482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4535640" y="1557360"/>
            <a:ext cx="4362120" cy="46576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4535640" y="1563840"/>
            <a:ext cx="4362120" cy="46576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5"/>
          <a:stretch/>
        </p:blipFill>
        <p:spPr>
          <a:xfrm>
            <a:off x="3672000" y="2529000"/>
            <a:ext cx="5276880" cy="287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8CC3-E6DF-44A7-855C-B510D19174A4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e, and any other tester that has done the same thing, can now test the system and update it independent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7" name=""/>
          <p:cNvSpPr/>
          <p:nvPr/>
        </p:nvSpPr>
        <p:spPr>
          <a:xfrm>
            <a:off x="3959280" y="3681360"/>
            <a:ext cx="1260360" cy="13320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32000" y="3357720"/>
            <a:ext cx="107928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368360" y="5013360"/>
            <a:ext cx="107964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345440" y="2852640"/>
            <a:ext cx="107928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r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056360" y="5229360"/>
            <a:ext cx="107964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559800">
            <a:off x="2555640" y="3715920"/>
            <a:ext cx="1187280" cy="468360"/>
          </a:xfrm>
          <a:custGeom>
            <a:avLst/>
            <a:gdLst>
              <a:gd name="textAreaLeft" fmla="*/ 185400 w 1187280"/>
              <a:gd name="textAreaRight" fmla="*/ 1038960 w 1187280"/>
              <a:gd name="textAreaTop" fmla="*/ 117000 h 468360"/>
              <a:gd name="textAreaBottom" fmla="*/ 351360 h 468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rot="20589000">
            <a:off x="2592000" y="4868640"/>
            <a:ext cx="1187640" cy="468000"/>
          </a:xfrm>
          <a:custGeom>
            <a:avLst/>
            <a:gdLst>
              <a:gd name="textAreaLeft" fmla="*/ 185400 w 1187640"/>
              <a:gd name="textAreaRight" fmla="*/ 1039320 w 1187640"/>
              <a:gd name="textAreaTop" fmla="*/ 117000 h 468000"/>
              <a:gd name="textAreaBottom" fmla="*/ 351000 h 468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rot="20640600">
            <a:off x="5472000" y="3573360"/>
            <a:ext cx="1261080" cy="468360"/>
          </a:xfrm>
          <a:custGeom>
            <a:avLst/>
            <a:gdLst>
              <a:gd name="textAreaLeft" fmla="*/ 196920 w 1261080"/>
              <a:gd name="textAreaRight" fmla="*/ 1103760 w 1261080"/>
              <a:gd name="textAreaTop" fmla="*/ 117000 h 468360"/>
              <a:gd name="textAreaBottom" fmla="*/ 351360 h 468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 rot="978000">
            <a:off x="5434920" y="4939920"/>
            <a:ext cx="1260360" cy="468360"/>
          </a:xfrm>
          <a:custGeom>
            <a:avLst/>
            <a:gdLst>
              <a:gd name="textAreaLeft" fmla="*/ 196920 w 1260360"/>
              <a:gd name="textAreaRight" fmla="*/ 1103040 w 1260360"/>
              <a:gd name="textAreaTop" fmla="*/ 117000 h 468360"/>
              <a:gd name="textAreaBottom" fmla="*/ 351360 h 468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E033-1438-4D3E-AC2C-DC43D0F7840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VC should be able to handle conflicts, report on differences and generate complete new systems from the current repositor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3392-0101-4F0A-9212-B838275BEEF5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local or smaller systems you may choose to use SALT's limited versioning and comparing abilities but a solid Version Control system is a must for large system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AB58-48D2-4F81-B514-8882A98BC6E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y version control will probably do but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well supported and well document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it's fre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A19E-9306-42A8-81F4-FD91EE744CA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BAAD's SD2 produc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Unit is made of 2 main componen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driving componen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weapons componen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" name=""/>
          <p:cNvSpPr/>
          <p:nvPr/>
        </p:nvSpPr>
        <p:spPr>
          <a:xfrm>
            <a:off x="3562200" y="4869000"/>
            <a:ext cx="1801800" cy="61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140360" y="4113360"/>
            <a:ext cx="1522440" cy="792000"/>
            <a:chOff x="4140360" y="4113360"/>
            <a:chExt cx="1522440" cy="792000"/>
          </a:xfrm>
        </p:grpSpPr>
        <p:sp>
          <p:nvSpPr>
            <p:cNvPr id="56" name=""/>
            <p:cNvSpPr/>
            <p:nvPr/>
          </p:nvSpPr>
          <p:spPr>
            <a:xfrm>
              <a:off x="4140360" y="4113360"/>
              <a:ext cx="1041480" cy="792000"/>
            </a:xfrm>
            <a:prstGeom prst="can">
              <a:avLst>
                <a:gd name="adj" fmla="val 33481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4489200">
              <a:off x="5263560" y="4102560"/>
              <a:ext cx="169920" cy="60444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E874-3114-4567-B41C-862279013B9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Testing the produc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Obviously, testing these devices in real life presents a probl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n its infinite wisdom the company has decided to use a simulator written in Dyalo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single workspace holds all the syst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202D-298B-4D02-BE35-DDEE740DD5B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1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The simulator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62200" y="1654200"/>
            <a:ext cx="5257800" cy="4538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406160" y="4746600"/>
            <a:ext cx="18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ttling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8000" y="3573360"/>
            <a:ext cx="395640" cy="12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843280" y="2707920"/>
            <a:ext cx="115236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951280" y="2815920"/>
            <a:ext cx="122544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03640" y="5192640"/>
            <a:ext cx="9730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25800" y="332748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its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6948360" y="2600280"/>
            <a:ext cx="611280" cy="104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6948360" y="3105000"/>
            <a:ext cx="611280" cy="6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6948360" y="3573000"/>
            <a:ext cx="611280" cy="1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948360" y="3860640"/>
            <a:ext cx="611280" cy="3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6948360" y="3968640"/>
            <a:ext cx="611280" cy="9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10840" y="184464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ttle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75AA-E679-4EB3-AEB5-7F9088AC486A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The simulator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943280" y="1676520"/>
            <a:ext cx="5524200" cy="44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9F31-25DA-4704-B304-C468B4F67BF3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6160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nB</cp:lastModifiedBy>
  <dcterms:modified xsi:type="dcterms:W3CDTF">2007-09-27T16:04:58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