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0D0B-C288-4D2A-AF6B-08B2D963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9066-4C98-4D3B-848B-822106E4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78B9-277F-4A69-9F44-A90AE44E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0EE4-4298-4B3B-8A7E-CF925B28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12BA-74E9-4D0D-9450-5A424984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D4AF-F7F7-4D46-A477-AEA8D897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21A9-F24B-4A28-95EA-4DC0DAA0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2538-57A2-45CB-876F-10434BE7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60A2-71DA-4B35-9E6A-AA7AACD1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BFC5-2DCB-4A53-95E7-93919F49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9861-ADF0-4CA4-A25D-49ABCC86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06E8-FFC3-4F8B-B1BF-69511DF6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47A0-A181-4CCD-B45D-C646607BC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oring Microsoft DirectX .NET interface with Dyalog APL 11.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lex Bala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reality sc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als of cre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panorama head, tripod or monopod   and digital camera make a series of pictures capturing 360 degree from left to right and 180 degree from top to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stitching software (PTGui), stitch series of pictures i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6 pictures representing each side of the environment to apropriate side of the c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 cube or “point of vie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1790640" cy="2666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0" y="685800"/>
            <a:ext cx="1790640" cy="2666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267080" y="685800"/>
            <a:ext cx="1791000" cy="2666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04920" y="3733920"/>
            <a:ext cx="1790640" cy="2666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286000" y="3733920"/>
            <a:ext cx="1790640" cy="2666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4267080" y="3733920"/>
            <a:ext cx="1791000" cy="2666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6172200" y="1143000"/>
            <a:ext cx="2666880" cy="1790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6172200" y="4114800"/>
            <a:ext cx="26668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55028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1901880" cy="1900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1901880" cy="1901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33520" y="2438280"/>
            <a:ext cx="1901880" cy="1901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590920" y="4495680"/>
            <a:ext cx="1901880" cy="1901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4648320" y="2438280"/>
            <a:ext cx="1901880" cy="1901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6705720" y="2438280"/>
            <a:ext cx="19018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reality Princeton t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Thanks 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ten Kromberg for last minute acceptance of the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Brown for helping me with VR tour ti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family for supporting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LL of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rect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X is a set of low-level APIs for creating games and other high-performance multimedia applications. It includes support for high-performance 2D and 3D graphics, sound, and inp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DirectX for Managed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9 Active namespaces and 4 which are considered obso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.Direct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.DirectX.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.DirectX.Security.Per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.DirectX.PrivateImplementation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.DirectX.Direct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.DirectX.Direct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Microsoft.DirectX.Direct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.DirectX.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.DirectX.AudioVideo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.DirectX.DirectDr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.DirectX.DirectPlay.Lob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.DirectX.DirectPlay.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.DirectX.Direct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s found during explor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 class object delegated to external environment from APL application is not “callable” (external environment can not call methods of that objec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es are not “correctly” described inside DirectX .NET interface so Dyalog APL is “confused” and rejects trying to run methods (Device creation method is an 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id not find a way to generate System.Type class from APL. C# uses “typeof” system function and alternative solution in APL is not obvio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of the class can not be callback function for objects created insid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for all thos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C# Class library, which will serve as alternative way of communication between APL and DirectX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d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Tutorials were repeated in A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o Video Player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Panorama player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1 – Device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2 – Building vert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3 – Rotating vert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4 – 3D 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5 – Using Tex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o Video player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.DirectX.AudioVideoPlay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directly with Dyalog APL and does not require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vely plays a lot of file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L does not allow Class Methods to be Event hand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not be placed on APL Form object and requiring .NET Form to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reality p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s of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3D cube inside DirectX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6 pictures representing each side of the environment to apropriate side of the c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e cube or “point of view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18:27:34Z</dcterms:created>
  <dc:creator>Administrator</dc:creator>
  <dc:description/>
  <dc:language>en-US</dc:language>
  <cp:lastModifiedBy>Administrator</cp:lastModifiedBy>
  <dcterms:modified xsi:type="dcterms:W3CDTF">2007-11-21T18:43:00Z</dcterms:modified>
  <cp:revision>15</cp:revision>
  <dc:subject/>
  <dc:title>Exploring Microsoft DirectX .NET interface with Dyalog APL 11.0 </dc:title>
</cp:coreProperties>
</file>