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.wmf" ContentType="image/x-wmf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A79D-693F-4599-9A95-A849CBAF3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306-9BC6-4842-9C75-E954BB35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EC9-3E61-4679-908F-B6362C1A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F30-6F1F-489B-8614-36E9674F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8BA-8E99-4770-B08E-2328C96A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C71-208E-4C08-8902-855BD7BE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D54-66A7-4559-906D-3D29738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C3A9-D80D-4A6D-ABF2-13852625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EB1-0972-4CD2-9CB9-9DAD2EB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2DAF-8D83-4EA3-8CD5-35AD464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55F-ED63-476C-BA83-4DDAF43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DBA3-4A10-4211-AE24-E95FDBD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A05-30BF-4CD1-B85A-EFAF9B3B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37C-6B46-4B5B-B326-692C5D6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CA9-5F40-4492-A0BC-8BE1F21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0410-5156-4A54-A7BE-1C39B8F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B015-CA14-45BA-983A-E7A09326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DEAC-057F-4D20-BFE8-F4C6BE21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E06-AFAD-4850-981C-6D4CCC4D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50C-8554-4BB3-AC5D-B88B478B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1A9-1B1C-43F1-85DA-6CB04DE4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EFF-00B2-426E-9FE0-4FE6B58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221-3300-443E-A7FF-307154A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C36-0C61-4546-A650-3FDBF2EE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B71-517D-4131-A1FB-2A92B744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39F-A5BF-47AF-9749-675F88E246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4FAC-7AB4-4130-A330-3C1657E67D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4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19881000">
            <a:off x="2770560" y="4714920"/>
            <a:ext cx="1424160" cy="442800"/>
          </a:xfrm>
          <a:custGeom>
            <a:avLst/>
            <a:gdLst>
              <a:gd name="textAreaLeft" fmla="*/ 222480 w 1424160"/>
              <a:gd name="textAreaRight" fmla="*/ 1246320 w 1424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2494800">
            <a:off x="5246280" y="4797000"/>
            <a:ext cx="1413000" cy="441360"/>
          </a:xfrm>
          <a:custGeom>
            <a:avLst/>
            <a:gdLst>
              <a:gd name="textAreaLeft" fmla="*/ 220680 w 1413000"/>
              <a:gd name="textAreaRight" fmla="*/ 1236600 w 141300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552400">
            <a:off x="5535360" y="3573360"/>
            <a:ext cx="1412640" cy="441360"/>
          </a:xfrm>
          <a:custGeom>
            <a:avLst/>
            <a:gdLst>
              <a:gd name="textAreaLeft" fmla="*/ 220680 w 1412640"/>
              <a:gd name="textAreaRight" fmla="*/ 1236240 w 141264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rot="163800">
            <a:off x="2699280" y="3716280"/>
            <a:ext cx="1423800" cy="442440"/>
          </a:xfrm>
          <a:custGeom>
            <a:avLst/>
            <a:gdLst>
              <a:gd name="textAreaLeft" fmla="*/ 222480 w 1423800"/>
              <a:gd name="textAreaRight" fmla="*/ 1245960 w 1423800"/>
              <a:gd name="textAreaTop" fmla="*/ 110520 h 442440"/>
              <a:gd name="textAreaBottom" fmla="*/ 331920 h 44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ing a scri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292640"/>
            <a:ext cx="143964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67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75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183" name="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0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13" name="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219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224" name="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0846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8835800">
            <a:off x="4032000" y="4365000"/>
            <a:ext cx="1079640" cy="432000"/>
          </a:xfrm>
          <a:prstGeom prst="left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9466200">
            <a:off x="4104720" y="4365360"/>
            <a:ext cx="1800000" cy="57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5280" y="3787920"/>
            <a:ext cx="5471640" cy="1585440"/>
            <a:chOff x="1835280" y="3787920"/>
            <a:chExt cx="5471640" cy="1585440"/>
          </a:xfrm>
        </p:grpSpPr>
        <p:sp>
          <p:nvSpPr>
            <p:cNvPr id="98" name=""/>
            <p:cNvSpPr/>
            <p:nvPr/>
          </p:nvSpPr>
          <p:spPr>
            <a:xfrm>
              <a:off x="1835280" y="390060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8120" y="378792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9120" y="469440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24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ll have qualities and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MUST be installed for it to ru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268" name="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ext files for the namespaces has several benefi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3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sha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)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18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OO concept of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(and simila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name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can be edited in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0" idx="3"/>
            <a:endCxn id="393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1" idx="3"/>
            <a:endCxn id="394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6" idx="3"/>
            <a:endCxn id="397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87" idx="3"/>
            <a:endCxn id="396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5" idx="3"/>
            <a:endCxn id="395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17" idx="3"/>
            <a:endCxn id="420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21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3" idx="3"/>
            <a:endCxn id="424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4" idx="3"/>
            <a:endCxn id="423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3"/>
            <a:endCxn id="422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4" idx="3"/>
            <a:endCxn id="433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23" idx="3"/>
            <a:endCxn id="434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22" idx="3"/>
            <a:endCxn id="432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21" idx="3"/>
            <a:endCxn id="438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20" idx="3"/>
            <a:endCxn id="437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452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rot="9466200">
              <a:off x="4104720" y="4365360"/>
              <a:ext cx="1800000" cy="57600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84640"/>
            <a:ext cx="43164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470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50" name="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7-09-27T22:04:33Z</dcterms:modified>
  <cp:revision>60</cp:revision>
  <dc:subject/>
  <dc:title>SALT and subversion</dc:title>
</cp:coreProperties>
</file>