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008C7-A5E8-407C-8900-9918F2349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CD51C-24A4-4E8B-B97B-01549DE80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FFF1F-5268-4571-BD81-8324A1944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D6954-3859-4C95-BEFE-8849DB43E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9159A-A05A-4391-BC03-4A0873B3FF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BFEAB-23B2-43AE-9406-27CCA9306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C9C7D-6BBE-493A-A2D6-A5680B30E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4F03C-0787-44F3-A5FF-E44BF0064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3F3E3-9DAF-4560-874E-3F797AFB6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1245F-986E-4B17-B29B-3880666A9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BF5AD-0519-4DD2-946F-50B60D9E3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553C3-EC41-43C6-A1E2-4695A536E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67C33-E6AC-49EB-B8FB-1622F924D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76CE1-FCAE-4A93-986B-766A10CD9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6DFBD-6418-4528-9153-4D9BCD4FE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0EA74-FB97-4DFC-83B6-011106B27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1214D8-3ABF-44C7-9BC0-B504BD329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8A98E-6035-405A-848C-BCD24FA1F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83216-8D0D-48F6-A6F1-E0911DEB0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4582E-2B0C-4F80-BF11-DBDC29DF3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D9391-7706-4218-B7FC-C91D07740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6B1FE-5284-40B8-A289-C8518D337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98980-8611-4793-9E06-5CD965A4F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1F5DC-356C-4A6F-80AD-B3D8F6899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2524C-6DF7-42E3-83DA-FC5596802D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3F0D-4EC1-4902-991D-36C8E1E352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QL Databases from APL (Dyalog &amp; other)</a:t>
            </a: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 Merril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tical Software Cor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merrill@usa.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insert </a:t>
            </a:r>
            <a:r>
              <a:rPr b="0" lang="en-US" sz="4000" spc="-1" strike="noStrike">
                <a:solidFill>
                  <a:srgbClr val="000000"/>
                </a:solidFill>
                <a:latin typeface="Arial"/>
              </a:rPr>
              <a:t>&amp; </a:t>
            </a:r>
            <a:r>
              <a:rPr b="0" i="1" lang="en-US" sz="4000" spc="-1" strike="noStrike">
                <a:solidFill>
                  <a:srgbClr val="000000"/>
                </a:solidFill>
                <a:latin typeface="Arial"/>
              </a:rPr>
              <a:t>update</a:t>
            </a:r>
            <a:r>
              <a:rPr b="0" lang="en-US" sz="4000" spc="-1" strike="noStrike">
                <a:solidFill>
                  <a:srgbClr val="000000"/>
                </a:solidFill>
                <a:latin typeface="Arial"/>
              </a:rPr>
              <a:t>:  SQL’s Weak Spot</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ata is in memory (in an appli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sert</a:t>
            </a:r>
            <a:r>
              <a:rPr b="0" lang="en-US" sz="2800" spc="-1" strike="noStrike">
                <a:solidFill>
                  <a:srgbClr val="000000"/>
                </a:solidFill>
                <a:latin typeface="Arial"/>
              </a:rPr>
              <a:t> statements allow you to add one row, giving values for each column in the new 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pdate</a:t>
            </a:r>
            <a:r>
              <a:rPr b="0" lang="en-US" sz="2800" spc="-1" strike="noStrike">
                <a:solidFill>
                  <a:srgbClr val="000000"/>
                </a:solidFill>
                <a:latin typeface="Arial"/>
              </a:rPr>
              <a:t> statements typically reference a single row by its primary key (though it can change many columns in one </a:t>
            </a:r>
            <a:r>
              <a:rPr b="0" i="1" lang="en-US" sz="2800" spc="-1" strike="noStrike">
                <a:solidFill>
                  <a:srgbClr val="000000"/>
                </a:solidFill>
                <a:latin typeface="Arial"/>
              </a:rPr>
              <a:t>upda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ing a group of changes based on user input typically involves issuing many one-row-each </a:t>
            </a:r>
            <a:r>
              <a:rPr b="0" i="1" lang="en-US" sz="3200" spc="-1" strike="noStrike">
                <a:solidFill>
                  <a:srgbClr val="000000"/>
                </a:solidFill>
                <a:latin typeface="Arial"/>
              </a:rPr>
              <a:t>insert</a:t>
            </a:r>
            <a:r>
              <a:rPr b="0" lang="en-US" sz="3200" spc="-1" strike="noStrike">
                <a:solidFill>
                  <a:srgbClr val="000000"/>
                </a:solidFill>
                <a:latin typeface="Arial"/>
              </a:rPr>
              <a:t> or </a:t>
            </a:r>
            <a:r>
              <a:rPr b="0" i="1" lang="en-US" sz="3200" spc="-1" strike="noStrike">
                <a:solidFill>
                  <a:srgbClr val="000000"/>
                </a:solidFill>
                <a:latin typeface="Arial"/>
              </a:rPr>
              <a:t>update</a:t>
            </a:r>
            <a:r>
              <a:rPr b="0" lang="en-US" sz="3200" spc="-1" strike="noStrike">
                <a:solidFill>
                  <a:srgbClr val="000000"/>
                </a:solidFill>
                <a:latin typeface="Arial"/>
              </a:rPr>
              <a:t>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Row </a:t>
            </a:r>
            <a:r>
              <a:rPr b="0" i="1" lang="en-US" sz="4400" spc="-1" strike="noStrike">
                <a:solidFill>
                  <a:srgbClr val="000000"/>
                </a:solidFill>
                <a:latin typeface="Arial"/>
              </a:rPr>
              <a:t>insert</a:t>
            </a:r>
            <a:r>
              <a:rPr b="0" lang="en-US" sz="4400" spc="-1" strike="noStrike">
                <a:solidFill>
                  <a:srgbClr val="000000"/>
                </a:solidFill>
                <a:latin typeface="Arial"/>
              </a:rPr>
              <a:t> and </a:t>
            </a:r>
            <a:r>
              <a:rPr b="0" i="1" lang="en-US" sz="4400" spc="-1" strike="noStrike">
                <a:solidFill>
                  <a:srgbClr val="000000"/>
                </a:solidFill>
                <a:latin typeface="Arial"/>
              </a:rPr>
              <a:t>updat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sert</a:t>
            </a:r>
            <a:r>
              <a:rPr b="0" lang="en-US" sz="3200" spc="-1" strike="noStrike">
                <a:solidFill>
                  <a:srgbClr val="000000"/>
                </a:solidFill>
                <a:latin typeface="Arial"/>
              </a:rPr>
              <a:t> supports adding the result of any </a:t>
            </a:r>
            <a:r>
              <a:rPr b="0" i="1" lang="en-US" sz="3200" spc="-1" strike="noStrike">
                <a:solidFill>
                  <a:srgbClr val="000000"/>
                </a:solidFill>
                <a:latin typeface="Arial"/>
              </a:rPr>
              <a:t>select</a:t>
            </a:r>
            <a:r>
              <a:rPr b="0" lang="en-US" sz="3200" spc="-1" strike="noStrike">
                <a:solidFill>
                  <a:srgbClr val="000000"/>
                </a:solidFill>
                <a:latin typeface="Arial"/>
              </a:rPr>
              <a:t> to an existing t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pdate</a:t>
            </a:r>
            <a:r>
              <a:rPr b="0" lang="en-US" sz="3200" spc="-1" strike="noStrike">
                <a:solidFill>
                  <a:srgbClr val="000000"/>
                </a:solidFill>
                <a:latin typeface="Arial"/>
              </a:rPr>
              <a:t> similarly can update many rows of one table from the contents of another table, providing the tables can be joined (usually on the primary ke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ntax for this is not completely standard and some products may not support thi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data on the server if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a:t>
            </a:r>
            <a:r>
              <a:rPr b="0" i="1" lang="en-US" sz="4400" spc="-1" strike="noStrike">
                <a:solidFill>
                  <a:srgbClr val="000000"/>
                </a:solidFill>
                <a:latin typeface="Arial"/>
              </a:rPr>
              <a:t>delete</a:t>
            </a:r>
            <a:r>
              <a:rPr b="0" lang="en-US" sz="4400" spc="-1" strike="noStrike">
                <a:solidFill>
                  <a:srgbClr val="000000"/>
                </a:solidFill>
                <a:latin typeface="Arial"/>
              </a:rPr>
              <a:t> Does What It Say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elete</a:t>
            </a:r>
            <a:r>
              <a:rPr b="0" lang="en-US" sz="3200" spc="-1" strike="noStrike">
                <a:solidFill>
                  <a:srgbClr val="000000"/>
                </a:solidFill>
                <a:latin typeface="Arial"/>
              </a:rPr>
              <a:t> can use the full power of </a:t>
            </a:r>
            <a:r>
              <a:rPr b="0" i="1" lang="en-US" sz="3200" spc="-1" strike="noStrike">
                <a:solidFill>
                  <a:srgbClr val="000000"/>
                </a:solidFill>
                <a:latin typeface="Arial"/>
              </a:rPr>
              <a:t>select</a:t>
            </a:r>
            <a:r>
              <a:rPr b="0" lang="en-US" sz="3200" spc="-1" strike="noStrike">
                <a:solidFill>
                  <a:srgbClr val="000000"/>
                </a:solidFill>
                <a:latin typeface="Arial"/>
              </a:rPr>
              <a:t> to determine what row or rows of a table should be delete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eleting rows based on a list of primary key values, implementations that limit the length of a SQL statement (or an individual clause within the statement) can require multiple </a:t>
            </a:r>
            <a:r>
              <a:rPr b="0" i="1" lang="en-US" sz="3200" spc="-1" strike="noStrike">
                <a:solidFill>
                  <a:srgbClr val="000000"/>
                </a:solidFill>
                <a:latin typeface="Arial"/>
              </a:rPr>
              <a:t>delete</a:t>
            </a:r>
            <a:r>
              <a:rPr b="0" lang="en-US" sz="3200" spc="-1" strike="noStrike">
                <a:solidFill>
                  <a:srgbClr val="000000"/>
                </a:solidFill>
                <a:latin typeface="Arial"/>
              </a:rPr>
              <a:t> statements to delete a large number of r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 / Server Concept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send requests to the server and it responds with the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DBMS server touches th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good to have the server do things like compute totals so that results are sma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back-and-forth interactions is potentially more significant than the amount of data being transfer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QL is the Language for Server Requests and Responses</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rogram sends SQL statements (only) to the server and handles the respon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ools hide the fact that everything is done with SQL, by generating SQL for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s very powerful for reading data (</a:t>
            </a:r>
            <a:r>
              <a:rPr b="0" i="1" lang="en-US" sz="2800" spc="-1" strike="noStrike">
                <a:solidFill>
                  <a:srgbClr val="000000"/>
                </a:solidFill>
                <a:latin typeface="Arial"/>
              </a:rPr>
              <a:t>select</a:t>
            </a:r>
            <a:r>
              <a:rPr b="0" lang="en-US" sz="2800" spc="-1" strike="noStrike">
                <a:solidFill>
                  <a:srgbClr val="000000"/>
                </a:solidFill>
                <a:latin typeface="Arial"/>
              </a:rPr>
              <a:t>) and deleting data (</a:t>
            </a:r>
            <a:r>
              <a:rPr b="0" i="1" lang="en-US" sz="2800" spc="-1" strike="noStrike">
                <a:solidFill>
                  <a:srgbClr val="000000"/>
                </a:solidFill>
                <a:latin typeface="Arial"/>
              </a:rPr>
              <a:t>dele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s quite stupidly simple for writing data in memory into a table (</a:t>
            </a:r>
            <a:r>
              <a:rPr b="0" i="1" lang="en-US" sz="2800" spc="-1" strike="noStrike">
                <a:solidFill>
                  <a:srgbClr val="000000"/>
                </a:solidFill>
                <a:latin typeface="Arial"/>
              </a:rPr>
              <a:t>insert</a:t>
            </a:r>
            <a:r>
              <a:rPr b="0" lang="en-US" sz="2800" spc="-1" strike="noStrike">
                <a:solidFill>
                  <a:srgbClr val="000000"/>
                </a:solidFill>
                <a:latin typeface="Arial"/>
              </a:rPr>
              <a:t>, </a:t>
            </a:r>
            <a:r>
              <a:rPr b="0" i="1" lang="en-US" sz="2800" spc="-1" strike="noStrike">
                <a:solidFill>
                  <a:srgbClr val="000000"/>
                </a:solidFill>
                <a:latin typeface="Arial"/>
              </a:rPr>
              <a:t>upda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the-wire protocol is complex, but is hidden by (most) client libr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Program Touches the Data</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coordinating program, the DBMS server, performs all access (reading and writing) to data files holding the SQL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data is controlled by the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er process can be run on a very powerful (expensive) 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ing requests from different users can be handled more eas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 the Server Do the Work</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er </a:t>
            </a:r>
            <a:r>
              <a:rPr b="0" i="1" lang="en-US" sz="3200" spc="-1" strike="noStrike">
                <a:solidFill>
                  <a:srgbClr val="000000"/>
                </a:solidFill>
                <a:latin typeface="Arial"/>
              </a:rPr>
              <a:t>should</a:t>
            </a:r>
            <a:r>
              <a:rPr b="0" lang="en-US" sz="3200" spc="-1" strike="noStrike">
                <a:solidFill>
                  <a:srgbClr val="000000"/>
                </a:solidFill>
                <a:latin typeface="Arial"/>
              </a:rPr>
              <a:t> be a better computer than the one running your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ptimal if the server can get the job done without sending a lot of data over the wire to your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side:  the more you get the server to do the work (by sending SQL), the more you have to worry that things will need to change if you switch to another DB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oid “Chatty” Program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interaction with the server takes time for the back-and-forth protocol, in addition to whatever actual data is pas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her than sending a series of steps to the server one after the other, it’s better to send one larger requ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s simplistic </a:t>
            </a:r>
            <a:r>
              <a:rPr b="0" i="1" lang="en-US" sz="2800" spc="-1" strike="noStrike">
                <a:solidFill>
                  <a:srgbClr val="000000"/>
                </a:solidFill>
                <a:latin typeface="Arial"/>
              </a:rPr>
              <a:t>insert</a:t>
            </a:r>
            <a:r>
              <a:rPr b="0" lang="en-US" sz="2800" spc="-1" strike="noStrike">
                <a:solidFill>
                  <a:srgbClr val="000000"/>
                </a:solidFill>
                <a:latin typeface="Arial"/>
              </a:rPr>
              <a:t> &amp; </a:t>
            </a:r>
            <a:r>
              <a:rPr b="0" i="1" lang="en-US" sz="2800" spc="-1" strike="noStrike">
                <a:solidFill>
                  <a:srgbClr val="000000"/>
                </a:solidFill>
                <a:latin typeface="Arial"/>
              </a:rPr>
              <a:t>update</a:t>
            </a:r>
            <a:r>
              <a:rPr b="0" lang="en-US" sz="2800" spc="-1" strike="noStrike">
                <a:solidFill>
                  <a:srgbClr val="000000"/>
                </a:solidFill>
                <a:latin typeface="Arial"/>
              </a:rPr>
              <a:t> is an iss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side:  the more you “bunch up” your requests, the more difficult it is to handle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has the concept of </a:t>
            </a:r>
            <a:r>
              <a:rPr b="0" i="1" lang="en-US" sz="3200" spc="-1" strike="noStrike">
                <a:solidFill>
                  <a:srgbClr val="ff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my APL and SQL experi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alk emphasizes information about SQ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 you must kno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nesses you need to understa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s about SQL database desig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so much about SQ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 few people learn the details about SQL, and build tools to shield other developers from the issu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you should not hide SQL from APL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y successful project that was a failur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talking to SQL is not hard to do (any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s Concept Called </a:t>
            </a:r>
            <a:r>
              <a:rPr b="0" i="1" lang="en-US" sz="4400" spc="-1" strike="noStrike">
                <a:solidFill>
                  <a:srgbClr val="000000"/>
                </a:solidFill>
                <a:latin typeface="Arial"/>
              </a:rPr>
              <a:t>null</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represent a “missing” or “unknown” value, rather than an “empty”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value is null, it is not equal to any particular value, nor is it not-equal to any particular value.  Suppose A is an arbitrary SQL expression:</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_column = 5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_column = ‘hello’</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e would think that the result of</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r (not A)</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s to be </a:t>
            </a:r>
            <a:r>
              <a:rPr b="0" i="1" lang="en-US" sz="2800" spc="-1" strike="noStrike">
                <a:solidFill>
                  <a:srgbClr val="000000"/>
                </a:solidFill>
                <a:latin typeface="Arial"/>
              </a:rPr>
              <a:t>true</a:t>
            </a:r>
            <a:r>
              <a:rPr b="0" lang="en-US" sz="2800" spc="-1" strike="noStrike">
                <a:solidFill>
                  <a:srgbClr val="000000"/>
                </a:solidFill>
                <a:latin typeface="Arial"/>
              </a:rPr>
              <a:t> but in SQL that’s not the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null</a:t>
            </a:r>
            <a:r>
              <a:rPr b="0" lang="en-US" sz="4400" spc="-1" strike="noStrike">
                <a:solidFill>
                  <a:srgbClr val="000000"/>
                </a:solidFill>
                <a:latin typeface="Arial"/>
              </a:rPr>
              <a:t> Causes “three valued logic”</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ers think we understand booleans, but then along comes SQL’s notion of </a:t>
            </a:r>
            <a:r>
              <a:rPr b="0" i="1" lang="en-US" sz="2800" spc="-1" strike="noStrike">
                <a:solidFill>
                  <a:srgbClr val="000000"/>
                </a:solidFill>
                <a:latin typeface="Arial"/>
              </a:rPr>
              <a:t>null</a:t>
            </a:r>
            <a:r>
              <a:rPr b="0" lang="en-US" sz="2800" spc="-1" strike="noStrike">
                <a:solidFill>
                  <a:srgbClr val="000000"/>
                </a:solidFill>
                <a:latin typeface="Arial"/>
              </a:rPr>
              <a:t> that changes the rules we’ve lear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nulls are involved, the result of a boolean expression is one of </a:t>
            </a:r>
            <a:r>
              <a:rPr b="0" i="1" lang="en-US" sz="2800" spc="-1" strike="noStrike">
                <a:solidFill>
                  <a:srgbClr val="000000"/>
                </a:solidFill>
                <a:latin typeface="Arial"/>
              </a:rPr>
              <a:t>true</a:t>
            </a:r>
            <a:r>
              <a:rPr b="0" lang="en-US" sz="2800" spc="-1" strike="noStrike">
                <a:solidFill>
                  <a:srgbClr val="000000"/>
                </a:solidFill>
                <a:latin typeface="Arial"/>
              </a:rPr>
              <a:t>, </a:t>
            </a:r>
            <a:r>
              <a:rPr b="0" i="1" lang="en-US" sz="2800" spc="-1" strike="noStrike">
                <a:solidFill>
                  <a:srgbClr val="000000"/>
                </a:solidFill>
                <a:latin typeface="Arial"/>
              </a:rPr>
              <a:t>false</a:t>
            </a:r>
            <a:r>
              <a:rPr b="0" lang="en-US" sz="2800" spc="-1" strike="noStrike">
                <a:solidFill>
                  <a:srgbClr val="000000"/>
                </a:solidFill>
                <a:latin typeface="Arial"/>
              </a:rPr>
              <a:t>, or </a:t>
            </a:r>
            <a:r>
              <a:rPr b="0" i="1" lang="en-US" sz="2800" spc="-1" strike="noStrike">
                <a:solidFill>
                  <a:srgbClr val="000000"/>
                </a:solidFill>
                <a:latin typeface="Arial"/>
              </a:rPr>
              <a:t>nu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 of any expression is </a:t>
            </a:r>
            <a:r>
              <a:rPr b="0" i="1" lang="en-US" sz="2800" spc="-1" strike="noStrike">
                <a:solidFill>
                  <a:srgbClr val="000000"/>
                </a:solidFill>
                <a:latin typeface="Arial"/>
              </a:rPr>
              <a:t>null </a:t>
            </a:r>
            <a:r>
              <a:rPr b="0" lang="en-US" sz="2800" spc="-1" strike="noStrike">
                <a:solidFill>
                  <a:srgbClr val="000000"/>
                </a:solidFill>
                <a:latin typeface="Arial"/>
              </a:rPr>
              <a:t>if any value involved in the expression is </a:t>
            </a:r>
            <a:r>
              <a:rPr b="0" i="1" lang="en-US" sz="2800" spc="-1" strike="noStrike">
                <a:solidFill>
                  <a:srgbClr val="000000"/>
                </a:solidFill>
                <a:latin typeface="Arial"/>
              </a:rPr>
              <a:t>nu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QL function </a:t>
            </a:r>
            <a:r>
              <a:rPr b="0" i="1" lang="en-US" sz="2800" spc="-1" strike="noStrike">
                <a:solidFill>
                  <a:srgbClr val="000000"/>
                </a:solidFill>
                <a:latin typeface="Arial"/>
              </a:rPr>
              <a:t>coalesce</a:t>
            </a:r>
            <a:r>
              <a:rPr b="0" lang="en-US" sz="2800" spc="-1" strike="noStrike">
                <a:solidFill>
                  <a:srgbClr val="000000"/>
                </a:solidFill>
                <a:latin typeface="Arial"/>
              </a:rPr>
              <a:t> returns the first not-null parameter value passed:</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alesce(column, value_if_n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Null Values Sparingl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ing nulls sometimes makes sen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ely makes sense for date or tim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sense for numeric data when 0 is not an appropriate “no information” replacemen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a “missing value code” in the database, even if you use one in your APL data</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distinction between NULL and ‘’ (an empty string) is hard to see, justify, or explain to non-programmers (or programm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it’s not your d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SQL Data is in Tabl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other persistent data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table values are conceptual scala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can hold strings (enclosed char ve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no nested data (in standard SQ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PL had scalar strings, a SQL table would be just like a simple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locates rows using data values on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otion like row number in an APL matr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lumn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olumn has a (scalar) data 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data types can support the special SQL value </a:t>
            </a:r>
            <a:r>
              <a:rPr b="0" i="1" lang="en-US" sz="3200" spc="-1" strike="noStrike">
                <a:solidFill>
                  <a:srgbClr val="000000"/>
                </a:solidFill>
                <a:latin typeface="Arial"/>
              </a:rPr>
              <a:t>nu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null values correctly can be diffic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umn Name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difference between products is in what column names they al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llow spaces in names, but that makes it necessary to “quote” those column names (so SQL can parse statements using th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quoting techniques va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use simple, not-very-long na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always your cho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umn Type Catgeories</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s and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Interv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l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s</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ers of various sizes (1, 2, 4, 8)</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no “unsigned integ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or 8-byte floating 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d width and number of decim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sometimes avai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bit integer with 4 implied decim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Backgroun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started working with APL professionally in 1975, as a user of STSC timeshar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working at STSC, I took a course in relational database technology and SQL from a representative of a small company called Relational Software Inc.  Later they changed their name to Oracle – I’ve worked with SQL for longer than Oracle Corporation has exi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d length with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length with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limited size” often avail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byte data (Unicode) often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es and Time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r more of date, time, date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of NULL is very useful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are stored as Julian date valu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upport negative Julian dat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values are stored as fraction of a da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 is 6am, 0.5 is noon, 0.75 is 6p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time values stored as (day# + timefra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only datetime is availabl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can are represented as being “on day 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can be represented as being “at midn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Interval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dly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universally available (SQL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represented with a date or datetime value holding the result of subtracting one date or datetime value from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ary</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d length with a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length with a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limited size” often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lean</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bi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r>
              <a:rPr b="0" lang="en-US" sz="2800" spc="-1" strike="noStrike">
                <a:solidFill>
                  <a:srgbClr val="000000"/>
                </a:solidFill>
                <a:latin typeface="Arial"/>
              </a:rPr>
              <a:t> “fixed or variable length with a maximum size” like string and binary 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boolean columns support null (so there are 3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advice:  use a one-wide character column inst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me for a Break ?</a:t>
            </a:r>
            <a:endParaRPr b="0" lang="en-US" sz="66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Relationships Work in SQL</a:t>
            </a:r>
            <a:endParaRPr b="0" lang="en-US" sz="4400" spc="-1" strike="noStrike">
              <a:solidFill>
                <a:srgbClr val="000000"/>
              </a:solidFill>
              <a:latin typeface="Arial"/>
            </a:endParaRPr>
          </a:p>
        </p:txBody>
      </p:sp>
      <p:sp>
        <p:nvSpPr>
          <p:cNvPr id="1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APL, you can choose to represent related structures by nest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SQL, there are only tables and there is no possibility of nest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ationships are stored by having a column in one table store a value identifying a related row in another table (or </a:t>
            </a:r>
            <a:r>
              <a:rPr b="0" i="1" lang="en-US" sz="3600" spc="-1" strike="noStrike">
                <a:solidFill>
                  <a:srgbClr val="000000"/>
                </a:solidFill>
                <a:latin typeface="Arial"/>
              </a:rPr>
              <a:t>null</a:t>
            </a:r>
            <a:r>
              <a:rPr b="0" lang="en-US" sz="3600" spc="-1" strike="noStrike">
                <a:solidFill>
                  <a:srgbClr val="000000"/>
                </a:solidFill>
                <a:latin typeface="Arial"/>
              </a:rPr>
              <a:t> if there is no related r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Table Design</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olumns in a table should represent information about one entity (or concep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 data about one inst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umn = same data re many instanc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field” is deprecated (but widely used)</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able needs a “primary key” column whose value can be stored in any other table that has a relationship with rows in this t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generated primary key values allow relationships to be represented easily and can prevent issues that arise when users think they want to change key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QL Relationships</a:t>
            </a:r>
            <a:endParaRPr b="0" lang="en-US" sz="48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to many (parent - chil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to one (lookup)</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erarch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to man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Work at STSC</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utomated connection of an Oracle database of microcomputer software sales data to the existing (APL-based) accounting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igned a portable interface between STSC’s APL*Plus and SQL on these platfo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MS talking to RD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MS talking to Orac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talking to Oracl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implemented the APL in those interf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ationships – one to many</a:t>
            </a:r>
            <a:endParaRPr b="0" lang="en-US" sz="48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one) invoice can have any number (many) of line item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Item table has an InvoiceID column holding Invoice table primary key (PK) valu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line items for invoice N” is easily represented by there being no rows in the LineItem table with InvoiceID = 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L application might use nesting, storing a vector or matrix of lineitem data within each Invoice data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One to Many = Parent - Child</a:t>
            </a:r>
            <a:endParaRPr b="0" lang="en-US" sz="48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e” table (Invoice) is par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any” table (LineItem) is chil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umn holding primary key (PK) of another table is called a foreign key (FK) to (or into) that tab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eign keys are critical to competent SQL database desig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ationships – many to one</a:t>
            </a:r>
            <a:endParaRPr b="0" lang="en-US" sz="48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can be any number (many) of employees in each (one) depart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table has a column holding Department table PK value (read as “FK to Depart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o employees in department N” is again eas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hought of as parent / child; you don’t think of departments as “owning” employees the way invoices “own” line i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PL application could (but wouldn’t) use nesting, storing a vector of EmployeeID values (but not Employee data) for each depar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ationships – hierarchy</a:t>
            </a:r>
            <a:endParaRPr b="0" lang="en-US" sz="48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ch employee has a manager; the manager is also an employee</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ployee table has a ManagerID column holding FK to the same (Employee) table</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p of hierarchy is represented by null ManagerID value (no manage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L could use nesting, but I hav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 many to many</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a third table to hold two many-to-one relationships to the other two tab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Student table records th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lass can have any number of students enrolled in 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udent enrolls in any number of class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t use nesting for this (without double-storing the information), so APL applications usually do it the same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SQL Design Thoughts</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use your product’s “identity” or “sequence” feature to create PK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n doubt, define another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extra tables that add flex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ng historical data (not just the current value, but changes over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ice:  Use DBMS-assigned Values as Primary Keys</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lementations support having the DBMS assign the value of a particular column to be 1+ the previous value, during </a:t>
            </a:r>
            <a:r>
              <a:rPr b="0" i="1" lang="en-US" sz="2800" spc="-1" strike="noStrike">
                <a:solidFill>
                  <a:srgbClr val="000000"/>
                </a:solidFill>
                <a:latin typeface="Arial"/>
              </a:rPr>
              <a:t>insert</a:t>
            </a:r>
            <a:r>
              <a:rPr b="0" lang="en-US" sz="2800" spc="-1" strike="noStrike">
                <a:solidFill>
                  <a:srgbClr val="000000"/>
                </a:solidFill>
                <a:latin typeface="Arial"/>
              </a:rPr>
              <a:t> of a new r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s defined this way make excellent PKs that are efficient and easily used as F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s that are user-visible “primary keys” (e.g. Product Code, Region Code, Department Code) become attribu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them no longer causes pain and trou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In (Any) Doubt, Define Another Table</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see a numeric suffix on a column name, that’s an indication that another table should have been bui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K columns in an Operation table named Doctor1 Doctor2 Doctor3 Doctor4 would be a poor desig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more than 4 doctors involv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to have a child table with any number (even zero) of doctors for an op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Tables Are Often Better</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ases where using more tables results in a more flexible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table where both Customer and Employee tables have AddressID colum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table has column </a:t>
            </a:r>
            <a:r>
              <a:rPr b="0" i="1" lang="en-US" sz="2400" spc="-1" strike="noStrike">
                <a:solidFill>
                  <a:srgbClr val="000000"/>
                </a:solidFill>
                <a:latin typeface="Arial"/>
              </a:rPr>
              <a:t>AddressType</a:t>
            </a:r>
            <a:r>
              <a:rPr b="0" lang="en-US" sz="2400" spc="-1" strike="noStrike">
                <a:solidFill>
                  <a:srgbClr val="000000"/>
                </a:solidFill>
                <a:latin typeface="Arial"/>
              </a:rPr>
              <a:t> (FK to AddressType table with descriptions Billing, Shipping, Home, Offic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table where Patient table has NameI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umn </a:t>
            </a:r>
            <a:r>
              <a:rPr b="0" i="1" lang="en-US" sz="2400" spc="-1" strike="noStrike">
                <a:solidFill>
                  <a:srgbClr val="000000"/>
                </a:solidFill>
                <a:latin typeface="Arial"/>
              </a:rPr>
              <a:t>Primary</a:t>
            </a:r>
            <a:r>
              <a:rPr b="0" lang="en-US" sz="2400" spc="-1" strike="noStrike">
                <a:solidFill>
                  <a:srgbClr val="000000"/>
                </a:solidFill>
                <a:latin typeface="Arial"/>
              </a:rPr>
              <a:t> in Name table marks the current (primary) name to use for this per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Data</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at changes over time where history needs to be maintained can be in a child table with a ValidUntil column, and possibly also a ValidSince colum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ly active child table row is marked by a null ValidUntil val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active child table row on date X:</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gt;= coalesce( ValidSince, X ))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lt;= coalesce( ValidUntil, X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needs to ensure that timespans don’t overla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tore ID of active child table row in pa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SC, Manugistics, and Lat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s a software development consultant for many years with both STSC and (after the name change) Manugist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projects included migrating an APL-based database of foreign exchange trading data to Microsoft SQL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founding Analytical Software Corp. I’ve worked extensively with clients using SQL Server from APL+W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Joins</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data values are used to define relationships, SQL needs to be able to combine (</a:t>
            </a:r>
            <a:r>
              <a:rPr b="0" i="1" lang="en-US" sz="2800" spc="-1" strike="noStrike">
                <a:solidFill>
                  <a:srgbClr val="000000"/>
                </a:solidFill>
                <a:latin typeface="Arial"/>
              </a:rPr>
              <a:t>join</a:t>
            </a:r>
            <a:r>
              <a:rPr b="0" lang="en-US"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tables based on the defined FK-to-table relations – and it can do so quite flexibl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QL statement must re-specify the join condition(s); tools to generate SQL code can make this easier to get righ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supports different kinds of joi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jo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or right) jo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jo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me for Lunch ?</a:t>
            </a:r>
            <a:endParaRPr b="0" lang="en-US" sz="66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QL Join is What in APL?</a:t>
            </a:r>
            <a:endParaRPr b="0" lang="en-US" sz="48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a:t>
            </a:r>
            <a:r>
              <a:rPr b="0" lang="en-US" sz="2800" spc="-1" strike="noStrike">
                <a:solidFill>
                  <a:srgbClr val="000000"/>
                </a:solidFill>
                <a:latin typeface="Dyalog Std TT"/>
                <a:ea typeface="Dyalog Std TT"/>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jo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of </a:t>
            </a:r>
            <a:r>
              <a:rPr b="0" lang="en-US" sz="2400" spc="-1" strike="noStrike">
                <a:solidFill>
                  <a:srgbClr val="000000"/>
                </a:solidFill>
                <a:latin typeface="Dyalog Std TT"/>
                <a:ea typeface="Dyalog Std TT"/>
              </a:rPr>
              <a:t></a:t>
            </a:r>
            <a:r>
              <a:rPr b="0" lang="en-US" sz="2400" spc="-1" strike="noStrike">
                <a:solidFill>
                  <a:srgbClr val="000000"/>
                </a:solidFill>
                <a:latin typeface="Arial"/>
              </a:rPr>
              <a:t> that would cause </a:t>
            </a:r>
            <a:r>
              <a:rPr b="0" lang="en-US" sz="2400" spc="-1" strike="noStrike">
                <a:solidFill>
                  <a:srgbClr val="000000"/>
                </a:solidFill>
                <a:latin typeface="Dyalog Std TT"/>
                <a:ea typeface="Dyalog Std TT"/>
              </a:rPr>
              <a:t></a:t>
            </a:r>
            <a:r>
              <a:rPr b="0" lang="en-US" sz="2400" spc="-1" strike="noStrike">
                <a:solidFill>
                  <a:srgbClr val="000000"/>
                </a:solidFill>
                <a:latin typeface="Arial"/>
              </a:rPr>
              <a:t> in APL instead remove those rows from 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multiple rows that match in B, rows of A are repeated to match</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join:  adds a row of </a:t>
            </a:r>
            <a:r>
              <a:rPr b="0" i="1" lang="en-US" sz="2800" spc="-1" strike="noStrike">
                <a:solidFill>
                  <a:srgbClr val="000000"/>
                </a:solidFill>
                <a:latin typeface="Arial"/>
              </a:rPr>
              <a:t>null</a:t>
            </a:r>
            <a:r>
              <a:rPr b="0" lang="en-US" sz="2800" spc="-1" strike="noStrike">
                <a:solidFill>
                  <a:srgbClr val="000000"/>
                </a:solidFill>
                <a:latin typeface="Arial"/>
              </a:rPr>
              <a:t> values to B to avoid losing rows of A with unmatched valu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yalog Std TT"/>
                <a:ea typeface="Dyalog Std TT"/>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join:  like APL outer product (usually this is a mistake) – all combinations of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vs. Join Types</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child relationship = left jo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up table = left jo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join removes unmatched rows – make sure that’s what you w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to-many should normally be two left joins from the middle table, because it’s two combined one-to-many relation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es are non-trivial to hand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ven the Issues, Why Use SQL?</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outside the APL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b support for trans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is buil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database features would be very difficult to provide otherw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Databases are Standard</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availability of expert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and recovery are solved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arts of an application can be developed by others or using other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non-APL tools can work with th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and physical data mode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Transaction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 characteristic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ity, Consistency, Isolation, Durabilit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r-nothing data updates, ensuring data consistency even when there are errors during upd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user’s work is not affected by the work of other us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r application software crashes leave data intact after “a rest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Built In</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BMS server controls all access to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can be the only way to data; 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Windows identity as SQL ident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can be removed from the underlying tables, perhaps granting select access via views that use user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s are accustomed to securing their databases, but not their (APL) fi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DBMS Features</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 high-performance index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s (including “materialized” vie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queri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d procedur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gger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data handl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tioned tabl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ized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Indexes</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xiliary data structures to speed access to data, like the index of a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nclude multiple colum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ique index” prevents duplic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ustered index” changes the physical arrangement of row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tering a child table by the parent key places all child rows adjacent on d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Views</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any SQL </a:t>
            </a:r>
            <a:r>
              <a:rPr b="0" i="1" lang="en-US" sz="3200" spc="-1" strike="noStrike">
                <a:solidFill>
                  <a:srgbClr val="000000"/>
                </a:solidFill>
                <a:latin typeface="Arial"/>
              </a:rPr>
              <a:t>select</a:t>
            </a:r>
            <a:r>
              <a:rPr b="0" lang="en-US" sz="3200" spc="-1" strike="noStrike">
                <a:solidFill>
                  <a:srgbClr val="000000"/>
                </a:solidFill>
                <a:latin typeface="Arial"/>
              </a:rPr>
              <a:t>  statement can be saved as a </a:t>
            </a:r>
            <a:r>
              <a:rPr b="0" i="1" lang="en-US" sz="3200" spc="-1" strike="noStrike">
                <a:solidFill>
                  <a:srgbClr val="000000"/>
                </a:solidFill>
                <a:latin typeface="Arial"/>
              </a:rPr>
              <a:t>view</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s act like virtual tables</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data in a view, only in the table or tables referenced by the view</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can be targeted by </a:t>
            </a:r>
            <a:r>
              <a:rPr b="0" i="1" lang="en-US" sz="2800" spc="-1" strike="noStrike">
                <a:solidFill>
                  <a:srgbClr val="000000"/>
                </a:solidFill>
                <a:latin typeface="Arial"/>
              </a:rPr>
              <a:t>select</a:t>
            </a:r>
            <a:r>
              <a:rPr b="0" lang="en-US" sz="2800" spc="-1" strike="noStrike">
                <a:solidFill>
                  <a:srgbClr val="000000"/>
                </a:solidFill>
                <a:latin typeface="Arial"/>
              </a:rPr>
              <a:t> statements exactly as if they were physical table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limited cases, views can be updated</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can be granted access to a view rather than to the table(s) named in the 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Subqueries</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statements can define </a:t>
            </a:r>
            <a:r>
              <a:rPr b="0" i="1" lang="en-US" sz="3200" spc="-1" strike="noStrike">
                <a:solidFill>
                  <a:srgbClr val="000000"/>
                </a:solidFill>
                <a:latin typeface="Arial"/>
              </a:rPr>
              <a:t>derived tables</a:t>
            </a:r>
            <a:r>
              <a:rPr b="0" lang="en-US" sz="3200" spc="-1" strike="noStrike">
                <a:solidFill>
                  <a:srgbClr val="000000"/>
                </a:solidFill>
                <a:latin typeface="Arial"/>
              </a:rPr>
              <a:t> that exist only for that </a:t>
            </a:r>
            <a:r>
              <a:rPr b="0" i="1" lang="en-US" sz="3200" spc="-1" strike="noStrike">
                <a:solidFill>
                  <a:srgbClr val="000000"/>
                </a:solidFill>
                <a:latin typeface="Arial"/>
              </a:rPr>
              <a:t>sel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a view that exists for one state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has not purchased product X?</a:t>
            </a:r>
            <a:endParaRPr b="0" lang="en-US" sz="32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 from Customer where CustomerID not i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t distinct inv.CustomerI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Invoice as inv join LineItem as li</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inv.InvoiceID = li.InvoiceI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li.Product = 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ed Procedures and Triggers</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that run within the databas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d Procedures (SPs) can be called from client programs, or by other SP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s are a special type of SP that </a:t>
            </a:r>
            <a:r>
              <a:rPr b="0" i="1" lang="en-US" sz="2800" spc="-1" strike="noStrike">
                <a:solidFill>
                  <a:srgbClr val="000000"/>
                </a:solidFill>
                <a:latin typeface="Arial"/>
              </a:rPr>
              <a:t>fire</a:t>
            </a:r>
            <a:r>
              <a:rPr b="0" lang="en-US" sz="2800" spc="-1" strike="noStrike">
                <a:solidFill>
                  <a:srgbClr val="000000"/>
                </a:solidFill>
                <a:latin typeface="Arial"/>
              </a:rPr>
              <a:t> (run) on any of </a:t>
            </a:r>
            <a:r>
              <a:rPr b="0" i="1" lang="en-US" sz="2800" spc="-1" strike="noStrike">
                <a:solidFill>
                  <a:srgbClr val="000000"/>
                </a:solidFill>
                <a:latin typeface="Arial"/>
              </a:rPr>
              <a:t>insert, update, dele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validate or audit</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written a product-specific proprietary languag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in Java or .Net is becoming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XML Data</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s are vying for the best suppor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data can of course be stored as variable-length character data, but that doesn’t require any special suppor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XML suppor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data or create virtual tables from XML</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XPath syntax to locate data within the XML stored in a column, and use that data to select r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tioned Tables</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ing a logical table, one defined by a </a:t>
            </a:r>
            <a:r>
              <a:rPr b="0" i="1" lang="en-US" sz="3200" spc="-1" strike="noStrike">
                <a:solidFill>
                  <a:srgbClr val="000000"/>
                </a:solidFill>
                <a:latin typeface="Arial"/>
              </a:rPr>
              <a:t>union view</a:t>
            </a:r>
            <a:r>
              <a:rPr b="0" lang="en-US" sz="3200" spc="-1" strike="noStrike">
                <a:solidFill>
                  <a:srgbClr val="000000"/>
                </a:solidFill>
                <a:latin typeface="Arial"/>
              </a:rPr>
              <a:t>, into separate physical 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is to divide the workload of accessing (or updating) the table between multiple ser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appropriate for huge tables, or ones that become a bottleneck in a transaction processing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ized View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views are better off being computed once and stored, rather than being virtual (and thus re-computed each time they’re acces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QL can know how to update the view when the underlying data changes, this can speed up access to the view at the cost of storing the materialized view and making needed upd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ews that are eligible to be materialized are fairly limited in most products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Quick Look at Implementation</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multiple tables in each physical fil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assignment of tables to file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able’s data is a group of pag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ge of data contains multiple row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of a table are linked togeth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 data may be in file with table dat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es reference rows by page and position within the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database to choose?</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often not your cho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an choose, what matters most to yo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knowledgeable peo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erformance is critical, test lesser-known products; some are amazingly fast for simpler usage scenarios yet quite robust and s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Choose?</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orporate development, the data likely already exists in a particular datab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if you are building a new system (or a new product) are you given the opportunity to select the database plat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customers care only that it’s “one of the big ones” (Oracle, SQL Server, DB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ustomers, the formula is often that the unknown is risky, and risk is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Most Important?</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censing costs vary dramaticall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 open source is “free” for a reason</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upport unless you pay</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three” cost an arm and a leg</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your company may already license it</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er-known products can be a great value</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s mission-critical, you want “big 3”</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t’s still your problem (and will be said to be your fault) if the database fa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ML: </a:t>
            </a:r>
            <a:r>
              <a:rPr b="0" i="1" lang="en-US" sz="4400" spc="-1" strike="noStrike">
                <a:solidFill>
                  <a:srgbClr val="000000"/>
                </a:solidFill>
                <a:latin typeface="Arial"/>
              </a:rPr>
              <a:t>select insert update delet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a:t>
            </a:r>
            <a:r>
              <a:rPr b="0" i="1" lang="en-US" sz="3200" spc="-1" strike="noStrike">
                <a:solidFill>
                  <a:srgbClr val="000000"/>
                </a:solidFill>
                <a:latin typeface="Arial"/>
              </a:rPr>
              <a:t>select</a:t>
            </a:r>
            <a:r>
              <a:rPr b="0" lang="en-US" sz="3200" spc="-1" strike="noStrike">
                <a:solidFill>
                  <a:srgbClr val="000000"/>
                </a:solidFill>
                <a:latin typeface="Arial"/>
              </a:rPr>
              <a:t> is extraordinarily versat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a:t>
            </a:r>
            <a:r>
              <a:rPr b="0" i="1" lang="en-US" sz="3200" spc="-1" strike="noStrike">
                <a:solidFill>
                  <a:srgbClr val="000000"/>
                </a:solidFill>
                <a:latin typeface="Arial"/>
              </a:rPr>
              <a:t>insert</a:t>
            </a:r>
            <a:r>
              <a:rPr b="0" lang="en-US" sz="3200" spc="-1" strike="noStrike">
                <a:solidFill>
                  <a:srgbClr val="000000"/>
                </a:solidFill>
                <a:latin typeface="Arial"/>
              </a:rPr>
              <a:t> and </a:t>
            </a:r>
            <a:r>
              <a:rPr b="0" i="1" lang="en-US" sz="3200" spc="-1" strike="noStrike">
                <a:solidFill>
                  <a:srgbClr val="000000"/>
                </a:solidFill>
                <a:latin typeface="Arial"/>
              </a:rPr>
              <a:t>update</a:t>
            </a:r>
            <a:r>
              <a:rPr b="0" lang="en-US" sz="3200" spc="-1" strike="noStrike">
                <a:solidFill>
                  <a:srgbClr val="000000"/>
                </a:solidFill>
                <a:latin typeface="Arial"/>
              </a:rPr>
              <a:t> normally operate on a single row at a time and therefore are quite primi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insert</a:t>
            </a:r>
            <a:r>
              <a:rPr b="0" lang="en-US" sz="3200" spc="-1" strike="noStrike">
                <a:solidFill>
                  <a:srgbClr val="000000"/>
                </a:solidFill>
                <a:latin typeface="Arial"/>
              </a:rPr>
              <a:t> and </a:t>
            </a:r>
            <a:r>
              <a:rPr b="0" i="1" lang="en-US" sz="3200" spc="-1" strike="noStrike">
                <a:solidFill>
                  <a:srgbClr val="000000"/>
                </a:solidFill>
                <a:latin typeface="Arial"/>
              </a:rPr>
              <a:t>update</a:t>
            </a:r>
            <a:r>
              <a:rPr b="0" lang="en-US" sz="3200" spc="-1" strike="noStrike">
                <a:solidFill>
                  <a:srgbClr val="000000"/>
                </a:solidFill>
                <a:latin typeface="Arial"/>
              </a:rPr>
              <a:t> work on multiple rows, not a single row, they become very powerful (as powerful as </a:t>
            </a:r>
            <a:r>
              <a:rPr b="0" i="1" lang="en-US" sz="3200" spc="-1" strike="noStrike">
                <a:solidFill>
                  <a:srgbClr val="000000"/>
                </a:solidFill>
                <a:latin typeface="Arial"/>
              </a:rPr>
              <a:t>selec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a:t>
            </a:r>
            <a:r>
              <a:rPr b="0" i="1" lang="en-US" sz="3200" spc="-1" strike="noStrike">
                <a:solidFill>
                  <a:srgbClr val="000000"/>
                </a:solidFill>
                <a:latin typeface="Arial"/>
              </a:rPr>
              <a:t>delete</a:t>
            </a:r>
            <a:r>
              <a:rPr b="0" lang="en-US" sz="3200" spc="-1" strike="noStrike">
                <a:solidFill>
                  <a:srgbClr val="000000"/>
                </a:solidFill>
                <a:latin typeface="Arial"/>
              </a:rPr>
              <a:t> is usually simple but can use some powerful </a:t>
            </a:r>
            <a:r>
              <a:rPr b="0" i="1" lang="en-US" sz="3200" spc="-1" strike="noStrike">
                <a:solidFill>
                  <a:srgbClr val="000000"/>
                </a:solidFill>
                <a:latin typeface="Arial"/>
              </a:rPr>
              <a:t>select</a:t>
            </a:r>
            <a:r>
              <a:rPr b="0" lang="en-US" sz="3200" spc="-1" strike="noStrike">
                <a:solidFill>
                  <a:srgbClr val="000000"/>
                </a:solidFill>
                <a:latin typeface="Arial"/>
              </a:rPr>
              <a:t>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Most Important?</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you’ll need to find experti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cle is notorious for needing a gur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y part of the application is built outside APL, you’ll find people more easily if you go with one of the big bo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is rarely known to be critic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ing out, you may have no idea if the DBMS’s performance will be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in extreme cases, you can handl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er-known Products</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 somewhat biased towards th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support is unbelievably gre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re swimming against the tide – help show the world that they deserve to exi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PL is already “weird” and “risk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test results impress you as much as they’ve impressed me, why not use what you think is the best tool, despite the “risk” of an unknown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based or APL-aware?</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find a system that seems to fit well, and is either based on APL or has some special support for APL callers, why would </a:t>
            </a:r>
            <a:r>
              <a:rPr b="0" i="1" lang="en-US" sz="3200" spc="-1" strike="noStrike">
                <a:solidFill>
                  <a:srgbClr val="000000"/>
                </a:solidFill>
                <a:latin typeface="Arial"/>
              </a:rPr>
              <a:t>you</a:t>
            </a:r>
            <a:r>
              <a:rPr b="0" lang="en-US" sz="3200" spc="-1" strike="noStrike">
                <a:solidFill>
                  <a:srgbClr val="000000"/>
                </a:solidFill>
                <a:latin typeface="Arial"/>
              </a:rPr>
              <a:t> reject it automat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you might not really be “using a SQL RDBMS” in all such those cases, and it depends on why you’re leaning towards SQL in the first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me for a Break ?</a:t>
            </a:r>
            <a:endParaRPr b="0" lang="en-US" sz="66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 Can Speak to SQL Easily</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PL for Dyalog APL (uses ODB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vailable for Dyalog Unix (not free, nor are the best ODBC drivers for Un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Direct apparently has the best Unix ODBC drivers; they are recommended by Dyalog (others work as well)</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API for APL+Win is called APL+Lin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Net – Windows database API #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 (original), or OLE DB, via COM/OC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directly to some AP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home-grown DLL, OCX, or AuxPr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PL Wins</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very hard to prove that statement in every environment, with every workload</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t’s better</a:t>
            </a:r>
            <a:endParaRPr b="0" lang="en-US" sz="3200" spc="-1" strike="noStrike">
              <a:solidFill>
                <a:srgbClr val="000000"/>
              </a:solidFill>
              <a:latin typeface="Arial"/>
            </a:endParaRPr>
          </a:p>
          <a:p>
            <a:pPr lvl="1" marL="653760" indent="-251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only interface that understands how APL works and inherently supports its arrays</a:t>
            </a:r>
            <a:endParaRPr b="0" lang="en-US" sz="2800" spc="-1" strike="noStrike">
              <a:solidFill>
                <a:srgbClr val="000000"/>
              </a:solidFill>
              <a:latin typeface="Arial"/>
            </a:endParaRPr>
          </a:p>
          <a:p>
            <a:pPr lvl="1" marL="653760" indent="-251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nterfaces require major work to hide one-row-at-a-time programming models</a:t>
            </a:r>
            <a:endParaRPr b="0" lang="en-US" sz="28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5 has a new mechanism that can provide a significant performance improvement (10x better has been reported) with a relatively small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Choices Are Inferior</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PL orien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oopy” with “scalar thinking” AP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recently have APIs (in .Net) reached parity with SQAPL techniques from 5+ years ag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bang your head against the wall when SQAPL comes free with Dyalog AP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PL is a </a:t>
            </a:r>
            <a:r>
              <a:rPr b="1" lang="en-US" sz="2800" spc="-1" strike="noStrike">
                <a:solidFill>
                  <a:srgbClr val="000000"/>
                </a:solidFill>
                <a:latin typeface="Arial"/>
              </a:rPr>
              <a:t>proven, tested, robust</a:t>
            </a:r>
            <a:r>
              <a:rPr b="0" lang="en-US" sz="2800" spc="-1" strike="noStrike">
                <a:solidFill>
                  <a:srgbClr val="000000"/>
                </a:solidFill>
                <a:latin typeface="Arial"/>
              </a:rPr>
              <a:t> solu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in something about the stupidity of trying to re-invent a tough, well-worn, smooth, very round whe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PL Set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 developers think of changes to data happening all at once, when an array value is stored (e.g. in a file compon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ng an APL array as SQL data frequently involves multiple SQL operations, because each SQL operation changes only one row at a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APL Sets are an abstraction to make working with SQL data more APL-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s of Using Sets</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an to modify data, start by reading data using one of the “set” tools; the result is a “set handle” and a data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the matrix by adding and/or deleting rows, and/or updating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set update” to store the data, passing the set handle and the new matri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Sets Work?</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trieved data is stored, associated with the “set handle” that is returned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call “set update”, APL is used to compare the old and new “tables” and make the changes by generating the needed SQL statements and running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s are an extraordinarily simple but powerful idea; take advantage of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Has DML and DDL</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ML means </a:t>
            </a:r>
            <a:r>
              <a:rPr b="0" i="1" lang="en-US" sz="3200" spc="-1" strike="noStrike">
                <a:solidFill>
                  <a:srgbClr val="000000"/>
                </a:solidFill>
                <a:latin typeface="Arial"/>
              </a:rPr>
              <a:t>data manipulation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four DML verbs are </a:t>
            </a:r>
            <a:r>
              <a:rPr b="0" i="1" lang="en-US" sz="3200" spc="-1" strike="noStrike">
                <a:solidFill>
                  <a:srgbClr val="000000"/>
                </a:solidFill>
                <a:latin typeface="Arial"/>
              </a:rPr>
              <a:t>select, insert, update, dele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defining the database structure </a:t>
            </a:r>
            <a:r>
              <a:rPr b="0" i="1" lang="en-US" sz="3200" spc="-1" strike="noStrike">
                <a:solidFill>
                  <a:srgbClr val="000000"/>
                </a:solidFill>
                <a:latin typeface="Arial"/>
              </a:rPr>
              <a:t>(schema</a:t>
            </a:r>
            <a:r>
              <a:rPr b="0" lang="en-US" sz="3200" spc="-1" strike="noStrike">
                <a:solidFill>
                  <a:srgbClr val="000000"/>
                </a:solidFill>
                <a:latin typeface="Arial"/>
              </a:rPr>
              <a:t>)</a:t>
            </a:r>
            <a:r>
              <a:rPr b="0" i="1" lang="en-US" sz="3200" spc="-1" strike="noStrike">
                <a:solidFill>
                  <a:srgbClr val="000000"/>
                </a:solidFill>
                <a:latin typeface="Arial"/>
              </a:rPr>
              <a:t>,</a:t>
            </a:r>
            <a:r>
              <a:rPr b="0" lang="en-US" sz="3200" spc="-1" strike="noStrike">
                <a:solidFill>
                  <a:srgbClr val="000000"/>
                </a:solidFill>
                <a:latin typeface="Arial"/>
              </a:rPr>
              <a:t> SQL has DD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L means </a:t>
            </a:r>
            <a:r>
              <a:rPr b="0" i="1" lang="en-US" sz="3200" spc="-1" strike="noStrike">
                <a:solidFill>
                  <a:srgbClr val="000000"/>
                </a:solidFill>
                <a:latin typeface="Arial"/>
              </a:rPr>
              <a:t>data definition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L is less standardized between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QAPL’s Current “Sets” Implementation is Not Complete</a:t>
            </a:r>
            <a:endParaRPr b="0" lang="en-US" sz="40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use SQL transa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he new version of the in-memory array will be successfully stored in the database, or the database will be unchang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support DBMS-assigned “identity” valu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I’ve said, I think these are very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ing the identity values back to APL is very important (to avoid the need to re-qu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Possible Enhancement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a few bug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handles are not closed ASA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asional inconsistent error handling (some now fixe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easily support multi-column keys (but I prefer to use identity values as ke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support </a:t>
            </a:r>
            <a:r>
              <a:rPr b="0" i="1" lang="en-US" sz="3200" spc="-1" strike="noStrike">
                <a:solidFill>
                  <a:srgbClr val="000000"/>
                </a:solidFill>
                <a:latin typeface="Arial"/>
              </a:rPr>
              <a:t>optimistic concurre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support automatic updates to related (child) 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Specific Tool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PL provides the tools to talk to various SQL databases.  (Remember that they only understand SQ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irable tool would be one to improve the performance of </a:t>
            </a:r>
            <a:r>
              <a:rPr b="0" i="1" lang="en-US" sz="2800" spc="-1" strike="noStrike">
                <a:solidFill>
                  <a:srgbClr val="000000"/>
                </a:solidFill>
                <a:latin typeface="Arial"/>
              </a:rPr>
              <a:t>Set Update</a:t>
            </a:r>
            <a:r>
              <a:rPr b="0" lang="en-US" sz="2800" spc="-1" strike="noStrike">
                <a:solidFill>
                  <a:srgbClr val="000000"/>
                </a:solidFill>
                <a:latin typeface="Arial"/>
              </a:rPr>
              <a:t> by passing data to be updated in fewer steps, perhaps as XM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QL Server in particular, sending XML data for </a:t>
            </a:r>
            <a:r>
              <a:rPr b="0" i="1" lang="en-US" sz="2800" spc="-1" strike="noStrike">
                <a:solidFill>
                  <a:srgbClr val="000000"/>
                </a:solidFill>
                <a:latin typeface="Arial"/>
              </a:rPr>
              <a:t>insert</a:t>
            </a:r>
            <a:r>
              <a:rPr b="0" lang="en-US" sz="2800" spc="-1" strike="noStrike">
                <a:solidFill>
                  <a:srgbClr val="000000"/>
                </a:solidFill>
                <a:latin typeface="Arial"/>
              </a:rPr>
              <a:t> and </a:t>
            </a:r>
            <a:r>
              <a:rPr b="0" i="1" lang="en-US" sz="2800" spc="-1" strike="noStrike">
                <a:solidFill>
                  <a:srgbClr val="000000"/>
                </a:solidFill>
                <a:latin typeface="Arial"/>
              </a:rPr>
              <a:t>update</a:t>
            </a:r>
            <a:r>
              <a:rPr b="0" lang="en-US" sz="2800" spc="-1" strike="noStrike">
                <a:solidFill>
                  <a:srgbClr val="000000"/>
                </a:solidFill>
                <a:latin typeface="Arial"/>
              </a:rPr>
              <a:t> can let them operate in bulk, rather than one row at a time.  Impressive performance gains would be quite lik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SQAPL’s API</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with an APL+Win client, I did major design and implementation work on an object-oriented layer built on the SQAPL code.  This included making most of the enhancements discussed above, adding major features for calling stored procedures, creating and modifying tables, and much more.  I hope to have a similar opportunity in Dyalog AP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Issues</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se are SQL / DBMS issues, not issues of the APL interface to SQ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 vs WAN makes a huge difference (laten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using a “middle tier” in WAN c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ure of these issues varies wildly from one DBMS to anoth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SQL statement may be very fast in one implementation, very slow in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ing Out What’s Wrong</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 is the wrong tool for analyzing performance 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can’t see what the DBMS is do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can’t see the system-level slowdow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APL tools exist for no other purpo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roblem is “too much back and forth”, can you find a way to “blast” the data across in fewer ste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data Based Tools</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PL applications are based on, or at least use, metadata – data about the data being manipulated.  APLers use these techniques naturally.  It surprises me how infrequently other programmers in other languages seem to do s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that know your database structure can be used for many things.  For example, if the table hierarchy is available as metadata, a routine can be written to produce the SQL </a:t>
            </a:r>
            <a:r>
              <a:rPr b="0" i="1" lang="en-US" sz="2800" spc="-1" strike="noStrike">
                <a:solidFill>
                  <a:srgbClr val="000000"/>
                </a:solidFill>
                <a:latin typeface="Arial"/>
              </a:rPr>
              <a:t>where</a:t>
            </a:r>
            <a:r>
              <a:rPr b="0" lang="en-US" sz="2800" spc="-1" strike="noStrike">
                <a:solidFill>
                  <a:srgbClr val="000000"/>
                </a:solidFill>
                <a:latin typeface="Arial"/>
              </a:rPr>
              <a:t> clause to join an arbitrary list of t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ools</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the datatype of database table columns can simplify creating UI scre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the relationship between tables can let (tools called by) model code retrieve related data automat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ng changes to the database schema given metadata is possible – I know, I’ve done it.  (It’s not triv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ed</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ways</a:t>
            </a:r>
            <a:r>
              <a:rPr b="0" lang="en-US" sz="3200" spc="-1" strike="noStrike">
                <a:solidFill>
                  <a:srgbClr val="000000"/>
                </a:solidFill>
                <a:latin typeface="Arial"/>
              </a:rPr>
              <a:t> (except that one should never say </a:t>
            </a:r>
            <a:r>
              <a:rPr b="0" i="1" lang="en-US" sz="3200" spc="-1" strike="noStrike">
                <a:solidFill>
                  <a:srgbClr val="000000"/>
                </a:solidFill>
                <a:latin typeface="Arial"/>
              </a:rPr>
              <a:t>always</a:t>
            </a:r>
            <a:r>
              <a:rPr b="0" lang="en-US" sz="3200" spc="-1" strike="noStrike">
                <a:solidFill>
                  <a:srgbClr val="000000"/>
                </a:solidFill>
                <a:latin typeface="Arial"/>
              </a:rPr>
              <a:t>) use identity values as PK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you can </a:t>
            </a:r>
            <a:r>
              <a:rPr b="1" i="1" lang="en-US" sz="2800" spc="-1" strike="noStrike">
                <a:solidFill>
                  <a:srgbClr val="000000"/>
                </a:solidFill>
                <a:latin typeface="Arial"/>
              </a:rPr>
              <a:t>prove</a:t>
            </a:r>
            <a:r>
              <a:rPr b="0" lang="en-US" sz="2800" spc="-1" strike="noStrike">
                <a:solidFill>
                  <a:srgbClr val="000000"/>
                </a:solidFill>
                <a:latin typeface="Arial"/>
              </a:rPr>
              <a:t> that you have one of the (very rare, in my opinion) cases where there’s a </a:t>
            </a:r>
            <a:r>
              <a:rPr b="1" i="1" lang="en-US" sz="2800" spc="-1" strike="noStrike">
                <a:solidFill>
                  <a:srgbClr val="000000"/>
                </a:solidFill>
                <a:latin typeface="Arial"/>
              </a:rPr>
              <a:t>real </a:t>
            </a:r>
            <a:r>
              <a:rPr b="0" lang="en-US" sz="2800" spc="-1" strike="noStrike">
                <a:solidFill>
                  <a:srgbClr val="000000"/>
                </a:solidFill>
                <a:latin typeface="Arial"/>
              </a:rPr>
              <a:t>reason not t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 PKs are an alternative to identity values, but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comparatively “fat” vs. integer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s with identity values are overstate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y location” benefit is overst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Lessons</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ways</a:t>
            </a:r>
            <a:r>
              <a:rPr b="0" lang="en-US" sz="3200" spc="-1" strike="noStrike">
                <a:solidFill>
                  <a:srgbClr val="000000"/>
                </a:solidFill>
                <a:latin typeface="Arial"/>
              </a:rPr>
              <a:t> write APL that writes SQ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tools to help you do s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hide SQL from APL develop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names should be singular (my opinion); not all people ag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not to base your design on the ability of your (current) DBMS to handle it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a:t>
            </a:r>
            <a:r>
              <a:rPr b="0" i="1" lang="en-US" sz="4400" spc="-1" strike="noStrike">
                <a:solidFill>
                  <a:srgbClr val="000000"/>
                </a:solidFill>
                <a:latin typeface="Arial"/>
              </a:rPr>
              <a:t>select</a:t>
            </a:r>
            <a:r>
              <a:rPr b="0" lang="en-US" sz="4400" spc="-1" strike="noStrike">
                <a:solidFill>
                  <a:srgbClr val="000000"/>
                </a:solidFill>
                <a:latin typeface="Arial"/>
              </a:rPr>
              <a:t> is Very Powerful</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lect</a:t>
            </a:r>
            <a:r>
              <a:rPr b="0" lang="en-US" sz="2800" spc="-1" strike="noStrike">
                <a:solidFill>
                  <a:srgbClr val="000000"/>
                </a:solidFill>
                <a:latin typeface="Arial"/>
              </a:rPr>
              <a:t> supports extremely complex statements that can access data from multiple tables, potentially joining them using every available join technique in a single que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a:t>
            </a:r>
            <a:r>
              <a:rPr b="0" i="1" lang="en-US" sz="2800" spc="-1" strike="noStrike">
                <a:solidFill>
                  <a:srgbClr val="000000"/>
                </a:solidFill>
                <a:latin typeface="Arial"/>
              </a:rPr>
              <a:t>select</a:t>
            </a:r>
            <a:r>
              <a:rPr b="0" lang="en-US" sz="2800" spc="-1" strike="noStrike">
                <a:solidFill>
                  <a:srgbClr val="000000"/>
                </a:solidFill>
                <a:latin typeface="Arial"/>
              </a:rPr>
              <a:t>’s power is based on the ability to define</a:t>
            </a:r>
            <a:r>
              <a:rPr b="0" i="1" lang="en-US" sz="2800" spc="-1" strike="noStrike">
                <a:solidFill>
                  <a:srgbClr val="000000"/>
                </a:solidFill>
                <a:latin typeface="Arial"/>
              </a:rPr>
              <a:t> derived tables</a:t>
            </a:r>
            <a:r>
              <a:rPr b="0" lang="en-US" sz="2800" spc="-1" strike="noStrike">
                <a:solidFill>
                  <a:srgbClr val="000000"/>
                </a:solidFill>
                <a:latin typeface="Arial"/>
              </a:rPr>
              <a:t> within a statement, and use those tables as if they held real data – but no data is actually stored to run the que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ntax is intended let you express intent without specifying a particular processing sequenc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ful does not mean simple or intui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proven (by me) Ideas</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thoughts that haven’t been fully implemented (at least not by me in APL), so be aware of that before basing your development on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represents some potential “best practices” that borrow significantly from work done by others, mostly in other langu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Definition is Often Hazy</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ne between UI, data model, and database can be uncl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nipulated by the UI of a form is most easily stored in attributes of the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rograms have a “UI data model” that’s separate from the model of the data as stored persistently (whether or not it’s stored in a SQL datab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Caused by UI Model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must be coordina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del data is stored in the UI, making changes to either the UI or the data definition forces them to change at the same ti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I validation code works from the UI mode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for event-handling in the UI naturally does BR (business rule) validation using UI-stored 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logic gets repea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must enforce BRs to prevent bad data from being stored, so logic gets repe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Model Code in the UI</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model’s data is simple – and the power of APL to manipulate data structures makes that common when writing in APL – it can be tempting to do the manipulation direc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nterface code should avoid that, instead invoking methods of the model even though they may be triv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web app – server-side code can’t rely on data being correct when submitted, so it must do valid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for browser-side validation either repeats the logic or consults the server.  Ideally, the latter is done asynchronously (using an Ajax-style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 / Data Model Separation</a:t>
            </a: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lear that the user interface code is best kept separate from (a client of) data mode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sults in models that are easier to test, and easier to re-use in other con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UI needs to implement a </a:t>
            </a:r>
            <a:r>
              <a:rPr b="0" i="1" lang="en-US" sz="2800" spc="-1" strike="noStrike">
                <a:solidFill>
                  <a:srgbClr val="000000"/>
                </a:solidFill>
                <a:latin typeface="Arial"/>
              </a:rPr>
              <a:t>Save</a:t>
            </a:r>
            <a:r>
              <a:rPr b="0" lang="en-US" sz="2800" spc="-1" strike="noStrike">
                <a:solidFill>
                  <a:srgbClr val="000000"/>
                </a:solidFill>
                <a:latin typeface="Arial"/>
              </a:rPr>
              <a:t> action, it can be tempting to use your app’s data storage APIs directly in the code that gathers the data from where it’s stored in the U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would be to call a model’s Save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 Forms Reference a Model</a:t>
            </a: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 forms should have a reference to a model objec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should be able to hold data about multiple data instances (database table rows) – this is APL, after all.</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can have documented events to which the UI can subscrib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 data should be passed to the model as soon as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fied Memory / Database Model</a:t>
            </a:r>
            <a:endParaRPr b="0" lang="en-US" sz="40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l should know about the state of the data it holds relative to the databa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in the database (vs. new dat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t is, has it changed since the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currently valid (ready to be sav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t, what error message data is ther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good source of design ideas is Scott Ambler’s ActiveRecord model.  It is only slightly array-oriented, so it is not ideal unchang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Models</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model methods on an as-needed basis.  APL programmers often work to create tools that have much more functionality than is needed today.  When writing models, put required functionality into lower-level tools (creating them as needed) and keep only high-level logic, and calls to the lower-level tools, in the models.  Maximize the work not 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ig Thank You to Morten</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ould not be here if Morten had not asked me to deliver this talk.  I had not seen Dyalog APL in more than 20 years, having used only APL*PLUS (now APL+) for all that time.  I appreciate seeing where Dyalog APL is today, and I’m always happy to visit Denmark.  I’ve enjoyed what’s felt like a warm welcome from this community.  I thank both you and Morten for your genero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0:26:08Z</dcterms:created>
  <dc:creator>J. Merrill</dc:creator>
  <dc:description/>
  <dc:language>en-US</dc:language>
  <cp:lastModifiedBy>J. Merrill</cp:lastModifiedBy>
  <dcterms:modified xsi:type="dcterms:W3CDTF">2006-10-25T01:55:24Z</dcterms:modified>
  <cp:revision>35</cp:revision>
  <dc:subject/>
  <dc:title>Using SQL Databases from Dyalog APL (v11+)</dc:title>
</cp:coreProperties>
</file>