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1.png" ContentType="image/png"/>
  <Override PartName="/ppt/media/image39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7.wmf" ContentType="image/x-wmf"/>
  <Override PartName="/ppt/media/image50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37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5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729B-C261-4C8C-9F03-6EBF61499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cd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However, a survey of nearly 40 years of computing literature identified a number of fundamental concepts, identified in the strong majority of definitions of OOP. 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terface could requir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er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mplementation and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ould implement it via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ering whee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ed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ould implement it via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ic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steering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o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power and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vi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udd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ail movem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s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k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can also be pro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it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and B are independant. &lt;M2&gt; is a subroutine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akin to localized vars in APL (except that they can be seen in subfns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er on, Stephen Taylor will present a real lif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ir can be many!), NewValue &amp; mayb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297-FAD2-4F84-93C7-67FEB66C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DCA-69AD-4E18-A394-E2A149F3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903-24AF-415B-9C45-A365F91E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653-F5A0-4DEF-9E93-A56424DD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305D-3084-4502-A8C1-D3BC9C79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443D-CA58-4113-8CB0-57B252E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42BC-8172-438D-9AAD-60AD97BE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0557-AC7B-42F0-8472-18227CF3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5355-BDB3-413B-9700-E126AA14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014B-E801-4744-B24C-6FBE8702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FBE4-491B-45A2-AF8A-6BDF4E9F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DDA-85D2-487E-95D0-47D9AEC6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F923-D9F9-403D-98A3-128986F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571F-4E6F-4899-832E-D606D1E8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2DD7-53AC-44DB-AC0B-A394FF08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042C-F999-486E-A41A-E1BF64FF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B11C-0AB9-4024-89A1-582676F1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355B-E562-4BB5-B3AA-6440CBB5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7E9B9-ABF2-4EB0-BF07-9FD173EA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232D-1BC7-4084-9C3B-3942D228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1CE0A-BD44-49E3-8E4D-FB9F8EB6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DCC9-0D4E-4DF0-8640-DA87F719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49B-6C4D-4A68-8920-D8DDF824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EBE0-4831-41B8-B168-D5C1111A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10A2-1B44-438F-B0D6-F9019505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20356-D8D8-4771-969B-651770C5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040C1-16BD-4E12-BA38-6C232427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667C-1D6B-42BC-A79A-4D21B187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318C-9223-4C74-B40C-F86787EB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CA46-064C-4657-A9C2-06A22660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0AE-4BB0-4A45-8D27-B2E4F280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407-4DDA-4575-AB27-7A245569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DFD-7F55-40F3-9D87-5480ED46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FB9-2A3D-4B1A-94A3-3A3587AC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F79-3E76-45BB-989F-3F4F8C13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05E-A869-425F-BAFB-70771F2B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81FB-3A2F-4132-AE7B-DE5856427B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302E-263A-4ED3-B7A0-81B5BB1FAB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AE68-3B58-4EF4-AA26-B4DE04DAE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4600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90082"/>
                </a:solidFill>
                <a:latin typeface="Arial Black"/>
              </a:rPr>
              <a:t>Object Oriented Programming in APL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050920" y="2133720"/>
            <a:ext cx="5113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New Sense of Direc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Oh, Oh!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Dan Barone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0808"/>
                </a:solidFill>
                <a:latin typeface="Arial"/>
              </a:rPr>
              <a:t>V1.01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63700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378936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479736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263700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2781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78200" y="3789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4797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2276640"/>
            <a:ext cx="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27560" y="5516640"/>
            <a:ext cx="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7560" y="3500280"/>
            <a:ext cx="0" cy="28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13160" y="4508640"/>
            <a:ext cx="0" cy="288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55" idx="5"/>
            <a:endCxn id="159" idx="1"/>
          </p:cNvCxnSpPr>
          <p:nvPr/>
        </p:nvCxnSpPr>
        <p:spPr>
          <a:xfrm flipV="1">
            <a:off x="1763280" y="3141000"/>
            <a:ext cx="2017080" cy="37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59" idx="3"/>
            <a:endCxn id="158" idx="2"/>
          </p:cNvCxnSpPr>
          <p:nvPr/>
        </p:nvCxnSpPr>
        <p:spPr>
          <a:xfrm>
            <a:off x="4860720" y="3141360"/>
            <a:ext cx="2230920" cy="37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8" name=""/>
          <p:cNvCxnSpPr>
            <a:stCxn id="156" idx="5"/>
            <a:endCxn id="159" idx="1"/>
          </p:cNvCxnSpPr>
          <p:nvPr/>
        </p:nvCxnSpPr>
        <p:spPr>
          <a:xfrm flipV="1">
            <a:off x="1763280" y="3141000"/>
            <a:ext cx="2017080" cy="1189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6" idx="5"/>
            <a:endCxn id="160" idx="1"/>
          </p:cNvCxnSpPr>
          <p:nvPr/>
        </p:nvCxnSpPr>
        <p:spPr>
          <a:xfrm flipV="1">
            <a:off x="1763640" y="4149000"/>
            <a:ext cx="2015280" cy="181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0" idx="3"/>
            <a:endCxn id="158" idx="2"/>
          </p:cNvCxnSpPr>
          <p:nvPr/>
        </p:nvCxnSpPr>
        <p:spPr>
          <a:xfrm flipV="1">
            <a:off x="4859280" y="3177360"/>
            <a:ext cx="2232720" cy="972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7" idx="5"/>
            <a:endCxn id="161" idx="1"/>
          </p:cNvCxnSpPr>
          <p:nvPr/>
        </p:nvCxnSpPr>
        <p:spPr>
          <a:xfrm flipV="1">
            <a:off x="3132000" y="5157000"/>
            <a:ext cx="648360" cy="181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99CB-A8B2-4585-B6BD-AD5914D27B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on-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67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4D5-3F4E-4EA4-AEA4-11C05E8C2B49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86D-82B6-4521-8C23-158C48232638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89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D6E-FA88-4072-872D-8A009AF8D43A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den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05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54120" y="5373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BD7-7160-422B-9D18-C91A10B4199F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11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74F-ECB4-4456-8252-872EBAACE7BD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den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28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54120" y="5373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BC3-1859-4A6C-8758-D5340272785F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35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C29-00BA-46F9-B5B6-043BC91EF88B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680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Destructo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y are used to clean-up after an instance is destroyed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KingLear←⎕new life 'Lear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King  Lear  is born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)erase KingLea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Lear  is dead, long live the king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4FE-D3CC-40E5-B84F-2098C8065E41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Since classes and instances are a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of namespace their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basic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classification is 9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C ‘myClass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o find their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sub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-class they need to be enclosed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C 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‘myClass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A913-8EA0-4DCC-AA20-A95CB08BC628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⍴⍴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L 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⍴⍴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L -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4DA2-16BE-4535-93FD-BA1A5067870D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90840" y="2708280"/>
            <a:ext cx="5933880" cy="2897280"/>
            <a:chOff x="1590840" y="2708280"/>
            <a:chExt cx="5933880" cy="289728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1590840" y="2708280"/>
              <a:ext cx="5933880" cy="28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656720" y="418104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99560" y="4708440"/>
              <a:ext cx="103896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56720" y="365760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07280" y="366552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0000" y="366156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56080" y="418104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3360" y="3653640"/>
              <a:ext cx="1038600" cy="49068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DA6-3B0C-440A-9EDC-02EEC1C6BB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L and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NC are symmetric such tha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∊⎕NC ⎕NL |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n∊⎕NL-⎕NC¨vn  ⍝ vn is a list of nam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F110-BA2B-4C6E-AAC3-FB6DDF597AB6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24000" y="141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L and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NC also apply to variables and functions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 complete list is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/4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1  Variable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raditional fn/o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S created by ⎕NS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2  Field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-fns or –o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Instance (could be form)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3  Property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rived/Primitive            -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4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Class      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5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Interface  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6  External/shared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    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Class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7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Interface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D9A-B87D-4BB1-838B-8C0CFB44855C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24000" y="141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NL also reports instance members when used with a negative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ance.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⎕NL -2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1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⍝ report all field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91C-8CCD-4E04-A256-CE49B16C9871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80808"/>
                </a:solidFill>
                <a:latin typeface="Arial"/>
              </a:rPr>
              <a:t>Type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of Namespaces and their ⎕N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wo already existed in V1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gular N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1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m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2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2 (NOT 9.3!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4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erfac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5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437-715A-4918-8A0D-42E6B21C3C42}" type="slidenum">
              <a:t>1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⎕DF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68000" y="1411200"/>
            <a:ext cx="84963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efault display form of a namespace is its path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t1.s1’ ⎕NS ‘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t1.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change this using ⎕DF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⎕df  ‘(S1: son of t1)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2C1-59BB-4041-9225-1A64439B7117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1760" y="1484280"/>
            <a:ext cx="8327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   ⍝ even if assigned a new nam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what does this look like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≡t1.s1   ⍝ it “remembers” its refere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⍬≡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it is still just a ref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its display has a length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A3A9-AAF1-47E4-9FFA-195C9A67241D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v11←’var’ ⍝ If we change the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⎕fx ‘f1’ ‘...’ ⍝ contents of s1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t1.s1.⎕nl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abc.⎕nl 2 3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abc will “see” i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’abc’  ‘t1’  ‘t1.s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.1  9.1  9.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276720" y="4508640"/>
            <a:ext cx="100800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08000" y="5013360"/>
            <a:ext cx="5032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39640" y="5013360"/>
            <a:ext cx="50328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692360" y="4508640"/>
            <a:ext cx="792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235160" y="5013360"/>
            <a:ext cx="5032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508640"/>
            <a:ext cx="5032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A44B-FB03-4F8A-BFEB-7BA225FA74AD}" type="slidenum">
              <a:t>1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63480" y="1456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get a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distinc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opy of t1.s1 we need to d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←⎕NS ⎕OR ‘t1.s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abc.⎕NL  2  3    ⍝ everything i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opi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even its 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≡t1.s1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but they’re differ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.⎕fd ‘I am ABC’    ⋄   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8EC6-E39F-4860-AD98-1D81BDDF73B3}" type="slidenum">
              <a:t>1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779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8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670-600C-4394-B6A6-B5049E8D6A4A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792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95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1AB-890F-42F7-8225-DBA70E6B2143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OO systems, data is more tightly coupled with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42920" y="2349360"/>
            <a:ext cx="3024000" cy="1656000"/>
            <a:chOff x="1042920" y="2349360"/>
            <a:chExt cx="3024000" cy="1656000"/>
          </a:xfrm>
        </p:grpSpPr>
        <p:sp>
          <p:nvSpPr>
            <p:cNvPr id="186" name=""/>
            <p:cNvSpPr/>
            <p:nvPr/>
          </p:nvSpPr>
          <p:spPr>
            <a:xfrm>
              <a:off x="1042920" y="234936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892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200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804000" y="2781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42920" y="4221000"/>
            <a:ext cx="3024000" cy="1656000"/>
            <a:chOff x="1042920" y="4221000"/>
            <a:chExt cx="3024000" cy="1656000"/>
          </a:xfrm>
        </p:grpSpPr>
        <p:sp>
          <p:nvSpPr>
            <p:cNvPr id="191" name=""/>
            <p:cNvSpPr/>
            <p:nvPr/>
          </p:nvSpPr>
          <p:spPr>
            <a:xfrm>
              <a:off x="1042920" y="422100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5892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04000" y="36831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46101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07280" y="353052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07280" y="442908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7280" y="53308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7280" y="23972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2924280"/>
            <a:ext cx="1081080" cy="576000"/>
          </a:xfrm>
          <a:prstGeom prst="flowChartPunchedCard">
            <a:avLst/>
          </a:prstGeom>
          <a:solidFill>
            <a:srgbClr val="ffff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80808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653000"/>
            <a:ext cx="1081080" cy="576360"/>
          </a:xfrm>
          <a:prstGeom prst="flowChartPunchedCard">
            <a:avLst/>
          </a:prstGeom>
          <a:solidFill>
            <a:srgbClr val="ffff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80808"/>
                </a:solidFill>
                <a:latin typeface="Arial"/>
              </a:rPr>
              <a:t>Do th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2924280"/>
            <a:ext cx="3313080" cy="215640"/>
          </a:xfrm>
          <a:prstGeom prst="leftRightArrow">
            <a:avLst>
              <a:gd name="adj1" fmla="val 50000"/>
              <a:gd name="adj2" fmla="val 30585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73720" y="2924280"/>
            <a:ext cx="998640" cy="734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508720" y="4581360"/>
            <a:ext cx="998280" cy="735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80000" y="4797360"/>
            <a:ext cx="3168360" cy="216000"/>
          </a:xfrm>
          <a:prstGeom prst="leftArrow">
            <a:avLst>
              <a:gd name="adj1" fmla="val 50000"/>
              <a:gd name="adj2" fmla="val 366708"/>
            </a:avLst>
          </a:prstGeom>
          <a:solidFill>
            <a:srgbClr val="790082">
              <a:alpha val="58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BB7-05CB-471D-AE71-F760BF03EB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801" name="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04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←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0F2E-C48C-4325-9162-9AF7E83DADC2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efault display form of a Form is its path, just like a namesp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F1’ ⎕WC ‘form’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change this using ⎕DF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df ‘&lt;F1 is in great form&gt;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607-3433-462D-AA24-4DA40D80423E}" type="slidenum">
              <a:t>1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add items to it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b1’ ⎕wc ‘button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2’ F1.⎕wc ‘edit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F1’  ‘F1.b1’  ‘F1.e2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.2  9.2  9.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have 3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instanc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f built-in APL form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e2   F1  ⍝ each with its own 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.e2   &lt;F1 is in great form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EF4-9813-40A3-878E-DD7A84E4F012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23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contains 2 object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l  2 3 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2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b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Caption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A51-B95B-41A4-BFA8-23814D7C9FE8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form is pretty much like a namespac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can contain variables and function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v1←’some var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fx ‘f1’ ‘whatever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2 3   ⍝ these are POSITIVE number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are the items WE have add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CBE2-FBE5-48E1-8343-F1CEAF7BF1EB}" type="slidenum">
              <a:t>1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36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now contains 4 object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 2 3 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4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F1.b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5F9-6400-4886-8A29-BD21A2EBAAED}" type="slidenum">
              <a:t>1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UT a form also ha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properti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ethod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wx←1  ⍝ to be able to see th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ccelerator  ... Caption ...  YRang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c 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’Caption’   ⍝ Caption is extern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¯2.6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are the only visibl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ember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insid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the form. They do NOT appear in ⎕nl +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8EE-0583-49B9-B558-CD2F269D5835}" type="slidenum">
              <a:t>1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555920"/>
            <a:ext cx="81471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has 2 types of functions and variabl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in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and specific to its typ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 those we ad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s can be listed with a NEGATIVE ⎕NL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s can be listed with a POSITIVE ⎕NL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639-4507-4188-B2CC-A928453564EC}" type="slidenum">
              <a:t>1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3" name="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A58-76C5-483A-B55E-C4E45F126968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we redefine the form all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bjects disappear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F1’⎕wc’form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58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6B8-141D-4A1E-80E0-1DA6DFE12B80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OO APL systems, data is also tightly coupled with code but in a more procedural manner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42920" y="2349360"/>
            <a:ext cx="3024000" cy="1656000"/>
            <a:chOff x="1042920" y="2349360"/>
            <a:chExt cx="3024000" cy="1656000"/>
          </a:xfrm>
        </p:grpSpPr>
        <p:sp>
          <p:nvSpPr>
            <p:cNvPr id="209" name=""/>
            <p:cNvSpPr/>
            <p:nvPr/>
          </p:nvSpPr>
          <p:spPr>
            <a:xfrm>
              <a:off x="1042920" y="234936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5892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3200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42920" y="4221000"/>
            <a:ext cx="3024000" cy="1656000"/>
            <a:chOff x="1042920" y="4221000"/>
            <a:chExt cx="3024000" cy="1656000"/>
          </a:xfrm>
        </p:grpSpPr>
        <p:sp>
          <p:nvSpPr>
            <p:cNvPr id="214" name=""/>
            <p:cNvSpPr/>
            <p:nvPr/>
          </p:nvSpPr>
          <p:spPr>
            <a:xfrm>
              <a:off x="1042920" y="422100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5892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3200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447192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23" name=""/>
          <p:cNvCxnSpPr/>
          <p:nvPr/>
        </p:nvCxnSpPr>
        <p:spPr>
          <a:xfrm flipH="1" flipV="1" rot="10800000">
            <a:off x="5362920" y="2996280"/>
            <a:ext cx="2520" cy="361080"/>
          </a:xfrm>
          <a:prstGeom prst="curvedConnector5">
            <a:avLst>
              <a:gd name="adj1" fmla="val -249100000"/>
              <a:gd name="adj2" fmla="val 50000"/>
              <a:gd name="adj3" fmla="val -249100000"/>
            </a:avLst>
          </a:prstGeom>
          <a:ln w="9360">
            <a:solidFill>
              <a:srgbClr val="080808"/>
            </a:solidFill>
            <a:prstDash val="dash"/>
            <a:miter/>
            <a:headEnd len="med" type="diamond" w="med"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H="1" flipV="1" rot="10800000">
            <a:off x="5292360" y="4867920"/>
            <a:ext cx="2160" cy="361080"/>
          </a:xfrm>
          <a:prstGeom prst="curvedConnector5">
            <a:avLst>
              <a:gd name="adj1" fmla="val -249100000"/>
              <a:gd name="adj2" fmla="val 50000"/>
              <a:gd name="adj3" fmla="val -249100000"/>
            </a:avLst>
          </a:prstGeom>
          <a:ln w="9360">
            <a:solidFill>
              <a:srgbClr val="080808"/>
            </a:solidFill>
            <a:prstDash val="dash"/>
            <a:miter/>
            <a:headEnd len="med" type="diamond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FFF-8DAC-4A85-84A1-E45E57E292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6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BC1-7906-47E6-A567-04A00A893A3A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67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70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6EE-E431-4D04-BE9C-64396E84A06B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81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84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2093-0B9C-4958-BE1E-6AEE207ACD36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92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95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A08-6A93-4E46-B653-791FF12A7C46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903" name="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s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06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8B8-E5F0-4D97-9D93-5B6552C13C10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terfa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18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BE0-4349-42D8-9741-1F205F363FF0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terfa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7928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245-894F-4263-85A3-A30659632E93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Includ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598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may be because the code to include is common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70F-A08A-4C7C-904A-80B21833C6E8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 summary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y new system commands &amp; f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terfaces show how it is don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umbered Properties are implemented in a special manner in AP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riggers offer lightweight properti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L/⎕NC have been extend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notion of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names is importa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clusion of common code is possibl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047-7384-4288-851F-BBB488BAA715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FE6-CA75-47D0-A939-E9BF7121420E}" type="slidenum">
              <a:t>1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9dcb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9dcb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10800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Object Oriented paradig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B7C-113A-4433-803E-AB129282E3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DF9-74BE-46DC-A049-19CBFFA6BAF1}" type="slidenum">
              <a:t>1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9528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is used to create complex numbers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t can perform most simple math operations on them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ublic instance field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1 public shared fiel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rivate field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5 instance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E359-AF21-4D7C-9560-C60785A0944E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9528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also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5 shared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se perform the basic operations: + × ÷ *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691080" cy="546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97A-BC6B-4004-977F-3954F7FE194A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also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constructors a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rivate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one of which is a trigger for when one of the fields is modifi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E5B-AF80-4638-95F8-9286AEE9C129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Keyed component fi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rt of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ile.Read ‘key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868-F84B-4232-8CC6-6658EFCE18FF}" type="slidenum">
              <a:t>1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Keyed </a:t>
            </a:r>
            <a:br>
              <a:rPr sz="3600"/>
            </a:b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component fil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Like this →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4884840" y="0"/>
            <a:ext cx="4259160" cy="70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5AC-958B-4477-BF06-1E7DC0E366B5}" type="slidenum">
              <a:t>1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8E0-736F-47F5-873D-5F66FE47D07A}" type="slidenum">
              <a:t>1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icrosoft.Net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0A8-1856-484F-94B3-54F93034B837}" type="slidenum">
              <a:t>1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689-E694-4FB7-934E-A162D2645B73}" type="slidenum">
              <a:t>1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Forms and more via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t is possible to create forms using ⎕new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ote that the class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name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You can create OLE controls with ⎕new too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xl←⎕NEW 'OleClient‘ (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'ClassName‘ 'Excel.Application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B33-882F-409C-B762-CB474C7F54C7}" type="slidenum">
              <a:t>1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Object Oriented paradigm is based on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213372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871D-2632-449A-B2AB-E5696A574B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⎕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WX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system function eXposes Window’s interf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= do NOT expose anyth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2= use new V11 syntax (e.g. Sheet[3]...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0FA-6A5C-4FE7-8B0B-29D8A5C41A74}" type="slidenum">
              <a:t>1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xl←⎕NEW 'OleClient‘ (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'ClassName‘ 'Excel.Application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x allows to use V10 syntax of the new V11 syntax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⎕wx←1 ⍝ use V10 for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 ActiveWorkbook.Sheets.(Item 1).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⎕wx←3 ⍝ use V11 for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ActiveWorkbook.Sheets[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’Sheet2'].Index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⎕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WX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850-418A-49B5-BF2C-CD1963588D7B}" type="slidenum">
              <a:t>1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tandardize dialog box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1←⎕NEW Dialog ('Hello World' (50 250) ⍬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For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(a name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You can do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m←⎕NEW ‘form’ ..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2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ED7-7031-4E5C-A621-6A7A5A806F68}" type="slidenum">
              <a:t>1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Net utiliti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re is a lot of utilities out there that can be used in APL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DateTi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class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y are found in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Syste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namespace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o be able to use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DateTi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Syste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namespace with ⎕USING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USING←’System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w←⎕new DateTime ⎕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w ⍝ let’s see its display form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006/10/15 21:47:0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c ‘now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291-FF14-45D3-8995-8696BE37CCF6}" type="slidenum">
              <a:t>1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88D-4D29-46F9-B3A5-FB02E8183690}" type="slidenum">
              <a:t>1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llow other languages to use your code you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nu it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D36-9440-4110-826E-713AA40AF09D}" type="slidenum">
              <a:t>1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Signature statemen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t is made up of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:Signature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...] ] 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rt←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return type. If present it MUST be followed by ←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fnna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at1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1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 type, if prese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name1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name of the 1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c9900"/>
                </a:solidFill>
                <a:latin typeface="Arial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ng2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c99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...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same for the other argum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B04-EE88-457C-BC78-51735DA64672}" type="slidenum">
              <a:t>1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’s how a C# program would use this program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 System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 APLClasses;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 // the namespace in which our 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is fou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ublic static void Main() {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rimitives apl = new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Primitives();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the APL 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int[] rslt = apl.GenIndices(10);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THE cal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for (int i=0;i&lt;rslt.Length;i++) Console.WriteLine(rslt[i]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} 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CA41-8C55-4321-999A-BE787B24064A}" type="slidenum">
              <a:t>1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’s how another APL program would use this program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←'APLclasses,c:\...\apl.dll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pr←⎕NEW Primitiv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pr.GenIndices 1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1 2 3 4 5 6 7 8 9 1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E71-99CD-453B-AA76-C1ACCC237D27}" type="slidenum">
              <a:t>1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eb services can be written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SMX files and ASPX fil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workspaces “behind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63B0-55CF-440A-BAE0-B4C905055140}" type="slidenum">
              <a:t>1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1. Class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class defines the abstract characteristics of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thing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, akin to a blueprin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describes a collection of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variabl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(functions), possibly with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onstructor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 that can be used to create objects of the class and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destructor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to remove the objects thus creat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77D-B2AD-48D5-9CFF-FFA48DF920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ample of Web services written in APLScrip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9933ff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DC7-D1B4-49AD-BBBF-4EB41EE8A956}" type="slidenum">
              <a:t>1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ample of Web services written in APLScrip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2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087-18E1-4436-80A3-4FC7B9DB2351}" type="slidenum">
              <a:t>1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fbcdff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1016" name="" descr=""/>
            <p:cNvPicPr/>
            <p:nvPr/>
          </p:nvPicPr>
          <p:blipFill>
            <a:blip r:embed="rId2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fbcdff">
                <a:alpha val="43000"/>
              </a:srgbClr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1019" name="" descr=""/>
            <p:cNvPicPr/>
            <p:nvPr/>
          </p:nvPicPr>
          <p:blipFill>
            <a:blip r:embed="rId3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fbcdff">
                <a:alpha val="43000"/>
              </a:srgbClr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60C3-6BE4-48DA-8DA2-7ECD0A48D6B1}" type="slidenum">
              <a:t>1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Using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Using vs ⎕U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Using X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akin to ⎕USING,←X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0⍴⊂⍬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B3F9-F97C-444C-86CA-340C345A75E5}" type="slidenum">
              <a:t>1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amespaces in script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4" name="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22920" y="1341360"/>
            <a:ext cx="629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43B-88AE-4C75-936F-F1652C3B0945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loading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using←'System'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1←⎕new DateTime ⎕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2←⎕new DateTime (2006 10 16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1←⎕new TimeSpan (7 2 0 0) ⍝ 7 days, 2 hour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+d3←d1-t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2006/10/03 17:12:0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1&lt;d2,d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 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276-B289-4581-95F7-A6E6DB4CFF0A}" type="slidenum">
              <a:t>1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395280" y="13716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se of modific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duced maintenance cos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sier to mod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an speed up development tim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091-30F2-4C38-99DB-C1B62ACA4689}" type="slidenum">
              <a:t>1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395280" y="13716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OO languages make abstraction eas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encourage architectures with elaborate layers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D84-3155-40F6-8924-06BF2F7BAD08}" type="slidenum">
              <a:t>1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27D-2240-428B-A272-6370A19D0E2E}" type="slidenum">
              <a:t>1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EE5-65FA-4F64-8BEE-B05C19BF3078}" type="slidenum">
              <a:t>1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mplement one or more 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terfac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t should d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EC3-429B-4259-A607-7FB625162A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3059280" y="3213000"/>
            <a:ext cx="3457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Buyer beware!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9B2-F18D-432C-9E39-D453943661C9}" type="slidenum">
              <a:t>1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9280" y="1373040"/>
            <a:ext cx="8785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following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nterface describes what </a:t>
            </a:r>
            <a:r>
              <a:rPr b="0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ha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be done with a machin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Steer (direction); // where to g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Accellerate (power); // go fast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SlowDown (strength); // go slow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t does NOT specify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6D0-A60E-4B3B-8273-58FB7D4B5B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943600" y="1557360"/>
            <a:ext cx="3205080" cy="4249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ar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bject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1874880"/>
            <a:ext cx="62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SteeringWhee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teer (turn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GasPeda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Accellerate (push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BreakPeda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lowDown (hit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E3D6-FB13-4C42-B431-77D1B4EC24C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13420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eroperability &amp; 64 bit O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WS manageme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primitives &amp; enhancements to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Object Orient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155736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V11 has been releas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ere are the major featur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CFA-125A-4DD8-9294-7FA8B6788E2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22920" y="1773360"/>
            <a:ext cx="3421080" cy="4032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lane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bject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892160"/>
            <a:ext cx="786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Stick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teer (move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Handle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Accellerate (pushpull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Flaps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lowDown (degree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F26-66A3-443B-97F4-C9C8378FFA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2. Instanc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are tangible objects created from a specific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constructor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f the class if need b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destruction,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destructor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responsible for cleaning up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190-DA2B-4312-A8D5-2D1B211A49A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3. Member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s is the code and the data of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ode is divided int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Method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functions) and data is divided int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Field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variables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als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operti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which are Fields implemented via functions to read/set the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ll these are visible from outside when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invisible from outside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50E-1FC0-4D76-859D-761F5803EC5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Method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can either reside in the class (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) or in the instance (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also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abstrac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thods (e.g. in interfaces) with no code, only calling syntax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onstructor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destructor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re method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79D-F363-46DD-92FF-2429C4A5928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Field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can either reside in the class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field) or in the instance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field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can also b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read only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48E-CD03-45D1-8EF2-688A6575CF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Properti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are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Field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mplemented by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thods, i.e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 </a:t>
            </a: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PropX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	</a:t>
            </a:r>
            <a:r>
              <a:rPr b="0" lang="fr-CA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80808"/>
                </a:solidFill>
                <a:latin typeface="Arial"/>
              </a:rPr>
              <a:t>is implemented b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can either reside in the class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property) or in the instance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property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DDE-D503-4ED6-BF4A-FBBB491C8F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4. Message passing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s is the (usually asynchronous) sending (often by copy) of a data item to a communication endpoint (process, thread, socket,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etc.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procedural languages it corresponds to a call made to a routi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AFAB-6C0B-4523-8D6B-1540DFA1B34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5. 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deriv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from them and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inherit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their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members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This helps achieve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reusability, 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a cornerstone of O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9AA-BD81-4C65-8272-94C7B2FBC23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We say that a (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derived)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class is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on another 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80808"/>
                </a:solidFill>
                <a:latin typeface="Arial"/>
              </a:rPr>
              <a:t>All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classes (but one) are derived from another one or by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System.Object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(the defaul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E73-76C1-4033-B0C9-33B8928921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classes (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reusability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Collie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Dog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og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Rex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lli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63" idx="3"/>
            <a:endCxn id="264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3" idx="3"/>
            <a:endCxn id="266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4" idx="3"/>
            <a:endCxn id="268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4" idx="3"/>
            <a:endCxn id="269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9" idx="3"/>
            <a:endCxn id="267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9" idx="3"/>
            <a:endCxn id="265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2462-4DD5-4A9B-B81D-B9F749DBD9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90082"/>
                </a:solidFill>
                <a:latin typeface="Arial Black"/>
              </a:rPr>
              <a:t>This talk is based on 2 things: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77756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80808"/>
                </a:solidFill>
                <a:latin typeface="Arial"/>
              </a:rPr>
              <a:t>Why? Why should I know about this? Why am I here?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80808"/>
                </a:solidFill>
                <a:latin typeface="Arial"/>
              </a:rPr>
              <a:t>OK, I’m still here, how do I use it?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5F51-F2BF-4875-BA17-123718C6F9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When an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is created from a class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on another one it inherits all its members automaticall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Members can be redefined but subroutines must be specifically set to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overrid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base class subroutin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410-2157-4A08-B599-2C440B1439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ultiple 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can be based on several other classes. See </a:t>
            </a: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class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ule made out of 2 different class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164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Hor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onke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84" idx="3"/>
            <a:endCxn id="286" idx="1"/>
          </p:cNvCxnSpPr>
          <p:nvPr/>
        </p:nvCxnSpPr>
        <p:spPr>
          <a:xfrm flipV="1">
            <a:off x="4356000" y="4438440"/>
            <a:ext cx="721440" cy="5752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3" idx="3"/>
            <a:endCxn id="286" idx="1"/>
          </p:cNvCxnSpPr>
          <p:nvPr/>
        </p:nvCxnSpPr>
        <p:spPr>
          <a:xfrm>
            <a:off x="4356000" y="3646080"/>
            <a:ext cx="721440" cy="793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5076720" y="3933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u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31C-97C2-47E5-A4D5-013F610056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e concep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AD4-262B-47A5-8B49-95C8F49B351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B50-9709-4FE6-9CE4-1E7C83426D7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5600" y="5589720"/>
            <a:ext cx="38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:M2 does not allow to be override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9CD-F70F-4C44-9C46-5066AE3CF4F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ab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81400" y="558972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:M2 does allow to be overriden AND B wants to override i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309-14B7-4FEE-B471-7D6B9268C48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3272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6. Encapsulatio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ides the underlying functionalit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conceals the exact details of how a particular class works from objects (external or internal) that use its cod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allows to modify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 internal implementation of a class without requiring changes to its services (i.e. methods)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2E66-10A9-49FC-BC02-E0A51A2798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xample: a car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108-C460-4E64-929E-4B884670373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allo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a member there are various leve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By default,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the nor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7CF4-3F4D-452D-A43F-88B5EC0D130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90082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rivat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not be seen from anywhere. Only other Methods can access it from inside the class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 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from within the instance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 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onl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en in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90082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90082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467-B4D7-4CCF-9287-B34C4807DF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Synopsi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413000"/>
            <a:ext cx="640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hy should I be here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as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 do I use this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istory of O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PL wa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mplementation detail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Real Life Example (SJ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B16-42D0-459C-B404-259B200E42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rotecte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protect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 only be seen from within the instance of from within instances within it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90082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onl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en in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F66-D7CA-4FF6-9ECE-503E1340CD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ubli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see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n all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745-11E0-4B99-A4D8-9A755450883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frien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class declared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frien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can see the offerer’s private and public member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08720" y="3718080"/>
            <a:ext cx="2160360" cy="1726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rivate Pv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ublic Pu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riend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90360" y="3089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70160" y="30686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47640" y="3716280"/>
            <a:ext cx="2160720" cy="93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rivate Av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ublic Au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08720" y="4292640"/>
            <a:ext cx="215892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95680" y="4076640"/>
            <a:ext cx="22003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3564000" y="4292640"/>
            <a:ext cx="223344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19800" y="483876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Here A sees B’s 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s its own 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5BD-98F1-4B9F-936B-319610EA76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7. Polymorphism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typ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of data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BAA-1CFC-4705-99CC-5D5909C935F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Polymorphism exampl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1989000"/>
            <a:ext cx="3600720" cy="3018600"/>
          </a:xfrm>
          <a:prstGeom prst="rect">
            <a:avLst/>
          </a:prstGeom>
          <a:solidFill>
            <a:srgbClr val="fb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o (integer arg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fn called with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an integer ar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int “Int arg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1989000"/>
            <a:ext cx="3600360" cy="3018600"/>
          </a:xfrm>
          <a:prstGeom prst="rect">
            <a:avLst/>
          </a:prstGeom>
          <a:solidFill>
            <a:srgbClr val="fb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o (string arg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fn called with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a string ar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int “String arg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21440" y="52293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ame function name, different cod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766-E3DF-454B-9BA8-725E7C5240C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3120" y="2133720"/>
            <a:ext cx="8170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program that accepts multiple defini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overload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times arguments have to be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 coerced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o a new type to achieve proper behaviou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A94-B0D5-417B-A063-BD9FC55B289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OO C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ncepts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 Summa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O is based on +-7 key concep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blueprin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are objects created from 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contain members (data &amp; cod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ir access is restricte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relation between classes is based on inheritance or specific acce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51F-4CB6-4621-86EE-A98145698CA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OO basic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552-A8DA-4420-BF7F-899C83756D1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19B-C6D3-4048-A926-0B7D1FE09439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follows C# rules close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extensions to the language have been made in following with the :Keywords scheme introduced in the 90s (All new keywords start with ‘:’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 new system functions have been added an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 new system commands als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AAB-408F-487B-B8E1-FE2FC991CD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Reasons: why do this?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Because Object Orientation is a Valuable Tool of Thought!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To be able to Share Tools and Components more Easi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To help us Manage Complexity in all Project Pha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use .Net more easi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2BB-2E79-4C4D-AF89-C14690DB1B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Let’s see how Dyalog APL does thi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627280" y="213372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15A-C93C-4CB1-B6E0-4C405245A8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class can be defined using the )EDitor as in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○ My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331308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3C9-90E2-49CD-9A12-34F435A3B7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the workspac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My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ppears as a namespac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C ‘MyClass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1C0-28DF-4CC9-BFCB-C139D64F611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members in a class ar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 same as a variabl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: same as a func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Property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 looks and feels like a variable but implemented as a pair of functio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ll can be either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the defaul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6A0-28B8-48E9-9ABE-C66403A7C3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ccess is the same for methods (fns) and properti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3695760" y="1413000"/>
            <a:ext cx="5268960" cy="42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0115-A4C7-431D-883E-A63B21879B1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16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class to the right shows a few methods (fns) and their acce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&lt;mon1&gt; is also used as a constructor. It MUST be public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440240" y="1341360"/>
            <a:ext cx="428940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706-0CE4-4676-9B67-E22F7942DCC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16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class to the right shows 2 properties and their acce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 is private and readonly (it has no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se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fn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 is public read/writ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683160" cy="4608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435640" y="2276640"/>
            <a:ext cx="2521080" cy="865080"/>
          </a:xfrm>
          <a:prstGeom prst="rect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35640" y="3284640"/>
            <a:ext cx="2521080" cy="2160360"/>
          </a:xfrm>
          <a:prstGeom prst="rect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575-CD77-4EF4-8C26-298584327452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like blueprints: they define how things should b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 is a new system function that creates an object using a class as an instance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hatever is in the class will appear in the instance as a copy, not a refere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stan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CA0-C1D9-4D3C-B186-56A532011C5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accepts a one or two elements argumen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ne is the class (not its n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, if present, is what to start/initialize it with. It can only be supplied if the class accepts a value as initializ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3C3-E43F-43BF-A18E-322588A1F73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yInstance←⎕NEW   MyClas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isplay form includes [brackets] by defaul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yInsta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[MyClass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is another type of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myInstance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84F-98F6-4521-BB37-FAF4648D6F0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was already in V10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bility to use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ith classes was already there in V10 but it was more difficult to us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291456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16320" y="2852640"/>
            <a:ext cx="2192400" cy="302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707080" y="2852640"/>
            <a:ext cx="325764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FC2-D4D9-458A-B575-91B7A2ABB0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23640" y="1371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may requir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someth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to initialize the instance. Ex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○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3236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onstructo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211640" y="1989000"/>
            <a:ext cx="4248000" cy="36529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90520" y="310824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mus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e have at least tw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 of leg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ounds it mak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3C5-1174-4121-93E0-016AB052BD0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23640" y="1371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everal instances can be made up of the same Animal clas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3236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onstructo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3562200" y="1916280"/>
            <a:ext cx="4681800" cy="20746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63960" y="265572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fter running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functio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we have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)ob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ish monkey myInstance snake tiger Animal My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C ‘animals’   ⍝ this is a variable holding 4 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nimals.Nlegs   ⍝ how many legs for each animal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4 0 0 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2EF-2491-4120-B049-FF2C8C97718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message passing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class.sharedFn arg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Instance.Fn args ⍝ if an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AB8-29CF-4E00-AC01-FD5548E4AF6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Collie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Dog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5" idx="3"/>
            <a:endCxn id="456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58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6" idx="3"/>
            <a:endCxn id="460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56" idx="3"/>
            <a:endCxn id="461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1" idx="3"/>
            <a:endCxn id="459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1" idx="3"/>
            <a:endCxn id="457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06E-B949-4A78-BE37-DED88C06963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1342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ample: a bird’s generic description is ‘plain Bird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irdy←⎕NEW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irdy.Desc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lain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3860640"/>
            <a:ext cx="1584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3" idx="3"/>
            <a:endCxn id="475" idx="1"/>
          </p:cNvCxnSpPr>
          <p:nvPr/>
        </p:nvCxnSpPr>
        <p:spPr>
          <a:xfrm>
            <a:off x="2555640" y="4365360"/>
            <a:ext cx="361080" cy="1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916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y (Bir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436572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887640" cy="2766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24000" y="314172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16720" y="3625920"/>
            <a:ext cx="1224000" cy="28872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1840" y="512460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is call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C55-B1F3-4943-9BC8-DB86F67E723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364000" y="306864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4392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ample: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 parrot is a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oco←⎕NEW Parro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oco.Desc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ot a plain Bird, a Parro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95280" y="3933720"/>
            <a:ext cx="5256000" cy="1942920"/>
            <a:chOff x="395280" y="3933720"/>
            <a:chExt cx="5256000" cy="1942920"/>
          </a:xfrm>
        </p:grpSpPr>
        <p:sp>
          <p:nvSpPr>
            <p:cNvPr id="486" name=""/>
            <p:cNvSpPr/>
            <p:nvPr/>
          </p:nvSpPr>
          <p:spPr>
            <a:xfrm>
              <a:off x="715680" y="4733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Bir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3"/>
              <a:endCxn id="488" idx="1"/>
            </p:cNvCxnSpPr>
            <p:nvPr/>
          </p:nvCxnSpPr>
          <p:spPr>
            <a:xfrm flipV="1">
              <a:off x="2126160" y="4333680"/>
              <a:ext cx="321120" cy="80064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2446920" y="393372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Birdy (Bird)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5280" y="5134320"/>
              <a:ext cx="320400" cy="0"/>
            </a:xfrm>
            <a:prstGeom prst="line">
              <a:avLst/>
            </a:prstGeom>
            <a:ln w="9360">
              <a:solidFill>
                <a:srgbClr val="08080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46920" y="507672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arrot: Bir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6" idx="3"/>
              <a:endCxn id="490" idx="1"/>
            </p:cNvCxnSpPr>
            <p:nvPr/>
          </p:nvCxnSpPr>
          <p:spPr>
            <a:xfrm>
              <a:off x="2126160" y="5134320"/>
              <a:ext cx="321120" cy="34344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241160" y="507672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co (Parrot)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90" idx="3"/>
              <a:endCxn id="492" idx="1"/>
            </p:cNvCxnSpPr>
            <p:nvPr/>
          </p:nvCxnSpPr>
          <p:spPr>
            <a:xfrm>
              <a:off x="3856680" y="5477040"/>
              <a:ext cx="384840" cy="108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</p:grpSp>
      <p:sp>
        <p:nvSpPr>
          <p:cNvPr id="494" name=""/>
          <p:cNvSpPr/>
          <p:nvPr/>
        </p:nvSpPr>
        <p:spPr>
          <a:xfrm>
            <a:off x="6804000" y="278136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408720" y="538020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5680" y="2852640"/>
            <a:ext cx="345600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708360" y="213372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18200" y="400536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028000" y="4797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43640" y="227664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97" idx="5"/>
            <a:endCxn id="498" idx="7"/>
          </p:cNvCxnSpPr>
          <p:nvPr/>
        </p:nvCxnSpPr>
        <p:spPr>
          <a:xfrm flipH="1" rot="16200000">
            <a:off x="4062240" y="1899720"/>
            <a:ext cx="1823400" cy="2410560"/>
          </a:xfrm>
          <a:prstGeom prst="curvedConnector5">
            <a:avLst>
              <a:gd name="adj1" fmla="val 49901"/>
              <a:gd name="adj2" fmla="val 49992"/>
              <a:gd name="adj3" fmla="val 49901"/>
            </a:avLst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1"/>
            <a:endCxn id="500" idx="1"/>
          </p:cNvCxnSpPr>
          <p:nvPr/>
        </p:nvCxnSpPr>
        <p:spPr>
          <a:xfrm flipV="1" rot="16200000">
            <a:off x="5985720" y="275508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6443640" y="2637000"/>
            <a:ext cx="2089080" cy="2879640"/>
          </a:xfrm>
          <a:custGeom>
            <a:avLst/>
            <a:gdLst/>
            <a:ahLst/>
            <a:rect l="l" t="t" r="r" b="b"/>
            <a:pathLst>
              <a:path w="1316" h="2087">
                <a:moveTo>
                  <a:pt x="0" y="0"/>
                </a:moveTo>
                <a:cubicBezTo>
                  <a:pt x="26" y="128"/>
                  <a:pt x="53" y="257"/>
                  <a:pt x="227" y="317"/>
                </a:cubicBezTo>
                <a:cubicBezTo>
                  <a:pt x="401" y="377"/>
                  <a:pt x="885" y="159"/>
                  <a:pt x="1044" y="363"/>
                </a:cubicBezTo>
                <a:cubicBezTo>
                  <a:pt x="1203" y="567"/>
                  <a:pt x="1316" y="1338"/>
                  <a:pt x="1180" y="1542"/>
                </a:cubicBezTo>
                <a:cubicBezTo>
                  <a:pt x="1044" y="1746"/>
                  <a:pt x="424" y="1497"/>
                  <a:pt x="227" y="1588"/>
                </a:cubicBezTo>
                <a:cubicBezTo>
                  <a:pt x="30" y="1679"/>
                  <a:pt x="15" y="1883"/>
                  <a:pt x="0" y="2087"/>
                </a:cubicBezTo>
              </a:path>
            </a:pathLst>
          </a:custGeom>
          <a:noFill/>
          <a:ln w="9360">
            <a:solidFill>
              <a:srgbClr val="08080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27640" y="4149720"/>
            <a:ext cx="71640" cy="57456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59480" y="5157720"/>
            <a:ext cx="0" cy="50328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F37-1A4E-45E0-B7CF-E76EB706B80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e can create classes and instances at all level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rrot: 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weety (Macaw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caw: Parro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08" idx="3"/>
            <a:endCxn id="509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8" idx="3"/>
            <a:endCxn id="514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9" idx="3"/>
            <a:endCxn id="511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11" idx="3"/>
            <a:endCxn id="510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y (Bir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co (Parrot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21" name=""/>
          <p:cNvCxnSpPr>
            <a:stCxn id="509" idx="3"/>
            <a:endCxn id="520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AD18-8FAC-4367-98E6-D30B38C21F1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onstructors with argu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Using the animal kingdom as exampl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24" idx="3"/>
            <a:endCxn id="525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24" idx="3"/>
            <a:endCxn id="527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25" idx="3"/>
            <a:endCxn id="529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25" idx="3"/>
            <a:endCxn id="530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0" idx="3"/>
            <a:endCxn id="528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0" idx="3"/>
            <a:endCxn id="526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4F9C-834E-40CB-A93B-D5CCF472BAA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CB1-F0C9-49AD-96B2-87DD49478F7C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68" name=""/>
          <p:cNvCxnSpPr>
            <a:stCxn id="567" idx="7"/>
            <a:endCxn id="566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62" idx="1"/>
            <a:endCxn id="563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4" idx="3"/>
            <a:endCxn id="565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0BF-4859-434B-BDDD-BB89E30BE594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Histo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O is not new, it’s been around for a whil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etty much the same story as AP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50s: concep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60s: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mplementation (SIMULA compiler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70s: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user base, Smalltalk compil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80s: into Eiffel to bridge the “gap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≠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PL) thanks to C++ and Jav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AAA-82C9-461B-B6D1-74D3CEEEF7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00000" y="1587240"/>
            <a:ext cx="73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allo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a member there are various access leve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EFC-6A8B-40FD-A7A0-AD5A94DA4BD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107640" y="155736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expose a member you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u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ake it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a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roperty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a method (fn) you must use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:Access public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a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var) you must use this statement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: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yFiel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55C-A154-4ACB-BA1E-981EF911BF4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ccess is the same for methods (fns) and properti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3695760" y="1413000"/>
            <a:ext cx="5268960" cy="42321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5ED-716F-492B-B965-94609F1B3D6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899640" y="1341000"/>
            <a:ext cx="7489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ch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gets a copy of each me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f 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is kept in the class for all instances to see (and used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790-7E97-4A41-B347-BF9D6C9DCD6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609120" y="1557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 keepCou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ere each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has its own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D and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3B5-A0B0-4CB3-8C0F-F4D9AE474A2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1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2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3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keepCount.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keepCount.⎕nl-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ount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2.⎕nl-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ount  MyNam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1.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929040" cy="475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9F5-898F-4907-9184-5A3F8FBB4E5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TOH, a constructor MAY have severa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144360" y="11592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Polymorphis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A9F-6EB1-4033-8E7A-B425A9B8126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5363640" y="1268280"/>
            <a:ext cx="302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44360" y="11592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Polymorphis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89" name=""/>
          <p:cNvSpPr/>
          <p:nvPr/>
        </p:nvSpPr>
        <p:spPr>
          <a:xfrm>
            <a:off x="395280" y="1390680"/>
            <a:ext cx="4897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Depending on the number of arguments, the proper fn will be used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AA1-B82D-434F-AB83-1F71BCEE64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summa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follows C# rules close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to edit 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much like namespac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ir members (vars &amp; fns) cannot all be accesse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[]NEW makes an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can be based on another on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use constructors to initialize the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202-A56D-40B7-AE31-3275EA6A570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83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8AE-6BD9-49FA-B629-D8FDAC7DD6F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582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lementary data elements (like int) and arrays of them (all the s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tructures (like {i: int; d: date}), many elementary elements or structures (recur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amespaces (structures whose elements are referred to by n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(namespaces with initializers &amp; cleaner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D5C-BEE9-4EB2-BCC6-B6428EDD20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Imple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eta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D44-D57D-4BB1-B1C1-8DE04E8A6CAD}" type="slidenum">
              <a:t>8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is a lot more that has been implement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APL uncovered new territory when venturing into O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nd many were answer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82B-36CC-4897-8F96-D73F127761F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○name (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ircl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edit a ne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RC: Just like ⎕NR returns a function in nested form, ⎕SRC will return the representation of a class in nested for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IX: Just like ⎕FX creates a function, ⎕FIX creates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DB1-D6D3-41C3-9D05-AE51B7D2D34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2560" y="1371600"/>
            <a:ext cx="88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returns the tree of referenc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CLASS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lists all classes in the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⍟ns/○cl/∘interf;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s can contain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F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allows to alter the display of a class (any namespace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class can implement an </a:t>
            </a:r>
            <a:r>
              <a:rPr b="0" i="1" lang="en-GB" sz="2800" spc="-1" strike="noStrike">
                <a:solidFill>
                  <a:srgbClr val="cc99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INTERFACES  lists all interfaces in the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771-4A3B-4AEB-93AB-9F5F9375410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684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mplement one or more 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terfac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t should d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46E-DC2F-4D25-B834-E5B0659BCB2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nterface describes what </a:t>
            </a:r>
            <a:r>
              <a:rPr b="0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ha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be done with a machin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∘maneuver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does NOT specif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it should be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on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4427640" y="2365200"/>
            <a:ext cx="4066920" cy="372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586-4425-4881-BAA6-DA741414554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756720" y="1196640"/>
            <a:ext cx="8207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ar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9" name="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23E-CD3E-472E-B2B4-137518E06EC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276800" cy="43718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647640" y="11966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lane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3" name="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2A8-B915-4BEC-8C10-ED5B818CC66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ember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an be another nested class (but not a n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lists the instances of a 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creates an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rigg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pecial Property ca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041-00C1-4F41-B0F9-E28E833BD36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other languages they are implemented as a pair of functions.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APL this simple case is handled naturally. It is called the SIMPLE case and is the defa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se where indexing is made using any object (as opposed to numbers) is also handled easily. This is the KEYED cas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array nature of APL introduced a notion of NUMBERED property. This is the 3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r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s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3567-1E2D-4B64-B466-A92A4A95EC3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ata in Dyalog APL (DYW)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DYW all these objects exis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You can often simulate one by anoth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W can also store the ⎕OR of a namespac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950-7B49-4E5C-988D-61232394EC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SIMPLE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a property is set,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s SET function is call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retrieved, its GE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unction is call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contain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name of the propert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Name) and its valu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NewValue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38436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D6D-500B-4DFF-B7BA-D8D3F6CF71D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KEYED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et/get function call is mad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also containing the indices of the property (Indexers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k MUST be used with [brackets] and their contents cannot be elid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ir shape must conform to APL rules for assignment and res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5560920" y="1484280"/>
            <a:ext cx="332892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592-87F0-482C-8FFD-D7D829CA2C2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NUMBERED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et/get function call is made, ONCE per index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also containing the index to deal with (Indexers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n may be used with indices. The SHAPE fn is used to check and generate indice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ir shape must conform to APL rules for assignment and res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6224760" y="1484280"/>
            <a:ext cx="270180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CF1C-B9A1-4D7C-803C-2F8D26418CB5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Default Properti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re can be only on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[index]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s the same a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.defProp[index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D8A9-86BA-481F-81D5-24FD7477B468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0920" y="1069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Triggers</a:t>
            </a:r>
            <a:endParaRPr b="0" lang="en-US" sz="32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←⎕NEW trigger1 ('Daniel' 'Baronet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iel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iel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.FirstName←'Dan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7B0-131F-48AA-A37D-D2E6EA04C110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Inheritance: new system functions/command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used to call base class constructo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ASE used to call base class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override/ab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Destructors are called when the instance is destroy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C/⎕NL have been extend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is the same as (⎕NS’’).##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:implements, :acce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an be GUI based (ex: :Class F: ‘form’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:includ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31D-F083-4E7E-9CEB-63E9D4C3CBE7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48" idx="7"/>
            <a:endCxn id="647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43" idx="1"/>
            <a:endCxn id="644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5" idx="3"/>
            <a:endCxn id="646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:Bas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1C0-5E97-4765-A91F-F15D8CB31A1E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1←⎕new derived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1.sqr 2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⎕Bas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1866960" cy="21337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952720" cy="23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C817-AE2D-4AD0-B676-F392A64F296A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llowing slides will attempt to explain this in more detail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1C4-E49D-47DC-BBE4-45C7F35916A9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on-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745-B362-4E4B-A816-ABCE4653A93E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06-10-18T07:19:36Z</dcterms:modified>
  <cp:revision>87</cp:revision>
  <dc:subject/>
  <dc:title>OO Obj OR pgm</dc:title>
</cp:coreProperties>
</file>