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F63B-E5F2-4A24-86F7-256026552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92C4-FA85-45E4-A853-91F21367A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0B9E-7673-40EC-84F4-ECD5D376F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8504-2852-4BC1-A6F8-AAF9731FC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8F3EC-3C00-455A-AD09-78B9DCB15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A3E56-3188-4CAC-9E5A-C2CBA03B9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80EBE-BA2F-443A-A31D-8FFAD5569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4CAA2-98EB-49FF-A3B2-D517908D8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0BA5E-6B1C-4746-97EE-D096005E2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A9A35-B6EE-4B81-BFDA-626AF2446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EDC09-6380-4A9F-8F32-21107EE1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8931-4E8B-4FC8-9027-A4B8E228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F04EF-335B-4923-926B-6E3726B0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18F6D-72F6-4DB4-822A-2CDFAF15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838AF-1171-4DCC-BE98-DF93D85CB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BEC80-7B24-405A-8A9F-374AE80E6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92EED-5379-435A-9A7A-1292C67FB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144B-8265-4CBD-BCDA-4A154C198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2D2A-87C6-4D31-B016-04F5A9ECE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F392-E5B9-47FE-A436-B91098713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C3A2-76C2-4181-ACF6-6F77A2F04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D36A-274A-4B79-940E-8EFDCA7C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5A40-55EB-4B10-8641-DFEED736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72AB-3B6D-46C7-B1B1-AC52119C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848720" y="457200"/>
            <a:ext cx="1295280" cy="53352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2f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533520" y="762120"/>
            <a:ext cx="8609040" cy="761760"/>
          </a:xfrm>
          <a:prstGeom prst="rect">
            <a:avLst/>
          </a:prstGeom>
          <a:gradFill rotWithShape="0">
            <a:gsLst>
              <a:gs pos="0">
                <a:srgbClr val="00101f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cece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3B8E7-52E7-4598-85C3-BA7D4B6EE8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05920" y="152280"/>
            <a:ext cx="457200" cy="533520"/>
          </a:xfrm>
          <a:prstGeom prst="rect">
            <a:avLst/>
          </a:prstGeom>
          <a:gradFill rotWithShape="0">
            <a:gsLst>
              <a:gs pos="0">
                <a:srgbClr val="2f0075"/>
              </a:gs>
              <a:gs pos="50000">
                <a:srgbClr val="6600ff"/>
              </a:gs>
              <a:gs pos="100000">
                <a:srgbClr val="2f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610480" y="0"/>
            <a:ext cx="533520" cy="38088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2f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localhost:8080/" TargetMode="External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localhost:8080/loan/RUN" TargetMode="External"/><Relationship Id="rId2" Type="http://schemas.openxmlformats.org/officeDocument/2006/relationships/hyperlink" Target="http://localhost:8080/loan/bullet.gif" TargetMode="External"/><Relationship Id="rId3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 Unicode MS"/>
              </a:rPr>
              <a:t>WildHeart.HTTPListener</a:t>
            </a:r>
            <a:br>
              <a:rPr sz="4400"/>
            </a:b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an open source Web Server 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for Dyalog APL v11.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334120" y="4572000"/>
            <a:ext cx="31240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Stefan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WildHeart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Lanzavecchi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alog User Group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F16F-AEEC-47F9-8CDE-20B39157F8A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-10-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cecec"/>
                </a:solidFill>
                <a:latin typeface="Times New Roman"/>
              </a:rPr>
              <a:t>Solutions</a:t>
            </a: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yalog APL integrates quite well with Microsoft IIS+ASP.NET, and can be called from other web servers, but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se solutions require a lot of heavy machinery from other vend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learning curve is still quite hig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yalog provide a sample SERVER workspace, but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It leaves almost all the work of deciphering HTTP to yo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It’s based on old standa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yalog User Group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01E18-7AE6-4561-96D2-F1258411DC0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6-10-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cecec"/>
                </a:solidFill>
                <a:latin typeface="Times New Roman"/>
              </a:rPr>
              <a:t>Solutions</a:t>
            </a: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 author has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 keen (geek) interest in OO, web and other software development methodolog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Written numerous tools on top of the Dyalog TCPSocket objec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yalog User Group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507D2-CC3D-4F78-AF63-7FC35328E8D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6-10-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cecec"/>
                </a:solidFill>
                <a:latin typeface="Times New Roman"/>
              </a:rPr>
              <a:t>Enter WildHeart.HTTPListener</a:t>
            </a: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advent of Object Orientation in Dyalog 11.0 makes it attractive to start agai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y goal is to create a framework which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Requires a little knowledge of HTML and hardly any knowledge of HTT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llows ”ordinary” APL developers to easily write Web applications, yet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Is built from reusable, replaceable components which can be extended by APL developers who learn a little more..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Is portable across all platforms which support TC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Is run as an </a:t>
            </a:r>
            <a:r>
              <a:rPr b="1" i="1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open source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project, to be shared and extended by anyone who wishes to contribu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yalog User Group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8CDCC-BF1C-4C61-B8F7-62157230045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6-10-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cecec"/>
                </a:solidFill>
                <a:latin typeface="Times New Roman"/>
              </a:rPr>
              <a:t>To write or </a:t>
            </a:r>
            <a:r>
              <a:rPr b="1" lang="en-GB" sz="4400" spc="-1" strike="noStrike">
                <a:solidFill>
                  <a:srgbClr val="ececec"/>
                </a:solidFill>
                <a:latin typeface="Times New Roman"/>
              </a:rPr>
              <a:t>Not to write</a:t>
            </a: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Why NOT TO WRITE a web server in APL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is is the third web server I develop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ff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I was paid to develop the first (and it was never used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ff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I was almost paid to the develop/steal the second (and it’s heavily used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ff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I was NOT paid to develop the third and I had to find the time to do it at night and during weeken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 wise man once said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only a fool would do that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yalog User Group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AF3CF-75C0-4359-8313-5767D8D5A27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6-10-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cecec"/>
                </a:solidFill>
                <a:latin typeface="Times New Roman"/>
              </a:rPr>
              <a:t>Not to write, seriously</a:t>
            </a: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HTTP is easy but trick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Reliabil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ecur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pe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o many web servers out the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yalog User Group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51DBB-846B-4259-BC08-D4263117FE2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6-10-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cecec"/>
                </a:solidFill>
                <a:latin typeface="Times New Roman"/>
              </a:rPr>
              <a:t>To write</a:t>
            </a:r>
            <a:r>
              <a:rPr b="0" lang="en-GB" sz="4400" spc="-1" strike="noStrike">
                <a:solidFill>
                  <a:srgbClr val="ececec"/>
                </a:solidFill>
                <a:latin typeface="Times New Roman"/>
              </a:rPr>
              <a:t> or not to write</a:t>
            </a: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Why write a web server in APL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(I wrote an editorial about it in Vector a few years ago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asily embeddable in an APL applic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asily understood by APL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an stay near the core of the applic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yalog User Group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B00E2-2D77-49D2-9D8D-AF9DC4B61B6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6-10-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cecec"/>
                </a:solidFill>
                <a:latin typeface="Times New Roman"/>
              </a:rPr>
              <a:t>To write</a:t>
            </a:r>
            <a:r>
              <a:rPr b="0" lang="en-GB" sz="4400" spc="-1" strike="noStrike">
                <a:solidFill>
                  <a:srgbClr val="ececec"/>
                </a:solidFill>
                <a:latin typeface="Times New Roman"/>
              </a:rPr>
              <a:t> or not to write</a:t>
            </a: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"One of the reasons to use Lisp in writing Web-based application is that you </a:t>
            </a:r>
            <a:r>
              <a:rPr b="1" i="1" lang="en-GB" sz="3200" spc="-1" strike="noStrike">
                <a:solidFill>
                  <a:srgbClr val="ffffff"/>
                </a:solidFill>
                <a:latin typeface="Arial"/>
              </a:rPr>
              <a:t>can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use Lisp. When you're writing software that is only going to run on your own servers, you can use whatever language you want.“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aul Grah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yalog User Group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51B83-1987-4887-96F2-DEC9305F4EF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6-10-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cecec"/>
                </a:solidFill>
                <a:latin typeface="Times New Roman"/>
              </a:rPr>
              <a:t>To write!</a:t>
            </a: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Morten needs a demo. I need an HTTP/1.1 web server, written in APL. APL Italiana, the company I work for, also needs one, even if they haven’t realised this yet.”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tefano Lanzavecch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yalog User Group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246FA-A3A3-4827-93B4-FCC6EC4A56E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6-10-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cecec"/>
                </a:solidFill>
                <a:latin typeface="Times New Roman"/>
              </a:rPr>
              <a:t>Components of… WildServer’06</a:t>
            </a: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TTPListe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TTPReque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ooki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Request Variabl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TTPRespon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ooki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TML Uti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vent pip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ser Valid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ess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atic file serv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amespace as filesystem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ile Handler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plx fil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pls fil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yalog User Group Conferenc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D4285-7EB7-48F0-AA97-9521D0E95DF7}" type="slidenum">
              <a:t>1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6-10-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cecec"/>
                </a:solidFill>
                <a:latin typeface="Times New Roman"/>
              </a:rPr>
              <a:t>Dyalog APL: an OO language</a:t>
            </a: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Web server: a good test bed for the OO exten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bstractions: </a:t>
            </a: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divide et imper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heritance: </a:t>
            </a: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this looks a bit like th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Keyed properties: </a:t>
            </a: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syntax trick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What is missing in the language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Is the IDE good enough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yalog User Group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7B05F-2588-47D4-80D8-B10582ABB67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6-10-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cecec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PL should be a popular language for developing web pages, because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PL has all you need to generating static and dynamic web cont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t is not used as much as it deserves, because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ven the best tools need good frameworks to level the learning curve a b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o frameworks are readily availa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yalog User Group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03620-D892-41C4-BEE1-B8F5459F371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6-10-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cecec"/>
                </a:solidFill>
                <a:latin typeface="Times New Roman"/>
              </a:rPr>
              <a:t>HTTPListener</a:t>
            </a: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PL385 Unicode"/>
              </a:rPr>
              <a:t>fs←⎕NEW #.WildHeart.FileSystem('c:\aplserve'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PL385 Unicode"/>
              </a:rPr>
              <a:t>listener←⎕NEW web.HTTPListener(8080 f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PL385 Unicode"/>
              </a:rPr>
              <a:t>listener.St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3505320"/>
            <a:ext cx="7391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n point your web browser at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localhost:8080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It’s a kind of magic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yalog User Group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EC4A0-461B-421D-A607-7D45527169F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6-10-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cecec"/>
                </a:solidFill>
                <a:latin typeface="Times New Roman"/>
              </a:rPr>
              <a:t>The trip of an HTTP request</a:t>
            </a: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CPSocket gets TCPRecv ev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HTTPRequest objects collects them, and parses the request according to the HTTP spec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When the request is complete, it gets shipped to a dispatcher…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yalog User Group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7080F-78CE-4BD9-9ECF-6C5DEC62611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6-10-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cecec"/>
                </a:solidFill>
                <a:latin typeface="Times New Roman"/>
              </a:rPr>
              <a:t>The dispatcher: FileSystem</a:t>
            </a: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o me a FileSystem looks like a namespace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ts folders are sub-namespa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dea: we can inject virtual folders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 virtual folder can be a folder on the HD coming from a different sub-fold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 virtual folder can be… an APL namespace! Its functions would be files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yalog User Group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EB7CC-58CE-4DC3-83FC-203A85837CA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6-10-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cecec"/>
                </a:solidFill>
                <a:latin typeface="Times New Roman"/>
              </a:rPr>
              <a:t>APLNamespace</a:t>
            </a: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4038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localhost:8080/loan/RU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ecutes #.loan.RU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u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localhost:8080/loan/bullet.gi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ll transmit the file c:\aplserve\loan\bullet.gi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19810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PL385 Unicode"/>
              </a:rPr>
              <a:t>fs←⎕NEW #.WildHeart.FileSystem('c:\aplserve'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PL385 Unicode"/>
              </a:rPr>
              <a:t>fs['loan']←⎕NEW web.APLNamespace(#.loan'c:\aplserve\loan'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PL385 Unicode"/>
              </a:rPr>
              <a:t>listener←⎕NEW web.HTTPListener(8080 f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PL385 Unicode"/>
              </a:rPr>
              <a:t>listener.St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yalog User Group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4203F-B84F-41E2-825C-048FB0AE65A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6-10-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cecec"/>
                </a:solidFill>
                <a:latin typeface="Times New Roman"/>
              </a:rPr>
              <a:t>ZipFileSystem</a:t>
            </a: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ow the folders and files come from a zip fil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eat, uh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 fact this presentation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19810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PL385 Unicode"/>
              </a:rPr>
              <a:t>fs←⎕NEW web.</a:t>
            </a:r>
            <a:r>
              <a:rPr b="1" sz="2000" spc="-1" strike="noStrike" u="sng">
                <a:solidFill>
                  <a:srgbClr val="ffffff"/>
                </a:solidFill>
                <a:uFillTx/>
                <a:latin typeface="APL385 Unicode"/>
              </a:rPr>
              <a:t>ZipFileSystem</a:t>
            </a:r>
            <a:r>
              <a:rPr b="1" sz="2000" spc="-1" strike="noStrike">
                <a:solidFill>
                  <a:srgbClr val="ffffff"/>
                </a:solidFill>
                <a:latin typeface="APL385 Unicode"/>
              </a:rPr>
              <a:t>('c:\aplserve.zip?aplserve'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PL385 Unicode"/>
              </a:rPr>
              <a:t>fs['loan']←⎕NEW web.APLNamespace(#.loan'c:\aplserve\loan'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PL385 Unicode"/>
              </a:rPr>
              <a:t>listener←⎕NEW web.HTTPListener(8080 f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PL385 Unicode"/>
              </a:rPr>
              <a:t>listener.St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yalog User Group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AA34A-006B-470D-98AC-EFCE768A508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6-10-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cecec"/>
                </a:solidFill>
                <a:latin typeface="Times New Roman"/>
              </a:rPr>
              <a:t>FileSystem</a:t>
            </a: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ffff"/>
                </a:solidFill>
                <a:latin typeface="Arial"/>
              </a:rPr>
              <a:t>Basically one method: ProcessReque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APL385 Unicode"/>
              </a:rPr>
              <a:t>∇ </a:t>
            </a:r>
            <a:r>
              <a:rPr b="1" sz="1800" spc="-1" strike="noStrike">
                <a:solidFill>
                  <a:srgbClr val="ffffff"/>
                </a:solidFill>
                <a:latin typeface="APL385 Unicode"/>
              </a:rPr>
              <a:t>ProcessRequest ctx;html;ns;raw;apl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APL385 Unicode"/>
              </a:rPr>
              <a:t>  </a:t>
            </a:r>
            <a:r>
              <a:rPr b="1" sz="1800" spc="-1" strike="noStrike">
                <a:solidFill>
                  <a:srgbClr val="ffffff"/>
                </a:solidFill>
                <a:latin typeface="APL385 Unicode"/>
              </a:rPr>
              <a:t>:Access Public Instance Overri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APL385 Unicode"/>
              </a:rPr>
              <a:t>  </a:t>
            </a:r>
            <a:r>
              <a:rPr b="1" sz="1800" spc="-1" strike="noStrike">
                <a:solidFill>
                  <a:srgbClr val="ffffff"/>
                </a:solidFill>
                <a:latin typeface="APL385 Unicode"/>
              </a:rPr>
              <a:t>ctx←#.WildHeart.HTTPContext.Curre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APL385 Unicode"/>
              </a:rPr>
              <a:t>  </a:t>
            </a:r>
            <a:r>
              <a:rPr b="1" sz="1800" spc="-1" strike="noStrike">
                <a:solidFill>
                  <a:srgbClr val="ffffff"/>
                </a:solidFill>
                <a:latin typeface="APL385 Unicode"/>
              </a:rPr>
              <a:t>html←_NS⍎MapFileName ctx.UR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APL385 Unicode"/>
              </a:rPr>
              <a:t>  </a:t>
            </a:r>
            <a:r>
              <a:rPr b="1" sz="1800" spc="-1" strike="noStrike">
                <a:solidFill>
                  <a:srgbClr val="ffffff"/>
                </a:solidFill>
                <a:latin typeface="APL385 Unicode"/>
              </a:rPr>
              <a:t>r←ctx._Respon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APL385 Unicode"/>
              </a:rPr>
              <a:t>  </a:t>
            </a:r>
            <a:r>
              <a:rPr b="1" sz="1800" spc="-1" strike="noStrike">
                <a:solidFill>
                  <a:srgbClr val="ffffff"/>
                </a:solidFill>
                <a:latin typeface="APL385 Unicode"/>
              </a:rPr>
              <a:t>r._IsBodyRaw←raw←82≠⎕DR htm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APL385 Unicode"/>
              </a:rPr>
              <a:t>  </a:t>
            </a:r>
            <a:r>
              <a:rPr b="1" sz="1800" spc="-1" strike="noStrike">
                <a:solidFill>
                  <a:srgbClr val="ffffff"/>
                </a:solidFill>
                <a:latin typeface="APL385 Unicode"/>
              </a:rPr>
              <a:t>r._Body←htm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APL385 Unicode"/>
              </a:rPr>
              <a:t>  </a:t>
            </a:r>
            <a:r>
              <a:rPr b="1" sz="1800" spc="-1" strike="noStrike">
                <a:solidFill>
                  <a:srgbClr val="ffffff"/>
                </a:solidFill>
                <a:latin typeface="APL385 Unicode"/>
              </a:rPr>
              <a:t>:If ''≡⊃r._Headers[⊂'Content-type'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APL385 Unicode"/>
              </a:rPr>
              <a:t>     </a:t>
            </a:r>
            <a:r>
              <a:rPr b="1" sz="1800" spc="-1" strike="noStrike">
                <a:solidFill>
                  <a:srgbClr val="ffffff"/>
                </a:solidFill>
                <a:latin typeface="APL385 Unicode"/>
              </a:rPr>
              <a:t>r._Headers[⊂'Content-type']←u.MimeMappings['htm' 'bin'[1+raw]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APL385 Unicode"/>
              </a:rPr>
              <a:t>  </a:t>
            </a:r>
            <a:r>
              <a:rPr b="1" sz="1800" spc="-1" strike="noStrike">
                <a:solidFill>
                  <a:srgbClr val="ffffff"/>
                </a:solidFill>
                <a:latin typeface="APL385 Unicode"/>
              </a:rPr>
              <a:t>:EndIf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APL385 Unicode"/>
              </a:rPr>
              <a:t>  </a:t>
            </a:r>
            <a:r>
              <a:rPr b="1" sz="1800" spc="-1" strike="noStrike">
                <a:solidFill>
                  <a:srgbClr val="ffffff"/>
                </a:solidFill>
                <a:latin typeface="APL385 Unicode"/>
              </a:rPr>
              <a:t>ctx.SendRespon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APL385 Unicode"/>
              </a:rPr>
              <a:t>  ∇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yalog User Group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23AEA-8FFA-4BA1-B87F-E591BAF11C5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6-10-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cecec"/>
                </a:solidFill>
                <a:latin typeface="Times New Roman"/>
              </a:rPr>
              <a:t>Tricks: thread local storage</a:t>
            </a: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APL385 Unicode"/>
              </a:rPr>
              <a:t>[…]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APL385 Unicode"/>
              </a:rPr>
              <a:t>  </a:t>
            </a:r>
            <a:r>
              <a:rPr b="1" sz="2400" spc="-1" strike="noStrike">
                <a:solidFill>
                  <a:srgbClr val="ffffff"/>
                </a:solidFill>
                <a:latin typeface="APL385 Unicode"/>
              </a:rPr>
              <a:t>ctx←#.WildHeart.HTTPContext.Curr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APL385 Unicode"/>
              </a:rPr>
              <a:t>[…]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Arial"/>
              </a:rPr>
              <a:t>Thread context: wouldn’t it be nice to have an object local to a thread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yalog User Group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A209D-59DF-457A-8803-868FAFF7FF0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6-10-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cecec"/>
                </a:solidFill>
                <a:latin typeface="Times New Roman"/>
              </a:rPr>
              <a:t>HTTPHandler</a:t>
            </a: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ffff"/>
                </a:solidFill>
                <a:latin typeface="Arial"/>
              </a:rPr>
              <a:t>A FileSystem delegates the handling of the requested resource to the appropriate handler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Arial"/>
              </a:rPr>
              <a:t>StaticFileHandler by defaul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Arial"/>
              </a:rPr>
              <a:t>AplxHandl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Arial"/>
              </a:rPr>
              <a:t>AplsHandl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sz="2400" spc="-1" strike="noStrike">
                <a:solidFill>
                  <a:srgbClr val="ffffff"/>
                </a:solidFill>
                <a:latin typeface="Arial"/>
              </a:rPr>
              <a:t>more to co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sz="1600" spc="-1" strike="noStrike">
                <a:solidFill>
                  <a:srgbClr val="ffffff"/>
                </a:solidFill>
                <a:latin typeface="APL385 Unicode"/>
              </a:rPr>
              <a:t>fs._FileHandlers[⊂'aplx']←#.WildHeart.AplxFileHandl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yalog User Group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9650F-E299-42D3-9179-C1A3128BA5E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6-10-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cecec"/>
                </a:solidFill>
                <a:latin typeface="Times New Roman"/>
              </a:rPr>
              <a:t>HTTPHandler</a:t>
            </a: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Arial"/>
              </a:rPr>
              <a:t>One method: ProcessReque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APL385 Unicode"/>
              </a:rPr>
              <a:t> ∇ </a:t>
            </a:r>
            <a:r>
              <a:rPr b="1" sz="1800" spc="-1" strike="noStrike">
                <a:solidFill>
                  <a:srgbClr val="ffffff"/>
                </a:solidFill>
                <a:latin typeface="APL385 Unicode"/>
              </a:rPr>
              <a:t>ProcessRequest ctx;fname;tn;ext;eta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APL385 Unicode"/>
              </a:rPr>
              <a:t>   </a:t>
            </a:r>
            <a:r>
              <a:rPr b="1" sz="1800" spc="-1" strike="noStrike">
                <a:solidFill>
                  <a:srgbClr val="ffffff"/>
                </a:solidFill>
                <a:latin typeface="APL385 Unicode"/>
              </a:rPr>
              <a:t>:Access Public Instance Overridab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APL385 Unicode"/>
              </a:rPr>
              <a:t>   </a:t>
            </a:r>
            <a:r>
              <a:rPr b="1" sz="1800" spc="-1" strike="noStrike">
                <a:solidFill>
                  <a:srgbClr val="ffffff"/>
                </a:solidFill>
                <a:latin typeface="APL385 Unicode"/>
              </a:rPr>
              <a:t>fname←ctx._FileSystem.MapFileName ctx.UR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APL385 Unicode"/>
              </a:rPr>
              <a:t>   </a:t>
            </a:r>
            <a:r>
              <a:rPr b="1" sz="1800" spc="-1" strike="noStrike">
                <a:solidFill>
                  <a:srgbClr val="ffffff"/>
                </a:solidFill>
                <a:latin typeface="APL385 Unicode"/>
              </a:rPr>
              <a:t>tn←fname ⎕NTIE 0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APL385 Unicode"/>
              </a:rPr>
              <a:t>   </a:t>
            </a:r>
            <a:r>
              <a:rPr b="1" sz="1800" spc="-1" strike="noStrike">
                <a:solidFill>
                  <a:srgbClr val="ffffff"/>
                </a:solidFill>
                <a:latin typeface="APL385 Unicode"/>
              </a:rPr>
              <a:t>ctx._Response._IsBodyRaw←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APL385 Unicode"/>
              </a:rPr>
              <a:t>   </a:t>
            </a:r>
            <a:r>
              <a:rPr b="1" sz="1800" spc="-1" strike="noStrike">
                <a:solidFill>
                  <a:srgbClr val="ffffff"/>
                </a:solidFill>
                <a:latin typeface="APL385 Unicode"/>
              </a:rPr>
              <a:t>ctx._Response._Body←⎕NREAD tn,83,⎕NSIZE t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APL385 Unicode"/>
              </a:rPr>
              <a:t>   ⎕</a:t>
            </a:r>
            <a:r>
              <a:rPr b="1" sz="1800" spc="-1" strike="noStrike">
                <a:solidFill>
                  <a:srgbClr val="ffffff"/>
                </a:solidFill>
                <a:latin typeface="APL385 Unicode"/>
              </a:rPr>
              <a:t>NUNTIE t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APL385 Unicode"/>
              </a:rPr>
              <a:t>   </a:t>
            </a:r>
            <a:r>
              <a:rPr b="1" sz="1800" spc="-1" strike="noStrike">
                <a:solidFill>
                  <a:srgbClr val="ffffff"/>
                </a:solidFill>
                <a:latin typeface="APL385 Unicode"/>
              </a:rPr>
              <a:t>ctx.SendRespon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APL385 Unicode"/>
              </a:rPr>
              <a:t> ∇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yalog User Group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971EC-779A-40CC-8E57-BEA1808F653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6-10-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ececec"/>
                </a:solidFill>
                <a:latin typeface="Times New Roman"/>
              </a:rPr>
              <a:t>AplxHandler</a:t>
            </a: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sz="2800" spc="-1" strike="noStrike">
                <a:solidFill>
                  <a:srgbClr val="ffffff"/>
                </a:solidFill>
                <a:latin typeface="Arial"/>
              </a:rPr>
              <a:t>This is only a test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Lucida Sans Unicode"/>
              </a:rPr>
              <a:t>&lt;?@ master="../newindex.maplx" execute="" ?&g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Lucida Sans Unicode"/>
              </a:rPr>
              <a:t>&lt;apl:content id="title"&g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Lucida Sans Unicode"/>
              </a:rPr>
              <a:t>&lt;title&gt;Rain Graphics: Climate&lt;/title&g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Lucida Sans Unicode"/>
              </a:rPr>
              <a:t>&lt;/apl:content&g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Lucida Sans Unicode"/>
              </a:rPr>
              <a:t>&lt;apl:content id="cssstyle"&g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Lucida Sans Unicode"/>
              </a:rPr>
              <a:t>&lt;link rel="stylesheet" type="text/css" href="../styles/spiffy.css"/&g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Lucida Sans Unicode"/>
              </a:rPr>
              <a:t>&lt;/apl:content&g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Lucida Sans Unicode"/>
              </a:rPr>
              <a:t>&lt;apl:content id="main" execute="#.rain.Climate"&g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Lucida Sans Unicode"/>
              </a:rPr>
              <a:t>&lt;/apl:content&g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yalog User Group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08F2D-DFAC-4BB2-8D08-DD1C620F45C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6-10-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cecec"/>
                </a:solidFill>
                <a:latin typeface="Times New Roman"/>
              </a:rPr>
              <a:t>Goal</a:t>
            </a: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xplore the problem which needs to be solved and demonstrate a proposed solution... (obviously </a:t>
            </a:r>
            <a:r>
              <a:rPr b="1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So, what’s the problem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easy part is generating HTML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Hopefully nobody will disagree that APL is an EXCELLENT language for generating character vecto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yalog User Group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AC989-30D0-4467-A538-AF7B97E62FC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6-10-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cecec"/>
                </a:solidFill>
                <a:latin typeface="Times New Roman"/>
              </a:rPr>
              <a:t>A master page</a:t>
            </a: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ffffff"/>
                </a:solidFill>
                <a:latin typeface="Lucida Sans Unicode"/>
              </a:rPr>
              <a:t>&lt;!DOCTYPE html PUBLIC "-//W3C//DTD XHTML 1.0 Transitional//EN" "http://www.w3.org/TR/xhtml1/DTD/xhtml1-transitional.dtd"&gt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ffffff"/>
                </a:solidFill>
                <a:latin typeface="Lucida Sans Unicode"/>
              </a:rPr>
              <a:t>&lt;html xmlns=“http://www.w3.org/1999/xhtml” xmlns:apl="http://wildheart.com/2006/10/"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ffffff"/>
                </a:solidFill>
                <a:latin typeface="Lucida Sans Unicode"/>
              </a:rPr>
              <a:t>&gt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ffffff"/>
                </a:solidFill>
                <a:latin typeface="Lucida Sans Unicode"/>
              </a:rPr>
              <a:t>&lt;head&gt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3300"/>
                </a:solidFill>
                <a:latin typeface="Lucida Sans Unicode"/>
              </a:rPr>
              <a:t>&lt;apl:placeholder id="cssstyle"&gt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3300"/>
                </a:solidFill>
                <a:latin typeface="Lucida Sans Unicode"/>
              </a:rPr>
              <a:t>&lt;link rel="stylesheet" type="text/css" href="styles/spiffy.css"/&gt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3300"/>
                </a:solidFill>
                <a:latin typeface="Lucida Sans Unicode"/>
              </a:rPr>
              <a:t>&lt;/apl:placeholder&gt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3300"/>
                </a:solidFill>
                <a:latin typeface="Lucida Sans Unicode"/>
              </a:rPr>
              <a:t>&lt;apl:placeholder id="title"&gt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3300"/>
                </a:solidFill>
                <a:latin typeface="Lucida Sans Unicode"/>
              </a:rPr>
              <a:t>&lt;title/&gt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3300"/>
                </a:solidFill>
                <a:latin typeface="Lucida Sans Unicode"/>
              </a:rPr>
              <a:t>&lt;/apl:placeholder&gt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ffffff"/>
                </a:solidFill>
                <a:latin typeface="Lucida Sans Unicode"/>
              </a:rPr>
              <a:t>&lt;/head&gt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ffffff"/>
                </a:solidFill>
                <a:latin typeface="Lucida Sans Unicode"/>
              </a:rPr>
              <a:t>&lt;body&gt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ffffff"/>
                </a:solidFill>
                <a:latin typeface="Lucida Sans Unicode"/>
              </a:rPr>
              <a:t>&lt;div id="header"&gt;&lt;h1 class="banner"&gt;WildHeart.HTTPListener&lt;/h1&gt;&lt;/div&gt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ffffff"/>
                </a:solidFill>
                <a:latin typeface="Lucida Sans Unicode"/>
              </a:rPr>
              <a:t>&lt;div id="subheader"&gt; </a:t>
            </a:r>
            <a:r>
              <a:rPr b="1" sz="1600" spc="-1" strike="noStrike">
                <a:solidFill>
                  <a:srgbClr val="ff3300"/>
                </a:solidFill>
                <a:latin typeface="Lucida Sans Unicode"/>
              </a:rPr>
              <a:t>&lt;apl:placeholder id="bcrumb" execute="#.WildHeart.WebDemos.BreadCrumb" /&gt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ffffff"/>
                </a:solidFill>
                <a:latin typeface="Lucida Sans Unicode"/>
              </a:rPr>
              <a:t>&lt;/div&gt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ffffff"/>
                </a:solidFill>
                <a:latin typeface="Lucida Sans Unicode"/>
              </a:rPr>
              <a:t>&lt;div id="toc"&gt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3300"/>
                </a:solidFill>
                <a:latin typeface="Lucida Sans Unicode"/>
              </a:rPr>
              <a:t>&lt;apl:placeholder id="apltoc"&gt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ffffff"/>
                </a:solidFill>
                <a:latin typeface="Lucida Sans Unicode"/>
              </a:rPr>
              <a:t>&lt;div class="toc"&gt;&lt;h2&gt;APL Web Server&lt;/h2&gt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ffffff"/>
                </a:solidFill>
                <a:latin typeface="Lucida Sans Unicode"/>
              </a:rPr>
              <a:t>&lt;ul&gt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ffffff"/>
                </a:solidFill>
                <a:latin typeface="Lucida Sans Unicode"/>
              </a:rPr>
              <a:t>&lt;li&gt;&lt;a href="/intro.aplx"&gt;Introduction&lt;/a&gt;&lt;/li&gt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ffffff"/>
                </a:solidFill>
                <a:latin typeface="Lucida Sans Unicode"/>
              </a:rPr>
              <a:t>&lt;li&gt;&lt;a href="/cv/Index.aplx"&gt;View Code&lt;/a&gt;&lt;/li&gt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yalog User Group Conferenc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6E3F2-9407-4AF2-BA7F-2D76D9074E4E}" type="slidenum">
              <a:t>3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6-10-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cecec"/>
                </a:solidFill>
                <a:latin typeface="Times New Roman"/>
              </a:rPr>
              <a:t>The event pipeline</a:t>
            </a: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Arial"/>
              </a:rPr>
              <a:t>As a request goes through the FileSystem hierarchy, events are raised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ffff"/>
                </a:solidFill>
                <a:latin typeface="Arial"/>
              </a:rPr>
              <a:t>OnEnt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ffff"/>
                </a:solidFill>
                <a:latin typeface="Arial"/>
              </a:rPr>
              <a:t>OnAuthentic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ffff"/>
                </a:solidFill>
                <a:latin typeface="Arial"/>
              </a:rPr>
              <a:t>OnAuthoriz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yalog User Group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9E424-3EE4-4B7B-AFBE-F019D3FA2D2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6-10-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cecec"/>
                </a:solidFill>
                <a:latin typeface="Times New Roman"/>
              </a:rPr>
              <a:t>Tricks: the observer pattern</a:t>
            </a: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ffffff"/>
                </a:solidFill>
                <a:latin typeface="APL385 Unicode"/>
              </a:rPr>
              <a:t>:Class Even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ffffff"/>
                </a:solidFill>
                <a:latin typeface="APL385 Unicode"/>
              </a:rPr>
              <a:t>  </a:t>
            </a:r>
            <a:r>
              <a:rPr b="1" sz="1400" spc="-1" strike="noStrike">
                <a:solidFill>
                  <a:srgbClr val="ffffff"/>
                </a:solidFill>
                <a:latin typeface="APL385 Unicode"/>
              </a:rPr>
              <a:t>:field _Observer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ffffff"/>
                </a:solidFill>
                <a:latin typeface="APL385 Unicode"/>
              </a:rPr>
              <a:t>  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ffffff"/>
                </a:solidFill>
                <a:latin typeface="APL385 Unicode"/>
              </a:rPr>
              <a:t>  ∇ </a:t>
            </a:r>
            <a:r>
              <a:rPr b="1" sz="1400" spc="-1" strike="noStrike">
                <a:solidFill>
                  <a:srgbClr val="ffffff"/>
                </a:solidFill>
                <a:latin typeface="APL385 Unicode"/>
              </a:rPr>
              <a:t>make nam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ffffff"/>
                </a:solidFill>
                <a:latin typeface="APL385 Unicode"/>
              </a:rPr>
              <a:t>    </a:t>
            </a:r>
            <a:r>
              <a:rPr b="1" sz="1400" spc="-1" strike="noStrike">
                <a:solidFill>
                  <a:srgbClr val="ffffff"/>
                </a:solidFill>
                <a:latin typeface="APL385 Unicode"/>
              </a:rPr>
              <a:t>:Access Public Instanc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ffffff"/>
                </a:solidFill>
                <a:latin typeface="APL385 Unicode"/>
              </a:rPr>
              <a:t>    </a:t>
            </a:r>
            <a:r>
              <a:rPr b="1" sz="1400" spc="-1" strike="noStrike">
                <a:solidFill>
                  <a:srgbClr val="ffffff"/>
                </a:solidFill>
                <a:latin typeface="APL385 Unicode"/>
              </a:rPr>
              <a:t>:Implements Constructor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ffffff"/>
                </a:solidFill>
                <a:latin typeface="APL385 Unicode"/>
              </a:rPr>
              <a:t>    </a:t>
            </a:r>
            <a:r>
              <a:rPr b="1" sz="1400" spc="-1" strike="noStrike">
                <a:solidFill>
                  <a:srgbClr val="ffffff"/>
                </a:solidFill>
                <a:latin typeface="APL385 Unicode"/>
              </a:rPr>
              <a:t>_Observers←⍬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ffffff"/>
                </a:solidFill>
                <a:latin typeface="APL385 Unicode"/>
              </a:rPr>
              <a:t>    ⎕</a:t>
            </a:r>
            <a:r>
              <a:rPr b="1" sz="1400" spc="-1" strike="noStrike">
                <a:solidFill>
                  <a:srgbClr val="ffffff"/>
                </a:solidFill>
                <a:latin typeface="APL385 Unicode"/>
              </a:rPr>
              <a:t>DF'Event: ',nam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ffffff"/>
                </a:solidFill>
                <a:latin typeface="APL385 Unicode"/>
              </a:rPr>
              <a:t>  ∇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ffffff"/>
                </a:solidFill>
                <a:latin typeface="APL385 Unicode"/>
              </a:rPr>
              <a:t>  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ffffff"/>
                </a:solidFill>
                <a:latin typeface="APL385 Unicode"/>
              </a:rPr>
              <a:t>  ∇ </a:t>
            </a:r>
            <a:r>
              <a:rPr b="1" sz="1400" spc="-1" strike="noStrike">
                <a:solidFill>
                  <a:srgbClr val="ffffff"/>
                </a:solidFill>
                <a:latin typeface="APL385 Unicode"/>
              </a:rPr>
              <a:t>Raise(sender arg);obj;fnnam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ffffff"/>
                </a:solidFill>
                <a:latin typeface="APL385 Unicode"/>
              </a:rPr>
              <a:t>    </a:t>
            </a:r>
            <a:r>
              <a:rPr b="1" sz="1400" spc="-1" strike="noStrike">
                <a:solidFill>
                  <a:srgbClr val="ffffff"/>
                </a:solidFill>
                <a:latin typeface="APL385 Unicode"/>
              </a:rPr>
              <a:t>:Access Public Instanc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ffffff"/>
                </a:solidFill>
                <a:latin typeface="APL385 Unicode"/>
              </a:rPr>
              <a:t>    </a:t>
            </a:r>
            <a:r>
              <a:rPr b="1" sz="1400" spc="-1" strike="noStrike">
                <a:solidFill>
                  <a:srgbClr val="ffffff"/>
                </a:solidFill>
                <a:latin typeface="APL385 Unicode"/>
              </a:rPr>
              <a:t>:For obj fnname :In _Observer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ffffff"/>
                </a:solidFill>
                <a:latin typeface="APL385 Unicode"/>
              </a:rPr>
              <a:t>      </a:t>
            </a:r>
            <a:r>
              <a:rPr b="1" sz="1400" spc="-1" strike="noStrike">
                <a:solidFill>
                  <a:srgbClr val="ffffff"/>
                </a:solidFill>
                <a:latin typeface="APL385 Unicode"/>
              </a:rPr>
              <a:t>(obj⍎fnname)(sender arg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ffffff"/>
                </a:solidFill>
                <a:latin typeface="APL385 Unicode"/>
              </a:rPr>
              <a:t>    </a:t>
            </a:r>
            <a:r>
              <a:rPr b="1" sz="1400" spc="-1" strike="noStrike">
                <a:solidFill>
                  <a:srgbClr val="ffffff"/>
                </a:solidFill>
                <a:latin typeface="APL385 Unicode"/>
              </a:rPr>
              <a:t>:EndFor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ffffff"/>
                </a:solidFill>
                <a:latin typeface="APL385 Unicode"/>
              </a:rPr>
              <a:t>  ∇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APL385 Unicode"/>
              </a:rPr>
              <a:t> </a:t>
            </a:r>
            <a:r>
              <a:rPr b="1" sz="1400" spc="-1" strike="noStrike">
                <a:solidFill>
                  <a:srgbClr val="ffffff"/>
                </a:solidFill>
                <a:latin typeface="APL385 Unicode"/>
              </a:rPr>
              <a:t>∇ </a:t>
            </a:r>
            <a:r>
              <a:rPr b="1" sz="1400" spc="-1" strike="noStrike">
                <a:solidFill>
                  <a:srgbClr val="ffffff"/>
                </a:solidFill>
                <a:latin typeface="APL385 Unicode"/>
              </a:rPr>
              <a:t>Add(obj fnname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ffffff"/>
                </a:solidFill>
                <a:latin typeface="APL385 Unicode"/>
              </a:rPr>
              <a:t>    </a:t>
            </a:r>
            <a:r>
              <a:rPr b="1" sz="1400" spc="-1" strike="noStrike">
                <a:solidFill>
                  <a:srgbClr val="ffffff"/>
                </a:solidFill>
                <a:latin typeface="APL385 Unicode"/>
              </a:rPr>
              <a:t>:Access Public Instanc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ffffff"/>
                </a:solidFill>
                <a:latin typeface="APL385 Unicode"/>
              </a:rPr>
              <a:t>    </a:t>
            </a:r>
            <a:r>
              <a:rPr b="1" sz="1400" spc="-1" strike="noStrike">
                <a:solidFill>
                  <a:srgbClr val="ffffff"/>
                </a:solidFill>
                <a:latin typeface="APL385 Unicode"/>
              </a:rPr>
              <a:t>_Observers,←⊂obj fnnam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ffffff"/>
                </a:solidFill>
                <a:latin typeface="APL385 Unicode"/>
              </a:rPr>
              <a:t>  ∇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ffffff"/>
                </a:solidFill>
                <a:latin typeface="APL385 Unicode"/>
              </a:rPr>
              <a:t>  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ffffff"/>
                </a:solidFill>
                <a:latin typeface="APL385 Unicode"/>
              </a:rPr>
              <a:t>  ∇ </a:t>
            </a:r>
            <a:r>
              <a:rPr b="1" sz="1400" spc="-1" strike="noStrike">
                <a:solidFill>
                  <a:srgbClr val="ffffff"/>
                </a:solidFill>
                <a:latin typeface="APL385 Unicode"/>
              </a:rPr>
              <a:t>Del(obj fnname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ffffff"/>
                </a:solidFill>
                <a:latin typeface="APL385 Unicode"/>
              </a:rPr>
              <a:t>    </a:t>
            </a:r>
            <a:r>
              <a:rPr b="1" sz="1400" spc="-1" strike="noStrike">
                <a:solidFill>
                  <a:srgbClr val="ffffff"/>
                </a:solidFill>
                <a:latin typeface="APL385 Unicode"/>
              </a:rPr>
              <a:t>:Access Public Instanc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ffffff"/>
                </a:solidFill>
                <a:latin typeface="APL385 Unicode"/>
              </a:rPr>
              <a:t>   </a:t>
            </a:r>
            <a:r>
              <a:rPr b="1" sz="1400" spc="-1" strike="noStrike">
                <a:solidFill>
                  <a:srgbClr val="ffffff"/>
                </a:solidFill>
                <a:latin typeface="APL385 Unicode"/>
              </a:rPr>
              <a:t>_Observers←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ffffff"/>
                </a:solidFill>
                <a:latin typeface="APL385 Unicode"/>
              </a:rPr>
              <a:t>      </a:t>
            </a:r>
            <a:r>
              <a:rPr b="1" sz="1400" spc="-1" strike="noStrike">
                <a:solidFill>
                  <a:srgbClr val="ffffff"/>
                </a:solidFill>
                <a:latin typeface="APL385 Unicode"/>
              </a:rPr>
              <a:t>_Observers~⊂obj fnnam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ffffff"/>
                </a:solidFill>
                <a:latin typeface="APL385 Unicode"/>
              </a:rPr>
              <a:t>    ∇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ffffff"/>
                </a:solidFill>
                <a:latin typeface="APL385 Unicode"/>
              </a:rPr>
              <a:t>  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ffffff"/>
                </a:solidFill>
                <a:latin typeface="APL385 Unicode"/>
              </a:rPr>
              <a:t>:EndClas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yalog User Group Conferenc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25580-5E56-48F6-8B93-D005B63EBE72}" type="slidenum">
              <a:t>3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6-10-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cecec"/>
                </a:solidFill>
                <a:latin typeface="Times New Roman"/>
              </a:rPr>
              <a:t>The observed shows what it’s got</a:t>
            </a: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APL385 Unicode"/>
              </a:rPr>
              <a:t>onAuthenticate←⎕NEW </a:t>
            </a:r>
            <a:br>
              <a:rPr sz="2400"/>
            </a:br>
            <a:r>
              <a:rPr b="1" sz="2400" spc="-1" strike="noStrike">
                <a:solidFill>
                  <a:srgbClr val="ffffff"/>
                </a:solidFill>
                <a:latin typeface="APL385 Unicode"/>
              </a:rPr>
              <a:t>     #.WildHeart.Event('Authenticate'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APL385 Unicode"/>
              </a:rPr>
              <a:t> </a:t>
            </a:r>
            <a:r>
              <a:rPr b="1" sz="2400" spc="-1" strike="noStrike">
                <a:solidFill>
                  <a:srgbClr val="ffffff"/>
                </a:solidFill>
                <a:latin typeface="APL385 Unicode"/>
              </a:rPr>
              <a:t>auth←⎕NEW web.WebDemos.FormsAu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APL385 Unicode"/>
              </a:rPr>
              <a:t> </a:t>
            </a:r>
            <a:r>
              <a:rPr b="1" sz="2400" spc="-1" strike="noStrike">
                <a:solidFill>
                  <a:srgbClr val="ffffff"/>
                </a:solidFill>
                <a:latin typeface="APL385 Unicode"/>
              </a:rPr>
              <a:t>fs.onAuthenticate.Add</a:t>
            </a:r>
            <a:br>
              <a:rPr sz="2400"/>
            </a:br>
            <a:r>
              <a:rPr b="1" sz="2400" spc="-1" strike="noStrike">
                <a:solidFill>
                  <a:srgbClr val="ffffff"/>
                </a:solidFill>
                <a:latin typeface="APL385 Unicode"/>
              </a:rPr>
              <a:t>             auth'OnAuthenticate'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APL385 Unicode"/>
              </a:rPr>
              <a:t>onAuthenticate.Raise ⎕THIS lur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yalog User Group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7D9D7-9ACF-41EF-9293-8CF2440F744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6-10-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cecec"/>
                </a:solidFill>
                <a:latin typeface="Times New Roman"/>
              </a:rPr>
              <a:t>Two simple authentication modules</a:t>
            </a:r>
            <a:endParaRPr b="0" lang="en-US" sz="40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Arial"/>
              </a:rPr>
              <a:t>SimpleAuth: based on HTTP challenge response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ffff"/>
                </a:solidFill>
                <a:latin typeface="Arial"/>
              </a:rPr>
              <a:t>Quick and dir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Arial"/>
              </a:rPr>
              <a:t>FormsAuth: based on cook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ffff"/>
                </a:solidFill>
                <a:latin typeface="Arial"/>
              </a:rPr>
              <a:t>More flexi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ffff"/>
                </a:solidFill>
                <a:latin typeface="Arial"/>
              </a:rPr>
              <a:t>More wor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yalog User Group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66ADE-0BB9-4A4E-B84E-4B09492944D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6-10-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cecec"/>
                </a:solidFill>
                <a:latin typeface="Times New Roman"/>
              </a:rPr>
              <a:t>Sessions</a:t>
            </a: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HTTP is a stateless protoco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eople want to have conversations with peers who don’t forget instantly what they just sai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Have a cookie!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yalog User Group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165BC-8186-4204-A43D-6BB440537F4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6-10-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cecec"/>
                </a:solidFill>
                <a:latin typeface="Times New Roman"/>
              </a:rPr>
              <a:t>Sessions</a:t>
            </a: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ffff"/>
                </a:solidFill>
                <a:latin typeface="Arial"/>
              </a:rPr>
              <a:t>As easy as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PL385 Unicode"/>
              </a:rPr>
              <a:t> </a:t>
            </a:r>
            <a:r>
              <a:rPr b="1" sz="2000" spc="-1" strike="noStrike">
                <a:solidFill>
                  <a:srgbClr val="ffffff"/>
                </a:solidFill>
                <a:latin typeface="APL385 Unicode"/>
              </a:rPr>
              <a:t>fs.EnableSession ⎕NU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PL385 Unicode"/>
              </a:rPr>
              <a:t> </a:t>
            </a:r>
            <a:r>
              <a:rPr b="1" sz="2000" spc="-1" strike="noStrike">
                <a:solidFill>
                  <a:srgbClr val="ffffff"/>
                </a:solidFill>
                <a:latin typeface="APL385 Unicode"/>
              </a:rPr>
              <a:t>fs.onSessionStart.Add #’DoSomething'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PL385 Unicode"/>
              </a:rPr>
              <a:t> </a:t>
            </a:r>
            <a:r>
              <a:rPr b="1" sz="2000" spc="-1" strike="noStrike">
                <a:solidFill>
                  <a:srgbClr val="ffffff"/>
                </a:solidFill>
                <a:latin typeface="APL385 Unicode"/>
              </a:rPr>
              <a:t>fs.onSessionEnd.Add #’UndoSomething'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ffff"/>
                </a:solidFill>
                <a:latin typeface="Arial"/>
              </a:rPr>
              <a:t>In the application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PL385 Unicode"/>
              </a:rPr>
              <a:t> </a:t>
            </a:r>
            <a:r>
              <a:rPr b="1" sz="2000" spc="-1" strike="noStrike">
                <a:solidFill>
                  <a:srgbClr val="ffffff"/>
                </a:solidFill>
                <a:latin typeface="APL385 Unicode"/>
              </a:rPr>
              <a:t>:If ⎕NULL≡ns←ctx._Session[⊂'footer']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PL385 Unicode"/>
              </a:rPr>
              <a:t>     </a:t>
            </a:r>
            <a:r>
              <a:rPr b="1" sz="2000" spc="-1" strike="noStrike">
                <a:solidFill>
                  <a:srgbClr val="ffffff"/>
                </a:solidFill>
                <a:latin typeface="APL385 Unicode"/>
              </a:rPr>
              <a:t>ns←⎕NS''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PL385 Unicode"/>
              </a:rPr>
              <a:t>     </a:t>
            </a:r>
            <a:r>
              <a:rPr b="1" sz="2000" spc="-1" strike="noStrike">
                <a:solidFill>
                  <a:srgbClr val="ffffff"/>
                </a:solidFill>
                <a:latin typeface="APL385 Unicode"/>
              </a:rPr>
              <a:t>ns.count←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PL385 Unicode"/>
              </a:rPr>
              <a:t>     </a:t>
            </a:r>
            <a:r>
              <a:rPr b="1" sz="2000" spc="-1" strike="noStrike">
                <a:solidFill>
                  <a:srgbClr val="ffffff"/>
                </a:solidFill>
                <a:latin typeface="APL385 Unicode"/>
              </a:rPr>
              <a:t>ctx._Session[⊂'footer']←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PL385 Unicode"/>
              </a:rPr>
              <a:t> </a:t>
            </a:r>
            <a:r>
              <a:rPr b="1" sz="2000" spc="-1" strike="noStrike">
                <a:solidFill>
                  <a:srgbClr val="ffffff"/>
                </a:solidFill>
                <a:latin typeface="APL385 Unicode"/>
              </a:rPr>
              <a:t>:EndI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PL385 Unicode"/>
              </a:rPr>
              <a:t> </a:t>
            </a:r>
            <a:r>
              <a:rPr b="1" sz="2000" spc="-1" strike="noStrike">
                <a:solidFill>
                  <a:srgbClr val="ffffff"/>
                </a:solidFill>
                <a:latin typeface="APL385 Unicode"/>
              </a:rPr>
              <a:t>ns.count+←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yalog User Group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555EB-C11D-4D50-B6B7-335A845F836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6-10-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cecec"/>
                </a:solidFill>
                <a:latin typeface="Times New Roman"/>
              </a:rPr>
              <a:t>Extensibility</a:t>
            </a: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ffff"/>
                </a:solidFill>
                <a:latin typeface="Arial"/>
              </a:rPr>
              <a:t>Some of the features (ZipFileSystem, session module, authentication, aplx handler) were hacked together to prove that the server could support th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ffff"/>
                </a:solidFill>
                <a:latin typeface="Arial"/>
              </a:rPr>
              <a:t>Even before its completion, the WildServer has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Arial"/>
              </a:rPr>
              <a:t>Had a file handler written (by Nic &amp; Morte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Arial"/>
              </a:rPr>
              <a:t>Been used to run a course in writing Web Applications using Dyalog AP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yalog User Group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63702-73DE-49F9-8ABF-03A1C2A2C9F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6-10-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cecec"/>
                </a:solidFill>
                <a:latin typeface="Times New Roman"/>
              </a:rPr>
              <a:t>Open Source</a:t>
            </a: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pen Source means: “</a:t>
            </a:r>
            <a:r>
              <a:rPr b="1" i="1" lang="en-GB" sz="3200" spc="-1" strike="noStrike">
                <a:solidFill>
                  <a:srgbClr val="ffffff"/>
                </a:solidFill>
                <a:latin typeface="Arial"/>
              </a:rPr>
              <a:t>free as in free beer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”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except: is there such a thing as free beer?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o strings attached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You get the source code and whatever documentations exists with it at the ti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You get the right to do whatever you want with it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even sell it! But only a bad boy would do that…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You get from me all the support I can give you when I can if I can (alas, I am very busy and maybe one day I’ll get a lif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yalog User Group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80ED7-1D1D-4D01-AC8B-9FF89908B8D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6-10-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cecec"/>
                </a:solidFill>
                <a:latin typeface="Times New Roman"/>
              </a:rPr>
              <a:t>Why Open Source?</a:t>
            </a: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Have you looked at Ruby on Rails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ons of contributors do a lot of wor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ons of clever contributors do a lot of good work!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K, maybe that’s a good produc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yalog User Group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05293-3128-41A2-A5BB-08B2AB89AB8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6-10-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5068800" cy="1154160"/>
          </a:xfrm>
          <a:prstGeom prst="rect">
            <a:avLst/>
          </a:prstGeom>
          <a:ln w="0">
            <a:noFill/>
          </a:ln>
        </p:spPr>
      </p:pic>
      <p:grpSp>
        <p:nvGrpSpPr>
          <p:cNvPr id="99" name=""/>
          <p:cNvGrpSpPr/>
          <p:nvPr/>
        </p:nvGrpSpPr>
        <p:grpSpPr>
          <a:xfrm>
            <a:off x="1219320" y="2838600"/>
            <a:ext cx="6526080" cy="3262320"/>
            <a:chOff x="1219320" y="2838600"/>
            <a:chExt cx="6526080" cy="3262320"/>
          </a:xfrm>
        </p:grpSpPr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2668680" y="2838600"/>
              <a:ext cx="5068800" cy="11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3"/>
            <a:stretch/>
          </p:blipFill>
          <p:spPr>
            <a:xfrm>
              <a:off x="4956120" y="3770280"/>
              <a:ext cx="2789280" cy="233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4"/>
            <a:stretch/>
          </p:blipFill>
          <p:spPr>
            <a:xfrm>
              <a:off x="1219320" y="3770280"/>
              <a:ext cx="2789280" cy="233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4175280" y="5033880"/>
              <a:ext cx="614160" cy="382680"/>
            </a:xfrm>
            <a:prstGeom prst="leftRightArrow">
              <a:avLst>
                <a:gd name="adj1" fmla="val 50000"/>
                <a:gd name="adj2" fmla="val 31949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964680" y="5562720"/>
              <a:ext cx="9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Arial"/>
                </a:rPr>
                <a:t>A ”web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cecec"/>
                </a:solidFill>
                <a:latin typeface="Times New Roman"/>
              </a:rPr>
              <a:t>Some very simple HTML</a:t>
            </a: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yalog User Group Conferen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A6C62-78C4-4124-AAAB-4AEFE3E539F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6-10-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cecec"/>
                </a:solidFill>
                <a:latin typeface="Times New Roman"/>
              </a:rPr>
              <a:t>TODO list</a:t>
            </a: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It’s long, it’s scary, but…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L Prototypes seem to acquire a life of their ow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 “ducks” have started contribu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yalog User Group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76A70-538C-4BF3-A233-C49347D717F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6-10-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cecec"/>
                </a:solidFill>
                <a:latin typeface="Times New Roman"/>
              </a:rPr>
              <a:t>Thanks</a:t>
            </a: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eter Michael Haager: I have adapted his XML parser to produce trees of objects instead of nested array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yalog User Group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C99CD-3062-46A3-A1DD-D7BF366CD1B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6-10-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cecec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itial feedback from users (Nic, Morten and Mondays course participants) is promis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WildServer is still very much ”work in progress”, and the author wants to keep control of it until about Christm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However, you are all welcome to try it now and suggest or code enhancem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yalog User Group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7E773-F7F4-49A9-887D-7AD941F1E21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6-10-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cecec"/>
                </a:solidFill>
                <a:latin typeface="Times New Roman"/>
              </a:rPr>
              <a:t>Questions?</a:t>
            </a: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If not… now I need some sleep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6705720" y="3352680"/>
            <a:ext cx="1455480" cy="18003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685800" y="5334120"/>
            <a:ext cx="2133720" cy="36828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0000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輝く空と君の声を感じた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yalog User Group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E4122-3684-41F7-8742-D9EF1EBE9AFE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6-10-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cecec"/>
                </a:solidFill>
                <a:latin typeface="Times New Roman"/>
              </a:rPr>
              <a:t>What is missing in the language</a:t>
            </a: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No public operators! C# has them!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No protected members! C# has them!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No object serialization! C# has it!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# is a statically typed language. OK, substitute in the slide “C#” with “Ruby”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yalog User Group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D3140-7CAC-44DB-963F-2DF61A09C4C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6-10-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cecec"/>
                </a:solidFill>
                <a:latin typeface="Times New Roman"/>
              </a:rPr>
              <a:t>The hard part</a:t>
            </a: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f we have a form like this and the user hits the submit button…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286000" y="2438280"/>
            <a:ext cx="5181480" cy="358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yalog User Group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52ED2-7FDB-4C7C-BDE3-03AB82E074F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6-10-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cecec"/>
                </a:solidFill>
                <a:latin typeface="Times New Roman"/>
              </a:rPr>
              <a:t>Before we look at the response…</a:t>
            </a: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2666880"/>
            <a:ext cx="464328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form action="RUN" method="post" name="FrontPage_Form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div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table border="0" cellpadding="3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t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td&gt;Purchase Amount&lt;/td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td&gt;&lt;input type="text" size="9" name="LoanAmt"/&gt;&lt;/td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/t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t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td&gt;Percent Down&lt;/td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td&gt;&lt;input type="text" size="6" maxlength="6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name="PercentDown"/&gt;&lt;/td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/t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t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td&gt;Maximum Years in Loan&lt;/td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td&gt;&lt;input type="text" size="2" maxlength="2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name="LenMax"/&gt;&lt;/td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/t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t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td&gt;Minimum Years in Loan&lt;/td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td&gt;&lt;input type="text" size="2" maxlength="2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name="LenMin"/&gt;&lt;/td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/tr&gt;</a:t>
            </a:r>
            <a:br>
              <a:rPr sz="1000"/>
            </a:b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… continued on the right 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92720" y="1700280"/>
            <a:ext cx="35622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t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td&gt;Maximum Interest Rate (%)&lt;/td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td&gt;&lt;select name="IntrMax" size="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option&gt;15.0&lt;/option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option&gt;14.5&lt;/option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..etc down to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option&gt;1.0&lt;/option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/select&gt;&lt;/td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/t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t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td&gt;Minimum Interest Rate (%)&lt;/td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td&gt;&lt;select name="IntrMin" size="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option&gt;15.0&lt;/option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option&gt;14.5&lt;/option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option&gt;14.0&lt;/option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option&gt;13.5&lt;/option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option selected="selected"&gt;13.0&lt;/option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option&gt;12.5&lt;/option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option&gt;12.0&lt;/option&gt;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…etc…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&lt;option&gt;1.5&lt;/option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option&gt;1.0&lt;/option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/select&gt;&lt;/td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/t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/tabl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p&gt;&lt;input type="submit" value="Calculate Repayments"/&gt;&lt;/p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/div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/form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3400" y="1905120"/>
            <a:ext cx="362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Arial"/>
              </a:rPr>
              <a:t>Some of you will want to know</a:t>
            </a:r>
            <a:br>
              <a:rPr sz="1800"/>
            </a:br>
            <a:r>
              <a:rPr b="0" lang="da-DK" sz="1800" spc="-1" strike="noStrike">
                <a:solidFill>
                  <a:srgbClr val="ffffff"/>
                </a:solidFill>
                <a:latin typeface="Arial"/>
              </a:rPr>
              <a:t>how the HTML looks for the for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yalog User Group Conferen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25DDC-2CEC-446B-B613-D40437DFFD6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6-10-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cecec"/>
                </a:solidFill>
                <a:latin typeface="Times New Roman"/>
              </a:rPr>
              <a:t>When the user hits the button…</a:t>
            </a: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Lucida Sans Unicode"/>
              </a:rPr>
              <a:t>POST /loan/RUN HTTP/1.1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Lucida Sans Unicode"/>
              </a:rPr>
              <a:t>Accept: image/gif, image/x-xbitmap, image/jpeg, image/pjpeg,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Lucida Sans Unicode"/>
              </a:rPr>
              <a:t>application/x-shockwave-flash, application/vnd.ms-excel,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Lucida Sans Unicode"/>
              </a:rPr>
              <a:t>application/vnd.ms-powerpoint, application/msword, */*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Lucida Sans Unicode"/>
              </a:rPr>
              <a:t>Referer: http://localhost:8080/loan/loan.htm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Lucida Sans Unicode"/>
              </a:rPr>
              <a:t>Accept-Language: i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Lucida Sans Unicode"/>
              </a:rPr>
              <a:t>Content-Type: application/x-www-form-urlencoded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Lucida Sans Unicode"/>
              </a:rPr>
              <a:t>Accept-Encoding: gzip, deflat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Lucida Sans Unicode"/>
              </a:rPr>
              <a:t>User-Agent: Mozilla/4.0 (compatible; MSIE 6.0; Windows NT 5.1; SV1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Lucida Sans Unicode"/>
              </a:rPr>
              <a:t>.NET CLR 1.1.4322; .NET CLR 2.0.50727; WinFX RunTime 3.0.50727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Lucida Sans Unicode"/>
              </a:rPr>
              <a:t>Host: localhost:808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Lucida Sans Unicode"/>
              </a:rPr>
              <a:t>Content-Length: 74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Lucida Sans Unicode"/>
              </a:rPr>
              <a:t>Connection: Keep-Aliv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Lucida Sans Unicode"/>
              </a:rPr>
              <a:t>Cache-Control: no-cach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Lucida Sans Unicode"/>
              </a:rPr>
              <a:t>LoanAmt=10000&amp;PercentDown=50&amp;LenMax=10&amp;LenMin=15&amp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Lucida Sans Unicode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Lucida Sans Unicode"/>
              </a:rPr>
              <a:t>IntrMax=15.0&amp;IntrMin=13.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yalog User Group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D79EB-9158-4C6F-ADA1-2D28FF1CEA6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6-10-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cecec"/>
                </a:solidFill>
                <a:latin typeface="Times New Roman"/>
              </a:rPr>
              <a:t>The hard part…</a:t>
            </a: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PL is not a bad tool for taking character vectors apart, either </a:t>
            </a:r>
            <a:r>
              <a:rPr b="1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But: Some knowledge about the HTTP protocol is required to decipher 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 rule for calling the code to deal with the request (in this case </a:t>
            </a:r>
            <a:r>
              <a:rPr b="1" lang="en-GB" sz="2800" spc="-1" strike="noStrike">
                <a:solidFill>
                  <a:srgbClr val="ffffff"/>
                </a:solidFill>
                <a:latin typeface="APL385 Unicode"/>
              </a:rPr>
              <a:t>#.loan.RUN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) is need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Some way to decode the body of the reque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is is what Web Server frameworks like Microsoft IIS coupled with ASP.NET do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yalog User Group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BFC48-F35D-4AB1-8668-B0A2CB839A6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6-10-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cecec"/>
                </a:solidFill>
                <a:latin typeface="Times New Roman"/>
              </a:rPr>
              <a:t>What is a web application?</a:t>
            </a:r>
            <a:endParaRPr b="0" lang="en-US" sz="4400" spc="-1" strike="noStrike">
              <a:solidFill>
                <a:srgbClr val="ecece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 collection of functions that take an HTTP Request as input and produce an HTTP response as output”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yalog User Group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EE651-DD54-46CF-A937-B003977FAF0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6-10-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3T12:15:26Z</dcterms:created>
  <dc:creator>Stefano Lanzavecchia</dc:creator>
  <dc:description/>
  <dc:language>en-US</dc:language>
  <cp:lastModifiedBy>WildHeart</cp:lastModifiedBy>
  <cp:lastPrinted>2006-10-14T21:50:25Z</cp:lastPrinted>
  <dcterms:modified xsi:type="dcterms:W3CDTF">2006-10-16T10:27:57Z</dcterms:modified>
  <cp:revision>19</cp:revision>
  <dc:subject/>
  <dc:title>WildHeart.HTTPListen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813141033</vt:lpwstr>
  </property>
</Properties>
</file>