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786-A847-489C-B7B0-1487ADC6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480-8278-4D05-A17B-6356D9A9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4F6-D13A-47D2-B8C3-BF865E46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329-C4D9-4CED-AC06-06C575E5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272-6F4E-4395-81F2-41E3546A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92E-EB2C-46A5-9070-0390BCA8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86E-5346-4B1E-9A01-768D6793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873-3C40-4431-82C3-D982E108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32B-8823-4A5C-96AE-495A1E38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990-05EC-4DF2-9EE1-1C0087B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4E2-0A9D-4A20-9805-89BA5988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18E-A7C6-4BF6-9ADA-8D05E4DE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E115-56C2-418C-87F5-6F2D5E4C6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Open Source Code Managemen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Morten Krom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Dyalog User Conference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Version 1 October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0F1-BD99-4895-BB78-5BB44997B4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n Excel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How Else Can we Us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312-484E-4DAD-B8F1-1763CB6D1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Web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”Wild Web Server” is an HTTP Server written entirely in Dyalog v11 by Stefano Lanzavecc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upport for ”APLS” files was added by myself and Nicolas Delcros since 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t is perhaps the strongest testament to the value of OO and APL code in script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ther uses for Script Fi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105-5DDA-46D4-801D-5428F9FEA0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ow about a C# GUI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ther uses for Script Fi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04C-2F0F-434A-B149-C770C3886E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few more words about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PICE is an experimental command line extension to the Dyalog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t looks in ”classes\spice” and tries to load all the ”.dyalog” files in this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et’s examine a sample SPIC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intention is to make it really easy to share developm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More about 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F12-F34D-4BCC-8CCB-0FF9E83A11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toring Dyalog source code in text files has many benefits, in parti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Easy integration with many popular development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can e-mail code to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can easily share development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6C2-D4C5-4B59-8FC8-D2940C1566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cripts are especially practical when combining APL with other tools,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Building web 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Embedding Dyalog within Visual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A tool like SALT ensures that changes get written back to the source right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375-4032-4904-AAD7-E0BD6C3017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s with the Object Oriented features themselves, I would not recommend that you immediately rewrite your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lease Experiment with it, at least look at the samples we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our own apps, it is most useful for (new) components used in many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... Or if a large team need to put something together from small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69B-B1C3-4361-AE3B-8D11A3FDDF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ource Code Management is an important topic which we will continue to focus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aim to complete SALT &amp; SPICE by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Even smoother integration with Visual Studio will </a:t>
            </a:r>
            <a:r>
              <a:rPr b="0" i="1" lang="da-DK" sz="3600" spc="-1" strike="noStrike">
                <a:solidFill>
                  <a:srgbClr val="000000"/>
                </a:solidFill>
                <a:latin typeface="Arial"/>
              </a:rPr>
              <a:t>probably</a:t>
            </a: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 be a goal for 1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90E-0C86-4B04-80DF-03DEFA6AFF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ependencies between SALTed modules (”using” state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lasses spread across more than one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Making SALT extensible so people can easily add commands or manage special meta-data inline i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ould SALT versioning be withdrawn (people can use other Version Control tool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Problems Left to Solve inclu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3E6-A0A9-418B-8813-A1E8DAF7CD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Dyalog will invest in developing new libraries of modular components using an ”Open Source”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ALT, SPICE and the ”Wild Web Server” are our pilot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invite you all to help provide a new generation of tools for us, and for future generations of APL 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all to Ar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B3B-6CB1-432F-A409-56E3E9B904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s you may have noticed, Version 11.0 was a little late... the BIG news about it is that it is now ”out” (for 32-bit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64-bit Windows, Windows Mobile 5, AIX, Linux and Solaris all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11.0 still has a few bugs but Dan, Nicolas and Beta Testers have done a good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 are still ramping up our QA, and the next release will be eve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ue to the delay, there are few NEW ”technical news sessions”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90B-45B5-4FE0-995E-D8E07A1E7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Dyalog aims to provide a web-based repository for open-source projects (probably using SubVer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will clean up, document and publish ”recommended”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There will also be a ”less managed”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Prepare to contribu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ur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F51-E31F-4E14-8818-D9BAD2DB0C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7200"/>
            </a:b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(in advance </a:t>
            </a:r>
            <a:r>
              <a:rPr b="0" lang="da-DK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DE3-F739-4066-B738-1487B515C2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t 13:45 today, Geoff Streeter is doing an updated presentation on 64-bit Dyalog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t 14:30, John Scholes is more or less repeating last years presentation on non-OO language enhancements in v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O tutorial is being run as two full-day workshops by Dan Baronet (Mon+F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(more)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C43-BC1B-429F-92E8-51BA8615C0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 suspect John Daintree is going to show some new uses of v11.0 to us to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Nicolas Delcros is talking about his first project at Dyalog at 14:30 today: An experimental port of the Linux product to ”WineLi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 will now try to present some ideas on source code management which have resulted from working with version 1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(more)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871-E1EF-46AA-A7AC-10FEEC17CE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version 11.0, Classes and Namespaces   have a ”script” form (returned by ⎕S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is means that a group of related code (and constants) can easily be treated as a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particular, the script can be written to a Unicod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is allows a number of new ways of workin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490-A121-44B5-866C-E349DCFBCD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Let’s take a look at a classical APL Appl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9B6-A8CD-4102-9569-F4BDB0D4D3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inReg is a nice application, but if I want to use it as a component in my system(s), I have to copy it around th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intaining the source in a single, easily-editable location is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ource code management systems exist, but are proprietary, closed ”black box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 propose a new beginning based on Unicode tex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et’s examine how this might work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Developing ”Compon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E18-70F5-4953-A86B-598F68A882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ALT is an experimental tool, intended to provide ”bare bones” support for source in tex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ALT uses an undocumented callback on the Editor object to save changes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 Unicode MS"/>
              </a:rPr>
              <a:t>As we have seen, SALT provides rudimentary vers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 Unicode MS"/>
              </a:rPr>
              <a:t>Now, imagine that we want to build a stand-alone applicat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 A L T = Simple APL Library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9AB-218C-4A07-A314-F782E87C4C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have seen that ”SALTED” files allow us ”zero footprint” use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embed our components in simple stand-alon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do simple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use non-APL development tools like ”CompareIt!” if they support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ow else can we use our compon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 A L T = Simple APL Library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540-C1DF-45B8-9F11-EF4BE975B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08:15Z</dcterms:created>
  <dc:creator>vibeke</dc:creator>
  <dc:description/>
  <dc:language>en-US</dc:language>
  <cp:lastModifiedBy>Morten Kromberg</cp:lastModifiedBy>
  <dcterms:modified xsi:type="dcterms:W3CDTF">2006-10-17T09:30:14Z</dcterms:modified>
  <cp:revision>48</cp:revision>
  <dc:subject/>
  <dc:title>Slide 1</dc:title>
</cp:coreProperties>
</file>