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8.png" ContentType="image/png"/>
  <Override PartName="/ppt/media/image56.png" ContentType="image/png"/>
  <Override PartName="/ppt/media/image40.jpeg" ContentType="image/jpeg"/>
  <Override PartName="/ppt/media/image51.png" ContentType="image/png"/>
  <Override PartName="/ppt/media/image46.png" ContentType="image/png"/>
  <Override PartName="/ppt/media/image45.png" ContentType="image/png"/>
  <Override PartName="/ppt/media/image43.png" ContentType="image/png"/>
  <Override PartName="/ppt/media/image55.jpeg" ContentType="image/jpeg"/>
  <Override PartName="/ppt/media/image41.jpeg" ContentType="image/jpeg"/>
  <Override PartName="/ppt/media/image44.png" ContentType="image/png"/>
  <Override PartName="/ppt/media/image35.png" ContentType="image/png"/>
  <Override PartName="/ppt/media/image33.jpeg" ContentType="image/jpeg"/>
  <Override PartName="/ppt/media/image32.png" ContentType="image/png"/>
  <Override PartName="/ppt/media/image31.jpeg" ContentType="image/jpeg"/>
  <Override PartName="/ppt/media/image37.jpeg" ContentType="image/jpeg"/>
  <Override PartName="/ppt/media/image20.png" ContentType="image/png"/>
  <Override PartName="/ppt/media/image30.png" ContentType="image/png"/>
  <Override PartName="/ppt/media/image39.png" ContentType="image/png"/>
  <Override PartName="/ppt/media/image64.jpeg" ContentType="image/jpeg"/>
  <Override PartName="/ppt/media/image17.png" ContentType="image/png"/>
  <Override PartName="/ppt/media/image53.png" ContentType="image/png"/>
  <Override PartName="/ppt/media/image9.png" ContentType="image/png"/>
  <Override PartName="/ppt/media/image18.gif" ContentType="image/gif"/>
  <Override PartName="/ppt/media/image57.png" ContentType="image/png"/>
  <Override PartName="/ppt/media/image2.jpeg" ContentType="image/jpeg"/>
  <Override PartName="/ppt/media/image21.jpeg" ContentType="image/jpeg"/>
  <Override PartName="/ppt/media/image22.png" ContentType="image/png"/>
  <Override PartName="/ppt/media/image24.png" ContentType="image/png"/>
  <Override PartName="/ppt/media/image73.jpeg" ContentType="image/jpeg"/>
  <Override PartName="/ppt/media/image28.png" ContentType="image/png"/>
  <Override PartName="/ppt/media/image29.jpeg" ContentType="image/jpeg"/>
  <Override PartName="/ppt/media/image23.png" ContentType="image/png"/>
  <Override PartName="/ppt/media/image60.png" ContentType="image/png"/>
  <Override PartName="/ppt/media/image79.png" ContentType="image/png"/>
  <Override PartName="/ppt/media/image26.jpeg" ContentType="image/jpeg"/>
  <Override PartName="/ppt/media/image42.png" ContentType="image/png"/>
  <Override PartName="/ppt/media/image78.png" ContentType="image/png"/>
  <Override PartName="/ppt/media/image69.jpeg" ContentType="image/jpeg"/>
  <Override PartName="/ppt/media/image77.png" ContentType="image/png"/>
  <Override PartName="/ppt/media/image59.png" ContentType="image/png"/>
  <Override PartName="/ppt/media/image66.jpeg" ContentType="image/jpeg"/>
  <Override PartName="/ppt/media/image11.png" ContentType="image/png"/>
  <Override PartName="/ppt/media/image48.png" ContentType="image/png"/>
  <Override PartName="/ppt/media/image76.png" ContentType="image/png"/>
  <Override PartName="/ppt/media/image75.png" ContentType="image/png"/>
  <Override PartName="/ppt/media/image70.jpeg" ContentType="image/jpeg"/>
  <Override PartName="/ppt/media/image63.png" ContentType="image/png"/>
  <Override PartName="/ppt/media/image74.png" ContentType="image/png"/>
  <Override PartName="/ppt/media/image25.png" ContentType="image/png"/>
  <Override PartName="/ppt/media/image62.png" ContentType="image/png"/>
  <Override PartName="/ppt/media/image71.jpeg" ContentType="image/jpeg"/>
  <Override PartName="/ppt/media/image68.png" ContentType="image/png"/>
  <Override PartName="/ppt/media/image67.jpeg" ContentType="image/jpeg"/>
  <Override PartName="/ppt/media/image72.jpeg" ContentType="image/jpeg"/>
  <Override PartName="/ppt/media/image14.png" ContentType="image/png"/>
  <Override PartName="/ppt/media/image27.jpeg" ContentType="image/jpeg"/>
  <Override PartName="/ppt/media/image50.jpeg" ContentType="image/jpeg"/>
  <Override PartName="/ppt/media/image52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15.png" ContentType="image/png"/>
  <Override PartName="/ppt/media/image3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61.png" ContentType="image/png"/>
  <Override PartName="/ppt/media/image5.jpeg" ContentType="image/jpeg"/>
  <Override PartName="/ppt/media/image6.png" ContentType="image/png"/>
  <Override PartName="/ppt/media/image36.png" ContentType="image/png"/>
  <Override PartName="/ppt/media/image19.png" ContentType="image/png"/>
  <Override PartName="/ppt/media/image7.png" ContentType="image/png"/>
  <Override PartName="/ppt/media/image12.png" ContentType="image/png"/>
  <Override PartName="/ppt/media/image49.png" ContentType="image/png"/>
  <Override PartName="/ppt/media/image65.jpeg" ContentType="image/jpeg"/>
  <Override PartName="/ppt/media/image8.png" ContentType="image/png"/>
  <Override PartName="/ppt/media/image38.png" ContentType="image/png"/>
  <Override PartName="/ppt/media/image13.png" ContentType="image/png"/>
  <Override PartName="/ppt/media/image5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93087-C3FD-472D-A152-922C9F805F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050720"/>
            <a:ext cx="8305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A090F-1184-4B9D-B83E-F79C0773E1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908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3FE03-BCCB-4EB9-83AB-36C64EA82B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1160" y="198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9520" y="198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05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1160" y="405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9520" y="405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6D762-128C-490B-89FE-9236260720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301FC-FADD-4154-9E5A-D762E32ECC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B8171-5579-448F-BF76-630FAAEF17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0D7C4-BB57-4C36-B0FB-A2FDD6BE81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2B66D-3DB9-49E1-8DF8-872C5149E6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F653A-6F82-4C1A-85A1-8658CDEBAC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93880" y="533160"/>
            <a:ext cx="7945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35F2B-2F5D-441C-A059-353149CCE2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97B9E-858C-4FF5-A421-BC46F1D80D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22F60-BA9F-4618-845F-FC978BCD57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908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37382-C574-40A8-8D73-6BBB5E69D9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050720"/>
            <a:ext cx="8305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95FE8-F08F-461D-A0D6-F31B4D9B59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050720"/>
            <a:ext cx="8305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3221F-8125-4A48-BC25-2F02DE43C1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908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EE52A-E5FF-47AF-B427-C3DA613403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1160" y="198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49520" y="198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05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1160" y="405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49520" y="405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E7CAC-E986-47DF-AECF-26F5902FC15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A8A1D-8332-49BE-8A94-C71FE9B364C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93880" y="533160"/>
            <a:ext cx="7945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3316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8908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33160" y="4050720"/>
            <a:ext cx="8305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33160" y="4050720"/>
            <a:ext cx="8305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3316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8908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41160" y="198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49520" y="198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33160" y="405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41160" y="405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49520" y="405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2ABA8-6085-4B1E-A4BF-2EABF28D0BD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893880" y="533160"/>
            <a:ext cx="7945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16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78908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160" y="4050720"/>
            <a:ext cx="8305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33160" y="4050720"/>
            <a:ext cx="8305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3316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78908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41160" y="198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49520" y="198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33160" y="405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41160" y="405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49520" y="405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26368-4DEA-4FCD-A6F0-0B3B7ECCD1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93880" y="533160"/>
            <a:ext cx="7945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CBA3F-6C3C-4690-B866-A3CC13D922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413A1-E7A1-4B94-B599-9BA7CF06C9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908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725B9-DDE5-4AAB-BEEA-35243F1ECB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050720"/>
            <a:ext cx="8305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505E4-6313-4333-9F28-62159247B7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1224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29920" y="1268280"/>
            <a:ext cx="8218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2421000"/>
            <a:ext cx="86421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Eurosti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Eurosti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Eurosti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90192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002D-4CBE-488A-86DD-5C23F8CEE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06200" y="6180120"/>
            <a:ext cx="1009800" cy="63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23201" t="0" r="0" b="0"/>
          <a:stretch/>
        </p:blipFill>
        <p:spPr>
          <a:xfrm>
            <a:off x="0" y="0"/>
            <a:ext cx="9180360" cy="1871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Eurostile"/>
              </a:rPr>
              <a:t>Click to edit the title text format</a:t>
            </a:r>
            <a:endParaRPr b="1" lang="en-US" sz="54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F9CC-3382-4E9A-94C5-B8E788034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4920" y="5624640"/>
            <a:ext cx="1784520" cy="1117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Eurostile"/>
              </a:rPr>
              <a:t>Click to edit the outline text format</a:t>
            </a:r>
            <a:endParaRPr b="1" lang="en-US" sz="3600" spc="-1" strike="noStrike">
              <a:solidFill>
                <a:srgbClr val="333399"/>
              </a:solidFill>
              <a:latin typeface="Eurostil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Eurostil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Eurostile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Eurostile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Eurostile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Eurostile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Eurostile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Eurostile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Eurostile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Eurostile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Eurosti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Eurostile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Eurostile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Eurosti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Eurostile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Eurosti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cf01"/>
              </a:buClr>
              <a:buSzPct val="8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28184d"/>
              </a:buClr>
              <a:buSzPct val="8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be35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152280"/>
            <a:ext cx="1440000" cy="1440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be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457200"/>
            <a:ext cx="8077320" cy="838080"/>
          </a:xfrm>
          <a:prstGeom prst="rect">
            <a:avLst/>
          </a:prstGeom>
          <a:solidFill>
            <a:srgbClr val="28184d"/>
          </a:solidFill>
          <a:ln w="9360">
            <a:solidFill>
              <a:srgbClr val="2818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3564000" y="6453360"/>
            <a:ext cx="211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184d"/>
                </a:solidFill>
                <a:latin typeface="Verdana"/>
              </a:rPr>
              <a:t>As quick as you thin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899480" y="6100920"/>
            <a:ext cx="113652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be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1219320"/>
            <a:ext cx="7315200" cy="1371600"/>
          </a:xfrm>
          <a:prstGeom prst="rect">
            <a:avLst/>
          </a:prstGeom>
          <a:solidFill>
            <a:srgbClr val="2818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920" y="121932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f01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2553840" y="297180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Wingdings 2"/>
                <a:ea typeface="Wingdings 2"/>
              </a:rPr>
              <a:t>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948360" y="5445000"/>
            <a:ext cx="2160720" cy="13543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184d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cf01"/>
              </a:buClr>
              <a:buSzPct val="80000"/>
              <a:buFont typeface="Wingdings 2" charset="2"/>
              <a:buChar char="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184d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28184d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28184d"/>
              </a:buClr>
              <a:buSzPct val="80000"/>
              <a:buFont typeface="Wingdings 2" charset="2"/>
              <a:buChar char="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8184d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28184d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be35"/>
              </a:buClr>
              <a:buSzPct val="80000"/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8184d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28184d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8184d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28184d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8184d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image" Target="../media/image60.png"/><Relationship Id="rId4" Type="http://schemas.openxmlformats.org/officeDocument/2006/relationships/image" Target="../media/image60.png"/><Relationship Id="rId5" Type="http://schemas.openxmlformats.org/officeDocument/2006/relationships/image" Target="../media/image60.png"/><Relationship Id="rId6" Type="http://schemas.openxmlformats.org/officeDocument/2006/relationships/image" Target="../media/image60.png"/><Relationship Id="rId7" Type="http://schemas.openxmlformats.org/officeDocument/2006/relationships/image" Target="../media/image60.png"/><Relationship Id="rId8" Type="http://schemas.openxmlformats.org/officeDocument/2006/relationships/image" Target="../media/image60.png"/><Relationship Id="rId9" Type="http://schemas.openxmlformats.org/officeDocument/2006/relationships/image" Target="../media/image60.png"/><Relationship Id="rId10" Type="http://schemas.openxmlformats.org/officeDocument/2006/relationships/image" Target="../media/image60.png"/><Relationship Id="rId11" Type="http://schemas.openxmlformats.org/officeDocument/2006/relationships/image" Target="../media/image60.png"/><Relationship Id="rId12" Type="http://schemas.openxmlformats.org/officeDocument/2006/relationships/image" Target="../media/image61.png"/><Relationship Id="rId13" Type="http://schemas.openxmlformats.org/officeDocument/2006/relationships/image" Target="../media/image62.png"/><Relationship Id="rId14" Type="http://schemas.openxmlformats.org/officeDocument/2006/relationships/image" Target="../media/image63.png"/><Relationship Id="rId1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5.png"/><Relationship Id="rId3" Type="http://schemas.openxmlformats.org/officeDocument/2006/relationships/image" Target="../media/image75.png"/><Relationship Id="rId4" Type="http://schemas.openxmlformats.org/officeDocument/2006/relationships/image" Target="../media/image75.png"/><Relationship Id="rId5" Type="http://schemas.openxmlformats.org/officeDocument/2006/relationships/image" Target="../media/image75.png"/><Relationship Id="rId6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harrysoftware.com/" TargetMode="External"/><Relationship Id="rId2" Type="http://schemas.openxmlformats.org/officeDocument/2006/relationships/hyperlink" Target="mailto:scoez@harrysoftware.com" TargetMode="External"/><Relationship Id="rId3" Type="http://schemas.openxmlformats.org/officeDocument/2006/relationships/hyperlink" Target="mailto:planducci@harrysoftware.com" TargetMode="External"/><Relationship Id="rId4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28.png"/><Relationship Id="rId12" Type="http://schemas.openxmlformats.org/officeDocument/2006/relationships/image" Target="../media/image29.jpeg"/><Relationship Id="rId13" Type="http://schemas.openxmlformats.org/officeDocument/2006/relationships/image" Target="../media/image30.png"/><Relationship Id="rId14" Type="http://schemas.openxmlformats.org/officeDocument/2006/relationships/image" Target="../media/image31.jpeg"/><Relationship Id="rId15" Type="http://schemas.openxmlformats.org/officeDocument/2006/relationships/image" Target="../media/image32.png"/><Relationship Id="rId16" Type="http://schemas.openxmlformats.org/officeDocument/2006/relationships/image" Target="../media/image33.jpeg"/><Relationship Id="rId17" Type="http://schemas.openxmlformats.org/officeDocument/2006/relationships/image" Target="../media/image34.png"/><Relationship Id="rId18" Type="http://schemas.openxmlformats.org/officeDocument/2006/relationships/image" Target="../media/image35.png"/><Relationship Id="rId19" Type="http://schemas.openxmlformats.org/officeDocument/2006/relationships/image" Target="../media/image36.png"/><Relationship Id="rId20" Type="http://schemas.openxmlformats.org/officeDocument/2006/relationships/image" Target="../media/image37.jpeg"/><Relationship Id="rId21" Type="http://schemas.openxmlformats.org/officeDocument/2006/relationships/image" Target="../media/image38.png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195640" y="2349360"/>
            <a:ext cx="4537080" cy="2806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186880" y="4869000"/>
            <a:ext cx="26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mic Sans MS"/>
              </a:rPr>
              <a:t>As quick as you thin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Dyalog logo"/>
          <p:cNvPicPr/>
          <p:nvPr/>
        </p:nvPicPr>
        <p:blipFill>
          <a:blip r:embed="rId2"/>
          <a:stretch/>
        </p:blipFill>
        <p:spPr>
          <a:xfrm>
            <a:off x="4545000" y="6032520"/>
            <a:ext cx="2638440" cy="4921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040520" y="59500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760160" y="6308640"/>
            <a:ext cx="127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ul Landuc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éphane Co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2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771640" y="2620800"/>
            <a:ext cx="3168720" cy="1744920"/>
          </a:xfrm>
          <a:prstGeom prst="rect">
            <a:avLst/>
          </a:prstGeom>
          <a:ln w="12600">
            <a:solidFill>
              <a:srgbClr val="5f5f5f"/>
            </a:solidFill>
            <a:miter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852720" y="4221000"/>
            <a:ext cx="2880000" cy="229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6175440" y="2835360"/>
            <a:ext cx="2705040" cy="208908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8748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HARRYPilot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To structure &amp; display information</a:t>
            </a:r>
            <a:endParaRPr b="0" lang="en-US" sz="4400" spc="-1" strike="noStrike">
              <a:solidFill>
                <a:srgbClr val="333399"/>
              </a:solidFill>
              <a:latin typeface="Eurostile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179280" y="3036960"/>
            <a:ext cx="2756160" cy="14716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6730920" y="4149720"/>
            <a:ext cx="2305080" cy="188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6" name="" descr=""/>
          <p:cNvPicPr/>
          <p:nvPr/>
        </p:nvPicPr>
        <p:blipFill>
          <a:blip r:embed="rId6"/>
          <a:stretch/>
        </p:blipFill>
        <p:spPr>
          <a:xfrm>
            <a:off x="108000" y="4672080"/>
            <a:ext cx="3529080" cy="149364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</p:spTree>
  </p:cSld>
  <p:transition spd="med">
    <p:fade thruBlk="true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HReport,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powerful &amp; pertinent presentation</a:t>
            </a:r>
            <a:endParaRPr b="0" lang="en-US" sz="44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1785960" cy="2663640"/>
          </a:xfrm>
          <a:prstGeom prst="rect">
            <a:avLst/>
          </a:prstGeom>
          <a:ln w="12600">
            <a:solidFill>
              <a:srgbClr val="120575"/>
            </a:solidFill>
            <a:miter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195640" y="2637000"/>
            <a:ext cx="2781000" cy="1717560"/>
          </a:xfrm>
          <a:prstGeom prst="rect">
            <a:avLst/>
          </a:prstGeom>
          <a:ln w="9360">
            <a:solidFill>
              <a:srgbClr val="292929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7086600" y="2435400"/>
            <a:ext cx="1892160" cy="2665080"/>
          </a:xfrm>
          <a:prstGeom prst="rect">
            <a:avLst/>
          </a:prstGeom>
          <a:ln w="12600">
            <a:solidFill>
              <a:srgbClr val="000099"/>
            </a:solidFill>
            <a:miter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732720" y="4994280"/>
            <a:ext cx="2232000" cy="1674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5003640" y="2997360"/>
            <a:ext cx="1933560" cy="1450800"/>
          </a:xfrm>
          <a:prstGeom prst="rect">
            <a:avLst/>
          </a:prstGeom>
          <a:ln w="6480">
            <a:solidFill>
              <a:srgbClr val="0000cc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3613320" y="4538520"/>
            <a:ext cx="3046320" cy="220356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235" name="" descr=""/>
          <p:cNvPicPr/>
          <p:nvPr/>
        </p:nvPicPr>
        <p:blipFill>
          <a:blip r:embed="rId7"/>
          <a:stretch/>
        </p:blipFill>
        <p:spPr>
          <a:xfrm>
            <a:off x="34920" y="4422600"/>
            <a:ext cx="3946680" cy="21751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p:transition spd="med">
    <p:fade thruBlk="true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828800" y="1052640"/>
            <a:ext cx="70102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2592360" cy="19447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22200" y="3068640"/>
            <a:ext cx="2521080" cy="18288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108000" y="422100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280" y="1123920"/>
            <a:ext cx="8218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HARRY</a:t>
            </a:r>
            <a:r>
              <a:rPr b="0" i="1" lang="en-US" sz="4400" spc="-1" strike="noStrike">
                <a:solidFill>
                  <a:srgbClr val="333399"/>
                </a:solidFill>
                <a:latin typeface="Eurostile"/>
              </a:rPr>
              <a:t>DataWEB</a:t>
            </a: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924360" y="2133720"/>
            <a:ext cx="49687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To design the application pages and dynamics,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and run it on your Intranet, 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To broadcast results and information,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To deploy according to your user domains, groups and profiles.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1547640" y="4975200"/>
            <a:ext cx="2016360" cy="1549440"/>
          </a:xfrm>
          <a:prstGeom prst="rect">
            <a:avLst/>
          </a:prstGeom>
          <a:ln w="1260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29920" y="1197000"/>
            <a:ext cx="8218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A 4 step process</a:t>
            </a:r>
            <a:endParaRPr b="0" lang="en-US" sz="44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0920" y="2278080"/>
            <a:ext cx="5905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Step 1: Create your report at the </a:t>
            </a: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       detail level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Step 2: Replace pertinent values </a:t>
            </a: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  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       by parameters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Step 3: Insert and design within a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       WEB application page 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Step 4: Deploy to the intranet.   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rcRect l="0" t="0" r="9548" b="0"/>
          <a:stretch/>
        </p:blipFill>
        <p:spPr>
          <a:xfrm>
            <a:off x="6156360" y="2349360"/>
            <a:ext cx="917640" cy="671760"/>
          </a:xfrm>
          <a:prstGeom prst="rect">
            <a:avLst/>
          </a:prstGeom>
          <a:ln w="0">
            <a:noFill/>
          </a:ln>
        </p:spPr>
      </p:pic>
      <p:grpSp>
        <p:nvGrpSpPr>
          <p:cNvPr id="246" name=""/>
          <p:cNvGrpSpPr/>
          <p:nvPr/>
        </p:nvGrpSpPr>
        <p:grpSpPr>
          <a:xfrm>
            <a:off x="6227640" y="2997360"/>
            <a:ext cx="2718000" cy="1535040"/>
            <a:chOff x="6227640" y="2997360"/>
            <a:chExt cx="2718000" cy="1535040"/>
          </a:xfrm>
        </p:grpSpPr>
        <p:pic>
          <p:nvPicPr>
            <p:cNvPr id="247" name="" descr=""/>
            <p:cNvPicPr/>
            <p:nvPr/>
          </p:nvPicPr>
          <p:blipFill>
            <a:blip r:embed="rId2"/>
            <a:srcRect l="0" t="0" r="9548" b="0"/>
            <a:stretch/>
          </p:blipFill>
          <p:spPr>
            <a:xfrm>
              <a:off x="6227640" y="2997360"/>
              <a:ext cx="917640" cy="67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3"/>
            <a:srcRect l="0" t="0" r="9548" b="0"/>
            <a:stretch/>
          </p:blipFill>
          <p:spPr>
            <a:xfrm>
              <a:off x="6443640" y="3213000"/>
              <a:ext cx="917640" cy="6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4"/>
            <a:srcRect l="0" t="0" r="9548" b="0"/>
            <a:stretch/>
          </p:blipFill>
          <p:spPr>
            <a:xfrm>
              <a:off x="6659640" y="3429000"/>
              <a:ext cx="917640" cy="67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5"/>
            <a:srcRect l="0" t="0" r="9548" b="0"/>
            <a:stretch/>
          </p:blipFill>
          <p:spPr>
            <a:xfrm>
              <a:off x="6875640" y="3645000"/>
              <a:ext cx="917280" cy="67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6"/>
            <a:srcRect l="0" t="0" r="9548" b="0"/>
            <a:stretch/>
          </p:blipFill>
          <p:spPr>
            <a:xfrm>
              <a:off x="7091280" y="3860640"/>
              <a:ext cx="917640" cy="6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7"/>
            <a:srcRect l="0" t="0" r="9548" b="0"/>
            <a:stretch/>
          </p:blipFill>
          <p:spPr>
            <a:xfrm>
              <a:off x="7164360" y="2997360"/>
              <a:ext cx="917640" cy="67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8"/>
            <a:srcRect l="0" t="0" r="9548" b="0"/>
            <a:stretch/>
          </p:blipFill>
          <p:spPr>
            <a:xfrm>
              <a:off x="7380360" y="3213000"/>
              <a:ext cx="917640" cy="6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9"/>
            <a:srcRect l="0" t="0" r="9548" b="0"/>
            <a:stretch/>
          </p:blipFill>
          <p:spPr>
            <a:xfrm>
              <a:off x="7738920" y="3429000"/>
              <a:ext cx="917640" cy="67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10"/>
            <a:srcRect l="0" t="0" r="9548" b="0"/>
            <a:stretch/>
          </p:blipFill>
          <p:spPr>
            <a:xfrm>
              <a:off x="7812000" y="3645000"/>
              <a:ext cx="917640" cy="67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11"/>
            <a:srcRect l="0" t="0" r="9548" b="0"/>
            <a:stretch/>
          </p:blipFill>
          <p:spPr>
            <a:xfrm>
              <a:off x="8028000" y="3860640"/>
              <a:ext cx="917640" cy="671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7" name="" descr=""/>
          <p:cNvPicPr/>
          <p:nvPr/>
        </p:nvPicPr>
        <p:blipFill>
          <a:blip r:embed="rId12"/>
          <a:stretch/>
        </p:blipFill>
        <p:spPr>
          <a:xfrm>
            <a:off x="6227640" y="4724280"/>
            <a:ext cx="1197000" cy="898560"/>
          </a:xfrm>
          <a:prstGeom prst="rect">
            <a:avLst/>
          </a:prstGeom>
          <a:ln w="12600">
            <a:solidFill>
              <a:srgbClr val="000099"/>
            </a:solidFill>
            <a:miter/>
          </a:ln>
        </p:spPr>
      </p:pic>
      <p:pic>
        <p:nvPicPr>
          <p:cNvPr id="258" name="" descr=""/>
          <p:cNvPicPr/>
          <p:nvPr/>
        </p:nvPicPr>
        <p:blipFill>
          <a:blip r:embed="rId13"/>
          <a:stretch/>
        </p:blipFill>
        <p:spPr>
          <a:xfrm>
            <a:off x="7615080" y="5950080"/>
            <a:ext cx="557280" cy="53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4"/>
          <a:stretch/>
        </p:blipFill>
        <p:spPr>
          <a:xfrm>
            <a:off x="6300720" y="6005520"/>
            <a:ext cx="1008000" cy="376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187280" y="2743200"/>
            <a:ext cx="7956720" cy="414972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16000" y="0"/>
            <a:ext cx="8028000" cy="475308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5400000">
            <a:off x="1070280" y="548280"/>
            <a:ext cx="6858000" cy="5761080"/>
          </a:xfrm>
          <a:custGeom>
            <a:avLst/>
            <a:gdLst>
              <a:gd name="textAreaLeft" fmla="*/ 0 w 6858000"/>
              <a:gd name="textAreaRight" fmla="*/ 6858360 w 6858000"/>
              <a:gd name="textAreaTop" fmla="*/ 0 h 5761080"/>
              <a:gd name="textAreaBottom" fmla="*/ 5761080 h 57610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4915" y="4616"/>
                </a:lnTo>
                <a:lnTo>
                  <a:pt x="14028" y="4616"/>
                </a:lnTo>
                <a:lnTo>
                  <a:pt x="14028" y="7572"/>
                </a:lnTo>
                <a:lnTo>
                  <a:pt x="16984" y="7572"/>
                </a:lnTo>
                <a:lnTo>
                  <a:pt x="16984" y="6685"/>
                </a:lnTo>
                <a:lnTo>
                  <a:pt x="21600" y="10800"/>
                </a:lnTo>
                <a:lnTo>
                  <a:pt x="16984" y="14915"/>
                </a:lnTo>
                <a:lnTo>
                  <a:pt x="16984" y="14028"/>
                </a:lnTo>
                <a:lnTo>
                  <a:pt x="4616" y="14028"/>
                </a:lnTo>
                <a:lnTo>
                  <a:pt x="4616" y="14915"/>
                </a:lnTo>
                <a:lnTo>
                  <a:pt x="0" y="10800"/>
                </a:lnTo>
                <a:lnTo>
                  <a:pt x="4616" y="6685"/>
                </a:lnTo>
                <a:lnTo>
                  <a:pt x="4616" y="7572"/>
                </a:lnTo>
                <a:lnTo>
                  <a:pt x="7572" y="7572"/>
                </a:lnTo>
                <a:lnTo>
                  <a:pt x="7572" y="4616"/>
                </a:lnTo>
                <a:lnTo>
                  <a:pt x="6685" y="4616"/>
                </a:lnTo>
                <a:close/>
              </a:path>
            </a:pathLst>
          </a:custGeom>
          <a:solidFill>
            <a:srgbClr val="ffbe35"/>
          </a:solidFill>
          <a:ln w="28440">
            <a:solidFill>
              <a:srgbClr val="ffbe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90920" y="4653000"/>
            <a:ext cx="3168720" cy="5763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Dictio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987640" y="3573360"/>
            <a:ext cx="4537080" cy="8431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HARRYPilot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237200" y="2779560"/>
            <a:ext cx="2135160" cy="5763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ARRYDash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567240" y="5472000"/>
            <a:ext cx="931680" cy="1197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4689360" y="5484960"/>
            <a:ext cx="890640" cy="11840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5699160" y="5472000"/>
            <a:ext cx="888840" cy="1197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270" name=""/>
          <p:cNvSpPr/>
          <p:nvPr/>
        </p:nvSpPr>
        <p:spPr>
          <a:xfrm>
            <a:off x="4282920" y="2133720"/>
            <a:ext cx="2089440" cy="64764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ARRYNet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987640" y="1125360"/>
            <a:ext cx="4608720" cy="215928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HARRYDataWEB</a:t>
            </a:r>
            <a:br>
              <a:rPr sz="1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ahoma"/>
              </a:rPr>
              <a:t>Interactive reporting, </a:t>
            </a:r>
            <a:br>
              <a:rPr sz="1800"/>
            </a:br>
            <a:r>
              <a:rPr b="0" lang="fr-FR" sz="1800" spc="-1" strike="noStrike">
                <a:solidFill>
                  <a:srgbClr val="000066"/>
                </a:solidFill>
                <a:latin typeface="Tahoma"/>
              </a:rPr>
              <a:t>Ad hoc queries,</a:t>
            </a:r>
            <a:br>
              <a:rPr sz="1800"/>
            </a:br>
            <a:r>
              <a:rPr b="0" lang="fr-FR" sz="1800" spc="-1" strike="noStrike">
                <a:solidFill>
                  <a:srgbClr val="000066"/>
                </a:solidFill>
                <a:latin typeface="Tahoma"/>
              </a:rPr>
              <a:t>Mutidimensional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navigatio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300720" y="3141720"/>
            <a:ext cx="1152720" cy="7189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HRe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16000" y="2421000"/>
            <a:ext cx="1079640" cy="21603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Verdana"/>
              </a:rPr>
              <a:t>HARRY</a:t>
            </a:r>
            <a:br>
              <a:rPr sz="1900"/>
            </a:br>
            <a:r>
              <a:rPr b="0" lang="en-US" sz="1900" spc="-1" strike="noStrike">
                <a:solidFill>
                  <a:srgbClr val="000066"/>
                </a:solidFill>
                <a:latin typeface="Verdana"/>
              </a:rPr>
              <a:t>Manager,</a:t>
            </a:r>
            <a:br>
              <a:rPr sz="1900"/>
            </a:br>
            <a:r>
              <a:rPr b="0" lang="en-US" sz="1900" spc="-1" strike="noStrike">
                <a:solidFill>
                  <a:srgbClr val="000066"/>
                </a:solidFill>
                <a:latin typeface="Verdana"/>
              </a:rPr>
              <a:t>H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987640" y="3141720"/>
            <a:ext cx="1150920" cy="7920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HC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25"/>
                            </p:stCondLst>
                            <p:childTnLst>
                              <p:par>
                                <p:cTn id="4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50"/>
                            </p:stCondLst>
                            <p:childTnLst>
                              <p:par>
                                <p:cTn id="440" nodeType="after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5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6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8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97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79 0.03472 L 0.08854 -0.29075 E">
                                      <p:cBhvr>
                                        <p:cTn id="508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0" dur="2000" fill="hold"/>
                                        <p:tgtEl>
                                          <p:spTgt spid="267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202b8"/>
                </a:solidFill>
                <a:latin typeface="Eurostile"/>
              </a:rPr>
              <a:t>HARRYVectorServers</a:t>
            </a:r>
            <a:endParaRPr b="1" lang="en-US" sz="60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371600" y="426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02b8"/>
                </a:solidFill>
                <a:latin typeface="Eurostile"/>
              </a:rPr>
              <a:t>Very fast datamarts: </a:t>
            </a:r>
            <a:br>
              <a:rPr sz="2800"/>
            </a:br>
            <a:br>
              <a:rPr sz="2000"/>
            </a:br>
            <a:r>
              <a:rPr b="1" lang="en-US" sz="1800" spc="-1" strike="noStrike">
                <a:solidFill>
                  <a:srgbClr val="0202b8"/>
                </a:solidFill>
                <a:latin typeface="Eurostile"/>
              </a:rPr>
              <a:t>HARRY 2: IBM Z90</a:t>
            </a:r>
            <a:endParaRPr b="1" lang="en-US" sz="1800" spc="-1" strike="noStrike">
              <a:solidFill>
                <a:srgbClr val="333399"/>
              </a:solidFill>
              <a:latin typeface="Eurostile"/>
            </a:endParaRPr>
          </a:p>
          <a:p>
            <a:pPr lvl="1"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2b8"/>
                </a:solidFill>
                <a:latin typeface="Eurostile"/>
              </a:rPr>
              <a:t> </a:t>
            </a:r>
            <a:r>
              <a:rPr b="1" lang="en-US" sz="1800" spc="-1" strike="noStrike">
                <a:solidFill>
                  <a:srgbClr val="0202b8"/>
                </a:solidFill>
                <a:latin typeface="Eurostile"/>
              </a:rPr>
              <a:t>HARRY-X: AIX, SUN, HP </a:t>
            </a:r>
            <a:endParaRPr b="1" lang="en-US" sz="1800" spc="-1" strike="noStrike">
              <a:solidFill>
                <a:srgbClr val="333399"/>
              </a:solidFill>
              <a:latin typeface="Eurostile"/>
            </a:endParaRPr>
          </a:p>
          <a:p>
            <a:pPr lvl="1"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2b8"/>
                </a:solidFill>
                <a:latin typeface="Eurostile"/>
              </a:rPr>
              <a:t> </a:t>
            </a:r>
            <a:r>
              <a:rPr b="1" lang="en-US" sz="1800" spc="-1" strike="noStrike">
                <a:solidFill>
                  <a:srgbClr val="0202b8"/>
                </a:solidFill>
                <a:latin typeface="Eurostile"/>
              </a:rPr>
              <a:t>HARRY-NT: WINDOWS XP &amp; 2003</a:t>
            </a:r>
            <a:endParaRPr b="1" lang="en-US" sz="1800" spc="-1" strike="noStrike">
              <a:solidFill>
                <a:srgbClr val="333399"/>
              </a:solidFill>
              <a:latin typeface="Eurostile"/>
            </a:endParaRPr>
          </a:p>
          <a:p>
            <a:pPr lvl="1"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2b8"/>
                </a:solidFill>
                <a:latin typeface="Eurostile"/>
              </a:rPr>
              <a:t> </a:t>
            </a:r>
            <a:r>
              <a:rPr b="1" lang="en-US" sz="1800" spc="-1" strike="noStrike">
                <a:solidFill>
                  <a:srgbClr val="0202b8"/>
                </a:solidFill>
                <a:latin typeface="Eurostile"/>
              </a:rPr>
              <a:t>HARRY-LINUX</a:t>
            </a:r>
            <a:endParaRPr b="1" lang="en-US" sz="1800" spc="-1" strike="noStrike">
              <a:solidFill>
                <a:srgbClr val="333399"/>
              </a:solidFill>
              <a:latin typeface="Eurostile"/>
            </a:endParaRPr>
          </a:p>
          <a:p>
            <a:pPr lvl="1" marL="4572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Eurostile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6924600" y="1844640"/>
            <a:ext cx="2184480" cy="4969080"/>
          </a:xfrm>
          <a:prstGeom prst="rect">
            <a:avLst/>
          </a:prstGeom>
          <a:ln w="12600">
            <a:solidFill>
              <a:srgbClr val="000099"/>
            </a:solidFill>
            <a:miter/>
          </a:ln>
        </p:spPr>
      </p:pic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29920" y="1268280"/>
            <a:ext cx="8218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Vector Architecture</a:t>
            </a:r>
            <a:endParaRPr b="0" lang="en-US" sz="44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279" name=""/>
          <p:cNvSpPr/>
          <p:nvPr/>
        </p:nvSpPr>
        <p:spPr>
          <a:xfrm>
            <a:off x="4932360" y="2492280"/>
            <a:ext cx="4211640" cy="40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Eurostile"/>
              </a:rPr>
              <a:t>Adapt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Eurostile"/>
              </a:rPr>
              <a:t>Marke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Eurostile"/>
              </a:rPr>
              <a:t>Sales, logistic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Eurostile"/>
              </a:rPr>
              <a:t>WEB logging analys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Eurostile"/>
              </a:rPr>
              <a:t>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Eurostile"/>
              </a:rPr>
              <a:t>	</a:t>
            </a:r>
            <a:r>
              <a:rPr b="0" lang="fr-FR" sz="3200" spc="-1" strike="noStrike">
                <a:solidFill>
                  <a:srgbClr val="333399"/>
                </a:solidFill>
                <a:latin typeface="Eurostile"/>
              </a:rPr>
              <a:t>Any large database dedicated to intensive studies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324000" y="2487600"/>
            <a:ext cx="446400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29920" y="105228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The VectorServers many benefits:</a:t>
            </a:r>
            <a:endParaRPr b="0" lang="en-US" sz="44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24000" y="2076480"/>
            <a:ext cx="8820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Extremely fast on complex queries, scan, calculations,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Unlimited number of columns or dimensions, 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Boolean fields and bitmap indexing,  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Dynamical functions and dimensions,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Eurosti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Ranging or intervals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Eurosti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IF(CONDITION;TRUE;FALSE),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Eurosti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Typologies or Segment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...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Verdana"/>
              </a:rPr>
              <a:t>Selection: Where and Count</a:t>
            </a: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4789440" y="2057400"/>
            <a:ext cx="432000" cy="40323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92720" y="2057400"/>
            <a:ext cx="431640" cy="40323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97440" y="2057400"/>
            <a:ext cx="647640" cy="40323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516720" y="2057400"/>
            <a:ext cx="287280" cy="40323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03640" y="2057400"/>
            <a:ext cx="43164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97240" y="1989000"/>
            <a:ext cx="266760" cy="72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16360" y="1557360"/>
            <a:ext cx="3959280" cy="430200"/>
          </a:xfrm>
          <a:prstGeom prst="leftRightArrow">
            <a:avLst>
              <a:gd name="adj1" fmla="val 50000"/>
              <a:gd name="adj2" fmla="val 183215"/>
            </a:avLst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77080" y="2060640"/>
            <a:ext cx="287280" cy="40323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237440" y="2060640"/>
            <a:ext cx="287280" cy="40323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97800" y="2060640"/>
            <a:ext cx="647640" cy="40323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98760" y="162864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Tahoma"/>
              </a:rPr>
              <a:t>Vector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231040" y="350820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37880" y="1557360"/>
            <a:ext cx="128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Tahoma"/>
              </a:rPr>
              <a:t>Active selection</a:t>
            </a:r>
            <a:br>
              <a:rPr sz="1200"/>
            </a:br>
            <a:r>
              <a:rPr b="0" lang="fr-FR" sz="1200" spc="-1" strike="noStrike">
                <a:solidFill>
                  <a:srgbClr val="3333cc"/>
                </a:solidFill>
                <a:latin typeface="Tahoma"/>
              </a:rPr>
              <a:t>bitma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82480" y="3213000"/>
            <a:ext cx="4320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8640" y="2540160"/>
            <a:ext cx="83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Partition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bitma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4120" y="3213000"/>
            <a:ext cx="2667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700360" y="2924280"/>
            <a:ext cx="6048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700360" y="3860640"/>
            <a:ext cx="6048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700360" y="4797360"/>
            <a:ext cx="6048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700360" y="5661000"/>
            <a:ext cx="6048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3120" y="2362320"/>
            <a:ext cx="73224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Block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09880" y="3289320"/>
            <a:ext cx="73224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Block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4152960"/>
            <a:ext cx="73224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Block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809880" y="5089680"/>
            <a:ext cx="73224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Block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900000" y="2492280"/>
            <a:ext cx="2087640" cy="86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900000" y="3573360"/>
            <a:ext cx="2159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00000" y="3933720"/>
            <a:ext cx="2159280" cy="1224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00000" y="4149720"/>
            <a:ext cx="2016360" cy="172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00000" y="3716280"/>
            <a:ext cx="215928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56280" y="2205000"/>
            <a:ext cx="854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16200000">
            <a:off x="5719680" y="3188160"/>
            <a:ext cx="7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4738680" y="3252600"/>
            <a:ext cx="51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5275440" y="3236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D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6268680" y="326952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Qua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6592680" y="3247920"/>
            <a:ext cx="87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Unit Pr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7172280" y="321696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9440" y="5319720"/>
            <a:ext cx="294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VectorServer is </a:t>
            </a:r>
            <a:br>
              <a:rPr sz="2000"/>
            </a:b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working on partition</a:t>
            </a:r>
            <a:br>
              <a:rPr sz="2000"/>
            </a:b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and blocks. Block is </a:t>
            </a:r>
            <a:br>
              <a:rPr sz="2000"/>
            </a:b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the minimum read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Verdana"/>
              </a:rPr>
              <a:t>Vector index</a:t>
            </a: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94920" y="4365720"/>
            <a:ext cx="555156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Index allows: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To create a selection bitmap from a matrix describing each value with addresse for a variable in table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Without file reading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>
            <a:off x="6666120" y="1413000"/>
            <a:ext cx="82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Tahoma"/>
              </a:rPr>
              <a:t>Selection</a:t>
            </a:r>
            <a:br>
              <a:rPr sz="1200"/>
            </a:br>
            <a:r>
              <a:rPr b="0" lang="fr-FR" sz="1200" spc="-1" strike="noStrike">
                <a:solidFill>
                  <a:srgbClr val="3333cc"/>
                </a:solidFill>
                <a:latin typeface="Tahoma"/>
              </a:rPr>
              <a:t>bit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921360" y="2057400"/>
            <a:ext cx="28764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42240" y="1989000"/>
            <a:ext cx="266760" cy="72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611280" y="2205000"/>
          <a:ext cx="2698560" cy="1644840"/>
        </p:xfrm>
        <a:graphic>
          <a:graphicData uri="http://schemas.openxmlformats.org/drawingml/2006/table">
            <a:tbl>
              <a:tblPr/>
              <a:tblGrid>
                <a:gridCol w="838080"/>
                <a:gridCol w="186048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resses in vector t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15,194,2056,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3,12,16,17,18,27,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8,10,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"/>
          <p:cNvSpPr/>
          <p:nvPr/>
        </p:nvSpPr>
        <p:spPr>
          <a:xfrm>
            <a:off x="684360" y="2637000"/>
            <a:ext cx="4535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449880" y="2637000"/>
            <a:ext cx="170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Tahoma"/>
              </a:rPr>
              <a:t>Bitmap cre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219640" y="2349360"/>
            <a:ext cx="172872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5219640" y="2565360"/>
            <a:ext cx="180036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219640" y="2852640"/>
            <a:ext cx="1800360" cy="165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19640" y="2852640"/>
            <a:ext cx="1728720" cy="237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948360" y="1989000"/>
            <a:ext cx="266760" cy="72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50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03280" y="2700360"/>
            <a:ext cx="6912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Eurostile"/>
              </a:rPr>
              <a:t>Our Job</a:t>
            </a:r>
            <a:endParaRPr b="1" lang="en-US" sz="8000" spc="-1" strike="noStrike">
              <a:solidFill>
                <a:srgbClr val="333399"/>
              </a:solidFill>
              <a:latin typeface="Eurostile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Verdana"/>
              </a:rPr>
              <a:t>APL/M conversion</a:t>
            </a: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APL/M Version 10 &amp; 11…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Availability on WINDOWS, UNIX, LINUX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184d"/>
                </a:solidFill>
                <a:latin typeface="Verdana"/>
              </a:rPr>
              <a:t>Version 7.1 de HVS, released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184d"/>
                </a:solidFill>
                <a:latin typeface="Verdana"/>
              </a:rPr>
              <a:t>Overpasses the 4 Giga Bytes file limit 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184d"/>
                </a:solidFill>
                <a:latin typeface="Verdana"/>
              </a:rPr>
              <a:t>UNIX, LINUX et WINDOWS files directly compatible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f01"/>
                </a:solidFill>
                <a:latin typeface="Verdana"/>
              </a:rPr>
              <a:t>Nouveau look &amp; feel XP </a:t>
            </a:r>
            <a:br>
              <a:rPr sz="2000"/>
            </a:br>
            <a:r>
              <a:rPr b="1" lang="en-US" sz="2000" spc="-1" strike="noStrike">
                <a:solidFill>
                  <a:srgbClr val="ffcf01"/>
                </a:solidFill>
                <a:latin typeface="Verdana"/>
              </a:rPr>
              <a:t>pour la console et le monitoring</a:t>
            </a:r>
            <a:endParaRPr b="1" lang="en-US" sz="2000" spc="-1" strike="noStrike">
              <a:solidFill>
                <a:srgbClr val="ffcf01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431640" y="1220760"/>
            <a:ext cx="5081760" cy="27129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395280" y="1951200"/>
            <a:ext cx="7351560" cy="41418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936720" y="3922560"/>
            <a:ext cx="8172360" cy="2891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3132000" y="1438200"/>
            <a:ext cx="5616720" cy="541188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5"/>
          <a:stretch/>
        </p:blipFill>
        <p:spPr>
          <a:xfrm>
            <a:off x="287280" y="3860640"/>
            <a:ext cx="8172360" cy="28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3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9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5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95" dur="1" fill="hold"/>
                                  <p:tgtEl>
                                    <p:spTgt spid="3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Verdana"/>
              </a:rPr>
              <a:t>Performances: 6.5 M Rec, 315 cols</a:t>
            </a: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806400" y="1700280"/>
            <a:ext cx="707868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Verdana"/>
              </a:rPr>
              <a:t>HARRYVectorServer, next…</a:t>
            </a: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64 bit full version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Administration module as a ‘console’ </a:t>
            </a:r>
            <a:br>
              <a:rPr sz="2000"/>
            </a:b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Stored relational views ‘join-like’ 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Parallelization, multi-processing &amp; clustering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Vector loaded in // on several instances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Dispatch one query on several servers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Load balancing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Dynamical profile session update 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47920" y="121932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f01"/>
                </a:solidFill>
                <a:latin typeface="Verdana"/>
              </a:rPr>
              <a:t>The fashion show room</a:t>
            </a:r>
            <a:endParaRPr b="1" lang="en-US" sz="28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504960" y="297144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184d"/>
                </a:solidFill>
                <a:latin typeface="Verdana"/>
              </a:rPr>
              <a:t>JAVA…!</a:t>
            </a:r>
            <a:endParaRPr b="1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"/>
          <p:cNvGrpSpPr/>
          <p:nvPr/>
        </p:nvGrpSpPr>
        <p:grpSpPr>
          <a:xfrm>
            <a:off x="2857680" y="1484280"/>
            <a:ext cx="3632040" cy="1525320"/>
            <a:chOff x="2857680" y="1484280"/>
            <a:chExt cx="3632040" cy="1525320"/>
          </a:xfrm>
        </p:grpSpPr>
        <p:grpSp>
          <p:nvGrpSpPr>
            <p:cNvPr id="349" name=""/>
            <p:cNvGrpSpPr/>
            <p:nvPr/>
          </p:nvGrpSpPr>
          <p:grpSpPr>
            <a:xfrm>
              <a:off x="3111480" y="1916280"/>
              <a:ext cx="3211200" cy="1093320"/>
              <a:chOff x="3111480" y="1916280"/>
              <a:chExt cx="3211200" cy="1093320"/>
            </a:xfrm>
          </p:grpSpPr>
          <p:sp>
            <p:nvSpPr>
              <p:cNvPr id="350" name=""/>
              <p:cNvSpPr/>
              <p:nvPr/>
            </p:nvSpPr>
            <p:spPr>
              <a:xfrm>
                <a:off x="3111480" y="2270880"/>
                <a:ext cx="2835000" cy="738720"/>
              </a:xfrm>
              <a:prstGeom prst="ellipse">
                <a:avLst/>
              </a:prstGeom>
              <a:noFill/>
              <a:ln w="12600">
                <a:solidFill>
                  <a:srgbClr val="003b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117320" y="1916280"/>
                <a:ext cx="2205360" cy="905040"/>
              </a:xfrm>
              <a:prstGeom prst="ellipse">
                <a:avLst/>
              </a:prstGeom>
              <a:noFill/>
              <a:ln w="12600">
                <a:solidFill>
                  <a:srgbClr val="003b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200"/>
                </a:b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WEB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2" name="" descr=""/>
            <p:cNvPicPr/>
            <p:nvPr/>
          </p:nvPicPr>
          <p:blipFill>
            <a:blip r:embed="rId1"/>
            <a:stretch/>
          </p:blipFill>
          <p:spPr>
            <a:xfrm>
              <a:off x="4462560" y="1484280"/>
              <a:ext cx="706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5308560" y="1611360"/>
              <a:ext cx="706320" cy="68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" descr=""/>
            <p:cNvPicPr/>
            <p:nvPr/>
          </p:nvPicPr>
          <p:blipFill>
            <a:blip r:embed="rId3"/>
            <a:stretch/>
          </p:blipFill>
          <p:spPr>
            <a:xfrm>
              <a:off x="5784840" y="2114640"/>
              <a:ext cx="7048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" descr=""/>
            <p:cNvPicPr/>
            <p:nvPr/>
          </p:nvPicPr>
          <p:blipFill>
            <a:blip r:embed="rId4"/>
            <a:stretch/>
          </p:blipFill>
          <p:spPr>
            <a:xfrm>
              <a:off x="2857680" y="2030400"/>
              <a:ext cx="706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" descr=""/>
            <p:cNvPicPr/>
            <p:nvPr/>
          </p:nvPicPr>
          <p:blipFill>
            <a:blip r:embed="rId5"/>
            <a:stretch/>
          </p:blipFill>
          <p:spPr>
            <a:xfrm>
              <a:off x="3533760" y="1625760"/>
              <a:ext cx="706320" cy="68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"/>
          <p:cNvSpPr/>
          <p:nvPr/>
        </p:nvSpPr>
        <p:spPr>
          <a:xfrm>
            <a:off x="2195640" y="1484280"/>
            <a:ext cx="4608360" cy="17985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HARRYDataWEB</a:t>
            </a:r>
            <a:br>
              <a:rPr sz="1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ahoma"/>
              </a:rPr>
              <a:t>Interactive reporting, </a:t>
            </a:r>
            <a:br>
              <a:rPr sz="1800"/>
            </a:br>
            <a:r>
              <a:rPr b="0" lang="fr-FR" sz="1800" spc="-1" strike="noStrike">
                <a:solidFill>
                  <a:srgbClr val="000066"/>
                </a:solidFill>
                <a:latin typeface="Tahoma"/>
              </a:rPr>
              <a:t>Ad hoc queries,</a:t>
            </a:r>
            <a:br>
              <a:rPr sz="1800"/>
            </a:br>
            <a:r>
              <a:rPr b="0" lang="fr-FR" sz="1800" spc="-1" strike="noStrike">
                <a:solidFill>
                  <a:srgbClr val="000066"/>
                </a:solidFill>
                <a:latin typeface="Tahoma"/>
              </a:rPr>
              <a:t>Mutidimensional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navigatio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Verdana"/>
              </a:rPr>
              <a:t>A alternative new architecture</a:t>
            </a: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>
            <a:off x="3821040" y="5597640"/>
            <a:ext cx="1487520" cy="866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80"/>
                </a:solidFill>
                <a:latin typeface="Tahoma"/>
              </a:rPr>
              <a:t>HARRY</a:t>
            </a:r>
            <a:br>
              <a:rPr sz="1200"/>
            </a:br>
            <a:r>
              <a:rPr b="1" lang="fr-FR" sz="1200" spc="-1" strike="noStrike">
                <a:solidFill>
                  <a:srgbClr val="000080"/>
                </a:solidFill>
                <a:latin typeface="Tahoma"/>
              </a:rPr>
              <a:t>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517840" y="5365800"/>
            <a:ext cx="3803760" cy="30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680" rIns="76680" tIns="0" bIns="38520" anchor="ctr" anchorCtr="1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Auxiliary process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131920" y="4248000"/>
            <a:ext cx="4697640" cy="99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680" rIns="76680" tIns="0" bIns="38520" anchor="ctr" anchorCtr="1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80"/>
                </a:solidFill>
                <a:latin typeface="Arial"/>
              </a:rPr>
              <a:t>HARRY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80"/>
                </a:solidFill>
                <a:latin typeface="Tahoma"/>
              </a:rPr>
              <a:t>Workspace </a:t>
            </a:r>
            <a:br>
              <a:rPr sz="1600"/>
            </a:br>
            <a:r>
              <a:rPr b="1" lang="fr-FR" sz="1200" spc="-1" strike="noStrike">
                <a:solidFill>
                  <a:srgbClr val="000080"/>
                </a:solidFill>
                <a:latin typeface="Tahoma"/>
              </a:rPr>
              <a:t>Vector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233440" y="6056280"/>
            <a:ext cx="1384560" cy="728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ahoma"/>
              </a:rPr>
              <a:t>Ora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532480" y="6056280"/>
            <a:ext cx="1380960" cy="728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ahoma"/>
              </a:rPr>
              <a:t>XX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916360" y="3645000"/>
            <a:ext cx="3111480" cy="650880"/>
          </a:xfrm>
          <a:prstGeom prst="rect">
            <a:avLst/>
          </a:prstGeom>
          <a:gradFill rotWithShape="0">
            <a:gsLst>
              <a:gs pos="0">
                <a:srgbClr val="3333cc">
                  <a:alpha val="50196"/>
                </a:srgbClr>
              </a:gs>
              <a:gs pos="100000">
                <a:srgbClr val="ffffff">
                  <a:alpha val="55294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680" rIns="76680" tIns="0" bIns="38520" anchor="ctr" anchorCtr="1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HARRY JAVA Clas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687760" y="3079800"/>
            <a:ext cx="3633840" cy="48888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ahoma"/>
              </a:rPr>
              <a:t>Application (Jav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2272200">
            <a:off x="2950920" y="5597640"/>
            <a:ext cx="414360" cy="628560"/>
          </a:xfrm>
          <a:prstGeom prst="upDownArrow">
            <a:avLst>
              <a:gd name="adj1" fmla="val 50000"/>
              <a:gd name="adj2" fmla="val 30198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85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19167600">
            <a:off x="5665680" y="5597280"/>
            <a:ext cx="336600" cy="628560"/>
          </a:xfrm>
          <a:prstGeom prst="upDownArrow">
            <a:avLst>
              <a:gd name="adj1" fmla="val 50000"/>
              <a:gd name="adj2" fmla="val 37174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23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268360" y="3378240"/>
            <a:ext cx="4392720" cy="8427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HARRYPilot &amp; Dictionary</a:t>
            </a:r>
            <a:r>
              <a:rPr b="0" lang="fr-FR" sz="2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724360" y="2925720"/>
            <a:ext cx="1152720" cy="71928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HRe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619280" y="2924280"/>
            <a:ext cx="1150920" cy="7920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HC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Verdana"/>
              </a:rPr>
              <a:t>The HNS JAVA interface</a:t>
            </a: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To give to developers a total and accurate control on HARRYVS at the appropriate level for their application.</a:t>
            </a:r>
            <a:br>
              <a:rPr sz="2000"/>
            </a:b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Access to every command or function and parameters of HARRYVectorServer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Example: </a:t>
            </a:r>
            <a:r>
              <a:rPr b="1" lang="en-US" sz="1800" spc="-1" strike="noStrike">
                <a:solidFill>
                  <a:srgbClr val="28184d"/>
                </a:solidFill>
                <a:latin typeface="Verdana"/>
              </a:rPr>
              <a:t>HARRY « </a:t>
            </a: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SEL:</a:t>
            </a:r>
            <a:r>
              <a:rPr b="0" lang="en-US" sz="1600" spc="-1" strike="noStrike">
                <a:solidFill>
                  <a:srgbClr val="28184d"/>
                </a:solidFill>
                <a:latin typeface="Verdana"/>
              </a:rPr>
              <a:t>FAMILY</a:t>
            </a: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=702 »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ffcf01"/>
              </a:buClr>
              <a:buSzPct val="80000"/>
              <a:buFont typeface="Wingdings 2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184d"/>
                </a:solidFill>
                <a:latin typeface="Verdana"/>
              </a:rPr>
              <a:t>Loads the selection bitmap in WS</a:t>
            </a:r>
            <a:endParaRPr b="0" lang="en-US" sz="1600" spc="-1" strike="noStrike">
              <a:solidFill>
                <a:srgbClr val="28184d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ffcf01"/>
              </a:buClr>
              <a:buSzPct val="80000"/>
              <a:buFont typeface="Wingdings 2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184d"/>
                </a:solidFill>
                <a:latin typeface="Verdana"/>
              </a:rPr>
              <a:t>Returns the count to application</a:t>
            </a:r>
            <a:r>
              <a:rPr b="1" lang="en-US" sz="1600" spc="-1" strike="noStrike">
                <a:solidFill>
                  <a:srgbClr val="28184d"/>
                </a:solidFill>
                <a:latin typeface="Verdana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28184d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184d"/>
                </a:solidFill>
                <a:latin typeface="Verdana"/>
              </a:rPr>
              <a:t>Access to every HARRYVectorServer features or facility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Verdana"/>
              </a:rPr>
              <a:t>Auxiliary processors</a:t>
            </a: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3160" y="1844640"/>
            <a:ext cx="830556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Goals : To create a dynamic link between an external server  (Oracle, SQLServer, DB2/U, etc.) and the HARRYVectorServer WS through this server native middleware.</a:t>
            </a:r>
            <a:br>
              <a:rPr sz="2000"/>
            </a:b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Runs a query and sends the result to WS.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Notice: Query is only checked by the remote remote server.</a:t>
            </a:r>
            <a:br>
              <a:rPr sz="1800"/>
            </a:b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  SQLORACLE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yntax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QLORACLE: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QL_QUERY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xample 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QLORACLE: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LECT NAME,FISRT,SALARY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ROM PERSO WHER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IV=‘MFG'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Verdana"/>
              </a:rPr>
              <a:t>Example: a two server query</a:t>
            </a: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1296720" cy="9907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2374200" y="1557360"/>
            <a:ext cx="539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Select the customers who have today receivable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for more than 1,500 Eur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403280" y="2995560"/>
            <a:ext cx="6553440" cy="194616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15360" y="2395440"/>
            <a:ext cx="108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pplic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891480" y="3692520"/>
            <a:ext cx="105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Workspace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341880" y="242100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1 – ORACLE Qu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rot="19261800">
            <a:off x="1618920" y="2492280"/>
            <a:ext cx="719280" cy="1152720"/>
          </a:xfrm>
          <a:prstGeom prst="downArrow">
            <a:avLst>
              <a:gd name="adj1" fmla="val 50000"/>
              <a:gd name="adj2" fmla="val 40065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463760" y="3490920"/>
            <a:ext cx="4455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HARRY_EXEC « 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SQLORACLE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:SELECT CUSTID,COUNT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LIST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WHERE account &gt;= 1500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908000" y="4363920"/>
            <a:ext cx="719280" cy="1152720"/>
          </a:xfrm>
          <a:prstGeom prst="downArrow">
            <a:avLst>
              <a:gd name="adj1" fmla="val 50000"/>
              <a:gd name="adj2" fmla="val 40065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971640" y="5446800"/>
            <a:ext cx="2232000" cy="12952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957600" y="5794200"/>
            <a:ext cx="2201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SELECT CUSTID,COUNT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LIST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WHERE account &gt;= 1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10800000">
            <a:off x="2411280" y="4437000"/>
            <a:ext cx="719280" cy="1152720"/>
          </a:xfrm>
          <a:prstGeom prst="downArrow">
            <a:avLst>
              <a:gd name="adj1" fmla="val 50000"/>
              <a:gd name="adj2" fmla="val 40065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09480" y="3573360"/>
            <a:ext cx="90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+ return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2491560" y="3429000"/>
            <a:ext cx="822240" cy="863640"/>
            <a:chOff x="2491560" y="3429000"/>
            <a:chExt cx="822240" cy="863640"/>
          </a:xfrm>
        </p:grpSpPr>
        <p:sp>
          <p:nvSpPr>
            <p:cNvPr id="390" name=""/>
            <p:cNvSpPr/>
            <p:nvPr/>
          </p:nvSpPr>
          <p:spPr>
            <a:xfrm>
              <a:off x="2771640" y="3429000"/>
              <a:ext cx="289080" cy="863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491560" y="3573360"/>
              <a:ext cx="822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ahoma"/>
                </a:rPr>
                <a:t>Cust_ID</a:t>
              </a:r>
              <a:br>
                <a:rPr sz="1400"/>
              </a:br>
              <a:r>
                <a:rPr b="0" lang="fr-FR" sz="1400" spc="-1" strike="noStrike">
                  <a:solidFill>
                    <a:srgbClr val="000000"/>
                  </a:solidFill>
                  <a:latin typeface="Tahoma"/>
                </a:rPr>
                <a:t>li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 rot="8306400">
            <a:off x="1834560" y="2420640"/>
            <a:ext cx="718920" cy="1152360"/>
          </a:xfrm>
          <a:prstGeom prst="downArrow">
            <a:avLst>
              <a:gd name="adj1" fmla="val 50000"/>
              <a:gd name="adj2" fmla="val 40073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95920" y="191628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Tahoma"/>
              </a:rPr>
              <a:t>code </a:t>
            </a:r>
            <a:br>
              <a:rPr sz="1400"/>
            </a:br>
            <a:r>
              <a:rPr b="0" lang="fr-FR" sz="1400" spc="-1" strike="noStrike">
                <a:solidFill>
                  <a:srgbClr val="ff0000"/>
                </a:solidFill>
                <a:latin typeface="Tahoma"/>
              </a:rPr>
              <a:t>&amp; 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46040" y="534816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RA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000"/>
                            </p:stCondLst>
                            <p:childTnLst>
                              <p:par>
                                <p:cTn id="9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1000"/>
                            </p:stCondLst>
                            <p:childTnLst>
                              <p:par>
                                <p:cTn id="9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1000"/>
                            </p:stCondLst>
                            <p:childTnLst>
                              <p:par>
                                <p:cTn id="9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500"/>
                            </p:stCondLst>
                            <p:childTnLst>
                              <p:par>
                                <p:cTn id="9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1500"/>
                            </p:stCondLst>
                            <p:childTnLst>
                              <p:par>
                                <p:cTn id="9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500"/>
                            </p:stCondLst>
                            <p:childTnLst>
                              <p:par>
                                <p:cTn id="9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1500"/>
                            </p:stCondLst>
                            <p:childTnLst>
                              <p:par>
                                <p:cTn id="9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Verdana"/>
              </a:rPr>
              <a:t>Example: a two server query</a:t>
            </a: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1296720" cy="9907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1403280" y="2995560"/>
            <a:ext cx="6553440" cy="194616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38040" y="2395440"/>
            <a:ext cx="104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91480" y="3692520"/>
            <a:ext cx="105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Workspace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473560" y="2276640"/>
            <a:ext cx="52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2 – Key selection within vector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9261800">
            <a:off x="1618920" y="2492280"/>
            <a:ext cx="719280" cy="1152720"/>
          </a:xfrm>
          <a:prstGeom prst="downArrow">
            <a:avLst>
              <a:gd name="adj1" fmla="val 50000"/>
              <a:gd name="adj2" fmla="val 40065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056680" y="3490920"/>
            <a:ext cx="327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HARRY_EXEC « 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CSEL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:LIST1 IN Cust_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52720" y="5446800"/>
            <a:ext cx="2232000" cy="12952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143600" y="5819760"/>
            <a:ext cx="107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ahoma"/>
              </a:rPr>
              <a:t>Load 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10800000">
            <a:off x="4284360" y="4653000"/>
            <a:ext cx="718920" cy="1008000"/>
          </a:xfrm>
          <a:prstGeom prst="downArrow">
            <a:avLst>
              <a:gd name="adj1" fmla="val 50000"/>
              <a:gd name="adj2" fmla="val 35053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2977920" y="3789360"/>
            <a:ext cx="1000800" cy="863640"/>
            <a:chOff x="2977920" y="3789360"/>
            <a:chExt cx="1000800" cy="863640"/>
          </a:xfrm>
        </p:grpSpPr>
        <p:sp>
          <p:nvSpPr>
            <p:cNvPr id="407" name=""/>
            <p:cNvSpPr/>
            <p:nvPr/>
          </p:nvSpPr>
          <p:spPr>
            <a:xfrm>
              <a:off x="3348000" y="3789360"/>
              <a:ext cx="289080" cy="863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977920" y="3933720"/>
              <a:ext cx="100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ahoma"/>
                </a:rPr>
                <a:t>Customer</a:t>
              </a:r>
              <a:br>
                <a:rPr sz="1400"/>
              </a:br>
              <a:r>
                <a:rPr b="0" lang="fr-FR" sz="1400" spc="-1" strike="noStrike">
                  <a:solidFill>
                    <a:srgbClr val="000000"/>
                  </a:solidFill>
                  <a:latin typeface="Tahoma"/>
                </a:rPr>
                <a:t>li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5675760" y="6107040"/>
            <a:ext cx="168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ARRYVector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0" y="3500280"/>
            <a:ext cx="73080" cy="122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208040" y="2924280"/>
            <a:ext cx="712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Cust_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374200" y="1557360"/>
            <a:ext cx="539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Select the customers who have today receivable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for more than 1,500 Eur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651640" y="3429000"/>
            <a:ext cx="72720" cy="122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694480" y="39258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635280" y="4149720"/>
            <a:ext cx="936720" cy="358920"/>
          </a:xfrm>
          <a:prstGeom prst="leftRightArrow">
            <a:avLst>
              <a:gd name="adj1" fmla="val 50000"/>
              <a:gd name="adj2" fmla="val 5195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643280" y="3933720"/>
            <a:ext cx="1008360" cy="432000"/>
          </a:xfrm>
          <a:prstGeom prst="rightArrow">
            <a:avLst>
              <a:gd name="adj1" fmla="val 50000"/>
              <a:gd name="adj2" fmla="val 583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71640" y="5446800"/>
            <a:ext cx="2232000" cy="12952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46040" y="534816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RA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93000" y="1916280"/>
            <a:ext cx="185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Tahoma"/>
              </a:rPr>
              <a:t>Selected customers </a:t>
            </a:r>
            <a:br>
              <a:rPr sz="1400"/>
            </a:br>
            <a:r>
              <a:rPr b="0" lang="fr-FR" sz="1400" spc="-1" strike="noStrike">
                <a:solidFill>
                  <a:srgbClr val="ff0000"/>
                </a:solidFill>
                <a:latin typeface="Tahoma"/>
              </a:rPr>
              <a:t>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8306400">
            <a:off x="1834560" y="2420640"/>
            <a:ext cx="718920" cy="1152360"/>
          </a:xfrm>
          <a:prstGeom prst="downArrow">
            <a:avLst>
              <a:gd name="adj1" fmla="val 50000"/>
              <a:gd name="adj2" fmla="val 40073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500"/>
                            </p:stCondLst>
                            <p:childTnLst>
                              <p:par>
                                <p:cTn id="10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6" dur="1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1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7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8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3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44444E-006 L -0.28542 0.01065 E">
                                      <p:cBhvr>
                                        <p:cTn id="1102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848200" y="2637000"/>
            <a:ext cx="3187800" cy="2298600"/>
          </a:xfrm>
          <a:prstGeom prst="rect">
            <a:avLst/>
          </a:prstGeom>
          <a:ln w="9360">
            <a:solidFill>
              <a:srgbClr val="3728fa"/>
            </a:solidFill>
            <a:miter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1244160"/>
            <a:ext cx="729144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Applications deployed through the WEB and Windows</a:t>
            </a:r>
            <a:endParaRPr b="0" lang="en-US" sz="4400" spc="-1" strike="noStrike">
              <a:solidFill>
                <a:srgbClr val="333399"/>
              </a:solidFill>
              <a:latin typeface="Eurostile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276720" y="3121200"/>
            <a:ext cx="2557440" cy="1963440"/>
          </a:xfrm>
          <a:prstGeom prst="rect">
            <a:avLst/>
          </a:prstGeom>
          <a:ln w="9360">
            <a:solidFill>
              <a:srgbClr val="3728fa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4068720" y="4653000"/>
            <a:ext cx="1943280" cy="1458720"/>
          </a:xfrm>
          <a:prstGeom prst="rect">
            <a:avLst/>
          </a:prstGeom>
          <a:ln w="12600">
            <a:solidFill>
              <a:srgbClr val="3728fa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4932360" y="5661000"/>
            <a:ext cx="1162080" cy="817560"/>
          </a:xfrm>
          <a:prstGeom prst="rect">
            <a:avLst/>
          </a:prstGeom>
          <a:ln w="12600">
            <a:solidFill>
              <a:srgbClr val="3728fa"/>
            </a:solidFill>
            <a:miter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177840" y="2629080"/>
            <a:ext cx="3241800" cy="1966680"/>
          </a:xfrm>
          <a:prstGeom prst="rect">
            <a:avLst/>
          </a:prstGeom>
          <a:ln w="9360">
            <a:solidFill>
              <a:srgbClr val="3728fa"/>
            </a:solidFill>
            <a:miter/>
          </a:ln>
        </p:spPr>
      </p:pic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6300720" y="4743360"/>
            <a:ext cx="2735280" cy="1854360"/>
          </a:xfrm>
          <a:prstGeom prst="rect">
            <a:avLst/>
          </a:prstGeom>
          <a:ln w="9360">
            <a:solidFill>
              <a:srgbClr val="3728fa"/>
            </a:solidFill>
            <a:miter/>
          </a:ln>
        </p:spPr>
      </p:pic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222120" y="4738680"/>
            <a:ext cx="2478240" cy="1859040"/>
          </a:xfrm>
          <a:prstGeom prst="rect">
            <a:avLst/>
          </a:prstGeom>
          <a:ln w="9360">
            <a:solidFill>
              <a:srgbClr val="3728fa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8"/>
          <a:stretch/>
        </p:blipFill>
        <p:spPr>
          <a:xfrm>
            <a:off x="2330280" y="5373720"/>
            <a:ext cx="2170440" cy="1376280"/>
          </a:xfrm>
          <a:prstGeom prst="rect">
            <a:avLst/>
          </a:prstGeom>
          <a:ln w="12600">
            <a:solidFill>
              <a:srgbClr val="3728fa"/>
            </a:solidFill>
            <a:miter/>
          </a:ln>
        </p:spPr>
      </p:pic>
    </p:spTree>
  </p:cSld>
  <p:transition spd="med"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Verdana"/>
              </a:rPr>
              <a:t>HARRYSoftware</a:t>
            </a: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Verdana"/>
                <a:hlinkClick r:id="rId1"/>
              </a:rPr>
              <a:t>www.harrysoftware.com</a:t>
            </a:r>
            <a:endParaRPr b="0" lang="en-US" sz="3600" spc="-1" strike="noStrike">
              <a:solidFill>
                <a:srgbClr val="28184d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184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Stéphane Coez, R&amp;D</a:t>
            </a:r>
            <a:br>
              <a:rPr sz="2000"/>
            </a:b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  <a:hlinkClick r:id="rId2"/>
              </a:rPr>
              <a:t>scoez@harrysoftware.com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Paul Landucci, CEO</a:t>
            </a:r>
            <a:br>
              <a:rPr sz="2000"/>
            </a:b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  <a:hlinkClick r:id="rId3"/>
              </a:rPr>
              <a:t>planducci@harrysoftware.com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42920" y="1248840"/>
            <a:ext cx="72835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Analysis and reports for developers &amp; expert users  </a:t>
            </a:r>
            <a:endParaRPr b="0" lang="en-US" sz="4400" spc="-1" strike="noStrike">
              <a:solidFill>
                <a:srgbClr val="333399"/>
              </a:solidFill>
              <a:latin typeface="Eurostile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79280" y="2544840"/>
            <a:ext cx="3195720" cy="23968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24000" y="5157720"/>
            <a:ext cx="1616040" cy="10778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2411280" y="4432320"/>
            <a:ext cx="3168720" cy="238140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4716360" y="2604960"/>
            <a:ext cx="3240360" cy="2265480"/>
          </a:xfrm>
          <a:prstGeom prst="rect">
            <a:avLst/>
          </a:prstGeom>
          <a:ln w="12600">
            <a:solidFill>
              <a:srgbClr val="000099"/>
            </a:solidFill>
            <a:miter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5945040" y="4581360"/>
            <a:ext cx="3019680" cy="2121120"/>
          </a:xfrm>
          <a:prstGeom prst="rect">
            <a:avLst/>
          </a:prstGeom>
          <a:ln w="12600">
            <a:solidFill>
              <a:srgbClr val="000066"/>
            </a:solidFill>
            <a:miter/>
          </a:ln>
        </p:spPr>
      </p:pic>
    </p:spTree>
  </p:cSld>
  <p:transition spd="med"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Eurostile"/>
              </a:rPr>
              <a:t>HARRYSoftware,</a:t>
            </a:r>
            <a:br>
              <a:rPr sz="6000"/>
            </a:br>
            <a:r>
              <a:rPr b="1" lang="en-US" sz="6000" spc="-1" strike="noStrike">
                <a:solidFill>
                  <a:srgbClr val="333399"/>
                </a:solidFill>
                <a:latin typeface="Eurostile"/>
              </a:rPr>
              <a:t>Our Clients</a:t>
            </a:r>
            <a:endParaRPr b="1" lang="en-US" sz="60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426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Eurostile"/>
              </a:rPr>
              <a:t>The company asset! </a:t>
            </a:r>
            <a:endParaRPr b="1" lang="en-US" sz="3600" spc="-1" strike="noStrike">
              <a:solidFill>
                <a:srgbClr val="333399"/>
              </a:solidFill>
              <a:latin typeface="Eurostile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2448000" cy="5176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6300720" y="6093000"/>
            <a:ext cx="2514600" cy="6634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3276720" y="981000"/>
            <a:ext cx="2307960" cy="50508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3851280" y="1744560"/>
            <a:ext cx="1657440" cy="8208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179280" y="2205000"/>
            <a:ext cx="2808360" cy="13953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0" y="981000"/>
            <a:ext cx="1133640" cy="107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1332000" y="6016680"/>
            <a:ext cx="2438280" cy="7254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324000" y="5445000"/>
            <a:ext cx="2341440" cy="5256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3851280" y="6165720"/>
            <a:ext cx="1905120" cy="4240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0"/>
          <a:stretch/>
        </p:blipFill>
        <p:spPr>
          <a:xfrm>
            <a:off x="7702560" y="3943440"/>
            <a:ext cx="1297080" cy="7808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1"/>
          <a:stretch/>
        </p:blipFill>
        <p:spPr>
          <a:xfrm>
            <a:off x="7020000" y="3519360"/>
            <a:ext cx="939600" cy="7732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2"/>
          <a:stretch/>
        </p:blipFill>
        <p:spPr>
          <a:xfrm>
            <a:off x="8023320" y="4724280"/>
            <a:ext cx="1012680" cy="720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201" name="" descr=""/>
          <p:cNvPicPr/>
          <p:nvPr/>
        </p:nvPicPr>
        <p:blipFill>
          <a:blip r:embed="rId13"/>
          <a:stretch/>
        </p:blipFill>
        <p:spPr>
          <a:xfrm>
            <a:off x="7740720" y="333360"/>
            <a:ext cx="1233360" cy="172080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pic>
        <p:nvPicPr>
          <p:cNvPr id="202" name="" descr=""/>
          <p:cNvPicPr/>
          <p:nvPr/>
        </p:nvPicPr>
        <p:blipFill>
          <a:blip r:embed="rId14"/>
          <a:stretch/>
        </p:blipFill>
        <p:spPr>
          <a:xfrm>
            <a:off x="5940360" y="692280"/>
            <a:ext cx="1422360" cy="14223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5"/>
          <a:stretch/>
        </p:blipFill>
        <p:spPr>
          <a:xfrm>
            <a:off x="5506920" y="2349360"/>
            <a:ext cx="3457800" cy="100836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204" name="" descr=""/>
          <p:cNvPicPr/>
          <p:nvPr/>
        </p:nvPicPr>
        <p:blipFill>
          <a:blip r:embed="rId16"/>
          <a:stretch/>
        </p:blipFill>
        <p:spPr>
          <a:xfrm>
            <a:off x="468360" y="3860640"/>
            <a:ext cx="1116000" cy="1152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205" name="" descr=""/>
          <p:cNvPicPr/>
          <p:nvPr/>
        </p:nvPicPr>
        <p:blipFill>
          <a:blip r:embed="rId17"/>
          <a:stretch/>
        </p:blipFill>
        <p:spPr>
          <a:xfrm>
            <a:off x="5867280" y="4076640"/>
            <a:ext cx="1152720" cy="109548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206" name="" descr=""/>
          <p:cNvPicPr/>
          <p:nvPr/>
        </p:nvPicPr>
        <p:blipFill>
          <a:blip r:embed="rId18"/>
          <a:stretch/>
        </p:blipFill>
        <p:spPr>
          <a:xfrm>
            <a:off x="2916360" y="5300640"/>
            <a:ext cx="4681440" cy="7732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9"/>
          <a:stretch/>
        </p:blipFill>
        <p:spPr>
          <a:xfrm>
            <a:off x="3059280" y="4292640"/>
            <a:ext cx="2736720" cy="766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208" name="" descr=""/>
          <p:cNvPicPr/>
          <p:nvPr/>
        </p:nvPicPr>
        <p:blipFill>
          <a:blip r:embed="rId20"/>
          <a:stretch/>
        </p:blipFill>
        <p:spPr>
          <a:xfrm>
            <a:off x="1979640" y="3716280"/>
            <a:ext cx="844560" cy="1066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209" name="" descr=""/>
          <p:cNvPicPr/>
          <p:nvPr/>
        </p:nvPicPr>
        <p:blipFill>
          <a:blip r:embed="rId21"/>
          <a:stretch/>
        </p:blipFill>
        <p:spPr>
          <a:xfrm>
            <a:off x="3252960" y="2790720"/>
            <a:ext cx="2039760" cy="1143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 spd="med"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4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77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" dur="770" fill="hold"/>
                                        <p:tgtEl>
                                          <p:spTgt spid="2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9" dur="77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0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08000" y="4941720"/>
            <a:ext cx="3025800" cy="18529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29920" y="1268280"/>
            <a:ext cx="8218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HARRY Foundations</a:t>
            </a:r>
            <a:endParaRPr b="0" lang="en-US" sz="44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7640" y="2277720"/>
            <a:ext cx="69850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1400"/>
              </a:spcBef>
              <a:spcAft>
                <a:spcPts val="524"/>
              </a:spcAft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Designed for business user requirements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332640" indent="-332640">
              <a:lnSpc>
                <a:spcPct val="70000"/>
              </a:lnSpc>
              <a:spcBef>
                <a:spcPts val="1400"/>
              </a:spcBef>
              <a:spcAft>
                <a:spcPts val="524"/>
              </a:spcAft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Powerful and complete vs. competitors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332640" indent="-332640">
              <a:lnSpc>
                <a:spcPct val="70000"/>
              </a:lnSpc>
              <a:spcBef>
                <a:spcPts val="1400"/>
              </a:spcBef>
              <a:spcAft>
                <a:spcPts val="524"/>
              </a:spcAft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One single interface to Relational and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OLAP environments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332640" indent="-332640">
              <a:lnSpc>
                <a:spcPct val="70000"/>
              </a:lnSpc>
              <a:spcBef>
                <a:spcPts val="1400"/>
              </a:spcBef>
              <a:spcAft>
                <a:spcPts val="524"/>
              </a:spcAft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Consistent, fast and customized deployment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877080" y="2647800"/>
            <a:ext cx="2232000" cy="157320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3295800" y="4869000"/>
            <a:ext cx="2716200" cy="191448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6012000" y="4581360"/>
            <a:ext cx="2952720" cy="2214720"/>
          </a:xfrm>
          <a:prstGeom prst="rect">
            <a:avLst/>
          </a:prstGeom>
          <a:ln w="12600">
            <a:solidFill>
              <a:srgbClr val="000066"/>
            </a:solidFill>
            <a:miter/>
          </a:ln>
        </p:spPr>
      </p:pic>
    </p:spTree>
  </p:cSld>
  <p:transition spd="med">
    <p:fade thruBlk="true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Eurostile"/>
              </a:rPr>
              <a:t>The HARRY Suite</a:t>
            </a:r>
            <a:endParaRPr b="1" lang="en-US" sz="54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426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Eurostile"/>
              </a:rPr>
              <a:t>Version 7</a:t>
            </a:r>
            <a:endParaRPr b="1" lang="en-US" sz="3600" spc="-1" strike="noStrike">
              <a:solidFill>
                <a:srgbClr val="333399"/>
              </a:solidFill>
              <a:latin typeface="Eurostile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29920" y="1268280"/>
            <a:ext cx="8218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HARRYPilot, Version 7</a:t>
            </a:r>
            <a:endParaRPr b="0" lang="en-US" sz="44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2421000"/>
            <a:ext cx="86421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Eurostile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Eurostile"/>
              </a:rPr>
              <a:t>One single GUI interface to relational, multidimensional and vector DB: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Accessing ORACLE, ESSBASE, MS-SQL Server, MS OLAP, HARRYVS… from your dictionary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Design parameterized queries, through the same GUI interface and automatisms,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Navigate within OLAP environments, 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Transform any query to an application page or broadcast it…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1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07:38:06Z</dcterms:created>
  <dc:creator>Paul Landucci</dc:creator>
  <dc:description/>
  <dc:language>en-US</dc:language>
  <cp:lastModifiedBy>Paul Landucci</cp:lastModifiedBy>
  <dcterms:modified xsi:type="dcterms:W3CDTF">2006-10-25T03:15:29Z</dcterms:modified>
  <cp:revision>15</cp:revision>
  <dc:subject/>
  <dc:title>Diapositive 1</dc:title>
</cp:coreProperties>
</file>