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4DD-C332-4BA1-993E-DFCE40B8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370-2526-4368-A0F4-E1B9196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D54-80D1-4C0F-ABB0-8169FDB6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682-B1C4-4121-93EB-045487AB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E58-257A-40AA-85D9-186B0866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A39-8F4B-49EA-9FD5-D3C65A71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C54-F1A3-4794-BD39-5C5D1DD1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FF2-54A5-42C7-8105-679F3364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8EA-5F96-4B69-91CB-FD22398C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641-E894-4ED3-BD0D-C1663B22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6CA-D0DC-4C46-9A91-BF26E2E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07F-96B3-4920-8878-3906301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0320" y="6324480"/>
            <a:ext cx="258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B7AD-95D7-4F6F-9CE1-F50CDA166E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Road Map ’06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elsingør, October 18th 2006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– Less Likel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ationals / Infinite Precision Inte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ank Oper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may do research and preliminary work but are unlikely to release anyt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... Unless we get ”pushe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V11.1 Performance, Deployment, Stabilit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5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aster / Simpler ⎕N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gorithm review with focus on Indexing and Searching (idioms &amp; core algorithm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otNe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mproved Autocomple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ata Marshalling” Perform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oad Balancing” issues (starting multiple Dyalog processes for one clas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move 64-bit Array Size Restri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stallability Issue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ven more Quality Assurance tools and procedures in place for next relea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eb Presence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pen Source Library (SALT, SPICE, WildServer, etc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uals On Line in Searchable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ew training materials for ”modern young users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utorials on OO, .Net, Office Automation, making Web Pages, et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anned demos (Video, screen capture), Blogs, Wiki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ultivate Agile Community Membership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gile 2007 (Como, Ital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SHOULD do a presentation on arrays and objects at OOPSLA’07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ntinuously look to what the Python &amp; Ruby folks are do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lease join us in this adven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ofessional” Produ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o be released on a separate timeframe and sold separately from the core produc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mote Procedure Call mechanis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ile Server for Component and Native Fil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unning APL as a ”Windows Servic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cure Socket suppor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mote Procedure Cal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25760" y="1565280"/>
            <a:ext cx="6924600" cy="50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PC Tool Advanta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ignificantly simpler programming model than TCPSocket, especially for multi-threaded cli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AST, as events handled in C. APL is only called when there is ”something to do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B: Independent of underlying technolog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uld provide some protection against ”denial of service” attac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Dyalog File Acceleration Server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process which runs on a server machine using the RPC tool to provide servic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client-side code changes required, support will be built-in to ⎕N and ⎕F-system functions (TIE functions may be extend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milar to ”SHAREFILES” product and SHARP APL file syste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itially targeting current users of shared files on Windows LA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Version aimed at Unix environments to follow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FAS Advanta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orkstations do not need access to mapped drives or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implified 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plication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configur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ch higher and more granular securi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perform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er ties files exclusively and caches directory and other inform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igher reli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ch less risk of file damage as all disk I/O is happening locally on the serv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800" spc="-1" strike="noStrike">
                <a:solidFill>
                  <a:srgbClr val="333333"/>
                </a:solidFill>
                <a:latin typeface="Geneva"/>
              </a:rPr>
              <a:t>Dyalog FAS Advantage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Oper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er architecture allows instrumentation and monito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Extreme Reliability (not all in v1.0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24x7x365 Operations: On-line full and incremental backup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utomated recovery from transient network failure (or even a server restar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rroring and distributed data ba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3360" y="903240"/>
            <a:ext cx="8356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(Rerun from 2005)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99864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86000" y="1805040"/>
            <a:ext cx="6029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Running APL as a ”Service”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provide recommendations for tried and tested mechanisms for running Dyalog-based applications as Windows Servi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dditional components if requir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Dyalog APL will recognise that it is running as a service and not try to interact with a user under any circumsta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tc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ecure Socket Suppor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ecure Sockets provide encrypted communications between ”identified” partn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will look at providing support for secure sock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n the RPC tool (definite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or TCPSocket objects (possib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search: Microsoft.Ne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3000" y="1625400"/>
            <a:ext cx="83581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aged Microsoft Office is still 5 years away, so no immediate ”panic” to provide managed APL(?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believe there are enhancements in the .Net pipeline, which will make it a better foundation for array langu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are doing research and lobbying Microsoft (participating in regular ”CLR language labs” in Redmon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are monitoring the situation closely and will keep you inform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search: Multi-Core Process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3000" y="2166840"/>
            <a:ext cx="8116920" cy="35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dern processor CPU speeds are flattening off around 3-4 MHz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is is already so fast that a cache miss requires 100 wait states before data arrives from RA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on, chips with 8 or 16 processors will be comm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time to look at how an APL interpreter should adapt to new architec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Possible Projec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terface to math and statistics packages: NAG, IMSL, R/SPLUS, perhaps Matlab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Road Ah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is was a quick overview of the possible paths we see ah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are always happy to hear from you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lease participate in pathfind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ank You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Road Map ’06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ubject to change without notice due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aving a Good Think following 11.0 comple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put and project funding from custom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hat Microsoft throws at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Our ability to recruit the right devel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smic Ray Collisions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mpleting Work in Progres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Version 11.0 Por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32-bit Windows on CD w/Release No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64-bit Windows (final testing &amp; packaging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ndows Mobile 5, AIX (32&amp;64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inux (Wine), Solari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pen Source on the Web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’06 Present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ALT, SPICE, Wild Web 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upport the Consultants Net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1.1 (”late 2007”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Few OO things we left o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icode, possibly a few other core language extens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ighter support for SALT &amp; SubVersion etc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Visual Studio Integr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Make it possible to ”dynamically embed” APL code in popular development to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onsolid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ntegrate new team members (Nicolas, Philip, ”X”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move size restrictions, bugs &amp; limit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Focus on Performance, Deployment, Stabilit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: OO Things we Forgo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have used C# as a design guide for OO functiona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did leave some things out – are they important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tefano alerted us to one or two  towards the end of v11 test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:Access Overridable (don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read Local Storage”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: OO Things we Forgo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960480" y="0"/>
            <a:ext cx="11364840" cy="710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Langu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3480" y="174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High Probabilit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icode (The Defining Feature of 11.1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imary Design goal: No application changes REQUIRED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82=⎕DR string←'ABC'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string[2]←'</a:t>
            </a:r>
            <a:r>
              <a:rPr b="0" lang="da-DK" sz="28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ᄎ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'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82=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DR string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Langu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ossi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losures (dfns returning functions with local state – ”function objects”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B: John would like to point out that installing ”9.0 FRE” uses a separate registry section and is ”saf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5:26:23Z</dcterms:created>
  <dc:creator>Morten Kromberg</dc:creator>
  <dc:description/>
  <dc:language>en-US</dc:language>
  <cp:lastModifiedBy>Morten Kromberg</cp:lastModifiedBy>
  <dcterms:modified xsi:type="dcterms:W3CDTF">2006-10-19T05:27:39Z</dcterms:modified>
  <cp:revision>74</cp:revision>
  <dc:subject/>
  <dc:title>Introduction to OO for APLers</dc:title>
</cp:coreProperties>
</file>